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72BD-46CE-4F62-89F6-E709452A09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0985-FA02-46A9-B800-C99B882C4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CB9-15F1-4C69-B89F-833780D1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C3B-8A10-4430-86FD-AA4A56A5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480-61E1-46BE-B5AD-B59FE048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9CC-F215-4CB9-AAF7-9C3C6D42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01CE-5585-475D-A46E-5937D06E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767E-B4E3-44A7-A073-A7914C75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F304-0182-4914-AA86-B88D24DD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E621-DF7B-4B74-858B-B2958BED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3381-EE2F-4EF9-8FB1-FC223B73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A291-CD84-4058-8941-F48DF97C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4BEC-9F4C-4075-B3C0-B9ED1D2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C4E-BB13-44BB-8BE1-B20123A2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1A7D-A341-4058-B0A5-6D5C49FB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3080-D8FB-45C9-A7A4-C768AA6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8D6D-F2F6-4C89-BFD5-B1E7B015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ED2F-EBDB-4871-AC4B-EFB5955C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FB3A-B24E-4EFE-B5D6-018CBB8B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DD8-3586-4012-8A89-F3E79252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A23-BB51-47DB-A15D-0B9EDC57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A49-0DE5-4D83-AC15-F8A02D29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135-650B-408E-B57D-AD779537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480-ECDB-4334-B838-A8763CF1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F39-01EC-49CC-A565-A18D2C08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E01-3D6D-4934-9B65-B70E8FFC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CF63-5A31-493B-8F6B-C8D4BF482D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F014-3BB4-4D91-AA35-5F1DDE09F2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3137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Методические рекомендации для проведения анализа современного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857680" y="2643120"/>
            <a:ext cx="6072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j0410787[1]"/>
          <p:cNvPicPr/>
          <p:nvPr/>
        </p:nvPicPr>
        <p:blipFill>
          <a:blip r:embed="rId1"/>
          <a:stretch/>
        </p:blipFill>
        <p:spPr>
          <a:xfrm>
            <a:off x="1643040" y="3857760"/>
            <a:ext cx="3427560" cy="2527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428480" y="100008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истема аспектных анализов, включающих оценку реализации задач урока, содержание и виды учебной деятельности учащихся по таким характеристикам, как уровни усвоения учащимися знаний и способов умственной деятельности, развитие учащихся, реализация дидактических принципов и результативност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но-временно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оценка использования времени урока по каждому его эта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бинированный анал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ценка (одновременная) основной дидактической цели урока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ных эле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и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изучение выполнения психологических требований к уроку (обеспечение познавательной деятельности учащихся развивающего ти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428480" y="9288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дактически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анализ основных дидактических категорий (реализация принципов дидактики, отбор методов, приемов и средств обучения и учения школьников, дидактическая обработка учебного материала урока, педагогическое руководство самостоятельной познавательной деятельностью учащихся и т. 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28480" y="12859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спектный анали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рассмотрение, детальное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стороннее изучение и оценка под определенным углом зрения какой-либо стороны или отдельной цели урока во взаимосвязи с результатами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ы аспектного анализ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ически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сихологически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ически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гиенический анал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j0410907[1]"/>
          <p:cNvPicPr/>
          <p:nvPr/>
        </p:nvPicPr>
        <p:blipFill>
          <a:blip r:embed="rId1"/>
          <a:stretch/>
        </p:blipFill>
        <p:spPr>
          <a:xfrm>
            <a:off x="6858000" y="3500280"/>
            <a:ext cx="1917720" cy="188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едагогический асп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28480" y="20718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сто урока в системе уро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ьность постановки цели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зация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держание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ика проведения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щение на уро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та и поведение учащихся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00120" y="4996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сихологический асп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47560" y="2214360"/>
            <a:ext cx="73134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равление внимание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равление развитием мнемонически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ет закономерностей функционирования и развития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4996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етодический асп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2071800"/>
            <a:ext cx="73134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учебная цель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логика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средств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методических прие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азличных организационных фор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57200" y="85716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им должен быть современный урок? Как в сегодняшнем уроке соседствуют традиционное и ново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рок нельзя анализировать абстрактно, исходя из каких-то вечных, незыблемых критериев или конъюнктурных увлечений. Прежде всего, не следует искать па каждом уроке применения всех без исключения средств и методов работы. Требовать, чтобы все уроки были комбинированными, включали все «элементы», - это значит схематизировать учебный процесс, упрощ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j0408000[1]"/>
          <p:cNvPicPr/>
          <p:nvPr/>
        </p:nvPicPr>
        <p:blipFill>
          <a:blip r:embed="rId1"/>
          <a:stretch/>
        </p:blipFill>
        <p:spPr>
          <a:xfrm>
            <a:off x="7429680" y="4500720"/>
            <a:ext cx="1450800" cy="134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игиенический асп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ализа урока может быть рассмотрен через следующие компон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1928520"/>
            <a:ext cx="73134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учащихся кл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возрастных особенностей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санитарно-гигиенических требов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утомления и перегрузки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ние учителем приемами саморегуляции в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анализа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28480" y="1213920"/>
            <a:ext cx="7313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роль за качеством преподавания, качеством знаний, умений и навыков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нтроль за состоянием учебно-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. Инструктирование педаг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. Помощь в овладении более высоким педагогическим мастер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Выяснение причин успехов и неудач учителя, преодоление недостатков в его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6. Выявление системы работы учителя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а посещения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28480" y="142884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всех уроков, отведенных на изучение темы в дан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уроков учителя на протяжении рабочего дня в разны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уроков учителей в течение дня в од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уроков в течение рабочей недели в од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ещение уроков у разны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изучения и первичного закрепления новых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организовать деятельность учащихся по восприятию, осмыслению и первичному запоминанию новых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закрепления новых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обеспечить закрепление знаний и способов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комплексного применения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создать содержательные и организационные условия для самостоятельного применения школьниками комплекса знаний и способов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обобщения и систематизации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организовать деятельность учащихся по обобщению знаний и способов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граммы наблюден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ти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Урок проверки, оценки и коррекции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ель: организовать проверку и оценку знаний и способов деятельности учащихся; организовать деятельность учащихся по коррекции своих знаний и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73137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 общепедагогического анализа уро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47560" y="1214280"/>
            <a:ext cx="7313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Место данного урока в системе уроков по теме или подтеме, правильность постановки цели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рганизация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тип ур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труктура урока; его отдельные элементы, их последовательность и дозировка во времени; соответствие построения урока его содержанию и поставленной 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дготовленность класса к уро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 организация учащихся для активной работы на протяжении всего урока; сочетание фронтальной, групповой, коллективной работы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плотность урока; рациональное использование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142920"/>
            <a:ext cx="7313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 общепедагогического анализ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00120" y="714240"/>
            <a:ext cx="750096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Содержание уро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 научность материал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)  правильность подбора материала для различных этапов урока и видов деятельности учащихс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)  соответствие содержания урока требованиям программы, по которой работает учител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) воспитательная направленность урок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) связь теории с практикой; раскрытие учителем практической значимости знаний; обучение учащихся применению своих знаний на практик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)  связь изучаемого материала с ранее пройденным; приёмы повторения пройденного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) межпредметные связ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)   речь учителя: грамотность, эмоциональность, лексическое богатство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) качество знаний учащихся, их умений и навык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) речь учащих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428400"/>
            <a:ext cx="7313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стоятельства, которые необходимо учитывать при анализе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7560" y="1356840"/>
            <a:ext cx="7313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обенности 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ожности школы, наличие кабинетов, технических средств, наглядных пособий, нужных книг в библиотеке, пришкольных участ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 данного класса, уровень развития и способностей уче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 учителя, уровень подготовки, особенности характера, состояние здоровья, прежние результат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410605[1]"/>
          <p:cNvPicPr/>
          <p:nvPr/>
        </p:nvPicPr>
        <p:blipFill>
          <a:blip r:embed="rId1"/>
          <a:stretch/>
        </p:blipFill>
        <p:spPr>
          <a:xfrm>
            <a:off x="7643880" y="5214960"/>
            <a:ext cx="1336680" cy="1214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 общепедагогического анализ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28480" y="142884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Методика проведения уро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 оборудование урока, использование наглядных пособий, дидактического материала на всех этапах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 методы и приёмы, применяемые учителем на каждом этап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оответствие методов содержанию и целям урока, возрасту и уровню подготовки учащихся; эффективность применяемых мет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 постановка учителем перед учащимися цели урока и подведение ит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) работа с отстающими и слабоуспевающими на уро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 владение учителем методами активного обучения; целесообразность применения этих методов на данном уро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)  система оценки знаний учащихся учителем; их педагогическая ц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 общепедагогического анализа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28480" y="12859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бщение учителя на уроке: тон, стиль отношений, манера общения с классом и отдельны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Работа и поведение учащихся на уро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активность класса и отдельных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заинтересованность учащихся материалом урока; отношение к уро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отношение учащихся к учите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исциплинированность и организованность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речь учащихся; задаваемые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Общие выводы по ур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 Как будет учтён опыт данного урока в Вашей дальнейшей рабо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70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ели фотограф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1643040" y="2571840"/>
          <a:ext cx="7118280" cy="152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2571840"/>
                    <a:ext cx="71182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5"/>
          <p:cNvSpPr/>
          <p:nvPr/>
        </p:nvSpPr>
        <p:spPr>
          <a:xfrm>
            <a:off x="2286000" y="185724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идам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14320" y="785520"/>
            <a:ext cx="71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ели фотограф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500200" y="200016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идам деятельности и этапам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1357200" y="2928960"/>
          <a:ext cx="766944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2928960"/>
                    <a:ext cx="766944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56840" y="609120"/>
            <a:ext cx="71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ели фотографий уро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000160" y="185724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аспектам и показа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500120" y="3000240"/>
          <a:ext cx="7139160" cy="112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000240"/>
                    <a:ext cx="7139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мятка для самоанализа уро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428840" y="714240"/>
            <a:ext cx="750096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в был замысел, план проведенного занятия и почему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 Каковы главные основания выбора именно такого замысла урок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1  Каково место данного урока в теме, разделе, курсе, в системе уроков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2 Как он связан с предыдущими уроками, на что в них опирается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3  Как он (урок) работает на последующие уроки, темы, разделы (в том числе других предметов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4 Как были учтены при подготовке к уроку программные требования, образовательные стандарты, стратегия развития данной школ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5  В чем видится специфика, уникальность этого урока, его особое предназначение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6  Как (и почему) была выбрана именно предложенная форма занятия (и тип урока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 Какие особенности учащихся, класса были учтены при под­готовке к уроку (и почему именно эти особенности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 Какие главные задачи решались на уроке и почему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  Чем обосновывается выбор структуры и темпа проведения урок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.  Чем обосновывается конкретный ход урока, характер взаимодействия учителя и учащихся? Почему были избраны именно такое содержание, такие методы, средства, формы обучения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.   Какие условия (социально-психологические, учебно-материальные, гигиенические, эстетические, темпоритмические) были созданы для проведения урока и почему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ыли ли изменения (отклонения, усовершенствования) по сравнению с данным планом в ходе урока, если - да, какие, почему и к чему они привел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алось л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на необходимом (или даже оптимальном) уровне поставленные задачи урока и получить соответствующие им результаты обуче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збежать перегрузки и переутомления учащихс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хранить и развить продуктивную мотивацию учения, на­строение, самочувствие? Какова общая самооценка урок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вы причины успехов и недостатков проведенного урока? Каковы неиспользованные, резервные возможности? Что в этом уроке следовало бы сделать иначе, по-другому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ие выводы из урока необходимо сделать на будущее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0120" y="142920"/>
            <a:ext cx="7313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а разбор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28480" y="10717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 педагог рассказывает о своем уроке, о том, что ему, по его мнению, удалось, что 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затем присутствующий анализирует положительные стороны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только после этого следует разбор отрицательных мо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) наконец, делаются предложения, как избавиться от недоста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) после разбора педагог вновь высказывает свое мнение, и, наконец, в обсуждение проблем включаются все присутствующ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j0408000[1]"/>
          <p:cNvPicPr/>
          <p:nvPr/>
        </p:nvPicPr>
        <p:blipFill>
          <a:blip r:embed="rId1"/>
          <a:stretch/>
        </p:blipFill>
        <p:spPr>
          <a:xfrm>
            <a:off x="7858080" y="142920"/>
            <a:ext cx="1071720" cy="99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арактеристика уро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28480" y="1071720"/>
            <a:ext cx="7313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щепедагогические характеристики современного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 концептуальные особенности урока, классификации современных подходов и отражение их в уро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общепедагогические особенности урока как организационной формы учебно-воспитательного процесса, его отличия от других форм учебных занятий в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 типологии уроков, описание структуры различных типов и видов урока (его этапах, частя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)   Методическая организация и оснащение урока, его методическая лог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)  Особенности отражения предметного содержания в уроке, его содержательная лог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j0410605[1]"/>
          <p:cNvPicPr/>
          <p:nvPr/>
        </p:nvPicPr>
        <p:blipFill>
          <a:blip r:embed="rId1"/>
          <a:stretch/>
        </p:blipFill>
        <p:spPr>
          <a:xfrm>
            <a:off x="7929720" y="0"/>
            <a:ext cx="1214280" cy="110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7313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ы анализа и самоанализа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28480" y="1356840"/>
            <a:ext cx="7313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т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ценочный)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этапный)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стемны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ны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о-временно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бинированный 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сихологически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пектный анали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ксный анал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Дата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072200" y="3929040"/>
            <a:ext cx="1744920" cy="184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рат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ценочный) анализ - это общая оценка учебно-воспитательной функции урока, характеризующая решение образовательной, воспитательной и развивающей задач и дающая оценку их ре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ны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этапный) анализ - это выявление и оценка доминирующих структур (элементов) урока, их целесообразность, обеспечивающая развитие познавательных способносте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смотрение урока как единой системы с точки зрения решения главной дидактической задачи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временного решения развивающих задач урока, обеспечение формирования знаний, умений и навыков учащихся, усвоения ими способов 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2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1.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01:13Z</dcterms:created>
  <dc:creator>Diana</dc:creator>
  <dc:description/>
  <cp:keywords/>
  <dc:language>en-US</dc:language>
  <cp:lastModifiedBy>Илья</cp:lastModifiedBy>
  <dcterms:modified xsi:type="dcterms:W3CDTF">2012-03-25T17:02:00Z</dcterms:modified>
  <cp:revision>2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