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4118-8778-4E7D-8B80-0AF9733991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E060-EBE1-43EB-970E-59A2592549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7F8-87D4-48B2-BDD4-C0CD3613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3047-9E74-49A5-8532-95FE8FA1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D1DC-8AEB-4AD4-BF46-63D4134E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EF65-CC26-4482-A712-D1B7A76D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05DC-779A-4390-9029-91527D32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F73B-66A9-4CC3-952E-7C0AA006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96C7-E19A-45B3-BDAA-E1BC9F3E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BF7F-6763-4F73-94FA-E5B8D3FF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CF93-236E-424C-AF45-9B723A64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F398-DA42-49A6-9E52-925DB0C2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3349-AC3D-4A38-AEC7-53AAA70E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EC0-1E4A-4941-B0E2-6F5D2FA6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9C06-28AC-4925-8719-A2F08AA1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8086-0103-40DF-B2A9-FD40CF6B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FABB-5E6C-4D0D-8E1D-11FF932E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F8CE-0DDB-4634-ABAD-36FE9BEB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C0E2-111A-4BEE-9A56-CAD5BA2F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4070-FFE7-46EA-A20C-74B85A32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8756-A9D3-4DE9-8D7C-83A70EFC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FCBB-3570-45C0-9224-78846625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C0AA-7F5C-487E-9126-DBFF0839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BBF9-D61F-4CF9-95C0-1EF6FAC9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49E0-FFC2-4985-91AF-55E7EAFF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6ADC-A50D-4D26-8E4C-25466F8B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ADC0-8968-49F1-BD23-3C85AB9400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F814-EEE6-4A4B-9FF8-8957FF7098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73137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Методические рекомендации для проведения анализа современного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2857680" y="2643120"/>
            <a:ext cx="6072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j0410787[1]"/>
          <p:cNvPicPr/>
          <p:nvPr/>
        </p:nvPicPr>
        <p:blipFill>
          <a:blip r:embed="rId1"/>
          <a:stretch/>
        </p:blipFill>
        <p:spPr>
          <a:xfrm>
            <a:off x="1643040" y="3857760"/>
            <a:ext cx="3427560" cy="2527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428480" y="100008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ный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истема аспектных анализов, включающих оценку реализации задач урока, содержание и виды учебной деятельности учащихся по таким характеристикам, как уровни усвоения учащимися знаний и способов умственной деятельности, развитие учащихся, реализация дидактических принципов и результативности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Дата 2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руктурно-временной анализ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оценка использования времени урока по каждому его этап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Дата 2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мбинированный анализ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ценка (одновременная) основной дидактической цели урока 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ных эле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Дата 2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сихологический анализ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изучение выполнения психологических требований к уроку (обеспечение познавательной деятельности учащихся развивающего тип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Дата 2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428480" y="9288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идактический анализ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анализ основных дидактических категорий (реализация принципов дидактики, отбор методов, приемов и средств обучения и учения школьников, дидактическая обработка учебного материала урока, педагогическое руководство самостоятельной познавательной деятельностью учащихся и т. п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Дата 2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428480" y="128592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спектный анализ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рассмотрение, детальное 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стороннее изучение и оценка под определенным углом зрения какой-либо стороны или отдельной цели урока во взаимосвязи с результатами деятельности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Дата 2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иды аспектного анализа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дагогический анали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сихологический анали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одический анали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игиенический анал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j0410907[1]"/>
          <p:cNvPicPr/>
          <p:nvPr/>
        </p:nvPicPr>
        <p:blipFill>
          <a:blip r:embed="rId1"/>
          <a:stretch/>
        </p:blipFill>
        <p:spPr>
          <a:xfrm>
            <a:off x="6858000" y="3500280"/>
            <a:ext cx="1917720" cy="1886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28480" y="49968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едагогический аспек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нализа урока может быть рассмотрен через следующие компон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428480" y="20718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сто урока в системе уро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вильность постановки цели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ганизация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держание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одика проведения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щение на уро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бота и поведение учащихся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00120" y="4996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сихологический аспек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нализа урока может быть рассмотрен через следующие компон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447560" y="2214360"/>
            <a:ext cx="73134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правление внимание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правление развитием мнемонических особен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ет закономерностей функционирования и развития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560" y="49968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Методический аспек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нализа урока может быть рассмотрен через следующие компон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2071800"/>
            <a:ext cx="73134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учебная цель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ая логика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различных средств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различных методических прием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различных организационных форм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357200" y="857160"/>
            <a:ext cx="731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им должен быть современный урок? Как в сегодняшнем уроке соседствуют традиционное и ново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рок нельзя анализировать абстрактно, исходя из каких-то вечных, незыблемых критериев или конъюнктурных увлечений. Прежде всего, не следует искать па каждом уроке применения всех без исключения средств и методов работы. Требовать, чтобы все уроки были комбинированными, включали все «элементы», - это значит схематизировать учебный процесс, упроща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Дата 2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j0408000[1]"/>
          <p:cNvPicPr/>
          <p:nvPr/>
        </p:nvPicPr>
        <p:blipFill>
          <a:blip r:embed="rId1"/>
          <a:stretch/>
        </p:blipFill>
        <p:spPr>
          <a:xfrm>
            <a:off x="7429680" y="4500720"/>
            <a:ext cx="1450800" cy="1346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Гигиенический аспек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нализа урока может быть рассмотрен через следующие компон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1928520"/>
            <a:ext cx="73134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стика учащихся кла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т возрастных особенностей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е санитарно-гигиенических требов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упреждение утомления и перегрузки школь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дение учителем приемами саморегуляции в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и анализа урок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428480" y="1213920"/>
            <a:ext cx="7313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троль за качеством преподавания, качеством знаний, умений и навыков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. Контроль за состоянием учебно-воспит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3. Инструктирование педаг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4. Помощь в овладении более высоким педагогическим мастер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5.  Выяснение причин успехов и неудач учителя, преодоление недостатков в его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6. Выявление системы работы учителя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стема посещения уро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28480" y="142884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сещение всех уроков, отведенных на изучение темы в дан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сещение уроков учителя на протяжении рабочего дня в разных клас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сещение уроков учителей в течение дня в од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сещение уроков в течение рабочей недели в од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сещение уроков у разных уч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граммы наблюдений уро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I тип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Урок изучения и первичного закрепления новых знаний и способов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Цель: организовать деятельность учащихся по восприятию, осмыслению и первичному запоминанию новых знаний и способов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граммы наблюдений уро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I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тип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Урок закрепления новых знаний и способов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Цель: обеспечить закрепление знаний и способов деятель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граммы наблюдений уро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I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тип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Урок комплексного применения знаний и способов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Цель: создать содержательные и организационные условия для самостоятельного применения школьниками комплекса знаний и способов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граммы наблюдений уро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8480" y="150012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тип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Урок обобщения и систематизации знаний и способов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Цель: организовать деятельность учащихся по обобщению знаний и способов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граммы наблюдений уро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тип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Урок проверки, оценки и коррекции знаний и способов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Цель: организовать проверку и оценку знаний и способов деятельности учащихся; организовать деятельность учащихся по коррекции своих знаний и способов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57200" y="500040"/>
            <a:ext cx="73137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хема общепедагогического анализа уро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47560" y="1214280"/>
            <a:ext cx="73134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 Место данного урока в системе уроков по теме или подтеме, правильность постановки цели у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Организация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тип уро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труктура урока; его отдельные элементы, их последовательность и дозировка во времени; соответствие построения урока его содержанию и поставленной ц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одготовленность класса к уро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 организация учащихся для активной работы на протяжении всего урока; сочетание фронтальной, групповой, коллективной работы на уро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плотность урока; рациональное использование 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142920"/>
            <a:ext cx="73137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хема общепедагогического анализа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500120" y="714240"/>
            <a:ext cx="750096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3. Содержание урока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) научность материала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)  правильность подбора материала для различных этапов урока и видов деятельности учащихс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)  соответствие содержания урока требованиям программы, по которой работает учитель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) воспитательная направленность урока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) связь теории с практикой; раскрытие учителем практической значимости знаний; обучение учащихся применению своих знаний на практике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)  связь изучаемого материала с ранее пройденным; приёмы повторения пройденного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ж) межпредметные связ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)   речь учителя: грамотность, эмоциональность, лексическое богатство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) качество знаний учащихся, их умений и навыков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) речь учащихс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428400"/>
            <a:ext cx="7313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стоятельства, которые необходимо учитывать при анализе урок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47560" y="1356840"/>
            <a:ext cx="73134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собенности тем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зможности школы, наличие кабинетов, технических средств, наглядных пособий, нужных книг в библиотеке, пришкольных участ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став данного класса, уровень развития и способностей учени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дивидуальность учителя, уровень подготовки, особенности характера, состояние здоровья, прежние результаты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410605[1]"/>
          <p:cNvPicPr/>
          <p:nvPr/>
        </p:nvPicPr>
        <p:blipFill>
          <a:blip r:embed="rId1"/>
          <a:stretch/>
        </p:blipFill>
        <p:spPr>
          <a:xfrm>
            <a:off x="7643880" y="5214960"/>
            <a:ext cx="1336680" cy="1214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хема общепедагогического анализа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28480" y="142884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Методика проведения уро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 оборудование урока, использование наглядных пособий, дидактического материала на всех этапах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 методы и приёмы, применяемые учителем на каждом этапе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соответствие методов содержанию и целям урока, возрасту и уровню подготовки учащихся; эффективность применяемых метод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  постановка учителем перед учащимися цели урока и подведение итог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) работа с отстающими и слабоуспевающими на урок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)  владение учителем методами активного обучения; целесообразность применения этих методов на данном урок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)  система оценки знаний учащихся учителем; их педагогическая цен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хема общепедагогического анализа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428480" y="128592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Общение учителя на уроке: тон, стиль отношений, манера общения с классом и отдельными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 Работа и поведение учащихся на уро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активность класса и отдельных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заинтересованность учащихся материалом урока; отношение к уро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отношение учащихся к учите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дисциплинированность и организованность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речь учащихся; задаваемые вопро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Общие выводы по уро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 Как будет учтён опыт данного урока в Вашей дальнейшей рабо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70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дели фотографий уро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4"/>
          <p:cNvGraphicFramePr/>
          <p:nvPr/>
        </p:nvGraphicFramePr>
        <p:xfrm>
          <a:off x="1643040" y="2571840"/>
          <a:ext cx="7118280" cy="152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2571840"/>
                    <a:ext cx="711828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5"/>
          <p:cNvSpPr/>
          <p:nvPr/>
        </p:nvSpPr>
        <p:spPr>
          <a:xfrm>
            <a:off x="2286000" y="185724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идам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14320" y="785520"/>
            <a:ext cx="7172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дели фотографий уро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500200" y="200016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идам деятельности и этапам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1357200" y="2928960"/>
          <a:ext cx="7669440" cy="196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2928960"/>
                    <a:ext cx="766944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56840" y="609120"/>
            <a:ext cx="71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дели фотографий уро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2000160" y="185724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аспектам и показател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500120" y="3000240"/>
          <a:ext cx="7139160" cy="112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3000240"/>
                    <a:ext cx="7139160" cy="11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мятка для самоанализа уро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428840" y="714240"/>
            <a:ext cx="750096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ов был замысел, план проведенного занятия и почему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  Каковы главные основания выбора именно такого замысла урока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1  Каково место данного урока в теме, разделе, курсе, в системе уроков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2 Как он связан с предыдущими уроками, на что в них опирается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3  Как он (урок) работает на последующие уроки, темы, разделы (в том числе других предметов)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4 Как были учтены при подготовке к уроку программные требования, образовательные стандарты, стратегия развития данной школы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5  В чем видится специфика, уникальность этого урока, его особое предназначение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6  Как (и почему) была выбрана именно предложенная форма занятия (и тип урока)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  Какие особенности учащихся, класса были учтены при под­готовке к уроку (и почему именно эти особенности)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.  Какие главные задачи решались на уроке и почему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.  Чем обосновывается выбор структуры и темпа проведения урока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5.  Чем обосновывается конкретный ход урока, характер взаимодействия учителя и учащихся? Почему были избраны именно такое содержание, такие методы, средства, формы обучения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6.   Какие условия (социально-психологические, учебно-материальные, гигиенические, эстетические, темпоритмические) были созданы для проведения урока и почему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ыли ли изменения (отклонения, усовершенствования) по сравнению с данным планом в ходе урока, если - да, какие, почему и к чему они привели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алось л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шить на необходимом (или даже оптимальном) уровне поставленные задачи урока и получить соответствующие им результаты обуче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збежать перегрузки и переутомления учащихс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хранить и развить продуктивную мотивацию учения, на­строение, самочувствие? Какова общая самооценка урока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Г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овы причины успехов и недостатков проведенного урока? Каковы неиспользованные, резервные возможности? Что в этом уроке следовало бы сделать иначе, по-другому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ие выводы из урока необходимо сделать на будущее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00120" y="142920"/>
            <a:ext cx="73137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а разбора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28480" y="107172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м педагог рассказывает о своем уроке, о том, что ему, по его мнению, удалось, что н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) затем присутствующий анализирует положительные стороны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) только после этого следует разбор отрицательных моме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) наконец, делаются предложения, как избавиться от недостат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) после разбора педагог вновь высказывает свое мнение, и, наконец, в обсуждение проблем включаются все присутствующ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j0408000[1]"/>
          <p:cNvPicPr/>
          <p:nvPr/>
        </p:nvPicPr>
        <p:blipFill>
          <a:blip r:embed="rId1"/>
          <a:stretch/>
        </p:blipFill>
        <p:spPr>
          <a:xfrm>
            <a:off x="7858080" y="142920"/>
            <a:ext cx="1071720" cy="99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арактеристика уро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28480" y="1071720"/>
            <a:ext cx="7313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бщепедагогические характеристики современного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 концептуальные особенности урока, классификации современных подходов и отражение их в уро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общепедагогические особенности урока как организационной формы учебно-воспитательного процесса, его отличия от других форм учебных занятий в шко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 типологии уроков, описание структуры различных типов и видов урока (его этапах, частя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)   Методическая организация и оснащение урока, его методическая лог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3)  Особенности отражения предметного содержания в уроке, его содержательная лог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j0410605[1]"/>
          <p:cNvPicPr/>
          <p:nvPr/>
        </p:nvPicPr>
        <p:blipFill>
          <a:blip r:embed="rId1"/>
          <a:stretch/>
        </p:blipFill>
        <p:spPr>
          <a:xfrm>
            <a:off x="7929720" y="0"/>
            <a:ext cx="1214280" cy="1103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274680"/>
            <a:ext cx="73134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ы анализа и самоанализа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28480" y="1356840"/>
            <a:ext cx="73134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атк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ценочный) анали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уктур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этапный) анали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истемный анали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лный анали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уктурно-временной анали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бинированный анали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сихологический анали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спектный анали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плексный анали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7072200" y="3929040"/>
            <a:ext cx="1744920" cy="1844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ратк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ценочный) анализ - это общая оценка учебно-воспитательной функции урока, характеризующая решение образовательной, воспитательной и развивающей задач и дающая оценку их ре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Дата 2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руктурны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оэтапный) анализ - это выявление и оценка доминирующих структур (элементов) урока, их целесообразность, обеспечивающая развитие познавательных способностей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Дата 2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истемный анализ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рассмотрение урока как единой системы с точки зрения решения главной дидактической задачи 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временного решения развивающих задач урока, обеспечение формирования знаний, умений и навыков учащихся, усвоения ими способов 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Дата 2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4:01:13Z</dcterms:created>
  <dc:creator>Diana</dc:creator>
  <dc:description/>
  <cp:keywords/>
  <dc:language>en-US</dc:language>
  <cp:lastModifiedBy>Илья</cp:lastModifiedBy>
  <dcterms:modified xsi:type="dcterms:W3CDTF">2012-03-25T17:02:00Z</dcterms:modified>
  <cp:revision>23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49</vt:lpwstr>
  </property>
</Properties>
</file>