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8FCD68-F8C8-44EF-9587-EC656087DB4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(портфолио). Официальный классный журнал, конечно, не отменяется, но итоговая оценка за начальную школу (решения о переводе на следующую степень образования) теперь будет приниматься не на основе годовых предметных отиеток в журнале, а на основе всех результатов (предметных, метапредметных, личностных; учебных и внеучебных) накопленных в портфеле достижений ученика за четыре года обучения в начальной шко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14E268-63EB-42AF-9C11-01F028DC0D4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«Рабочие материал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предмет имеется свой «файл»,  в него вкладываются диагностические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67D6-511E-43B7-A0C4-6CD9EEADD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3FFD-3A61-40F2-9FBC-F9DB3B1787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047E-C2C2-49CE-B749-2B36FDE31F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B775-17D5-4C04-9AC0-4F5AB6F4E6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4476-852B-441F-B28D-B901A2B91D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16E5A-3752-41FB-A96C-2426499E0C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985B-4D9F-495C-BA38-06C50A8CB9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E7CE-1AB2-429A-8243-85F31EC19E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AA68-35BF-48B1-A2C1-044FF1BBD8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FFBC-92C2-4ECE-86A1-47DFA64690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4B3D-025D-4244-AED2-3DF06B0080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D24BA-D9B0-4735-9EEC-51D04412C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DC24-E9E4-4B30-BB3F-25452B723D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0F8E1-A080-4842-9E0E-43EBFDEA97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1BF994-34A0-45EF-9085-39CF41D8A4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D64B7-9EB1-42AF-B837-2EFEE3F8B50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3191D-DFBF-42F5-8F03-98DAD58EC5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4019B-4BE5-4E7E-B4DA-C0B7CFA659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89E04-DCCB-486C-ABD6-BDB466450D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6DD41-5D74-408F-A999-D6B4828944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1DD0B-A936-48E1-BD8D-49B07F6551B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1B48B-4A48-48F5-A5F4-4360BDE8CE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DB857-4CBE-41A2-A367-E1B9F320C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3BF7-C84F-414A-B46A-75819D700D9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F9B31-8490-46F0-869F-FAB5B6F44F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29D64-15B1-4863-8D27-4921D39986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FF191-D658-4F58-8E8D-BFF5B84C54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A4618-22AE-4089-AE58-372C472CB5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F50CD-BB44-4815-A0FB-C0441CC5EE2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095C2-2262-4BA0-A0F2-80292247A2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04574-4D40-42B3-BA51-5E2B74773AE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165588-A434-44F6-BC2E-A5F031DF13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DB11D-712A-4BA6-B91B-0708E81E7E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4A7B0-D2E4-4585-966C-6C06FF148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1624-7F9A-42FE-B4E3-5DC7D7D44D9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F4FB3-B143-4161-82EF-AEE658FFE14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22E4E-D5AA-4E2E-BF3E-3FCE5DF60E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C2174-4696-45F0-9B70-0213BD79A4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E395-5F01-4977-816A-B266CFFA12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C951-11E2-4829-968F-1551C23EBA8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15A9-12B4-4984-B102-AAEC7336CAC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CE713-68C8-4FF1-8326-E504C1876B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60DF-8E9B-4B66-A13D-7E443D1120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EBFC-313F-42DF-A45C-58CB413BDB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9976-CDD2-4916-9508-1CB6AA4E0D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2EE1-80E4-4346-A69B-BE94DED753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8B61-B99B-4D83-A45C-F11EDF1B02D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8F02-E24F-4843-BD42-0667DA2D0F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FE7D-C351-4288-A4C5-4D086851C5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7054-1F46-4CE0-BDE1-2ACF88F862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955A-73D4-4FF0-9463-DBAA5D86132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D5CD8-4C05-458E-972E-7D77F35E18E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927F53-0F21-4F33-B6CB-3F3A163BB8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1E837F-DDE6-4B1A-A3F1-1AB7233249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7949A6-9C37-4D71-990D-D6133E898D8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BBB7D-AF71-416B-AB05-2F8B6AAFB6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0F80-21A2-4693-9E4A-BEFE36A994C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FAD9D-04B3-400B-B79D-A7EA54C4CFC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357DD-16E3-4C21-A16C-42112575E84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5E407A-2B64-4CA6-A5EC-9352B480AAE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F027CE-A02E-4E9C-8A0D-71C5C7806C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BBCD0B-5E76-4D95-A415-DCD2D7B0EA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5F4C5-5BFE-4D2A-962A-7C38D035F7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F8B790-CE7B-4EEF-8A46-E3B8EA45EE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1363E-D1F5-43FF-B695-9F314EAE09A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6BF08-E9EF-4C95-BF9D-96352DFEE02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1C587-B13A-4EF2-B4E5-AD7C0B143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0203-D1A9-42A1-8BF2-DBB0C98420B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BC8E2-9230-4034-B7F1-E7633D1FCA9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DF07F-7BEB-47CF-BAE6-C4397682225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B57FF-C4AC-4BC3-98F2-73228602290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2A368-8843-4288-8785-BDD9BC0D6DA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B1A1D-65C2-4858-B9B1-990F02617A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C0866-9EDA-4A58-93E7-D98187E298B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2EC57-26C4-4899-B5D2-B2AE6345CF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53557-143C-4D1C-9DDA-1FB301ECCE9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DC954-0E0E-4361-BCB3-013D20A32C4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919F-CCAF-488E-A101-05E0C95666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CDBA-BC7B-4F7C-B751-DC178ED7B64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D295-9CF5-48E7-B915-63932AC1F68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80D3-9FB7-4088-B8E9-E3BE2630FC9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74769-3030-4CC5-8E5F-5C0A33B442D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A2705-5B00-42C1-806F-9496FB5395B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47DA-48C7-424B-BC3F-57FBDC237B7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D42B-6C0C-4DDC-AD67-E3704ADBD5A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74BFB-1D46-4A64-A7D3-5DFEC26E37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3DC9-A2F7-41F0-880E-057D0C6C4F7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2F00-6BA9-4767-9EE2-198C448E08D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01BC-150B-417B-A910-C87F282199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E8A2-67E5-47F1-892E-E0730431E7B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DF97-F5DA-4764-A57F-91B7EA379D2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74E59-7A56-4BEB-A9A9-5E6B2E50AC5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46652-CBDA-48B5-8540-8B6FB25D583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FA6277-3E5F-4EBC-A5BC-1B936650324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D6085-463A-45CA-8106-D5AF0CD3239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A1D95-0A2A-4D4E-8003-CF6D36B9990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3F026-9BF4-4A3E-9FBB-D4FAE873B55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DA407-750A-4808-896A-F97E9EE37D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BB07D-0289-4229-9A7E-D908DE508B3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BD586-2624-4D8A-B5E7-1CD6EA14D3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ED43-EFF9-400E-8DE7-08C8E548F66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504DD-B738-4F02-A375-1B404D2175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43F68-9C6E-4DDB-8F2E-BE8449EE6DF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22795-38D9-458B-AE18-643A5D8F23D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72797D-8051-4684-95F1-D6D8BD4F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8A374C-B4E4-42A2-BEF4-C65A908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5073F-AB94-46BB-9BD1-F15328D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52210-9612-4936-A82C-81DCAE5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BE057-B6F0-4D32-8D0D-CF2E9C1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B70C3-6925-4CF3-A149-EA0D3D22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09479C-E6B7-497B-BB12-C52D45C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EFFC-1922-4EDA-AF1C-23D9AEE9D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ED3F-0BB6-4A10-B3B4-5F2852515CE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A513C9-9C8D-47F9-B3CF-D650E04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0BAFA1-03B5-469C-87D0-5F276E7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060978-73F6-41B4-A245-4A7A403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BDB29D-13AA-48E3-A5EA-C893CB8E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9A0EB0-5CBD-4310-809D-79588B9F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60FA-5C31-4A79-9E6C-59E10BEFF0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9D7D-7303-447F-BFA8-F8C93225FA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A630-FDF0-40BB-B5AC-AB7674B78E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9DEC-3E4B-4379-8E92-FA4814DD01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BF5-085A-42F6-9F95-6B6F77100E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59E-028E-4A9C-9F67-20ED3EC1B5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A27-AE3D-474A-BE70-6D989DA169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C1C-A18C-4913-8702-0428374155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88D-B8FA-4E49-B33C-84E30A1F5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93C5-96F2-4667-9DC6-E9340F210E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8CD-B9BC-432F-9508-D28CE06544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56A-C9C0-433B-98DB-8EDE83DA20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D1F-F141-4763-88B9-B50C237313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EBC-CF50-489F-A940-8F5A1C3A63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21D-3F92-4DE4-9058-BB64229570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8A1-2D23-48C8-AE3D-0832E1F91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E45-F2F7-400A-92A5-0E65DB3BA0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E6A84-3AFF-49BE-9B7A-33E15427D0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C38E3-C439-4249-9E27-FDDEECAE53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371FF-F08A-4556-8C62-2F6F669A7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070A-8396-4859-BEDC-962C7507C5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6FE4-C5D5-4A9A-9DAB-CF689FEA60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978D7-C51A-4D70-9413-A606F77842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7EC4-9504-4246-BC02-41CFF012A1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B40B0-5323-40E9-88C7-96F975DFC4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C349-3E89-4B93-9F3A-DE812247B4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E4746-3AFD-4A13-ADE1-689CFDC290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2ACCB-1F24-408D-8F64-C6E68103DC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EAD5-52B2-4FD3-ACD5-D4B11F1556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9B3B-E739-49DC-82BF-FB1A6BF84E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561C-4DA4-40FE-BA89-C53521721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EC1C-FFD2-4377-B4AD-6714A0B63A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F515A-B6E9-4F2B-91E2-CE9F3534FC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8DFB-B405-4EDF-87C9-9B59E3C09A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FDA8F-3461-40D6-A94B-DDE0AE03DE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80B6B-ECCF-4F42-9B61-3991EC4F18F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B4C85-85D6-4974-9A34-56FC1C434E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789C-F9EE-4545-9DEB-FB832AF8791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B6133-B1CF-457F-8F57-CB2C9A3767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4A8CE-414B-4E96-8E8A-A243BECD0C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69EA7-047E-46AE-8A82-F5FE4D301C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E9ACF-1DF5-42B0-8E45-6961A3272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54E7-0DFB-4193-9828-95FA32D53B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CA283-BF95-4A12-8BAE-938D54BA26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305-F9AB-4C07-A1F3-0244E1BBE7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B5C6-B406-436C-9CB8-9872D25782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77E0-6C82-44E0-9DB2-1E573244E9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D76-9CAD-445C-8551-991B3D3A23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C81-F1DA-4D8B-B9E3-9EB081F242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4A38-0AFF-48B3-9020-AD658C9F21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653E-D581-4C61-A4B8-15780B6F44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6359-651E-4D44-95DA-06D95F2772D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BAE-691E-481E-9ABD-47DC2C5D5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51FC-80C6-418D-9D4B-30058AC320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A058-D2F5-48D3-AFC8-E7E77AEC89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8A1-3695-462F-8EC3-D0B5B14578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4D37-A377-4CA7-85AA-A18F86FD90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4B158-BEE1-4AAD-944D-BCC500599F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9CEF4-DA80-4CEA-890A-31252DD21D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28F29-57EF-491C-8684-0FC27733D1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9A08D-E4C0-4EB7-957B-FC175C9539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5F4A0-78DC-409B-B99D-AA208E1758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6E09D-C05A-4F4E-80BA-4300F33C65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70F54-87FF-4B15-B753-9ECBADC8D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1533-40D1-46FB-9ADA-FE8F42BD7E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1BFE5-7236-4D90-859C-C5631AC169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BB0D5-7BC3-4934-B70D-E41E35C4FF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6C387-1A4C-49AD-9DD9-3A6F1643C0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6E7B0-0AF4-4C16-BF22-83BEB5805E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659C5-5D3D-4D49-9F77-C1DE8045C7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5387D-3201-42B8-9414-FB1919939E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1719B-B792-4339-9E8E-B48F3BCBC6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6C4FC-8D17-4CAC-BB0D-40A459776E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11101-7845-4816-884B-DE05DFF95BE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13C79-6077-4DA5-91E0-FE53D932A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7BD3-46D8-4791-A42F-8AE0955B7B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19773-BB17-4E69-8671-CB5F11A19F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EA9D0-6CCF-4AD7-930C-DE0BBA3FE7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2A1CF-7ADA-4A15-89C4-AF21A44E72C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BE5C2-B716-49E4-9751-6A8AD21A59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3A94C-5646-4C9C-B75A-BA18C549D3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123D3-C5B7-4F40-A324-F38581BF5EF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8D71F-6212-4E6E-BBAC-637371EA37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CE4E-83ED-4236-8F2E-6A05CA4F4F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330B-762B-418D-9BAC-ADA82915415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E7A2-FF1A-4BBC-863C-B10577AB5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4E042A-DA89-4304-A7A2-4AB8BDD15B2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414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3ED0BE-D30E-449C-A713-93F52845D071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14B08B-751D-4DD7-AD76-55DED7C5399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862C7B-7E9F-44C5-B86E-A5181159A93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54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695A73-6800-44AA-A1E3-6E67C8C4783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06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01AF1F-92BE-4B95-B318-0084C308E15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1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52" name="AutoShape 2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3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1384200"/>
              <a:ext cx="8989920" cy="1827360"/>
            </a:xfrm>
            <a:custGeom>
              <a:avLst/>
              <a:gdLst>
                <a:gd name="textAreaLeft" fmla="*/ 0 w 8989920"/>
                <a:gd name="textAreaRight" fmla="*/ 4496040 w 8989920"/>
                <a:gd name="textAreaTop" fmla="*/ 0 h 1827360"/>
                <a:gd name="textAreaBottom" fmla="*/ 1827720 h 182736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251561-1534-441B-B916-9E294B5AD706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98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4A1E5F-5742-427C-8D0D-4A9F4B01B18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75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1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1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1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611606-D024-4F4E-926F-B357D4E1F46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6CFB73-5877-46E5-8824-C726FF9FFE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85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0519D5-50FC-407F-BD75-EBF017AAB699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69001C-9E2A-4D70-BAE5-910D192AB45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173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0674D9-7C7D-4F0E-8C2B-B0864519042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1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218" name="AutoShape 2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"/>
            <p:cNvSpPr/>
            <p:nvPr/>
          </p:nvSpPr>
          <p:spPr>
            <a:xfrm>
              <a:off x="0" y="152280"/>
              <a:ext cx="8532720" cy="1217880"/>
            </a:xfrm>
            <a:custGeom>
              <a:avLst/>
              <a:gdLst>
                <a:gd name="textAreaLeft" fmla="*/ 0 w 8532720"/>
                <a:gd name="textAreaRight" fmla="*/ 4267440 w 8532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-1440"/>
            <a:ext cx="8013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3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8F3B4A-DA0F-4870-B3C5-6559F8CA1E5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b5f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1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63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2544480"/>
                <a:gd name="textAreaBottom" fmla="*/ 2544480 h 25444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>
                <a:gd name="textAreaLeft" fmla="*/ 0 w 5821560"/>
                <a:gd name="textAreaRight" fmla="*/ 5821560 w 58215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895400"/>
                <a:gd name="textAreaBottom" fmla="*/ 1895760 h 18954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>
                <a:gd name="textAreaLeft" fmla="*/ 0 w 4078440"/>
                <a:gd name="textAreaRight" fmla="*/ 4078800 w 4078440"/>
                <a:gd name="textAreaTop" fmla="*/ 0 h 3595680"/>
                <a:gd name="textAreaBottom" fmla="*/ 3596040 h 35956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>
                <a:gd name="textAreaLeft" fmla="*/ 0 w 5059080"/>
                <a:gd name="textAreaRight" fmla="*/ 5059440 w 505908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2835360"/>
                <a:gd name="textAreaBottom" fmla="*/ 2835720 h 28353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>
                <a:gd name="textAreaLeft" fmla="*/ 0 w 4488120"/>
                <a:gd name="textAreaRight" fmla="*/ 4488480 w 4488120"/>
                <a:gd name="textAreaTop" fmla="*/ 0 h 3754440"/>
                <a:gd name="textAreaBottom" fmla="*/ 3754800 h 375444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>
                <a:gd name="textAreaLeft" fmla="*/ 0 w 3430440"/>
                <a:gd name="textAreaRight" fmla="*/ 3430800 w 343044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C7B7D8-E366-48FB-8DA9-74AED85AD96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9DB15B-9258-4DBF-9010-FB972C7E60B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366" name="Freeform 2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6680"/>
                <a:gd name="textAreaBottom" fmla="*/ 3047040 h 304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4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>
                <a:gd name="textAreaLeft" fmla="*/ 0 w 5483520"/>
                <a:gd name="textAreaRight" fmla="*/ 5483880 w 5483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>
                <a:gd name="textAreaLeft" fmla="*/ 0 w 7767720"/>
                <a:gd name="textAreaRight" fmla="*/ 7767720 w 7767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06800"/>
                <a:gd name="textAreaBottom" fmla="*/ 3107160 h 31068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7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118120"/>
                <a:gd name="textAreaBottom" fmla="*/ 5118480 h 5118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9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43DD09-0966-4AD9-9FE4-0FFAB25C10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1"/>
          <p:cNvSpPr/>
          <p:nvPr/>
        </p:nvSpPr>
        <p:spPr>
          <a:xfrm>
            <a:off x="1187280" y="404640"/>
            <a:ext cx="66535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Контрольно-оценочная деятельность на уроках в начальной шк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"/>
          <p:cNvSpPr/>
          <p:nvPr/>
        </p:nvSpPr>
        <p:spPr>
          <a:xfrm>
            <a:off x="0" y="3886200"/>
            <a:ext cx="6400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Прямоугольник 3"/>
          <p:cNvSpPr/>
          <p:nvPr/>
        </p:nvSpPr>
        <p:spPr>
          <a:xfrm>
            <a:off x="684360" y="350028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Arial"/>
              </a:rPr>
              <a:t>«Тот, кого я учу, — это, прежде всего, живой человек, ребенок, а потом ученик. Оценка, которую я ставлю ему — это не только измеритель его знаний, но, прежде всего, мое отношение к нему как к человеку»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ccccff"/>
                </a:solidFill>
                <a:latin typeface="Arial"/>
              </a:rPr>
              <a:t>(В.А. Сухомлинский «Сердце отдаю детям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вила новой технологии оце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147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ценивается любо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обен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ействие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фиксируется отметкой только решение полноценной 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.е. умения по использованию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 ученик по возможност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пределяют оценку в диалог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внешняя оценка +самооцен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 каждую учебную зад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группу заданий, показывающих овладение отдельным умением,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вится отдельная отметка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 задачи, решенные при изучении новой темы, отметка ставится только по желанию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в процессе овладения умениями и знаниями по теме он имеет право на ошибку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 каждую задачу проверочной (контрольной)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итогам тем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тметки ставятся всем ученик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ак как каждый должен показать, как он овладел умениями и знаниями по теме. Ученик не может отказаться от выставления этой отметки, но имеет право перес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ценка ученика определяется по универсальной шкале трех уровней успеш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нания, соответствующие государственному стандарту,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хорошо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грамм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функциональной грамотности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тлично»;необяз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аксим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- «превосхо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емы формирования само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Organization Chart 2"/>
          <p:cNvGrpSpPr/>
          <p:nvPr/>
        </p:nvGrpSpPr>
        <p:grpSpPr>
          <a:xfrm>
            <a:off x="250920" y="1566720"/>
            <a:ext cx="8389080" cy="4583520"/>
            <a:chOff x="250920" y="1566720"/>
            <a:chExt cx="8389080" cy="4583520"/>
          </a:xfrm>
        </p:grpSpPr>
        <p:cxnSp>
          <p:nvCxnSpPr>
            <p:cNvPr id="833" name="_s1028"/>
            <p:cNvCxnSpPr>
              <a:stCxn id="834" idx="0"/>
              <a:endCxn id="835" idx="2"/>
            </p:cNvCxnSpPr>
            <p:nvPr/>
          </p:nvCxnSpPr>
          <p:spPr>
            <a:xfrm flipV="1" rot="16200000">
              <a:off x="5455080" y="2389680"/>
              <a:ext cx="917280" cy="2936880"/>
            </a:xfrm>
            <a:prstGeom prst="bentConnector3">
              <a:avLst>
                <a:gd name="adj1" fmla="val 124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6" name="_s1029"/>
            <p:cNvCxnSpPr>
              <a:stCxn id="837" idx="0"/>
              <a:endCxn id="835" idx="2"/>
            </p:cNvCxnSpPr>
            <p:nvPr/>
          </p:nvCxnSpPr>
          <p:spPr>
            <a:xfrm flipV="1">
              <a:off x="4445280" y="3399840"/>
              <a:ext cx="3960" cy="91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8" name="_s1030"/>
            <p:cNvCxnSpPr>
              <a:stCxn id="839" idx="0"/>
              <a:endCxn id="835" idx="2"/>
            </p:cNvCxnSpPr>
            <p:nvPr/>
          </p:nvCxnSpPr>
          <p:spPr>
            <a:xfrm flipH="1" flipV="1" rot="5400000">
              <a:off x="2518560" y="2390040"/>
              <a:ext cx="917280" cy="2936880"/>
            </a:xfrm>
            <a:prstGeom prst="bentConnector3">
              <a:avLst>
                <a:gd name="adj1" fmla="val 124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5" name="_s1031"/>
            <p:cNvSpPr/>
            <p:nvPr/>
          </p:nvSpPr>
          <p:spPr>
            <a:xfrm>
              <a:off x="3187080" y="156672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Tahoma"/>
                  <a:ea typeface="Arial"/>
                </a:rPr>
                <a:t>ПРИЁМ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200" spc="-1" strike="noStrike">
                  <a:solidFill>
                    <a:srgbClr val="0000ff"/>
                  </a:solidFill>
                  <a:latin typeface="Tahoma"/>
                  <a:ea typeface="Arial"/>
                </a:rPr>
                <a:t>ФОРМИРОВАНИ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_s1032"/>
            <p:cNvSpPr/>
            <p:nvPr/>
          </p:nvSpPr>
          <p:spPr>
            <a:xfrm>
              <a:off x="25092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ПИСЬМ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Дневник» ил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Журнал добрых дел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_s1033"/>
            <p:cNvSpPr/>
            <p:nvPr/>
          </p:nvSpPr>
          <p:spPr>
            <a:xfrm>
              <a:off x="318708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КОМПЛЕКС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 Мы оба похожи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1034"/>
            <p:cNvSpPr/>
            <p:nvPr/>
          </p:nvSpPr>
          <p:spPr>
            <a:xfrm>
              <a:off x="6123240" y="4316760"/>
              <a:ext cx="2516760" cy="18334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Arial"/>
                </a:rPr>
                <a:t>ВЕРБАЛЬ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Горячий стул»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Иг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«Я хороший, потому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что…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риемы оценочной деятельности, используемые на уроке при безотметочном обучен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Лесенка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олшебная линеечка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ветофор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весное оцени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достижения конкретных предметных и метапредметных  результатов отслеживается с помощью «листов учебных достижений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19640" y="1700280"/>
            <a:ext cx="33940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Line 6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8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10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12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4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AutoShape 15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AutoShape 16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1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angle 19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20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AutoShape 25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AutoShape 26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27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AutoShape 28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9"/>
          <p:cNvSpPr/>
          <p:nvPr/>
        </p:nvSpPr>
        <p:spPr>
          <a:xfrm>
            <a:off x="457200" y="1600200"/>
            <a:ext cx="46195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30"/>
          <p:cNvSpPr/>
          <p:nvPr/>
        </p:nvSpPr>
        <p:spPr>
          <a:xfrm>
            <a:off x="971640" y="2494080"/>
            <a:ext cx="1295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31"/>
          <p:cNvSpPr/>
          <p:nvPr/>
        </p:nvSpPr>
        <p:spPr>
          <a:xfrm>
            <a:off x="2268360" y="249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32"/>
          <p:cNvSpPr/>
          <p:nvPr/>
        </p:nvSpPr>
        <p:spPr>
          <a:xfrm>
            <a:off x="2268360" y="3573360"/>
            <a:ext cx="1224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Line 33"/>
          <p:cNvSpPr/>
          <p:nvPr/>
        </p:nvSpPr>
        <p:spPr>
          <a:xfrm>
            <a:off x="3492360" y="3573360"/>
            <a:ext cx="0" cy="1150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34"/>
          <p:cNvSpPr/>
          <p:nvPr/>
        </p:nvSpPr>
        <p:spPr>
          <a:xfrm>
            <a:off x="3492360" y="4724280"/>
            <a:ext cx="1440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Line 35"/>
          <p:cNvSpPr/>
          <p:nvPr/>
        </p:nvSpPr>
        <p:spPr>
          <a:xfrm>
            <a:off x="4932360" y="4724280"/>
            <a:ext cx="0" cy="1297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Line 36"/>
          <p:cNvSpPr/>
          <p:nvPr/>
        </p:nvSpPr>
        <p:spPr>
          <a:xfrm>
            <a:off x="971640" y="2492280"/>
            <a:ext cx="0" cy="3529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Line 37"/>
          <p:cNvSpPr/>
          <p:nvPr/>
        </p:nvSpPr>
        <p:spPr>
          <a:xfrm>
            <a:off x="971640" y="6021360"/>
            <a:ext cx="3960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AutoShape 38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AutoShape 39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0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AutoShape 41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AutoShape 42"/>
          <p:cNvSpPr/>
          <p:nvPr/>
        </p:nvSpPr>
        <p:spPr>
          <a:xfrm>
            <a:off x="1116000" y="1989000"/>
            <a:ext cx="431640" cy="432000"/>
          </a:xfrm>
          <a:prstGeom prst="smileyFace">
            <a:avLst>
              <a:gd name="adj" fmla="val 9282"/>
            </a:avLst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AutoShape 43"/>
          <p:cNvSpPr/>
          <p:nvPr/>
        </p:nvSpPr>
        <p:spPr>
          <a:xfrm>
            <a:off x="2771640" y="3068640"/>
            <a:ext cx="432000" cy="4316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Rectangle 44"/>
          <p:cNvSpPr/>
          <p:nvPr/>
        </p:nvSpPr>
        <p:spPr>
          <a:xfrm>
            <a:off x="5219640" y="1700280"/>
            <a:ext cx="3456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4d"/>
                </a:solidFill>
                <a:latin typeface="Times New Roman"/>
              </a:rPr>
              <a:t>Материал усво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ребуется помощь или корр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понял, как выполнить 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AutoShape 45"/>
          <p:cNvSpPr/>
          <p:nvPr/>
        </p:nvSpPr>
        <p:spPr>
          <a:xfrm>
            <a:off x="3995640" y="4221000"/>
            <a:ext cx="432000" cy="432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 Волшебная линееч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                         А                        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"/>
          <p:cNvSpPr/>
          <p:nvPr/>
        </p:nvSpPr>
        <p:spPr>
          <a:xfrm>
            <a:off x="10429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5"/>
          <p:cNvSpPr/>
          <p:nvPr/>
        </p:nvSpPr>
        <p:spPr>
          <a:xfrm>
            <a:off x="755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Line 6"/>
          <p:cNvSpPr/>
          <p:nvPr/>
        </p:nvSpPr>
        <p:spPr>
          <a:xfrm>
            <a:off x="755640" y="422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Line 7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Line 8"/>
          <p:cNvSpPr/>
          <p:nvPr/>
        </p:nvSpPr>
        <p:spPr>
          <a:xfrm>
            <a:off x="450072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Line 9"/>
          <p:cNvSpPr/>
          <p:nvPr/>
        </p:nvSpPr>
        <p:spPr>
          <a:xfrm>
            <a:off x="7667640" y="2852640"/>
            <a:ext cx="0" cy="28083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421164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421164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Line 12"/>
          <p:cNvSpPr/>
          <p:nvPr/>
        </p:nvSpPr>
        <p:spPr>
          <a:xfrm>
            <a:off x="421164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3"/>
          <p:cNvSpPr/>
          <p:nvPr/>
        </p:nvSpPr>
        <p:spPr>
          <a:xfrm>
            <a:off x="7380360" y="2852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7380360" y="4076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7380360" y="566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ine 16"/>
          <p:cNvSpPr/>
          <p:nvPr/>
        </p:nvSpPr>
        <p:spPr>
          <a:xfrm flipH="1">
            <a:off x="82656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ine 17"/>
          <p:cNvSpPr/>
          <p:nvPr/>
        </p:nvSpPr>
        <p:spPr>
          <a:xfrm>
            <a:off x="8269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752472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Line 19"/>
          <p:cNvSpPr/>
          <p:nvPr/>
        </p:nvSpPr>
        <p:spPr>
          <a:xfrm>
            <a:off x="4356000" y="393372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Line 20"/>
          <p:cNvSpPr/>
          <p:nvPr/>
        </p:nvSpPr>
        <p:spPr>
          <a:xfrm flipH="1">
            <a:off x="7451280" y="2708280"/>
            <a:ext cx="35892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Line 21"/>
          <p:cNvSpPr/>
          <p:nvPr/>
        </p:nvSpPr>
        <p:spPr>
          <a:xfrm flipH="1">
            <a:off x="4284720" y="3933720"/>
            <a:ext cx="358560" cy="28908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ine 22"/>
          <p:cNvSpPr/>
          <p:nvPr/>
        </p:nvSpPr>
        <p:spPr>
          <a:xfrm flipH="1">
            <a:off x="82656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Line 24"/>
          <p:cNvSpPr/>
          <p:nvPr/>
        </p:nvSpPr>
        <p:spPr>
          <a:xfrm>
            <a:off x="900000" y="4076640"/>
            <a:ext cx="358920" cy="2890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Oval 25"/>
          <p:cNvSpPr/>
          <p:nvPr/>
        </p:nvSpPr>
        <p:spPr>
          <a:xfrm>
            <a:off x="4140360" y="3716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Oval 26"/>
          <p:cNvSpPr/>
          <p:nvPr/>
        </p:nvSpPr>
        <p:spPr>
          <a:xfrm>
            <a:off x="7308720" y="2492280"/>
            <a:ext cx="720720" cy="7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7"/>
          <p:cNvSpPr/>
          <p:nvPr/>
        </p:nvSpPr>
        <p:spPr>
          <a:xfrm>
            <a:off x="684360" y="3789360"/>
            <a:ext cx="720720" cy="7920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9"/>
          <p:cNvSpPr/>
          <p:nvPr/>
        </p:nvSpPr>
        <p:spPr>
          <a:xfrm>
            <a:off x="3995640" y="3573360"/>
            <a:ext cx="1008000" cy="107964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 Светоф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мею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мею, но               не увер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весные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4"/>
          <p:cNvSpPr/>
          <p:nvPr/>
        </p:nvSpPr>
        <p:spPr>
          <a:xfrm>
            <a:off x="468360" y="3213000"/>
            <a:ext cx="576360" cy="576360"/>
          </a:xfrm>
          <a:prstGeom prst="ellipse">
            <a:avLst/>
          </a:prstGeom>
          <a:solidFill>
            <a:srgbClr val="00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Oval 6"/>
          <p:cNvSpPr/>
          <p:nvPr/>
        </p:nvSpPr>
        <p:spPr>
          <a:xfrm>
            <a:off x="468360" y="4437000"/>
            <a:ext cx="576360" cy="5763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468360" y="2133720"/>
            <a:ext cx="576360" cy="576000"/>
          </a:xfrm>
          <a:prstGeom prst="ellipse">
            <a:avLst/>
          </a:prstGeom>
          <a:solidFill>
            <a:srgbClr val="008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WordArt 8"/>
          <p:cNvSpPr txBox="1"/>
          <p:nvPr/>
        </p:nvSpPr>
        <p:spPr>
          <a:xfrm>
            <a:off x="5219640" y="2421000"/>
            <a:ext cx="20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WordArt 9"/>
          <p:cNvSpPr txBox="1"/>
          <p:nvPr/>
        </p:nvSpPr>
        <p:spPr>
          <a:xfrm>
            <a:off x="6372360" y="3573360"/>
            <a:ext cx="232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WordArt 10"/>
          <p:cNvSpPr txBox="1"/>
          <p:nvPr/>
        </p:nvSpPr>
        <p:spPr>
          <a:xfrm>
            <a:off x="5867280" y="4581360"/>
            <a:ext cx="2305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лич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6" name="WordArt 11"/>
          <p:cNvSpPr txBox="1"/>
          <p:nvPr/>
        </p:nvSpPr>
        <p:spPr>
          <a:xfrm>
            <a:off x="5724360" y="5805360"/>
            <a:ext cx="21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орош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cover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Приемы оценочной деятельности.</a:t>
            </a:r>
            <a:br>
              <a:rPr sz="3600"/>
            </a:br>
            <a:r>
              <a:rPr b="1" lang="ru-RU" sz="28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6633"/>
                </a:solidFill>
                <a:uFillTx/>
                <a:latin typeface="Times New Roman"/>
              </a:rPr>
              <a:t>Лист учебных достижений</a:t>
            </a:r>
            <a:r>
              <a:rPr b="1" lang="ru-RU" sz="36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следить динамику продвижения учащихся в достижении предметных и метапредмет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 создании учиты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грамму и требования к обязательному минимуму содержания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  индивидуальных  достижений  обучающегося – таблица, которая  вкладывается  в  дневник  и  заполняется  учеником  в  течение  нед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4" descr="5"/>
          <p:cNvPicPr/>
          <p:nvPr/>
        </p:nvPicPr>
        <p:blipFill>
          <a:blip r:embed="rId1"/>
          <a:stretch/>
        </p:blipFill>
        <p:spPr>
          <a:xfrm>
            <a:off x="6869160" y="0"/>
            <a:ext cx="2063880" cy="227664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5" descr="учебники 1"/>
          <p:cNvPicPr/>
          <p:nvPr/>
        </p:nvPicPr>
        <p:blipFill>
          <a:blip r:embed="rId2"/>
          <a:stretch/>
        </p:blipFill>
        <p:spPr>
          <a:xfrm>
            <a:off x="0" y="0"/>
            <a:ext cx="23036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56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5"/>
          <p:cNvSpPr/>
          <p:nvPr/>
        </p:nvSpPr>
        <p:spPr>
          <a:xfrm>
            <a:off x="2843280" y="33336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аблица 1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WordArt 5"/>
          <p:cNvSpPr txBox="1"/>
          <p:nvPr/>
        </p:nvSpPr>
        <p:spPr>
          <a:xfrm>
            <a:off x="1116000" y="404640"/>
            <a:ext cx="734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РТФОЛИО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ка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6" name="Picture 5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241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оценивани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пределение позитивных и негативных момент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нтроль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инструмент, позволяющий определять развитие, прогресс в препода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пособ коррекции деятельности обучаемых, с помощью которого учитель определяет уровень подготовлен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згляд на свои действия и поступки, результаты сво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AutoShape 2"/>
          <p:cNvSpPr/>
          <p:nvPr/>
        </p:nvSpPr>
        <p:spPr>
          <a:xfrm>
            <a:off x="3995640" y="476280"/>
            <a:ext cx="5327640" cy="604836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Мои достиж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я лучш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, которое мне больш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о понравило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прочитал ……. кни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я теперь зна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го не знал ран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я теперь уме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го не умел раньш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 цели и планы на следующ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ный год: ………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у я еще хочу научить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книги прочит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е участие в школьн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х  мероприя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и 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ты совместного твор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 родителями, одноклассника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Oval 5"/>
          <p:cNvSpPr/>
          <p:nvPr/>
        </p:nvSpPr>
        <p:spPr>
          <a:xfrm>
            <a:off x="78850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Group 8"/>
          <p:cNvGrpSpPr/>
          <p:nvPr/>
        </p:nvGrpSpPr>
        <p:grpSpPr>
          <a:xfrm>
            <a:off x="-252360" y="476280"/>
            <a:ext cx="5292720" cy="6048360"/>
            <a:chOff x="-252360" y="476280"/>
            <a:chExt cx="5292720" cy="6048360"/>
          </a:xfrm>
        </p:grpSpPr>
        <p:sp>
          <p:nvSpPr>
            <p:cNvPr id="930" name="AutoShape 3"/>
            <p:cNvSpPr/>
            <p:nvPr/>
          </p:nvSpPr>
          <p:spPr>
            <a:xfrm flipH="1">
              <a:off x="-252360" y="476280"/>
              <a:ext cx="5292720" cy="6048360"/>
            </a:xfrm>
            <a:prstGeom prst="vertic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Раздел «Рабочие материалы»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1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276640"/>
              <a:ext cx="33717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Oval 9"/>
          <p:cNvSpPr/>
          <p:nvPr/>
        </p:nvSpPr>
        <p:spPr>
          <a:xfrm>
            <a:off x="32400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4" descr="Изображени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1"/>
          <p:cNvSpPr/>
          <p:nvPr/>
        </p:nvSpPr>
        <p:spPr>
          <a:xfrm>
            <a:off x="457200" y="2779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Все виды контрольно-оценочных работ по учебным предметам оцениваются в процентном отношении к максимально возможному количеству баллов, выставляемому за рабо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ысокий уровень - 85-100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уровень выше среднего - 70-84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Arial"/>
              </a:rPr>
              <a:t>средний уровень - 50-69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уровень ниже среднего — 30-49 %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зкий уровень — менее 30 %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1"/>
          <p:cNvSpPr/>
          <p:nvPr/>
        </p:nvSpPr>
        <p:spPr>
          <a:xfrm>
            <a:off x="195120" y="228600"/>
            <a:ext cx="8015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программ начального образования. РУССКИЙ ЯЗЫК. ЧТЕН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2818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1"/>
          <p:cNvSpPr/>
          <p:nvPr/>
        </p:nvSpPr>
        <p:spPr>
          <a:xfrm>
            <a:off x="468360" y="620640"/>
            <a:ext cx="82296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На основании итоговых оценок по каждому предмету и по программе формирования универсальных учебных действий делаются следующие выводы о достижении планируемых результатов: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2"/>
          <p:cNvSpPr/>
          <p:nvPr/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1.   Выпускник овладел опорной системой знаний и учебными действиями, необходимыми для продолжения образования на следующей ступени, и способен использовать их для решения простых учебно-познавательных и учебно-практических задач средствами данного предмет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2.  Выпускник овладел опорной системой знаний, необходимой для продолжения образования на следующей ступени, на уровне осознанного произвольного овладения учебными действиям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3. Выпускник не овладел опорной системой знаний и учебными действиями, необходимыми для продолжения образования на следующей ступе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ешение об успешном освоении программы начального образования и переводе выпускника на следующую ступень общего образования принимается педагогическим советом образовательного учреждения на основе сделанных выводов о достижении планируемых результатов освоения основной образовательной программы начального общего образования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ценка – это правильное 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ровообращение,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без нее неизбежны застой и </a:t>
            </a:r>
            <a:br>
              <a:rPr sz="4200"/>
            </a:b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болезненные явления.</a:t>
            </a: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Н. Островски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1"/>
          <p:cNvSpPr/>
          <p:nvPr/>
        </p:nvSpPr>
        <p:spPr>
          <a:xfrm>
            <a:off x="457200" y="692280"/>
            <a:ext cx="8229600" cy="69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116000" y="0"/>
            <a:ext cx="7570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ль и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ой системы оценки достижения планируемых результато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757080" y="2127240"/>
            <a:ext cx="768996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44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Droid San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roid Sans"/>
              </a:rPr>
              <a:t>Система оценивания выступает не только как средство обучения, регулятор образовательного процесса, но и как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амостоятельный и самоценный элемент содерж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редство повышения эффективности преподавания и 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фактор, обеспечивающий единство вариативной системы образования и регулятор программы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539640" y="1989000"/>
            <a:ext cx="7925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грирова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бразовательную практи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ние явля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териальны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критериями оценивания выступают планируемые результа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ться с помощью отметки могут толь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зультаты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цен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заимооцен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Прямоугольник 3"/>
          <p:cNvSpPr/>
          <p:nvPr/>
        </p:nvSpPr>
        <p:spPr>
          <a:xfrm>
            <a:off x="755640" y="4046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aramond"/>
              </a:rPr>
              <a:t>Общие принципы контрольно-оценоч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6633"/>
                </a:solidFill>
                <a:latin typeface="Garamond"/>
              </a:rPr>
              <a:t>Принципы контрольно-оценочной 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«блокового» контроля (контрольные работы проводятся по блокам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дифференциации (материал разного уровня сложности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выбора (обучающийся выбирает задания из набора известных, освоенных в процессе изучения по данному предмету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непрерывности (учащийся получает право на ошибку, которая, будучи исправленной, считается прогрессом в обучен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Гибкость и вариативность инструментария оцен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четание качественной и количественной составляющих оцен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тественность процесса контроля и оценки (контроль и 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лжны проводиться в естественных для учащихся условиях, снижающих стресс и   напряжение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1"/>
          <p:cNvGrpSpPr/>
          <p:nvPr/>
        </p:nvGrpSpPr>
        <p:grpSpPr>
          <a:xfrm>
            <a:off x="971640" y="549360"/>
            <a:ext cx="7199280" cy="5627520"/>
            <a:chOff x="971640" y="549360"/>
            <a:chExt cx="7199280" cy="5627520"/>
          </a:xfrm>
        </p:grpSpPr>
        <p:pic>
          <p:nvPicPr>
            <p:cNvPr id="819" name="Picture 2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7199280" cy="56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Text Box 3"/>
            <p:cNvSpPr/>
            <p:nvPr/>
          </p:nvSpPr>
          <p:spPr>
            <a:xfrm>
              <a:off x="971640" y="549360"/>
              <a:ext cx="7199280" cy="56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1"/>
          <p:cNvGrpSpPr/>
          <p:nvPr/>
        </p:nvGrpSpPr>
        <p:grpSpPr>
          <a:xfrm>
            <a:off x="468360" y="230040"/>
            <a:ext cx="8205840" cy="6169320"/>
            <a:chOff x="468360" y="230040"/>
            <a:chExt cx="8205840" cy="6169320"/>
          </a:xfrm>
        </p:grpSpPr>
        <p:pic>
          <p:nvPicPr>
            <p:cNvPr id="822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230040"/>
              <a:ext cx="820584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 Box 3"/>
            <p:cNvSpPr/>
            <p:nvPr/>
          </p:nvSpPr>
          <p:spPr>
            <a:xfrm>
              <a:off x="468360" y="230040"/>
              <a:ext cx="8205840" cy="61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"/>
          <p:cNvSpPr/>
          <p:nvPr/>
        </p:nvSpPr>
        <p:spPr>
          <a:xfrm>
            <a:off x="324000" y="189000"/>
            <a:ext cx="864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Процедуры и механизмы оценки в начальной школе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"/>
          <p:cNvSpPr/>
          <p:nvPr/>
        </p:nvSpPr>
        <p:spPr>
          <a:xfrm>
            <a:off x="468360" y="1484280"/>
            <a:ext cx="822960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я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оценка самой школы (ребенка, учителя, школьного психолога, администрации и т. д.), которая выражается в текущих отметках, которые ставятся учителями; в результатах самооценки учащихся; в результатах наблюдений, проводящихся учителями и школьными психологами; в промежуточных и итоговой оценках учащихся и, наконец, в решении педагогического совета школы о переводе выпускника в следующий класс или на следующую ступень об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я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ценка, которая проводится внешними по отношению к школе службами, уполномоченными вести оценочную деятельнос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овая оцен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«точка соприкосновения» внутренней и внешней оценки. В начальной школе в соответствии с Законом «Об образовании» государственная итоговая аттестация выпускников не предусматривается, поэтому прямое включение внешней оценки в итоговую оценку младших школьников исключае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фолио учащегос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то оптимальный способ организации системы накопительной оценки, понимаемое как коллекция работ и результатов учащегося, которая демонстрирует его усилия, прогресс и достижения в различных областях. Это может бы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борки детских работ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истематизированные материалы наблюд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атериалы, характеризующие достижения учащихся во внеучебной (школьной и внешкольной) и досугов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Способы осуществления оценивания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тестирования в бал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высказывания о процессе и результат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ая реа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7:50:22Z</dcterms:created>
  <dc:creator>777</dc:creator>
  <dc:description/>
  <dc:language>en-US</dc:language>
  <cp:lastModifiedBy>123</cp:lastModifiedBy>
  <dcterms:modified xsi:type="dcterms:W3CDTF">2016-03-13T08:10:22Z</dcterms:modified>
  <cp:revision>74</cp:revision>
  <dc:subject/>
  <dc:title>Место планируемых результатов в общей системе федерального стандарта</dc:title>
</cp:coreProperties>
</file>