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BFD6E2-4C41-44F3-83D8-C57E590CCA2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(портфолио). Официальный классный журнал, конечно, не отменяется, но итоговая оценка за начальную школу (решения о переводе на следующую степень образования) теперь будет приниматься не на основе годовых предметных отиеток в журнале, а на основе всех результатов (предметных, метапредметных, личностных; учебных и внеучебных) накопленных в портфеле достижений ученика за четыре года обучения в начальной шко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B2DF46-782B-4505-A437-8C9F3A2959D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«Рабочие материал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предмет имеется свой «файл»,  в него вкладываются диагностические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8CD2-2B26-496D-929C-50EAE4A68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5B08-9A07-444C-A9FC-5A894E26B7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2477-05BF-40CF-9549-88F32BDAC9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1D80-A85E-47B2-A63F-39BA05EFD6A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75FC-EDFC-423F-93C8-7470E0EC09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8230-F584-4D8D-B3B4-2E376A792B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A023-37C2-402F-BB00-171124DF85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F972-7A40-49B0-9B96-DD27CB19351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EC07-1623-4DD3-A290-3F509B9E7C3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559C-544A-49E9-9F41-776B823E2C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7EA3-C9FD-49A3-9852-4C245F9F111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666BA-AE76-4611-9A63-681B414AC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072E-8B7A-44C8-B95B-4814A3AB9F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23499-E7A0-4536-985E-F0308C973D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C86DE-4B99-4F1E-9854-D1FFA5BF4F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2AE0F-9CD8-4A30-BAB3-7A6292F885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1AD74-3074-462E-8868-0C85A08432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FD9AF-3574-4282-9A43-EED34B0344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1967B-D5D5-4CA3-8928-F78E37CE5E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8FB93-AAAE-4F6F-8CB1-E35198AAF1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951B3-5AE5-4AA4-A6EC-E446561F70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2FA03-3553-41C1-AF80-1B64756156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492E4-7BD8-412E-98CA-4DA940895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F943-E777-4FAD-9813-3794BEFE7C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DD986-98BB-4339-A0E6-B973928D91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73133-71AD-4732-9B62-870C56AAC4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E491C-A07D-4B74-A2B7-9668F21CED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349E4-DA0B-4AED-9279-BFE3DD0B74D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D56E6-E0E1-41B8-81BF-5071B837B0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76BDE-030E-4B07-902D-8CC75C90C7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BB0E5-DEEB-4558-BE8A-01D0351D83F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93226-CA39-472E-BA2E-CEF28D1106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3C36F-8923-4651-924D-EDC9A352B88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25EDA-A389-462D-89B2-0CCF5D7DE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D0D3-5E11-4701-AF28-8F220004E9B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05594-A976-4859-8871-A4C3734629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9E02C-71A6-4666-9B61-CF7606311C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57051-F863-47A0-9E75-9EEE703185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270C-0616-4966-8894-02C070E1FF4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F6028-E388-4C2F-8992-8BCD2D1D9C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23F5-1CC4-4EA6-B159-2315EAF764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3D05-0A2E-4C26-A9E3-C6D72ED78E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8B6B-7C70-43F4-A849-1AF75BE051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6EF5-EA38-48DE-984E-DB9709D79BA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EADC3-CC7A-414A-97FE-30BB402B6E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F414-8B94-4F87-ACB5-DD9486F11A7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FD44-3543-4BD2-9655-6B832645C86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FF79-A9D7-4A69-B27E-0BF06C479A0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F6D2-C599-4452-B646-0DBDAA19A6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5E5F-61AF-49C7-8A70-CAD6F082B1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BD54-08AC-4C09-A611-0425B90F495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3BA693-9722-4298-9DFD-CA1C2E0C2A8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CC17EB-63EA-47F4-9717-9E5D49A241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5217B-A8C7-47A5-8B18-346C29CC41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B2D6C-1BAA-4DDC-9A65-DB19FF0A37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E6BC4-45BD-41E3-93B7-588C9328CB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7ECF-7AA2-4616-A1DF-3A73794ED6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7FA627-B093-45AD-9CCE-1B35048534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26C37-97CF-4B6F-81D1-3216467495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9F8DF-90EA-4501-A65A-5363B46621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D33E4-EF63-4FD9-8923-BDC97D79BD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512D9-319D-4C79-A371-7C6852B61CA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804F8-58DA-4799-8BFE-89D5389B98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4D879-5F98-4367-840F-563F4C8121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8EBF8-4F6D-4F35-962C-4BC1F896FA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41BC8-34EF-4434-8FDE-58D5450A219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FBF0A-3746-4C10-87EA-B99F43A8AC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7FD4-D687-4D4A-8E79-3644A137DD0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53617-93FA-4246-9925-3604DC89F4B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93156-D08B-47BB-A59B-5788FBEAB5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DDAFD-78B0-4B70-96B8-3EB82CC6170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B6B0D-27CD-4942-B525-BDB6D5CC959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6953D-7AD7-4FE9-9597-A2742E00078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F1D3E-5C0A-4FAE-8345-7DAE66DFB4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CF8E2-E4DF-42AA-8304-A8606D744B0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42536-7D2A-4469-82EA-FFB6D375A2B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03C5C-D74E-4EFB-A5F0-37D5259B34A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4ECD-F7CE-4F03-9C83-9A5EB78286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6D46-BB68-4BFE-81E6-108E6DA7512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9C4C-D59B-41C4-9D41-EED2B5E9BEB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41CC-31B1-4732-A203-DAE0D6975A0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F4A3-9946-4526-A6C7-690C8FAF9A5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69DA3-57BA-4B56-B8F2-90D02CD53A4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723D-0B0C-432E-BB22-5B55E404B99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60E4-7E23-4298-A5E3-A6CCC925A1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5E696-3C91-4702-B3F5-69A3434ED6C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AA382-65D0-4630-A206-45D8D9C9760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6BAA-93B8-49D2-9C8A-224B16BFF2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628C-7CEF-43A7-97AE-4E1913CD5A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393B-3BDE-40DD-9F24-550F10C0209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C89C-14BA-4A13-A81D-192A9E254C9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4C342-FEDF-4FF7-B567-8518A5E3BB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CFDED-B051-4830-9CC0-BF745FD1585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3CC7A-FF3A-4DE3-A358-5648630E8F9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DCCA8-F339-490B-99F0-A0744DAE1C6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2A0E1-C071-4976-8EF4-1B4F945CFB6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5A8BD6-F7DD-4FB4-9BED-08FCD703C51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FF813-8822-42FF-BD27-D7A5938109C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43DB1-C1E4-4721-B672-C5154E69A6E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153A45-72DE-4F90-9870-AAB4A9CD0E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32F4-2792-4881-A10C-2B31D958A1E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6E798-8DC5-44AF-A331-5E7ECD685F0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FA2CB4-CCE7-4E44-9546-AF6B291517E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42571-418F-4F2A-8C87-EC5CCD93C1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816CB2-9A4F-4590-8D7F-F46CDF66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F5128F-C39D-4265-8D22-7F4717CA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D55182-3430-45B5-9043-B4D162B2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D12BF-805E-460D-A172-5A89DCB2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210A0-74C9-46CA-8DC7-E87828F3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E8CD10-70AC-4A7B-9051-C55635E5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CEB4A9-FE22-4534-9BD7-2EFF51C6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757-85DD-4656-894F-69AF26B13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238C-4C6F-43BC-A8FC-375CF84DFFB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CB55C-DEAB-43CD-856E-70C31A8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801AB9-4772-4EC4-AEFA-B43934E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A4BCE1-C02A-444C-A14B-8F242B3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89AA90-33F8-438C-9FC0-3C810506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886CA-41AF-4387-9899-BADF182E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AD77-8170-464E-9BBB-A2612C984F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FD01-49BB-4ADE-A8C4-BB41DA31C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6D7E-D999-480B-A018-981C4B0FBA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BBA6-047A-4436-8BBE-64EF7106BA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59A-2024-462B-9461-549AA5E29D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A06-EB18-48C2-80E2-7F1B779D7D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281-A80C-4F33-A44A-3B6BDF8D0C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8BF-1B78-4F20-BAC9-F7D3B27C22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7D8-F5DC-4ECF-894D-EFEFB9D56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8EFE-358A-4869-9C7D-542AFDB776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D23-870F-465E-AE1A-A1EF1A3A41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92B-A7C5-4CAC-AE9C-E26E8CA245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7AF-AB18-4284-A4CA-60A3065EB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CD7-3B39-4F6F-920E-EFD77F8854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02D-D909-4C88-93BA-80CF034FCF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6CC-B5B9-4F59-90E0-DD034EC0A2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E72-B351-4723-AC61-12B91F1107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C6864-5700-485F-AA44-7844A16B4C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ADB4F-D39F-43AA-8F5B-24B69E8C0A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1A8FD-AA0E-4AC3-854D-01366CF0B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EB61-8D5B-48A4-A4B9-972D68F48D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AAE1C-1C50-42B6-80C3-3A998BCCDC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F09E0-B533-4A5E-AC2D-0FB89408EC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395B2-DA5D-4DB4-A0AD-05F9065CB6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00185-0191-4CEE-B22E-9548392432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D9D88-9D97-4FD8-A768-C630A5B48F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09B87-9631-4FA8-A2B6-27CFAC4BAA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7DAA2-1B73-4FC8-8D6D-C3656C612C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D1156-F9EC-4161-AF40-EC3033EF4E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DCF1F-6F7E-438B-AF77-D72EC4D2A8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88B4E-E9D6-4327-8219-E73D8463B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CB15-A99A-478A-A746-1B02CB0ED7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209F7-E80A-47CC-9DBE-610426EAB2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61DAE-2896-49E6-8C3C-BBA2243FBA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01174-1711-4DD4-B2CB-24896AA87B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6807-D226-4BA5-8FA3-E3C92CC10A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7F1F8-CB73-4260-AD3A-C42EC30B50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ECA28-1744-4496-811A-BEDBA5A295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4FB32-05CA-4FA6-8719-5ECDEDCDCE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948DB-18DD-4853-8F0C-2DB41A9BD1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9CAAE-8105-4956-B4D8-BE09FD51C7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2EC60-77D8-41F7-BE41-08AA3DECA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28B0-FA4F-4ABB-980F-FE2100BF813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985A9-F9BC-4D38-9F04-6CB75F1087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011D-7041-4A09-BCE1-9F202F7105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8EC2-C67D-4F61-8465-B53EF949DB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B67-54E8-480D-BBDF-0572AA5121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F9CE-F042-4F74-810C-63FAF7C026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BA27-180D-498A-AA20-86FE39D19F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8ACA-15F4-48D3-9CF3-8097D6CC81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8E94-9E8F-4FAE-919B-F875C06939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8E51-17AC-4159-9D04-6F7253CDB4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3E4A-DB60-4D7B-8DCD-A50EFE6E4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E843-6660-41B5-AAE1-7C1A735ED2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483E-F994-4FB2-A6DB-DFFD5DB3C7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BE26-5448-438B-BD07-C47CD0B628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4E29-F353-4F9F-BCBD-5E112220D7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191D6-183A-4DC1-B03B-6DCC9BE1AC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4FBA4-005D-4C28-AED5-C10504C8EB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D4581-DD25-4AB6-BA13-D36064666C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BF74F-D49A-41C9-91BA-70F6E61359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6E5BC-09D2-45C1-B3F3-1937BC90AF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03B04-56BE-4DA9-9D9C-9012DF4648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63C2A-1D4B-4C98-9B96-E28BEFC33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3280-B214-4445-97E1-68DA48514A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51828-C344-46EB-B9A3-44D39B4424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364FF-23E6-45BD-8D54-14DA7E6FD5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6E19D-AB6F-4AC3-8E26-88524E5B5D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2EC76-E4EE-43EF-9672-8157A1B85F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D909F-1154-4B73-A61B-A3636F9BCE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05D50-B34F-4B19-AE9C-54E2E1F3FEC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4E419-5471-4E7C-86B4-064E319EBB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76434-5236-499E-802D-50F51A9E6F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54115-B2C4-44E7-A997-76400518742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1DAB0-3FD8-445A-A5D0-3A4928BAD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500B-9E35-423D-8D57-6D25E0745D7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8572F-3178-4733-B31C-19847F1D598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D54E9-5A8B-46FB-A62D-4B7422C75E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78CED-99B5-4C21-AB16-EC6EA11269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92319-CA18-450A-9F8C-D23D98E97B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125C0-7A0C-4ED2-BD25-A108172AAC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0B14A-9CB4-4D0A-B575-BC021644C0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931F8-A412-436F-A438-A7FFFB80D8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7F20-C779-40C3-A807-3499EB898A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2A55-0454-470F-B47F-C1BF7CA781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58F6-41E7-401C-9C39-B7A069629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1106C2-25F9-4545-8710-612B41D3929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414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E19BCE-F22B-472E-8E2B-12F8C4FF3C6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89009-0C42-456A-88F5-BCA5D838657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779A6D-C424-41E6-8C46-A4BB270D980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54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1B748B-4FA8-4A9A-81CE-8F6159C64CC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06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D216D-7691-42CF-BB86-A2CFE0DBCC5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52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079108-228E-49A9-8DF2-3E839726718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98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D96A99-41F2-42AF-8DD3-3B6437178BC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75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1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1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1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C181D7-EAE0-4FF1-B09A-B23C8DB94E73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83641F-3A36-432E-8D00-DDF2C09FA0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85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2A8A11-74E3-4321-AF61-8F70FB66BB6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DFE422-340C-497B-AE50-0DDA305C13C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173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CFD1F4-F6FF-452A-8045-1459502A67BB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21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96DB1C-C723-4E51-9777-71F0FC1EC9C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63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391ECA-E5D3-4107-93B5-463E91E9596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9FED68-E675-4FA4-A6D2-3642EC71D95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366" name="Freeform 2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6680"/>
                <a:gd name="textAreaBottom" fmla="*/ 3047040 h 304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4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>
                <a:gd name="textAreaLeft" fmla="*/ 0 w 5483520"/>
                <a:gd name="textAreaRight" fmla="*/ 5483880 w 5483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>
                <a:gd name="textAreaLeft" fmla="*/ 0 w 7767720"/>
                <a:gd name="textAreaRight" fmla="*/ 7767720 w 7767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06800"/>
                <a:gd name="textAreaBottom" fmla="*/ 3107160 h 31068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7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118120"/>
                <a:gd name="textAreaBottom" fmla="*/ 5118480 h 5118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A0A309-EC3A-461C-AEDF-1FA54625BC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1"/>
          <p:cNvSpPr/>
          <p:nvPr/>
        </p:nvSpPr>
        <p:spPr>
          <a:xfrm>
            <a:off x="1187280" y="404640"/>
            <a:ext cx="6653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Контрольно-оценочная деятельность на уроках в начальной шк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"/>
          <p:cNvSpPr/>
          <p:nvPr/>
        </p:nvSpPr>
        <p:spPr>
          <a:xfrm>
            <a:off x="0" y="3886200"/>
            <a:ext cx="6400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оугольник 3"/>
          <p:cNvSpPr/>
          <p:nvPr/>
        </p:nvSpPr>
        <p:spPr>
          <a:xfrm>
            <a:off x="684360" y="350028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Arial"/>
              </a:rPr>
              <a:t>«Тот, кого я учу, — это, прежде всего, живой человек, ребенок, а потом ученик. Оценка, которую я ставлю ему — это не только измеритель его знаний, но, прежде всего, мое отношение к нему как к человеку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(В.А. Сухомлинский «Сердце отдаю детям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вила новой технологии оце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147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ценивается любо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обен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ействи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фиксируется отметкой только решение полноцен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.е. умения по использованию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 ученик по возможно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пределяют оценку в диа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внешняя оценка +самооцен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 каждую учебную зад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группу заданий, показывающих овладение отдельным умением,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вится отдельная отмет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 задачи, решенные при изучении новой темы, отметка ставится только по желанию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в процессе овладения умениями и знаниями по теме он имеет право на ошибку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 каждую задачу проверочной (контрольной)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итогам тем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тметки ставятся всем ученик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 право перес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ценка ученика определяется по универсальной шкале трех уровней успеш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нания, соответствующие государственному стандарту,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хорошо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функциональной грамотност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тлично»;необяз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ксим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- «превосхо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емы формирования само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Organization Chart 2"/>
          <p:cNvGrpSpPr/>
          <p:nvPr/>
        </p:nvGrpSpPr>
        <p:grpSpPr>
          <a:xfrm>
            <a:off x="250920" y="1566720"/>
            <a:ext cx="8389080" cy="4583520"/>
            <a:chOff x="250920" y="1566720"/>
            <a:chExt cx="8389080" cy="4583520"/>
          </a:xfrm>
        </p:grpSpPr>
        <p:cxnSp>
          <p:nvCxnSpPr>
            <p:cNvPr id="833" name="_s1028"/>
            <p:cNvCxnSpPr>
              <a:stCxn id="834" idx="0"/>
              <a:endCxn id="835" idx="2"/>
            </p:cNvCxnSpPr>
            <p:nvPr/>
          </p:nvCxnSpPr>
          <p:spPr>
            <a:xfrm flipV="1" rot="16200000">
              <a:off x="5455080" y="2389680"/>
              <a:ext cx="917280" cy="2936880"/>
            </a:xfrm>
            <a:prstGeom prst="bentConnector3">
              <a:avLst>
                <a:gd name="adj1" fmla="val 124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6" name="_s1029"/>
            <p:cNvCxnSpPr>
              <a:stCxn id="837" idx="0"/>
              <a:endCxn id="835" idx="2"/>
            </p:cNvCxnSpPr>
            <p:nvPr/>
          </p:nvCxnSpPr>
          <p:spPr>
            <a:xfrm flipV="1">
              <a:off x="4445280" y="3399840"/>
              <a:ext cx="3960" cy="91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8" name="_s1030"/>
            <p:cNvCxnSpPr>
              <a:stCxn id="839" idx="0"/>
              <a:endCxn id="835" idx="2"/>
            </p:cNvCxnSpPr>
            <p:nvPr/>
          </p:nvCxnSpPr>
          <p:spPr>
            <a:xfrm flipH="1" flipV="1" rot="5400000">
              <a:off x="2518560" y="2390040"/>
              <a:ext cx="917280" cy="2936880"/>
            </a:xfrm>
            <a:prstGeom prst="bentConnector3">
              <a:avLst>
                <a:gd name="adj1" fmla="val 124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5" name="_s1031"/>
            <p:cNvSpPr/>
            <p:nvPr/>
          </p:nvSpPr>
          <p:spPr>
            <a:xfrm>
              <a:off x="3187080" y="156672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Tahoma"/>
                  <a:ea typeface="Arial"/>
                </a:rPr>
                <a:t>ПРИЁМ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Tahoma"/>
                  <a:ea typeface="Arial"/>
                </a:rPr>
                <a:t>ФОРМИРОВА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_s1032"/>
            <p:cNvSpPr/>
            <p:nvPr/>
          </p:nvSpPr>
          <p:spPr>
            <a:xfrm>
              <a:off x="25092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ПИСЬМ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Дневник» ил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Журнал добрых дел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_s1033"/>
            <p:cNvSpPr/>
            <p:nvPr/>
          </p:nvSpPr>
          <p:spPr>
            <a:xfrm>
              <a:off x="318708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КОМПЛЕКС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 Мы оба похожи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1034"/>
            <p:cNvSpPr/>
            <p:nvPr/>
          </p:nvSpPr>
          <p:spPr>
            <a:xfrm>
              <a:off x="612324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ВЕРБА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Горячий стул»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Я хороший, потому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что…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риемы оценочной деятельности, используемые на уроке при безотметочном обучен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Лесенка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олшебная линеечка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ветофор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весное оцени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достижения конкретных предметных и метапредметных  результатов отслеживается с помощью «листов учебных достижений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19640" y="1700280"/>
            <a:ext cx="33940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8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10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12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4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AutoShape 15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AutoShape 16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9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20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25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26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2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AutoShape 2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9"/>
          <p:cNvSpPr/>
          <p:nvPr/>
        </p:nvSpPr>
        <p:spPr>
          <a:xfrm>
            <a:off x="457200" y="1600200"/>
            <a:ext cx="46195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30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31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32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Line 33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34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35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36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37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38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AutoShape 39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0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AutoShape 41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AutoShape 42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AutoShape 43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44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AutoShape 45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 Волшебная линееч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                         А                        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"/>
          <p:cNvSpPr/>
          <p:nvPr/>
        </p:nvSpPr>
        <p:spPr>
          <a:xfrm>
            <a:off x="10429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5"/>
          <p:cNvSpPr/>
          <p:nvPr/>
        </p:nvSpPr>
        <p:spPr>
          <a:xfrm>
            <a:off x="755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6"/>
          <p:cNvSpPr/>
          <p:nvPr/>
        </p:nvSpPr>
        <p:spPr>
          <a:xfrm>
            <a:off x="755640" y="422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7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Line 8"/>
          <p:cNvSpPr/>
          <p:nvPr/>
        </p:nvSpPr>
        <p:spPr>
          <a:xfrm>
            <a:off x="45007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Line 9"/>
          <p:cNvSpPr/>
          <p:nvPr/>
        </p:nvSpPr>
        <p:spPr>
          <a:xfrm>
            <a:off x="766764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4211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421164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4211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3"/>
          <p:cNvSpPr/>
          <p:nvPr/>
        </p:nvSpPr>
        <p:spPr>
          <a:xfrm>
            <a:off x="738036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738036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738036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ine 16"/>
          <p:cNvSpPr/>
          <p:nvPr/>
        </p:nvSpPr>
        <p:spPr>
          <a:xfrm flipH="1">
            <a:off x="82656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ine 17"/>
          <p:cNvSpPr/>
          <p:nvPr/>
        </p:nvSpPr>
        <p:spPr>
          <a:xfrm>
            <a:off x="8269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75247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Line 19"/>
          <p:cNvSpPr/>
          <p:nvPr/>
        </p:nvSpPr>
        <p:spPr>
          <a:xfrm>
            <a:off x="4356000" y="393372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Line 20"/>
          <p:cNvSpPr/>
          <p:nvPr/>
        </p:nvSpPr>
        <p:spPr>
          <a:xfrm flipH="1">
            <a:off x="745128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Line 21"/>
          <p:cNvSpPr/>
          <p:nvPr/>
        </p:nvSpPr>
        <p:spPr>
          <a:xfrm flipH="1">
            <a:off x="4284720" y="3933720"/>
            <a:ext cx="35856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ine 22"/>
          <p:cNvSpPr/>
          <p:nvPr/>
        </p:nvSpPr>
        <p:spPr>
          <a:xfrm flipH="1">
            <a:off x="82656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Line 24"/>
          <p:cNvSpPr/>
          <p:nvPr/>
        </p:nvSpPr>
        <p:spPr>
          <a:xfrm>
            <a:off x="90000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Oval 25"/>
          <p:cNvSpPr/>
          <p:nvPr/>
        </p:nvSpPr>
        <p:spPr>
          <a:xfrm>
            <a:off x="4140360" y="3716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Oval 26"/>
          <p:cNvSpPr/>
          <p:nvPr/>
        </p:nvSpPr>
        <p:spPr>
          <a:xfrm>
            <a:off x="7308720" y="2492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7"/>
          <p:cNvSpPr/>
          <p:nvPr/>
        </p:nvSpPr>
        <p:spPr>
          <a:xfrm>
            <a:off x="684360" y="3789360"/>
            <a:ext cx="720720" cy="7920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9"/>
          <p:cNvSpPr/>
          <p:nvPr/>
        </p:nvSpPr>
        <p:spPr>
          <a:xfrm>
            <a:off x="3995640" y="3573360"/>
            <a:ext cx="1008000" cy="107964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 Светоф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мею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мею, но               не уве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весные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4"/>
          <p:cNvSpPr/>
          <p:nvPr/>
        </p:nvSpPr>
        <p:spPr>
          <a:xfrm>
            <a:off x="468360" y="3213000"/>
            <a:ext cx="576360" cy="576360"/>
          </a:xfrm>
          <a:prstGeom prst="ellipse">
            <a:avLst/>
          </a:prstGeom>
          <a:solidFill>
            <a:srgbClr val="00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Oval 6"/>
          <p:cNvSpPr/>
          <p:nvPr/>
        </p:nvSpPr>
        <p:spPr>
          <a:xfrm>
            <a:off x="468360" y="4437000"/>
            <a:ext cx="576360" cy="5763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468360" y="2133720"/>
            <a:ext cx="576360" cy="576000"/>
          </a:xfrm>
          <a:prstGeom prst="ellipse">
            <a:avLst/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WordArt 8"/>
          <p:cNvSpPr txBox="1"/>
          <p:nvPr/>
        </p:nvSpPr>
        <p:spPr>
          <a:xfrm>
            <a:off x="5219640" y="2421000"/>
            <a:ext cx="20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WordArt 9"/>
          <p:cNvSpPr txBox="1"/>
          <p:nvPr/>
        </p:nvSpPr>
        <p:spPr>
          <a:xfrm>
            <a:off x="6372360" y="3573360"/>
            <a:ext cx="232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WordArt 10"/>
          <p:cNvSpPr txBox="1"/>
          <p:nvPr/>
        </p:nvSpPr>
        <p:spPr>
          <a:xfrm>
            <a:off x="5867280" y="4581360"/>
            <a:ext cx="2305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лич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6" name="WordArt 11"/>
          <p:cNvSpPr txBox="1"/>
          <p:nvPr/>
        </p:nvSpPr>
        <p:spPr>
          <a:xfrm>
            <a:off x="5724360" y="5805360"/>
            <a:ext cx="21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орош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cover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br>
              <a:rPr sz="3600"/>
            </a:br>
            <a:r>
              <a:rPr b="1" lang="ru-RU" sz="2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6633"/>
                </a:solidFill>
                <a:uFillTx/>
                <a:latin typeface="Times New Roman"/>
              </a:rPr>
              <a:t>Лист учебных достижений</a:t>
            </a: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следить динамику продвижения учащихся в достижении предметных и метапредмет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 создании учиты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грамму и требования к обязательному минимуму содержания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  индивидуальных  достижений  обучающегося – таблица, которая  вкладывается  в  дневник  и  заполняется  учеником  в  течение  нед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4" descr="5"/>
          <p:cNvPicPr/>
          <p:nvPr/>
        </p:nvPicPr>
        <p:blipFill>
          <a:blip r:embed="rId1"/>
          <a:stretch/>
        </p:blipFill>
        <p:spPr>
          <a:xfrm>
            <a:off x="6869160" y="0"/>
            <a:ext cx="2063880" cy="227664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5" descr="учебники 1"/>
          <p:cNvPicPr/>
          <p:nvPr/>
        </p:nvPicPr>
        <p:blipFill>
          <a:blip r:embed="rId2"/>
          <a:stretch/>
        </p:blipFill>
        <p:spPr>
          <a:xfrm>
            <a:off x="0" y="0"/>
            <a:ext cx="23036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56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5"/>
          <p:cNvSpPr/>
          <p:nvPr/>
        </p:nvSpPr>
        <p:spPr>
          <a:xfrm>
            <a:off x="2843280" y="33336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аблица 1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WordArt 5"/>
          <p:cNvSpPr txBox="1"/>
          <p:nvPr/>
        </p:nvSpPr>
        <p:spPr>
          <a:xfrm>
            <a:off x="1116000" y="404640"/>
            <a:ext cx="734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РТФОЛИО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ка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6" name="Picture 5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241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оценивани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пределение позитивных и негативных момент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нтроль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инструмент, позволяющий определять развитие, прогресс в препода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пособ коррекции деятельности обучаемых, с помощью которого учитель определяет уровень подготовлен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згляд на свои действия и поступки,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AutoShape 2"/>
          <p:cNvSpPr/>
          <p:nvPr/>
        </p:nvSpPr>
        <p:spPr>
          <a:xfrm>
            <a:off x="3995640" y="476280"/>
            <a:ext cx="5327640" cy="604836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Мои достиж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я лучш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, которое мне боль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понравило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прочитал ……. кни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я теперь зна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го не знал ран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я теперь уме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го не умел ран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 цели и планы на следующ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ный год: ………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у я еще хочу научить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книги прочит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е участие в школьн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х  мероприя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 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ты совместного твор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 родителями, одноклассника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Oval 5"/>
          <p:cNvSpPr/>
          <p:nvPr/>
        </p:nvSpPr>
        <p:spPr>
          <a:xfrm>
            <a:off x="78850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Group 8"/>
          <p:cNvGrpSpPr/>
          <p:nvPr/>
        </p:nvGrpSpPr>
        <p:grpSpPr>
          <a:xfrm>
            <a:off x="-252360" y="476280"/>
            <a:ext cx="5292720" cy="6048360"/>
            <a:chOff x="-252360" y="476280"/>
            <a:chExt cx="5292720" cy="6048360"/>
          </a:xfrm>
        </p:grpSpPr>
        <p:sp>
          <p:nvSpPr>
            <p:cNvPr id="930" name="AutoShape 3"/>
            <p:cNvSpPr/>
            <p:nvPr/>
          </p:nvSpPr>
          <p:spPr>
            <a:xfrm flipH="1">
              <a:off x="-252360" y="476280"/>
              <a:ext cx="5292720" cy="604836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Раздел «Рабочие материалы»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1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276640"/>
              <a:ext cx="33717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Oval 9"/>
          <p:cNvSpPr/>
          <p:nvPr/>
        </p:nvSpPr>
        <p:spPr>
          <a:xfrm>
            <a:off x="32400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4" descr="Изображени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1"/>
          <p:cNvSpPr/>
          <p:nvPr/>
        </p:nvSpPr>
        <p:spPr>
          <a:xfrm>
            <a:off x="457200" y="2779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Все виды контрольно-оценочных работ по учебным предметам оцениваются в процентном отношении к максимально возможному количеству баллов, выставляемому за рабо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ысокий уровень - 85-100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уровень выше среднего - 70-84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Arial"/>
              </a:rPr>
              <a:t>средний уровень - 50-69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уровень ниже среднего — 30-49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зкий уровень — менее 30 %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1"/>
          <p:cNvSpPr/>
          <p:nvPr/>
        </p:nvSpPr>
        <p:spPr>
          <a:xfrm>
            <a:off x="195120" y="228600"/>
            <a:ext cx="8015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программ начального образования. РУССКИЙ ЯЗЫК. ЧТЕН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2818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1"/>
          <p:cNvSpPr/>
          <p:nvPr/>
        </p:nvSpPr>
        <p:spPr>
          <a:xfrm>
            <a:off x="468360" y="620640"/>
            <a:ext cx="82296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На основании итоговых оценок по каждому предмету и по программе формирования универсальных учебных действий делаются следующие выводы о достижении планируемых результатов: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2"/>
          <p:cNvSpPr/>
          <p:nvPr/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1.   Выпускник овладел опорной системой знаний и учебными действиями, необходимыми для продолжения образования на следующей ступени, и способен использовать их для решения простых учебно-познавательных и учебно-практических задач средствами данного предмет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2.  Выпускник овладел опорной системой знаний, необходимой для продолжения образования на следующей ступени, на уровне осознанного произвольного овладения учебными действиям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3. Выпускник не овладел опорной системой знаний и учебными действиями, необходимыми для продолжения образования на следующей ступе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ешение об успешном освоении программы начального образования и переводе выпускника на следующую ступень общего образования принимается педагогическим советом образовательного учреждения на основе сделанных выводов о достижении планируемых результатов освоения основной образовательной программы начального общего образова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ценка – это правильное 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ровообращение,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без нее неизбежны застой и 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болезненные явления.</a:t>
            </a: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Н. Островски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457200" y="692280"/>
            <a:ext cx="8229600" cy="69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116000" y="0"/>
            <a:ext cx="7570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ль и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ой системы оценки достижения планируемых результато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757080" y="2127240"/>
            <a:ext cx="768996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4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Droid San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Система оценивания выступает не только как средство обучения, регулятор образовательного процесса, но и как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амостоятельный и самоценный элемент содерж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редство повышения эффективности преподавания и 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актор, обеспечивающий единство вариативной системы образования и регулятор программы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539640" y="1989000"/>
            <a:ext cx="7925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грирова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териальны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ться с помощью отметки могут толь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зультат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заимооц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Прямоугольник 3"/>
          <p:cNvSpPr/>
          <p:nvPr/>
        </p:nvSpPr>
        <p:spPr>
          <a:xfrm>
            <a:off x="755640" y="4046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aramond"/>
              </a:rPr>
              <a:t>Общие принципы контрольно-оценоч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6633"/>
                </a:solidFill>
                <a:latin typeface="Garamond"/>
              </a:rPr>
              <a:t>Принципы контрольно-оценочной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«блокового» контроля (контрольные работы проводятся по блокам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дифференциации (материал разного уровня сложности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выбора (обучающийся выбирает задания из набора известных, освоенных в процессе изучения по данному предмету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непрерывности (учащийся получает право на ошибку, которая, будучи исправленной, считается прогрессом в обучен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ибкость и вариативность инструментария оцен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четание качественной и количественной составляющих оцен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ественность процесса контроля и оценки (контроль и 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лжны проводиться в естественных для учащихся условиях, снижающих стресс и   напряжени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1"/>
          <p:cNvGrpSpPr/>
          <p:nvPr/>
        </p:nvGrpSpPr>
        <p:grpSpPr>
          <a:xfrm>
            <a:off x="971640" y="549360"/>
            <a:ext cx="7199280" cy="5627520"/>
            <a:chOff x="971640" y="549360"/>
            <a:chExt cx="7199280" cy="5627520"/>
          </a:xfrm>
        </p:grpSpPr>
        <p:pic>
          <p:nvPicPr>
            <p:cNvPr id="819" name="Picture 2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199280" cy="56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 Box 3"/>
            <p:cNvSpPr/>
            <p:nvPr/>
          </p:nvSpPr>
          <p:spPr>
            <a:xfrm>
              <a:off x="971640" y="549360"/>
              <a:ext cx="7199280" cy="56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1"/>
          <p:cNvGrpSpPr/>
          <p:nvPr/>
        </p:nvGrpSpPr>
        <p:grpSpPr>
          <a:xfrm>
            <a:off x="468360" y="230040"/>
            <a:ext cx="8205840" cy="6169320"/>
            <a:chOff x="468360" y="230040"/>
            <a:chExt cx="8205840" cy="6169320"/>
          </a:xfrm>
        </p:grpSpPr>
        <p:pic>
          <p:nvPicPr>
            <p:cNvPr id="822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230040"/>
              <a:ext cx="820584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 Box 3"/>
            <p:cNvSpPr/>
            <p:nvPr/>
          </p:nvSpPr>
          <p:spPr>
            <a:xfrm>
              <a:off x="468360" y="230040"/>
              <a:ext cx="8205840" cy="61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"/>
          <p:cNvSpPr/>
          <p:nvPr/>
        </p:nvSpPr>
        <p:spPr>
          <a:xfrm>
            <a:off x="324000" y="189000"/>
            <a:ext cx="864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Процедуры и механизмы оценки в начальной школе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"/>
          <p:cNvSpPr/>
          <p:nvPr/>
        </p:nvSpPr>
        <p:spPr>
          <a:xfrm>
            <a:off x="468360" y="1484280"/>
            <a:ext cx="822960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я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оценка самой школы (ребенка, учителя, школьного психолога, администрации и т. д.), которая выражается в текущих отметках, которые ставятся учителями; в результатах самооценки учащихся; в результатах наблюдений, проводящихся учителями и школьными психологами; в промежуточных и итоговой оценках учащихся и, наконец, в решении педагогического совета школы о переводе выпускника в следующий класс или на следующую ступень об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я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ценка, которая проводится внешними по отношению к школе службами, уполномоченными вести оценочную деятельнос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ова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«точка соприкосновения» внутренней и внешней оценки. В начальной школе в соответствии с Законом «Об образовании» государственная итоговая аттестация выпускников не предусматривается, поэтому прямое включение внешней оценки в итоговую оценку младших школьников исключа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фолио учащегос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то оптимальный способ организации системы накопительной оценки, понимаемое как коллекция работ и результатов учащегося, которая демонстрирует его усилия, прогресс и достижения в различных областях. Это может бы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борки детских работ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истематизированные материалы наблюд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атериалы, характеризующие достижения учащихся во внеучебной (школьной и внешкольной) и досугов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Способы осуществления оценивания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тестирования в бал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высказывания о процессе и результат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реа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7:50:22Z</dcterms:created>
  <dc:creator>777</dc:creator>
  <dc:description/>
  <dc:language>en-US</dc:language>
  <cp:lastModifiedBy>123</cp:lastModifiedBy>
  <dcterms:modified xsi:type="dcterms:W3CDTF">2016-03-13T08:10:22Z</dcterms:modified>
  <cp:revision>74</cp:revision>
  <dc:subject/>
  <dc:title>Место планируемых результатов в общей системе федерального стандарта</dc:title>
</cp:coreProperties>
</file>