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type.wav" ContentType="audio/x-wav"/>
  <Override PartName="/ppt/media/image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C58F-78FF-4E49-BA13-6E44AE82DC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08DE-475A-4065-9F80-3FC7A3A6AF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37D-C706-4196-84A8-53A0A760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424-844B-4199-B9B4-09AF0EB2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AC9-3CF9-41E0-8735-A5A2A429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5A0-003A-4CE5-A07B-993A6A31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751B-83EF-4757-8766-02F72856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4AF4-4176-478E-8B57-FD29DF86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BD59-9FF9-450D-89CC-1A8A82A6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7E29-AD4E-498B-8264-416DAA08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5C7E-1DD9-41CB-BF2D-A4565106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222D-43EF-48E7-A570-B169DD95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8D5A-4A2C-4CFA-838E-D5315A86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DE6-AE27-4604-B8B4-39221F3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3E83-2BA1-46EF-B840-7854E329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D190-BD2B-4842-A312-2003BF1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383F-31FE-45B2-94D7-A6D2B7D9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8BD5-2C2B-4EBE-A2E2-9038824F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A64E-8689-486E-8E7A-9E86F8D6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A9C-71CE-4B36-9F14-B1FF494B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687-0E74-46D8-987F-4671E21E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234-C7F2-459C-B75D-5F575D9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3ED-A26C-4021-BA54-E8C76A6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93E-F0D3-45E0-8153-89875C11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29A-DA57-40A2-92A4-1D87B37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A86-BC68-4106-9ADC-CC23A93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ac66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0BC7-B999-4B89-86C2-32482BBB56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83d6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83d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ac66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83d6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83d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D242-E068-497E-B496-D0F4750025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КАК МЫ В САДИКЕ ЖИВЁМ…</a:t>
            </a:r>
            <a:br>
              <a:rPr sz="6000"/>
            </a:br>
            <a:br>
              <a:rPr sz="6000"/>
            </a:br>
            <a:r>
              <a:rPr b="0" lang="ru-RU" sz="28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Презентация группы №7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МАДОУ «Детский сад комбинированного вида №75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Microsoft YaHei"/>
                <a:ea typeface="Microsoft YaHei"/>
              </a:rPr>
              <a:t>Энгельс – 2015г.</a:t>
            </a:r>
            <a:endParaRPr b="0" lang="en-US" sz="2800" spc="-1" strike="noStrike">
              <a:solidFill>
                <a:srgbClr val="f4e7e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иртуозы – музыканты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5" name="Picture 3" descr="C:\Users\admin\Desktop\к РОД собранию группа №7\DSC_0516.JPG"/>
          <p:cNvPicPr/>
          <p:nvPr/>
        </p:nvPicPr>
        <p:blipFill>
          <a:blip r:embed="rId1"/>
          <a:stretch/>
        </p:blipFill>
        <p:spPr>
          <a:xfrm>
            <a:off x="539640" y="2060640"/>
            <a:ext cx="646272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Спорт мы тоже любим очень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\Desktop\к РОД собранию группа №7\DSC_0343.JPG"/>
          <p:cNvPicPr/>
          <p:nvPr/>
        </p:nvPicPr>
        <p:blipFill>
          <a:blip r:embed="rId2"/>
          <a:stretch/>
        </p:blipFill>
        <p:spPr>
          <a:xfrm>
            <a:off x="0" y="192096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admin\Desktop\к РОД собранию группа №7\DSC_0345.JPG"/>
          <p:cNvPicPr/>
          <p:nvPr/>
        </p:nvPicPr>
        <p:blipFill>
          <a:blip r:embed="rId3"/>
          <a:stretch/>
        </p:blipFill>
        <p:spPr>
          <a:xfrm>
            <a:off x="4356000" y="37908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Жаль, пропустили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Олимпиаду в Сочи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1" name="Picture 2" descr="C:\Users\admin\Desktop\к РОД собранию группа №7\DSC_0346.JPG"/>
          <p:cNvPicPr/>
          <p:nvPr/>
        </p:nvPicPr>
        <p:blipFill>
          <a:blip r:embed="rId1"/>
          <a:stretch/>
        </p:blipFill>
        <p:spPr>
          <a:xfrm>
            <a:off x="5508720" y="2011320"/>
            <a:ext cx="3095640" cy="4641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admin\Desktop\к РОД собранию группа №7\DSC_0337.JPG"/>
          <p:cNvPicPr/>
          <p:nvPr/>
        </p:nvPicPr>
        <p:blipFill>
          <a:blip r:embed="rId2"/>
          <a:stretch/>
        </p:blipFill>
        <p:spPr>
          <a:xfrm>
            <a:off x="539640" y="2808360"/>
            <a:ext cx="4572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граем мы с машинками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 в кубики играем,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4" name="Picture 2" descr="C:\Users\admin\Desktop\к РОД собранию группа №7\DSC_0446.JPG"/>
          <p:cNvPicPr/>
          <p:nvPr/>
        </p:nvPicPr>
        <p:blipFill>
          <a:blip r:embed="rId1"/>
          <a:stretch/>
        </p:blipFill>
        <p:spPr>
          <a:xfrm>
            <a:off x="4067280" y="339876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admin\Desktop\к РОД собранию группа №7\DSC_0368.JPG"/>
          <p:cNvPicPr/>
          <p:nvPr/>
        </p:nvPicPr>
        <p:blipFill>
          <a:blip r:embed="rId2"/>
          <a:stretch/>
        </p:blipFill>
        <p:spPr>
          <a:xfrm>
            <a:off x="250920" y="1989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 правила движения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ы скоро все узнаем.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admin\Desktop\к РОД собранию группа №7\DSC_0423.JPG"/>
          <p:cNvPicPr/>
          <p:nvPr/>
        </p:nvPicPr>
        <p:blipFill>
          <a:blip r:embed="rId2"/>
          <a:stretch/>
        </p:blipFill>
        <p:spPr>
          <a:xfrm>
            <a:off x="3564000" y="2692440"/>
            <a:ext cx="5243400" cy="3497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admin\Desktop\к РОД собранию группа №7\DSC_0432.JPG"/>
          <p:cNvPicPr/>
          <p:nvPr/>
        </p:nvPicPr>
        <p:blipFill>
          <a:blip r:embed="rId3"/>
          <a:stretch/>
        </p:blipFill>
        <p:spPr>
          <a:xfrm rot="5084400">
            <a:off x="-235080" y="288756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Если потеряли вы где – то настроение,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К нам поспешите на представление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admin\Desktop\к РОД собранию группа №7\DSC_0450.JPG"/>
          <p:cNvPicPr/>
          <p:nvPr/>
        </p:nvPicPr>
        <p:blipFill>
          <a:blip r:embed="rId2"/>
          <a:stretch/>
        </p:blipFill>
        <p:spPr>
          <a:xfrm>
            <a:off x="3870360" y="2421000"/>
            <a:ext cx="4913280" cy="32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admin\Desktop\к РОД собранию группа №7\DSC_0453.JPG"/>
          <p:cNvPicPr/>
          <p:nvPr/>
        </p:nvPicPr>
        <p:blipFill>
          <a:blip r:embed="rId3"/>
          <a:stretch/>
        </p:blipFill>
        <p:spPr>
          <a:xfrm>
            <a:off x="611280" y="177336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Есть дежурные у нас –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Сервировка – высший класс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admin\Desktop\к РОД собранию группа №7\DSC_0377.JPG"/>
          <p:cNvPicPr/>
          <p:nvPr/>
        </p:nvPicPr>
        <p:blipFill>
          <a:blip r:embed="rId2"/>
          <a:stretch/>
        </p:blipFill>
        <p:spPr>
          <a:xfrm>
            <a:off x="5580000" y="198900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admin\Desktop\к РОД собранию группа №7\DSC_0379.JPG"/>
          <p:cNvPicPr/>
          <p:nvPr/>
        </p:nvPicPr>
        <p:blipFill>
          <a:blip r:embed="rId3"/>
          <a:stretch/>
        </p:blipFill>
        <p:spPr>
          <a:xfrm>
            <a:off x="468360" y="2205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Вырастем большими,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Здоровыми, послушными.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отому, что за обедом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ы всю  кашу скушали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F:\DCIM\100D3100\DSC_0290.JPG"/>
          <p:cNvPicPr/>
          <p:nvPr/>
        </p:nvPicPr>
        <p:blipFill>
          <a:blip r:embed="rId2"/>
          <a:stretch/>
        </p:blipFill>
        <p:spPr>
          <a:xfrm>
            <a:off x="3886200" y="3087720"/>
            <a:ext cx="5111640" cy="3408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F:\DCIM\100D3100\DSC_0288.JPG"/>
          <p:cNvPicPr/>
          <p:nvPr/>
        </p:nvPicPr>
        <p:blipFill>
          <a:blip r:embed="rId3"/>
          <a:stretch/>
        </p:blipFill>
        <p:spPr>
          <a:xfrm>
            <a:off x="395280" y="2254320"/>
            <a:ext cx="35226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ы откроем вам секрет: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Грязнулей в нашей группе НЕТ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admin\Desktop\к РОД собранию группа №7\DSC_0480.JPG"/>
          <p:cNvPicPr/>
          <p:nvPr/>
        </p:nvPicPr>
        <p:blipFill>
          <a:blip r:embed="rId2"/>
          <a:stretch/>
        </p:blipFill>
        <p:spPr>
          <a:xfrm>
            <a:off x="444600" y="2060640"/>
            <a:ext cx="3047760" cy="45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min\Desktop\к РОД собранию группа №7\DSC_0481.JPG"/>
          <p:cNvPicPr/>
          <p:nvPr/>
        </p:nvPicPr>
        <p:blipFill>
          <a:blip r:embed="rId3"/>
          <a:stretch/>
        </p:blipFill>
        <p:spPr>
          <a:xfrm rot="878400">
            <a:off x="3492000" y="2827080"/>
            <a:ext cx="51501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Тише, тише всем сейчас.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Мы уснули – ТИХИЙ ЧАС… 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admin\Desktop\к РОД собранию группа №7\DSC_0457.JPG"/>
          <p:cNvPicPr/>
          <p:nvPr/>
        </p:nvPicPr>
        <p:blipFill>
          <a:blip r:embed="rId2"/>
          <a:stretch/>
        </p:blipFill>
        <p:spPr>
          <a:xfrm rot="20734200">
            <a:off x="5292360" y="3989160"/>
            <a:ext cx="3328920" cy="2220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F:\DCIM\100D3100\DSC_0284.JPG"/>
          <p:cNvPicPr/>
          <p:nvPr/>
        </p:nvPicPr>
        <p:blipFill>
          <a:blip r:embed="rId3"/>
          <a:stretch/>
        </p:blipFill>
        <p:spPr>
          <a:xfrm rot="6115800">
            <a:off x="3951360" y="2289240"/>
            <a:ext cx="3114720" cy="2076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F:\DCIM\100D3100\DSC_0285.JPG"/>
          <p:cNvPicPr/>
          <p:nvPr/>
        </p:nvPicPr>
        <p:blipFill>
          <a:blip r:embed="rId4"/>
          <a:stretch/>
        </p:blipFill>
        <p:spPr>
          <a:xfrm rot="21189600">
            <a:off x="738360" y="4257720"/>
            <a:ext cx="3328920" cy="2219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F:\DCIM\100D3100\DSC_0286.JPG"/>
          <p:cNvPicPr/>
          <p:nvPr/>
        </p:nvPicPr>
        <p:blipFill>
          <a:blip r:embed="rId5"/>
          <a:stretch/>
        </p:blipFill>
        <p:spPr>
          <a:xfrm rot="21080400">
            <a:off x="611280" y="1868400"/>
            <a:ext cx="320364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Посмотрите – хороши,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Дошколята – малыши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7" name="Picture 2" descr="C:\Users\admin\Desktop\к РОД собранию группа №7\DSC_0124.JPG"/>
          <p:cNvPicPr/>
          <p:nvPr/>
        </p:nvPicPr>
        <p:blipFill>
          <a:blip r:embed="rId1"/>
          <a:stretch/>
        </p:blipFill>
        <p:spPr>
          <a:xfrm>
            <a:off x="428760" y="2286000"/>
            <a:ext cx="61783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оливаем огород –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ного там цветов растёт.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admin\Desktop\к РОД собранию группа №7\DSC_0438.JPG"/>
          <p:cNvPicPr/>
          <p:nvPr/>
        </p:nvPicPr>
        <p:blipFill>
          <a:blip r:embed="rId2"/>
          <a:stretch/>
        </p:blipFill>
        <p:spPr>
          <a:xfrm>
            <a:off x="334800" y="4221000"/>
            <a:ext cx="3384720" cy="2256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Users\admin\Desktop\к РОД собранию группа №7\DSC_0442.JPG"/>
          <p:cNvPicPr/>
          <p:nvPr/>
        </p:nvPicPr>
        <p:blipFill>
          <a:blip r:embed="rId3"/>
          <a:stretch/>
        </p:blipFill>
        <p:spPr>
          <a:xfrm>
            <a:off x="6372360" y="3495600"/>
            <a:ext cx="2166840" cy="325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admin\Desktop\к РОД собранию группа №7\DSC_0437.JPG"/>
          <p:cNvPicPr/>
          <p:nvPr/>
        </p:nvPicPr>
        <p:blipFill>
          <a:blip r:embed="rId4"/>
          <a:stretch/>
        </p:blipFill>
        <p:spPr>
          <a:xfrm>
            <a:off x="2027160" y="1460520"/>
            <a:ext cx="4560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1608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Девчонки и мальчишки –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Такие шалунишки!!!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admin\Desktop\к РОД собранию группа №7\DSC_0383.JPG"/>
          <p:cNvPicPr/>
          <p:nvPr/>
        </p:nvPicPr>
        <p:blipFill>
          <a:blip r:embed="rId2"/>
          <a:stretch/>
        </p:blipFill>
        <p:spPr>
          <a:xfrm>
            <a:off x="4211640" y="3429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admin\Desktop\к РОД собранию группа №7\DSC_0385.JPG"/>
          <p:cNvPicPr/>
          <p:nvPr/>
        </p:nvPicPr>
        <p:blipFill>
          <a:blip r:embed="rId3"/>
          <a:stretch/>
        </p:blipFill>
        <p:spPr>
          <a:xfrm>
            <a:off x="250920" y="148428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 свой доктор есть у нас –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Куклу вылечит сейчас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admin\Desktop\к РОД собранию группа №7\DSC_0461.JPG"/>
          <p:cNvPicPr/>
          <p:nvPr/>
        </p:nvPicPr>
        <p:blipFill>
          <a:blip r:embed="rId2"/>
          <a:stretch/>
        </p:blipFill>
        <p:spPr>
          <a:xfrm rot="21102000">
            <a:off x="207720" y="2355480"/>
            <a:ext cx="4287600" cy="285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admin\Desktop\к РОД собранию группа №7\DSC_0467.JPG"/>
          <p:cNvPicPr/>
          <p:nvPr/>
        </p:nvPicPr>
        <p:blipFill>
          <a:blip r:embed="rId3"/>
          <a:stretch/>
        </p:blipFill>
        <p:spPr>
          <a:xfrm>
            <a:off x="4680000" y="3890880"/>
            <a:ext cx="4067280" cy="2711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admin\Desktop\к РОД собранию группа №7\DSC_0471.JPG"/>
          <p:cNvPicPr/>
          <p:nvPr/>
        </p:nvPicPr>
        <p:blipFill>
          <a:blip r:embed="rId4"/>
          <a:stretch/>
        </p:blipFill>
        <p:spPr>
          <a:xfrm rot="222000">
            <a:off x="4995720" y="1348920"/>
            <a:ext cx="36705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Так весь день играем, рисуем и поём,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Users\admin\Desktop\к РОД собранию группа №7\DSC_0395.JPG"/>
          <p:cNvPicPr/>
          <p:nvPr/>
        </p:nvPicPr>
        <p:blipFill>
          <a:blip r:embed="rId2"/>
          <a:stretch/>
        </p:blipFill>
        <p:spPr>
          <a:xfrm>
            <a:off x="611280" y="1252440"/>
            <a:ext cx="3568680" cy="5353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Users\admin\Desktop\к РОД собранию группа №7\DSC_0412.JPG"/>
          <p:cNvPicPr/>
          <p:nvPr/>
        </p:nvPicPr>
        <p:blipFill>
          <a:blip r:embed="rId3"/>
          <a:stretch/>
        </p:blipFill>
        <p:spPr>
          <a:xfrm>
            <a:off x="4826160" y="1252440"/>
            <a:ext cx="35859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есело и дружно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 садике живём!!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\Desktop\к РОД собранию группа №7\DSC_0367.JPG"/>
          <p:cNvPicPr/>
          <p:nvPr/>
        </p:nvPicPr>
        <p:blipFill>
          <a:blip r:embed="rId2"/>
          <a:stretch/>
        </p:blipFill>
        <p:spPr>
          <a:xfrm>
            <a:off x="3467160" y="21160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admin\Desktop\к РОД собранию группа №7\DSC_0371.JPG"/>
          <p:cNvPicPr/>
          <p:nvPr/>
        </p:nvPicPr>
        <p:blipFill>
          <a:blip r:embed="rId3"/>
          <a:stretch/>
        </p:blipFill>
        <p:spPr>
          <a:xfrm rot="822600">
            <a:off x="5963760" y="2063880"/>
            <a:ext cx="2986200" cy="1990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admin\Desktop\к РОД собранию группа №7\DSC_0427.JPG"/>
          <p:cNvPicPr/>
          <p:nvPr/>
        </p:nvPicPr>
        <p:blipFill>
          <a:blip r:embed="rId4"/>
          <a:stretch/>
        </p:blipFill>
        <p:spPr>
          <a:xfrm rot="21310200">
            <a:off x="269640" y="2030400"/>
            <a:ext cx="36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 «форме» быть стараемся,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Зарядкой занимаемся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admin\Desktop\к РОД собранию группа №7\DSC_0334.JPG"/>
          <p:cNvPicPr/>
          <p:nvPr/>
        </p:nvPicPr>
        <p:blipFill>
          <a:blip r:embed="rId2"/>
          <a:stretch/>
        </p:blipFill>
        <p:spPr>
          <a:xfrm>
            <a:off x="4610160" y="3681360"/>
            <a:ext cx="4336920" cy="2890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admin\Desktop\к РОД собранию группа №7\DSC_0332.JPG"/>
          <p:cNvPicPr/>
          <p:nvPr/>
        </p:nvPicPr>
        <p:blipFill>
          <a:blip r:embed="rId3"/>
          <a:stretch/>
        </p:blipFill>
        <p:spPr>
          <a:xfrm>
            <a:off x="179280" y="1873080"/>
            <a:ext cx="443088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Учимся считать мы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Кружочки и квадратики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admin\Desktop\к РОД собранию группа №7\DSC_0353.JPG"/>
          <p:cNvPicPr/>
          <p:nvPr/>
        </p:nvPicPr>
        <p:blipFill>
          <a:blip r:embed="rId2"/>
          <a:stretch/>
        </p:blipFill>
        <p:spPr>
          <a:xfrm>
            <a:off x="4788000" y="4079880"/>
            <a:ext cx="3960720" cy="263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admin\Desktop\к РОД собранию группа №7\DSC_0361.JPG"/>
          <p:cNvPicPr/>
          <p:nvPr/>
        </p:nvPicPr>
        <p:blipFill>
          <a:blip r:embed="rId3"/>
          <a:stretch/>
        </p:blipFill>
        <p:spPr>
          <a:xfrm>
            <a:off x="366840" y="1989000"/>
            <a:ext cx="421164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роблем у нас не будет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В школе с математикой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admin\Desktop\к РОД собранию группа №7\DSC_0374.JPG"/>
          <p:cNvPicPr/>
          <p:nvPr/>
        </p:nvPicPr>
        <p:blipFill>
          <a:blip r:embed="rId2"/>
          <a:stretch/>
        </p:blipFill>
        <p:spPr>
          <a:xfrm>
            <a:off x="2771640" y="2043000"/>
            <a:ext cx="6085080" cy="4056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admin\Desktop\к РОД собранию группа №7\DSC_0418.JPG"/>
          <p:cNvPicPr/>
          <p:nvPr/>
        </p:nvPicPr>
        <p:blipFill>
          <a:blip r:embed="rId3"/>
          <a:stretch/>
        </p:blipFill>
        <p:spPr>
          <a:xfrm rot="4829400">
            <a:off x="-34560" y="2574000"/>
            <a:ext cx="403236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Не только петь умеем мы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Дружно и красиво.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1" name="Picture 2" descr="C:\Users\admin\Desktop\к РОД собранию группа №7\DSC_0483.JPG"/>
          <p:cNvPicPr/>
          <p:nvPr/>
        </p:nvPicPr>
        <p:blipFill>
          <a:blip r:embed="rId1"/>
          <a:stretch/>
        </p:blipFill>
        <p:spPr>
          <a:xfrm>
            <a:off x="542880" y="1989000"/>
            <a:ext cx="431964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admin\Desktop\к РОД собранию группа №7\DSC_0503.JPG"/>
          <p:cNvPicPr/>
          <p:nvPr/>
        </p:nvPicPr>
        <p:blipFill>
          <a:blip r:embed="rId2"/>
          <a:stretch/>
        </p:blipFill>
        <p:spPr>
          <a:xfrm rot="612000">
            <a:off x="4812840" y="2061720"/>
            <a:ext cx="3525840" cy="2349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admin\Desktop\к РОД собранию группа №7\DSC_0500.JPG"/>
          <p:cNvPicPr/>
          <p:nvPr/>
        </p:nvPicPr>
        <p:blipFill>
          <a:blip r:embed="rId3"/>
          <a:stretch/>
        </p:blipFill>
        <p:spPr>
          <a:xfrm rot="21154800">
            <a:off x="3187800" y="441936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Умеем даже танцевать</a:t>
            </a:r>
            <a:br>
              <a:rPr sz="4400"/>
            </a:b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5" name="Picture 2" descr="C:\Users\admin\Desktop\к РОД собранию группа №7\DSC_0490.JPG"/>
          <p:cNvPicPr/>
          <p:nvPr/>
        </p:nvPicPr>
        <p:blipFill>
          <a:blip r:embed="rId1"/>
          <a:stretch/>
        </p:blipFill>
        <p:spPr>
          <a:xfrm>
            <a:off x="277920" y="112536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admin\Desktop\к РОД собранию группа №7\DSC_0497.JPG"/>
          <p:cNvPicPr/>
          <p:nvPr/>
        </p:nvPicPr>
        <p:blipFill>
          <a:blip r:embed="rId2"/>
          <a:stretch/>
        </p:blipFill>
        <p:spPr>
          <a:xfrm>
            <a:off x="4500720" y="3770280"/>
            <a:ext cx="4356000" cy="2903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admin\Desktop\к РОД собранию группа №7\DSC_0486.JPG"/>
          <p:cNvPicPr/>
          <p:nvPr/>
        </p:nvPicPr>
        <p:blipFill>
          <a:blip r:embed="rId3"/>
          <a:stretch/>
        </p:blipFill>
        <p:spPr>
          <a:xfrm rot="21015000">
            <a:off x="652320" y="4043520"/>
            <a:ext cx="370872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есело, игриво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9" name="Picture 4" descr="C:\Users\admin\Desktop\к РОД собранию группа №7\DSC_0493.JPG"/>
          <p:cNvPicPr/>
          <p:nvPr/>
        </p:nvPicPr>
        <p:blipFill>
          <a:blip r:embed="rId1"/>
          <a:stretch/>
        </p:blipFill>
        <p:spPr>
          <a:xfrm>
            <a:off x="684360" y="1700280"/>
            <a:ext cx="2773080" cy="388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admin\Desktop\к РОД собранию группа №7\DSC_0492.JPG"/>
          <p:cNvPicPr/>
          <p:nvPr/>
        </p:nvPicPr>
        <p:blipFill>
          <a:blip r:embed="rId2"/>
          <a:stretch/>
        </p:blipFill>
        <p:spPr>
          <a:xfrm>
            <a:off x="3708360" y="2781360"/>
            <a:ext cx="50752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Посмотрите на таланты -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\Desktop\к РОД собранию группа №7\DSC_0511.JPG"/>
          <p:cNvPicPr/>
          <p:nvPr/>
        </p:nvPicPr>
        <p:blipFill>
          <a:blip r:embed="rId2"/>
          <a:stretch/>
        </p:blipFill>
        <p:spPr>
          <a:xfrm>
            <a:off x="1258920" y="1844640"/>
            <a:ext cx="68342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3:40:52Z</dcterms:created>
  <dc:creator>***</dc:creator>
  <dc:description/>
  <dc:language>en-US</dc:language>
  <cp:lastModifiedBy>polza</cp:lastModifiedBy>
  <dcterms:modified xsi:type="dcterms:W3CDTF">2016-09-15T10:37:35Z</dcterms:modified>
  <cp:revision>31</cp:revision>
  <dc:subject/>
  <dc:title>Слайд 1</dc:title>
</cp:coreProperties>
</file>