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87F-1A2A-444E-B47E-4BF8301C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984-58CD-4A19-8DBC-8F52AFE5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399-BCAB-4E72-A760-AC9DE7B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BC6-4D09-4AF2-99EC-A8BD6AAB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D6F-5ADB-479A-8C71-9D6F2C86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16CA-6E1F-4570-8163-BF8E566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73E-7264-4B95-81D1-E6230C5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CD3-6887-4170-AA5A-2A02D0E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5B9B-7A7C-4708-BCFB-7C44A85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ED35-6914-4885-BDF3-739E907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7D1-F587-462C-A144-3F55C24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27C-E189-4820-9287-E35CEDE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260B-0E9C-4F74-93DB-1DDC830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9223-B9AB-4776-A6E5-3EDE6B7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5E78-023D-4AE1-B824-CF9FBF83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DB0D-A1D6-4E19-83FC-7738F40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5C2-419B-466A-A2D1-03CCBA6B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A35-CE32-4767-B75C-DD248D9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326-779B-4057-B959-C95CAEBC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90B-7FD5-4F1E-A146-BD35423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0BF-6859-482A-A1CE-86B1B97B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09C-C308-4A09-BAE9-CD0F5F5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ACF-C48E-4236-B3E8-A3B1C94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5A6-5C8C-4B0D-9B24-8E15044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51B78C-53CC-464A-86C2-9923C093C6B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AC1953-2C22-418D-B5F8-36810C528B3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" name="Picture 2" descr="http://forums.drom.ru/attachment.php?attachmentid=2527802&amp;stc=1&amp;thumb=1&amp;d=1336472346"/>
          <p:cNvPicPr/>
          <p:nvPr/>
        </p:nvPicPr>
        <p:blipFill>
          <a:blip r:embed="rId1"/>
          <a:srcRect l="0" t="0" r="0" b="5622"/>
          <a:stretch/>
        </p:blipFill>
        <p:spPr>
          <a:xfrm>
            <a:off x="357120" y="357120"/>
            <a:ext cx="8429400" cy="61434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2" descr="http://forums.drom.ru/attachment.php?attachmentid=2527802&amp;stc=1&amp;thumb=1&amp;d=1336472346"/>
          <p:cNvPicPr/>
          <p:nvPr/>
        </p:nvPicPr>
        <p:blipFill>
          <a:blip r:embed="rId2"/>
          <a:srcRect l="0" t="0" r="0" b="5622"/>
          <a:stretch/>
        </p:blipFill>
        <p:spPr>
          <a:xfrm>
            <a:off x="509760" y="509760"/>
            <a:ext cx="8429400" cy="614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я бабушка Савва Варвара Кузьминична, родилась 27 ноября 1924 года в селе Песчаное, неподалеку от города Мелитополь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2 июня 1941 года жители этого маленького села узнали, что началась война. Бабушке было 16 лет. В октябре село заняли немцы. Бабушка была самой старшей в семье (всего в семье было 12 детей) и все самое тяжелое в семье легло на ее плечи ей пришлось работать на Мелитопольском консервном заводе. Весной начались принудительные угоны на работу в Германию .Мою бабушку и ее лучшую подружку Нину немцы отправили в г. Кобленц –который расположен  на западе Германии. С 12 апреля 1942 года по 4 марта 1945 года бабушка работала чернорабочей на консервном заводе. В трудовом лагере бабушке на правой руке сделали наколку в виде номера(так делали всем заключенным)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5году город Кобленц был освобожден. Началось долгое возвращение домой. В дороге бабушка сильно заболела, не могла ходить, но благодаря таким же девчушкам как она, которые заботились о ней, она смогла добраться до своего родного дома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звращении устроилась на работу, работала на строительстве, после войны отстраивала Мелитопольскую городскую больницу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8 году приехала в Донецк, устроилась работать на шахту бутчицей где и встретила моего дедушку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тстве я очень часто просила рассказать истории , которые происходили в жизни моей бабушки, очень нравилось слушать рассказы о войне. Но бабушке не очень  хотелось ворошить те страшные воспоминания, только теперь я понимаю сколько горя и страданий ей пришлось пережить, тогда совсем еще юной девочке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 октября 2014 года бабушки не стало (ей бы исполнилось 90 лет)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все, что она мне говорила, о чем рассказывала я навсегда сохраню в своей памяти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Рисунок 4" descr="1974122000892f92cd7d7771448d3fa6d35da3c76e.jpg"/>
          <p:cNvPicPr/>
          <p:nvPr/>
        </p:nvPicPr>
        <p:blipFill>
          <a:blip r:embed="rId1"/>
          <a:srcRect l="0" t="0" r="0" b="3872"/>
          <a:stretch/>
        </p:blipFill>
        <p:spPr>
          <a:xfrm>
            <a:off x="539640" y="0"/>
            <a:ext cx="8135640" cy="5084280"/>
          </a:xfrm>
          <a:prstGeom prst="rect">
            <a:avLst/>
          </a:prstGeom>
          <a:ln w="9525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95280" y="5247360"/>
            <a:ext cx="799272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 - праздник всей стра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ой оркестр играет марш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 - праздник седи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х прадедов, дедов и кто помлад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0</TotalTime>
  <Application>LibreOffice/7.4.7.2$Linux_X86_64 LibreOffice_project/40$Build-2</Application>
  <AppVersion>15.0000</AppVersion>
  <Words>307</Words>
  <Paragraphs>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4:53:04Z</dcterms:created>
  <dc:creator>Admin</dc:creator>
  <dc:description/>
  <dc:language>en-US</dc:language>
  <cp:lastModifiedBy>Алина</cp:lastModifiedBy>
  <dcterms:modified xsi:type="dcterms:W3CDTF">2015-04-21T15:57:59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</vt:r8>
  </property>
</Properties>
</file>