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94E-04C5-4623-A0A0-BCFB0866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DE1-9F58-4876-81C1-B1E4E6B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CCE-265A-4756-BC8E-46A8D2CC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BCF-FF2E-42BD-988A-6161E78D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D6EB-12BC-4DB5-989B-239B564B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DC54-36A0-45A7-8E5F-83B0AB14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9768-EC29-4E67-B4C6-278EFF4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6BA-3694-4BBA-BF94-7E8BBCA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A2CE-D3FD-431A-BD96-EAFFFC71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FA2-2AE4-4357-904A-E42693E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F608-0F74-4912-BA32-4453F0D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670-3509-442A-9798-BB16C21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06BB-BD90-4378-804F-3D056C3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B1B6-B019-48E6-B6D7-30B4944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7471-4B04-4C80-897A-59FF314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5635-0643-455C-9884-BF19F5B3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68A-58D7-4579-B9D5-886045B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F5C-118E-4F3F-9A2D-F73D5595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3E8-231D-4AE2-A2F3-78B3470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080-43C8-4A65-88FF-DFBBF99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F84-C6F0-4CBA-A3A7-C17DB34D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31C-0DFF-42C9-90DF-4ECF5BBE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644-E05A-4E9F-BB71-EECDED9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5E6-32D0-4F10-B97E-FAD5000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70E0F7-8DE7-4E20-A398-203E35257B9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CABBA1-5299-4ED0-985F-39633F88B00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" name="Picture 2" descr="http://forums.drom.ru/attachment.php?attachmentid=2527802&amp;stc=1&amp;thumb=1&amp;d=1336472346"/>
          <p:cNvPicPr/>
          <p:nvPr/>
        </p:nvPicPr>
        <p:blipFill>
          <a:blip r:embed="rId1"/>
          <a:srcRect l="0" t="0" r="0" b="5622"/>
          <a:stretch/>
        </p:blipFill>
        <p:spPr>
          <a:xfrm>
            <a:off x="357120" y="357120"/>
            <a:ext cx="8429400" cy="61434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2" descr="http://forums.drom.ru/attachment.php?attachmentid=2527802&amp;stc=1&amp;thumb=1&amp;d=1336472346"/>
          <p:cNvPicPr/>
          <p:nvPr/>
        </p:nvPicPr>
        <p:blipFill>
          <a:blip r:embed="rId2"/>
          <a:srcRect l="0" t="0" r="0" b="5622"/>
          <a:stretch/>
        </p:blipFill>
        <p:spPr>
          <a:xfrm>
            <a:off x="509760" y="509760"/>
            <a:ext cx="8429400" cy="614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я бабушка Савва Варвара Кузьминична, родилась 27 ноября 1924 года в селе Песчаное, неподалеку от города Мелитополь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2 июня 1941 года жители этого маленького села узнали, что началась война. Бабушке было 16 лет. В октябре село заняли немцы. Бабушка была самой старшей в семье (всего в семье было 12 детей) и все самое тяжелое в семье легло на ее плечи ей пришлось работать на Мелитопольском консервном заводе. Весной начались принудительные угоны на работу в Германию .Мою бабушку и ее лучшую подружку Нину немцы отправили в г. Кобленц –который расположен  на западе Германии. С 12 апреля 1942 года по 4 марта 1945 года бабушка работала чернорабочей на консервном заводе. В трудовом лагере бабушке на правой руке сделали наколку в виде номера(так делали всем заключенным)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5году город Кобленц был освобожден. Началось долгое возвращение домой. В дороге бабушка сильно заболела, не могла ходить, но благодаря таким же девчушкам как она, которые заботились о ней, она смогла добраться до своего родного дома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звращении устроилась на работу, работала на строительстве, после войны отстраивала Мелитопольскую городскую больницу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1948 году приехала в Донецк, устроилась работать на шахту бутчицей где и встретила моего дедушку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тстве я очень часто просила рассказать истории , которые происходили в жизни моей бабушки, очень нравилось слушать рассказы о войне. Но бабушке не очень  хотелось ворошить те страшные воспоминания, только теперь я понимаю сколько горя и страданий ей пришлось пережить, тогда совсем еще юной девочке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 октября 2014 года бабушки не стало (ей бы исполнилось 90 лет)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все, что она мне говорила, о чем рассказывала я навсегда сохраню в своей памяти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buNone/>
            </a:pPr>
            <a:endParaRPr b="1" lang="ru-RU" sz="5600" spc="-1" strike="noStrike">
              <a:solidFill>
                <a:srgbClr val="50e0ea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Рисунок 4" descr="1974122000892f92cd7d7771448d3fa6d35da3c76e.jpg"/>
          <p:cNvPicPr/>
          <p:nvPr/>
        </p:nvPicPr>
        <p:blipFill>
          <a:blip r:embed="rId1"/>
          <a:srcRect l="0" t="0" r="0" b="3872"/>
          <a:stretch/>
        </p:blipFill>
        <p:spPr>
          <a:xfrm>
            <a:off x="539640" y="0"/>
            <a:ext cx="8135640" cy="5084280"/>
          </a:xfrm>
          <a:prstGeom prst="rect">
            <a:avLst/>
          </a:prstGeom>
          <a:ln w="9525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95280" y="5247360"/>
            <a:ext cx="799272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 - праздник всей стра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ой оркестр играет марш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Победы - праздник седи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х прадедов, дедов и кто помлад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60</TotalTime>
  <Application>LibreOffice/7.4.7.2$Linux_X86_64 LibreOffice_project/40$Build-2</Application>
  <AppVersion>15.0000</AppVersion>
  <Words>307</Words>
  <Paragraphs>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4:53:04Z</dcterms:created>
  <dc:creator>Admin</dc:creator>
  <dc:description/>
  <dc:language>en-US</dc:language>
  <cp:lastModifiedBy>Алина</cp:lastModifiedBy>
  <dcterms:modified xsi:type="dcterms:W3CDTF">2015-04-21T15:57:59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</vt:r8>
  </property>
</Properties>
</file>