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9667-4C5B-481E-9CA2-3E31AD9DF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DF54-D55C-410A-A682-34B8BC3AA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B8AA-3292-4F56-BF58-A32EC7C6F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0103-59E6-462F-9E08-92557DF13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EA4A-FFF2-41BE-9706-1F5474971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2F6F-FF2F-40E9-81AE-94FA378E9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3DCE-221D-4084-B57C-9DEDFCDB6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B0A0-866C-42EF-83DF-DCC60BF6F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DEDA-4885-4476-96AE-6CB436EE7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6802-9A24-41DB-BD71-775E8D40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BE91-FC50-47CA-828A-76E80CD4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3E19-FD8B-4227-A16B-AC89ED274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ACC49-0A80-454B-9377-51CF5D226F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800080"/>
                </a:solidFill>
                <a:latin typeface="Arial"/>
              </a:rPr>
              <a:t>Кону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1413000"/>
            <a:ext cx="3995640" cy="5445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43" name=""/>
          <p:cNvSpPr/>
          <p:nvPr/>
        </p:nvSpPr>
        <p:spPr>
          <a:xfrm>
            <a:off x="4140360" y="1844640"/>
            <a:ext cx="5003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нус- геометрическое тело, ограниченное конической поверхностью и кругом с границей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руг- 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основание конус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Вершина конической поверхности- 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вершина конус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Отрезки образующих, заключенные между вершиной и основанием называются 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образующим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конус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а образованная ими часть конической поверхности- 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боковой поверхностью конус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Ось конической поверхности называется 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осью конус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а её отрезок, заключенный между вершиной и основанием,- 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высотой конус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Образующие конуса равны друг дру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3280" cy="65246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076720" y="360360"/>
            <a:ext cx="3598920" cy="77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askerville Old Face"/>
              </a:rPr>
              <a:t>Если секущая плоскость проходит через ось конуса , то сечение представляет собой равнобедренный треугольник. Это сечение называется </a:t>
            </a:r>
            <a:r>
              <a:rPr b="1" lang="ru-RU" sz="2800" spc="-1" strike="noStrike">
                <a:solidFill>
                  <a:srgbClr val="800080"/>
                </a:solidFill>
                <a:latin typeface="Baskerville Old Face"/>
              </a:rPr>
              <a:t>осевым</a:t>
            </a:r>
            <a:r>
              <a:rPr b="0" lang="ru-RU" sz="2800" spc="-1" strike="noStrike">
                <a:solidFill>
                  <a:srgbClr val="000000"/>
                </a:solidFill>
                <a:latin typeface="Baskerville Old Face"/>
              </a:rPr>
              <a:t>. Если секущая плоскость перпендикулярна к оси </a:t>
            </a: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OP</a:t>
            </a:r>
            <a:r>
              <a:rPr b="0" lang="ru-RU" sz="2800" spc="-1" strike="noStrike">
                <a:solidFill>
                  <a:srgbClr val="000000"/>
                </a:solidFill>
                <a:latin typeface="Baskerville Old Face"/>
              </a:rPr>
              <a:t> конуса то сечение конуса представляет собой </a:t>
            </a:r>
            <a:r>
              <a:rPr b="1" lang="ru-RU" sz="2800" spc="-1" strike="noStrike">
                <a:solidFill>
                  <a:srgbClr val="800080"/>
                </a:solidFill>
                <a:latin typeface="Baskerville Old Face"/>
              </a:rPr>
              <a:t>круг</a:t>
            </a:r>
            <a:r>
              <a:rPr b="0" lang="ru-RU" sz="2800" spc="-1" strike="noStrike">
                <a:solidFill>
                  <a:srgbClr val="000000"/>
                </a:solidFill>
                <a:latin typeface="Baskerville Old Fac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лощадь поверхности конус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867564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763272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04T18:51:36Z</dcterms:created>
  <dc:creator>Admin</dc:creator>
  <dc:description/>
  <dc:language>en-US</dc:language>
  <cp:lastModifiedBy>Admin</cp:lastModifiedBy>
  <dcterms:modified xsi:type="dcterms:W3CDTF">2015-12-04T20:06:47Z</dcterms:modified>
  <cp:revision>2</cp:revision>
  <dc:subject/>
  <dc:title>Конус</dc:title>
</cp:coreProperties>
</file>