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0E12-C27E-457E-8322-0EF0C4DE7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5EF2-A6DB-4C5F-ADC9-90C48E24C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FEDA-23EE-4EA0-BE9F-5F98A3905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9128-3763-451C-A10E-051A6A148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FDD8-FA89-4E94-A018-2575D472D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765B-6E9F-4691-BCF6-C3714FFD4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6845-28E7-425B-AD42-B3BAB45EF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CD3C-F9CC-43A9-A38E-BFA7C27E6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7AD6-C7DF-4004-91F9-CF4268784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B77A-7A8A-454C-9814-109C9EBC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47B0-089B-4468-98E9-4D2D55E4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40AD-1B19-412F-888A-F16455EE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E1868-D81C-4469-831B-187253045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0080"/>
                </a:solidFill>
                <a:latin typeface="Arial"/>
              </a:rPr>
              <a:t>Кону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1413000"/>
            <a:ext cx="3995640" cy="5445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4140360" y="1844640"/>
            <a:ext cx="5003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нус- геометрическое тело, ограниченное конической поверхностью и кругом с границей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уг- 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основание конус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Вершина конической поверхности- 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вершина конус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Отрезки образующих, заключенные между вершиной и основанием называются 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образующим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конус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а образованная ими часть конической поверхности- 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боковой поверхностью конус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Ось конической поверхности называется 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осью конус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а её отрезок, заключенный между вершиной и основанием,- 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высотой конус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Образующие конуса равны друг дру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6524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076720" y="360360"/>
            <a:ext cx="359892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askerville Old Face"/>
              </a:rPr>
              <a:t>Если секущая плоскость проходит через ось конуса , то сечение представляет собой равнобедренный треугольник. Это сечение называется </a:t>
            </a:r>
            <a:r>
              <a:rPr b="1" lang="ru-RU" sz="2800" spc="-1" strike="noStrike">
                <a:solidFill>
                  <a:srgbClr val="800080"/>
                </a:solidFill>
                <a:latin typeface="Baskerville Old Face"/>
              </a:rPr>
              <a:t>осевым</a:t>
            </a:r>
            <a:r>
              <a:rPr b="0" lang="ru-RU" sz="2800" spc="-1" strike="noStrike">
                <a:solidFill>
                  <a:srgbClr val="000000"/>
                </a:solidFill>
                <a:latin typeface="Baskerville Old Face"/>
              </a:rPr>
              <a:t>. Если секущая плоскость перпендикулярна к оси </a:t>
            </a: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OP</a:t>
            </a:r>
            <a:r>
              <a:rPr b="0" lang="ru-RU" sz="2800" spc="-1" strike="noStrike">
                <a:solidFill>
                  <a:srgbClr val="000000"/>
                </a:solidFill>
                <a:latin typeface="Baskerville Old Face"/>
              </a:rPr>
              <a:t> конуса то сечение конуса представляет собой </a:t>
            </a:r>
            <a:r>
              <a:rPr b="1" lang="ru-RU" sz="2800" spc="-1" strike="noStrike">
                <a:solidFill>
                  <a:srgbClr val="800080"/>
                </a:solidFill>
                <a:latin typeface="Baskerville Old Face"/>
              </a:rPr>
              <a:t>круг</a:t>
            </a:r>
            <a:r>
              <a:rPr b="0" lang="ru-RU" sz="2800" spc="-1" strike="noStrike">
                <a:solidFill>
                  <a:srgbClr val="000000"/>
                </a:solidFill>
                <a:latin typeface="Baskerville Old Fac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лощадь поверхности конус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867564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763272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04T18:51:36Z</dcterms:created>
  <dc:creator>Admin</dc:creator>
  <dc:description/>
  <dc:language>en-US</dc:language>
  <cp:lastModifiedBy>Admin</cp:lastModifiedBy>
  <dcterms:modified xsi:type="dcterms:W3CDTF">2015-12-04T20:06:47Z</dcterms:modified>
  <cp:revision>2</cp:revision>
  <dc:subject/>
  <dc:title>Конус</dc:title>
</cp:coreProperties>
</file>