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F83-1A46-4B3C-BE57-B3D67745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333-6334-436E-9F4E-2DEDB5BA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8AC-10FD-4AE9-9428-43C257BD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E7D-2A29-42DB-8641-43F27327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6078-F7AD-4225-B106-1002C5E4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B6F4-DB30-4F23-8480-090E3130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1271-8939-40CB-91DB-4DE29005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61BD-C73E-42E9-8CBF-D0499945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EDFA-F9A5-4149-BF43-D1C93CD9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0CE5-06DC-4260-BD1E-50F2FE3E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559-74E2-48C9-9FC0-04E4881D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CFA-3E13-4143-9B43-0C4F15B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B5DB-D16D-4DD4-B580-CB26102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0FD2-9272-4922-8B9E-BD5DB5A4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175D-BF8C-4621-AE75-3DB845AE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07B7-1278-4F80-875F-6466D730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AE4A-C7EA-4AB6-ABEA-FAACE9A6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15ED-E03E-4CD8-B549-D329C706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4495-1024-47FC-B608-F0EAD0A4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38AD9-3A2B-4BAB-9E87-80368297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5851-5E37-4906-92C1-348184C6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5683-7ADD-4AC2-B033-1FC405F8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CC5-0175-47E0-AFD6-3053D7CB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D949-9889-4021-B00A-DFF64F52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01D3-5725-4CD8-A603-7944D5B1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32D1-6CC5-4C19-8532-18FD59CE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A3A3-0915-40FE-97F1-A956D6E1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AFA2-1F8B-4B52-8937-B8039CA1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7A9C-B867-48C2-AE31-A1A5C942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6F73-F1AB-42BC-92C8-521E4845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FB08-BC62-42FA-A227-A349173A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BA576-15D5-44F0-96BB-6288E851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0D3B-4D08-4C4A-A53D-FD8FD7F8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84B-3502-48F7-92FF-645B0B5D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C149-80F4-409B-8F06-D03D176F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72281-4114-49B7-8D01-A93A6F82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617F-935A-4A09-BCA3-2F5870DC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01B93-CDF4-483F-B46F-EFAC871A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E8E0-EE4B-402A-81A9-31E12DC9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7988E-7721-481F-A2F4-445112D5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7870-9A55-4BA6-A463-FA2AC2AB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3292-057A-4528-AA5D-25AA6685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85A9-37D8-49A9-ABFB-B33945D7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652F-1563-4728-AF64-A8FB9BF5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492-0D13-4277-B2DA-038F9B3E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8A93A-001E-4BC9-B61B-06C4DDD1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F5EB8-D064-4BBE-AD6B-34417725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FABFE-300E-44F9-87B9-EC96AAE6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79B55-B03A-4C51-A5A0-7DCF6885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88A65-7678-4D3F-B8D4-7292C213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65C2-E3BC-4305-B7DF-72966FFE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D6660-5F43-4088-BB42-7B39A196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84F68-2F76-4067-9EC9-3FFAD698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03DBB-86F3-42EA-8692-1165E20B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A32E-3219-423C-9EA5-2F956FD7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EB4-0093-4281-9EFA-447883C5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A880E-4960-4A49-BE0C-47F9F6EF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101-0FB8-438E-8EF9-B26CB4AE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848-6033-4619-83C0-0614A18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C51-CCD2-4E6D-91CD-D5D6614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858-8D85-4ED6-9B52-C1DD7097BD79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4AE7-E66D-4689-B9C3-65C88941896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4E0-ECD9-40F8-8BE1-0D7CC368018B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A165-95DD-4DCD-812A-C560AC628152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33C3-D074-4517-9B81-07389831FEB1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206800" y="530280"/>
            <a:ext cx="4925880" cy="3260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диус сферы, проведенный с точку касания сферы и прямой, перпендикулярен к этой прямой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радиус сферы перпендикулярен к прямой, проходящей через его конец, лежащий на сфере, то эта прямая является касательной к сфер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езки касательных к сфере, проведенные из одной точки, равны и составляют равные углы с прямой, проходящей через эту точку и центр сфер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599840"/>
            <a:ext cx="44006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ер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поверхность, состоящая из всех точек пространства, расположенных на данном расстоянии от данной т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C:\Users\Даша\Desktop\Sphere-wireframe.png"/>
          <p:cNvPicPr/>
          <p:nvPr/>
        </p:nvPicPr>
        <p:blipFill>
          <a:blip r:embed="rId2"/>
          <a:stretch/>
        </p:blipFill>
        <p:spPr>
          <a:xfrm>
            <a:off x="5000760" y="1357200"/>
            <a:ext cx="2793960" cy="27939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4857840" y="421488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ера (каркасная проек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точка называе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центром сфе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точка О), а данное расстояние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диусом сфе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Радиус сферы часто обозначают латинской буквой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2" descr="C:\Users\Даша\Desktop\img1.png"/>
          <p:cNvPicPr/>
          <p:nvPr/>
        </p:nvPicPr>
        <p:blipFill>
          <a:blip r:embed="rId2"/>
          <a:stretch/>
        </p:blipFill>
        <p:spPr>
          <a:xfrm>
            <a:off x="5000760" y="1714680"/>
            <a:ext cx="3057480" cy="3190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езок, соединяющий две точки сферы и проходящий через ее центр,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метром 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Диаметр равен 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фера может быть получена вращением полуокружности вокруг ее диамет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C:\Users\Даша\Desktop\d55.jpg"/>
          <p:cNvPicPr/>
          <p:nvPr/>
        </p:nvPicPr>
        <p:blipFill>
          <a:blip r:embed="rId2"/>
          <a:stretch/>
        </p:blipFill>
        <p:spPr>
          <a:xfrm>
            <a:off x="5072040" y="2214720"/>
            <a:ext cx="2516040" cy="2892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ло, ограниченное сферой, называет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шаро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Центр, радиус и диаметр сферы называются также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тром, радиусом и диаметром ша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е сферы в прямоугольной системе координа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                  - координаты центра сферы,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ее радиу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" descr="C:\Users\Даша\Desktop\63452ae4537975305dea07787a0c05e8.png"/>
          <p:cNvPicPr/>
          <p:nvPr/>
        </p:nvPicPr>
        <p:blipFill>
          <a:blip r:embed="rId2"/>
          <a:stretch/>
        </p:blipFill>
        <p:spPr>
          <a:xfrm>
            <a:off x="571680" y="2071800"/>
            <a:ext cx="5143320" cy="361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Даша\Desktop\c0c59d28f1d65fd5d5a11f47aae30eab.png"/>
          <p:cNvPicPr/>
          <p:nvPr/>
        </p:nvPicPr>
        <p:blipFill>
          <a:blip r:embed="rId3"/>
          <a:stretch/>
        </p:blipFill>
        <p:spPr>
          <a:xfrm>
            <a:off x="6429240" y="2071800"/>
            <a:ext cx="1230480" cy="311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Users\Даша\Desktop\solid18.jpg"/>
          <p:cNvPicPr/>
          <p:nvPr/>
        </p:nvPicPr>
        <p:blipFill>
          <a:blip r:embed="rId4"/>
          <a:stretch/>
        </p:blipFill>
        <p:spPr>
          <a:xfrm>
            <a:off x="2286000" y="2984400"/>
            <a:ext cx="4346640" cy="3302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можны три случа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Если расстояние от центра сферы до плоскости меньше радиуса сферы, то сечение сферы плоскостью есть окруж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Если расстояние от центра сферы до плоскости равно радиусу сферы, то сфера и плоскость имеют только одну общую точк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Если расстояние от центра сферы до плоскости больше радиуса сферы, то сфера и плоскость не имеют общих точ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553520" cy="1243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, проведенный в точку касания сферы и плоскости, перпендикулярен к касательной плоск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радиус сферы перпендикулярен к плоскости, проходящей через его конец, лежащий на сфере, то эта плоскость является касательной к сфе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7628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исанным около сфе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шара), если сфера касается всех его граней. При этом сфера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исанной в многогран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площадь сфе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м предел последовательности площадей поверхностей этих многогран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для вычисления площади сферы радиуса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C:\Users\Даша\Desktop\5c908c42a163066cdabd83c0e4001469.png"/>
          <p:cNvPicPr/>
          <p:nvPr/>
        </p:nvPicPr>
        <p:blipFill>
          <a:blip r:embed="rId2"/>
          <a:stretch/>
        </p:blipFill>
        <p:spPr>
          <a:xfrm>
            <a:off x="2714760" y="5286240"/>
            <a:ext cx="3214440" cy="43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5:28:05Z</dcterms:created>
  <dc:creator>Woewodenko</dc:creator>
  <dc:description/>
  <dc:language>en-US</dc:language>
  <cp:lastModifiedBy>Даша</cp:lastModifiedBy>
  <dcterms:modified xsi:type="dcterms:W3CDTF">2015-12-10T20:18:51Z</dcterms:modified>
  <cp:revision>47</cp:revision>
  <dc:subject/>
  <dc:title>Слайд 1</dc:title>
</cp:coreProperties>
</file>