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A8C-C131-481B-8443-8EFB0F7E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CA7-CB17-40DF-B731-4C13B81C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DCD-6E75-4617-B369-CF34A987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19E-7453-4B14-A358-F719840D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9FD6-0DE8-4826-B93F-8C3925AB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EF79-F50B-46EA-B702-5343E839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064E-1CAA-4388-85AF-B013A3C3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4FB5-822E-484B-AF4B-399EF5B8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683F-E1B2-4B50-A646-BD767BCC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5F85-4919-4CB9-BC7C-16F7959E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BF5F-AFFB-44DC-B5A8-08E9035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74F-40AD-4EF0-8CF8-CC2D6EBC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8402-2A85-4475-BB1A-91FD4EA8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A3FA-B6EF-428C-9BE7-445F3BEB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9A9-3FB1-4C43-9161-49CDED68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89B2-E4ED-4B4A-8C59-7FD0B4A4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9C73-5E55-46CE-BDBD-8247A8E6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62D6-B26D-462A-95C1-661FF6F9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3C78-BB24-4DFB-8738-C81D8D93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19DD-F823-4C2A-A904-966CE887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61F3-82EA-470E-B532-BE1A4573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064D-25F5-42F1-A1A5-CC958CFE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8F3-E199-4CDE-A9AF-6F518BE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4877-016D-40B6-974C-DB42FA5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0670-1106-4DC4-A37C-5E27F156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8236-AF02-41BF-98F3-B16091E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AC8C-80E2-42B4-858F-39DF92BE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E301-7852-4CFA-B0BF-62D8C1A2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AFF9-CFA8-4434-A38B-5D36C07D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1642-8BA7-4A0A-97FE-A531A5E9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2E50-6D3A-446A-A1F1-3C2FDB1A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91A9-EE4C-43AB-B2D6-CD11AB38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7E7F-AEB6-4178-AA51-8E812AD8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C3E-58EB-4D6F-A54A-801BD735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A22D5-0B76-4078-8C17-24CABFD9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7F69-9D26-4A45-BF78-BF93A4D2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73BF-CDF6-4587-A266-5D4AD56E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53AE-69A8-4CE4-88EA-26F5B0BC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3AE6-21CB-4259-8710-CE4518CF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2F81-3D37-4CE9-B81D-2675C594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D3C77-47C1-4C9D-BD9B-9B45CEA5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40A9-2E23-4D2F-B4D7-A446D963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41CF-3D9A-4B4E-B16E-197B7BF1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05A4-DD7B-4746-91A6-3A1846BF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1EF-E790-4CE1-8D48-26E16280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A360-7792-4B8F-882E-03ED9377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CF2C-881D-4F28-B0A6-21E202A3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0E04F-DFF3-45C2-A8F0-67EE27B8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CAE83-03F5-44BD-8A9D-6A195DD6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BF5A6-868C-40BB-89C4-F75E280A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358A-A59F-4BA3-A39E-2174447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E7933-C151-4B05-916D-45BA7BC0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72956-5BBD-4D70-B32E-927DF52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1E86E-CE30-45A2-9585-F5C0B290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B2D61-3DD1-4086-BB80-C2F6A6BB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E87-043D-43E8-A2B6-CE1070EF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F8F5-6CFD-4F10-93C8-4268F1FF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259-9E4F-452B-A1AD-3AA6684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D11-1B1B-406E-8E86-FF8E91B1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719-9A83-4631-BC6B-B2FCCE0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7D14-E109-49F4-9485-BAF84502655D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EFC9-BA35-42DB-A8B4-8F12DD449F1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6D38-1896-4210-82CF-A9125FAAB844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AB84-BF11-4BBD-BA33-4DAE985A13EF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1D3-7AFB-46A6-9B64-EA04347936B4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206800" y="530280"/>
            <a:ext cx="4925880" cy="3260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диус сферы, проведенный с точку касания сферы и прямой, перпендикулярен к этой прямо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радиус сферы перпендикулярен к прямой, проходящей через его конец, лежащий на сфере, то эта прямая является касательной к сфер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езки касательных к сфере, проведенные из одной точки, равны и составляют равные углы с прямой, проходящей через эту точку и центр сфер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599840"/>
            <a:ext cx="44006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ер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поверхность, состоящая из всех точек пространства, расположенных на данном расстоянии от данной т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C:\Users\Даша\Desktop\Sphere-wireframe.png"/>
          <p:cNvPicPr/>
          <p:nvPr/>
        </p:nvPicPr>
        <p:blipFill>
          <a:blip r:embed="rId2"/>
          <a:stretch/>
        </p:blipFill>
        <p:spPr>
          <a:xfrm>
            <a:off x="5000760" y="1357200"/>
            <a:ext cx="2793960" cy="2793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4857840" y="42148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ера (каркасная проек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точка называ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центром сфе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точка О), а данное расстояние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диусом сфе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Радиус сферы часто обозначают латинской буквой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" descr="C:\Users\Даша\Desktop\img1.png"/>
          <p:cNvPicPr/>
          <p:nvPr/>
        </p:nvPicPr>
        <p:blipFill>
          <a:blip r:embed="rId2"/>
          <a:stretch/>
        </p:blipFill>
        <p:spPr>
          <a:xfrm>
            <a:off x="5000760" y="1714680"/>
            <a:ext cx="3057480" cy="3190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езок, соединяющий две точки сферы и проходящий через ее центр,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метром 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Диаметр равен 2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фера может быть получена вращением полуокружности вокруг ее диамет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C:\Users\Даша\Desktop\d55.jpg"/>
          <p:cNvPicPr/>
          <p:nvPr/>
        </p:nvPicPr>
        <p:blipFill>
          <a:blip r:embed="rId2"/>
          <a:stretch/>
        </p:blipFill>
        <p:spPr>
          <a:xfrm>
            <a:off x="5072040" y="2214720"/>
            <a:ext cx="2516040" cy="2892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ло, ограниченное сферой, называет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шаро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Центр, радиус и диаметр сферы называются также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тром, радиусом и диаметром ша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сферы в прямоугольной системе координа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                  - координаты центра сферы,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ее радиу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" descr="C:\Users\Даша\Desktop\63452ae4537975305dea07787a0c05e8.png"/>
          <p:cNvPicPr/>
          <p:nvPr/>
        </p:nvPicPr>
        <p:blipFill>
          <a:blip r:embed="rId2"/>
          <a:stretch/>
        </p:blipFill>
        <p:spPr>
          <a:xfrm>
            <a:off x="571680" y="2071800"/>
            <a:ext cx="5143320" cy="361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Даша\Desktop\c0c59d28f1d65fd5d5a11f47aae30eab.png"/>
          <p:cNvPicPr/>
          <p:nvPr/>
        </p:nvPicPr>
        <p:blipFill>
          <a:blip r:embed="rId3"/>
          <a:stretch/>
        </p:blipFill>
        <p:spPr>
          <a:xfrm>
            <a:off x="6429240" y="2071800"/>
            <a:ext cx="1230480" cy="311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Users\Даша\Desktop\solid18.jpg"/>
          <p:cNvPicPr/>
          <p:nvPr/>
        </p:nvPicPr>
        <p:blipFill>
          <a:blip r:embed="rId4"/>
          <a:stretch/>
        </p:blipFill>
        <p:spPr>
          <a:xfrm>
            <a:off x="2286000" y="2984400"/>
            <a:ext cx="4346640" cy="3302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можны три случа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Если расстояние от центра сферы до плоскости меньше радиуса сферы, то сечение сферы плоскостью есть окруж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Если расстояние от центра сферы до плоскости равно радиусу сферы, то сфера и плоскость имеют только одну общую точк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Если расстояние от центра сферы до плоскости больше радиуса сферы, то сфера и плоскость не имеют общих точ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553520" cy="1243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, проведенный в точку касания сферы и плоскости, перпендикулярен к касательной плоск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радиус сферы перпендикулярен к плоскости, проходящей через его конец, лежащий на сфере, то эта плоскость является касательной к сфе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7628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исанным около сфе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шара), если сфера касается всех его граней. При этом сфера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исанной в многогран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площадь сфе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м предел последовательности площадей поверхностей этих многогран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для вычисления площади сферы радиуса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C:\Users\Даша\Desktop\5c908c42a163066cdabd83c0e4001469.png"/>
          <p:cNvPicPr/>
          <p:nvPr/>
        </p:nvPicPr>
        <p:blipFill>
          <a:blip r:embed="rId2"/>
          <a:stretch/>
        </p:blipFill>
        <p:spPr>
          <a:xfrm>
            <a:off x="2714760" y="5286240"/>
            <a:ext cx="3214440" cy="43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05:28:05Z</dcterms:created>
  <dc:creator>Woewodenko</dc:creator>
  <dc:description/>
  <dc:language>en-US</dc:language>
  <cp:lastModifiedBy>Даша</cp:lastModifiedBy>
  <dcterms:modified xsi:type="dcterms:W3CDTF">2015-12-10T20:18:51Z</dcterms:modified>
  <cp:revision>47</cp:revision>
  <dc:subject/>
  <dc:title>Слайд 1</dc:title>
</cp:coreProperties>
</file>