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80D-1F73-43B3-8FE5-331CE78F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B4-28CA-455F-BB26-7D91FA81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6CA-D6F9-41F6-8280-D2D345CB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6A0-07F7-4CCE-B65A-8AB69DBB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7C4-3D2F-4CBB-A8B5-0ED66908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3EF-212E-476A-9A85-624823E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7DE-3053-46F4-BCA2-E89CCFF5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9B2-CD3F-4582-BAD9-5595DCA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7A7-BB48-4DD2-9B08-0F056AB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48E-723E-4D17-90FD-015AB9B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B79-195B-4F45-A6F5-7ECDA7BC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4D2-7F21-4029-A328-9328271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897-99EC-462F-B385-7F893726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otvet.mail.ru/question/26658258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103;&#1084;&#1086;&#1091;&#1075;&#1086;&#1083;&#1100;&#1085;&#1080;&#1082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333880" cy="461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87640" y="1922400"/>
            <a:ext cx="5873760" cy="427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88920" rIns="0" tIns="-1141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илинд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– геометрическое тело, ограниченное цилиндрической поверхностью и двумя параллельными плоскостями, пересекающими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19560"/>
            <a:ext cx="8137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ания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равные круги, расположенные в параллельных плоск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сота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- это расстояние между плоскостями его осн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диус цилиндра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радиус его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ь цилинд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– это прямая, проходящая через центры основания цилиндра (ось цилиндра является осью вращения цилинд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разующая цилинд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- это отрезок соединяющий точку окружности верхнего основания с соответственной точкой окружности нижнего основания. Все образующие параллельны оси вращения и имеют одинаковую длину, равную высоте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разующая цилиндра при вращении вокруг оси образует 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оковую (цилиндрическую) поверхность цилинд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боковой поверх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59280" y="1125360"/>
            <a:ext cx="58672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щадь боковой поверхности цилиндра равна длине образующей, умноженной на периметр сечения цилиндра плоскостью, перпендикулярной образующ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247920" cy="467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19640" y="386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ощадь боковой поверхности прямого цилиндра вычисляется по его развёр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591840"/>
            <a:ext cx="71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Times New Roman"/>
              </a:rPr>
              <a:t>Развёртка цилиндра представляет собой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прямоугольник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Times New Roman"/>
              </a:rPr>
              <a:t> с высотой</a:t>
            </a:r>
            <a:r>
              <a:rPr b="1" lang="en-US" sz="2800" spc="-1" strike="noStrike">
                <a:solidFill>
                  <a:srgbClr val="252525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635920"/>
            <a:ext cx="71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овательно, площадь боковой поверхности цилиндра равна площади его развёртки и вычисляется по форму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157720"/>
            <a:ext cx="2736720" cy="549000"/>
          </a:xfrm>
          <a:prstGeom prst="rect">
            <a:avLst/>
          </a:prstGeom>
          <a:solidFill>
            <a:srgbClr val="ee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=2 π r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 полной поверх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щадь полной поверхности цилиндра равна сумме площадей его боковой поверхности и его осн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прямого кругового цилиндра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_{p} = 2 \pi R h +2 \pi R^2 = 2\pi R (h+R)"/>
          <p:cNvPicPr/>
          <p:nvPr/>
        </p:nvPicPr>
        <p:blipFill>
          <a:blip r:embed="rId1"/>
          <a:stretch/>
        </p:blipFill>
        <p:spPr>
          <a:xfrm>
            <a:off x="324000" y="4653000"/>
            <a:ext cx="842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чение цилин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613640" cy="419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3209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евое сечение цилиндр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– сечение цилиндра плоскостью, проходящей через ось цилиндра (осевое сечение цилиндра является плоскостью симметрии цилиндра). Все осевые сечения цилиндра – равные прям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ечение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оскостью, параллельной оси цилиндра. В сечении –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чение плоскостью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пендикулярной оси цилиндр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В сечении круги, равные основанию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8:05:18Z</dcterms:created>
  <dc:creator>Admin</dc:creator>
  <dc:description/>
  <dc:language>en-US</dc:language>
  <cp:lastModifiedBy>Admin</cp:lastModifiedBy>
  <dcterms:modified xsi:type="dcterms:W3CDTF">2015-12-04T21:20:51Z</dcterms:modified>
  <cp:revision>2</cp:revision>
  <dc:subject/>
  <dc:title>Цилиндр</dc:title>
</cp:coreProperties>
</file>