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AF9-9BA3-4F53-A274-916CF668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6C7-B872-4F89-A555-CE8DE6C2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788-59B2-41A5-8CEB-45526933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3339-447E-4C20-B09E-CE762981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89F-63B2-43F6-BB2E-6F1064DF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D0B-54E9-4F92-9FC0-513C3D52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A220-EBD6-49E8-9A0C-495F75E2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FFB-B79A-4445-9FB7-537CC9F3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4C0-DB7B-49C6-B5C6-73BE5C22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D9E-0950-4786-9F2D-33983A58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CA9-E8BE-421B-BC5A-AA11B31E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3A9-B3AC-4E9D-82EE-1651574C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ED58-FF01-4862-8629-AEFBF7F4E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otvet.mail.ru/question/26658258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5;&#1088;&#1103;&#1084;&#1086;&#1091;&#1075;&#1086;&#1083;&#1100;&#1085;&#1080;&#1082;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Цилинд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2333880" cy="4619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87640" y="1922400"/>
            <a:ext cx="5873760" cy="427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88920" rIns="0" tIns="-11412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илинд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– геометрическое тело, ограниченное цилиндрической поверхностью и двумя параллельными плоскостями, пересекающими е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_x000b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619560"/>
            <a:ext cx="8137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снования цилинд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– равные круги, расположенные в параллельных плоско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ысота цилинд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- это расстояние между плоскостями его осн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диус цилиндра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это радиус его осн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сь цилинд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– это прямая, проходящая через центры основания цилиндра (ось цилиндра является осью вращения цилиндр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бразующая цилиндр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 - это отрезок соединяющий точку окружности верхнего основания с соответственной точкой окружности нижнего основания. Все образующие параллельны оси вращения и имеют одинаковую длину, равную высоте цилинд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бразующая цилиндра при вращении вокруг оси образует 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оковую (цилиндрическую) поверхность цилиндр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ощадь боковой поверх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59280" y="1125360"/>
            <a:ext cx="58672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ощадь боковой поверхности цилиндра равна длине образующей, умноженной на периметр сечения цилиндра плоскостью, перпендикулярной образующей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247920" cy="4676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19640" y="3860640"/>
            <a:ext cx="51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ощадь боковой поверхности прямого цилиндра вычисляется по его развёрт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591840"/>
            <a:ext cx="719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Times New Roman"/>
              </a:rPr>
              <a:t>Развёртка цилиндра представляет собой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прямоугольник</a:t>
            </a: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Times New Roman"/>
              </a:rPr>
              <a:t> с высотой</a:t>
            </a:r>
            <a:r>
              <a:rPr b="1" lang="en-US" sz="2800" spc="-1" strike="noStrike">
                <a:solidFill>
                  <a:srgbClr val="252525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2635920"/>
            <a:ext cx="712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едовательно, площадь боковой поверхности цилиндра равна площади его развёртки и вычисляется по форму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5157720"/>
            <a:ext cx="2736720" cy="549000"/>
          </a:xfrm>
          <a:prstGeom prst="rect">
            <a:avLst/>
          </a:prstGeom>
          <a:solidFill>
            <a:srgbClr val="eef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=2 π r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ощадь полной поверх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лощадь полной поверхности цилиндра равна сумме площадей его боковой поверхности и его основ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я прямого кругового цилиндра: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S_{p} = 2 \pi R h +2 \pi R^2 = 2\pi R (h+R)"/>
          <p:cNvPicPr/>
          <p:nvPr/>
        </p:nvPicPr>
        <p:blipFill>
          <a:blip r:embed="rId1"/>
          <a:stretch/>
        </p:blipFill>
        <p:spPr>
          <a:xfrm>
            <a:off x="324000" y="4653000"/>
            <a:ext cx="8424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чение цилин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613640" cy="4199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32094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евое сечение цилиндр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 – сечение цилиндра плоскостью, проходящей через ось цилиндра (осевое сечение цилиндра является плоскостью симметрии цилиндра). Все осевые сечения цилиндра – равные прямоуго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ечение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лоскостью, параллельной оси цилиндра. В сечении – прямо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ечение плоскостью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рпендикулярной оси цилиндр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В сечении круги, равные основанию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4T18:05:18Z</dcterms:created>
  <dc:creator>Admin</dc:creator>
  <dc:description/>
  <dc:language>en-US</dc:language>
  <cp:lastModifiedBy>Admin</cp:lastModifiedBy>
  <dcterms:modified xsi:type="dcterms:W3CDTF">2015-12-04T21:20:51Z</dcterms:modified>
  <cp:revision>2</cp:revision>
  <dc:subject/>
  <dc:title>Цилиндр</dc:title>
</cp:coreProperties>
</file>