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wmf" ContentType="image/x-wmf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A1C-65F7-4B8E-BC40-77DCB385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35D-D1DA-45FD-94E3-C8458C14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A119F-2FE7-45B7-979F-6855EF89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BD029-359F-4203-8CAD-96E7FA02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D5DF7-9578-4704-ADD2-0B67CB1B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35173-F673-4E08-BDE7-63AB1E0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6216-F6FA-4BE5-A1D7-A2BC75B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B8AC4-8DEE-4548-8927-453C6F6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D521D-E444-4F26-AE3B-4C5C52D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9E28C-3DCD-451B-9122-032DC41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90477-779D-47E9-87E0-AB8E115B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3C2A6-5DE5-469A-A833-871DBFEA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112-1CC0-48A7-B619-42AE41BD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5F1A6-6201-4B15-B634-E8508437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79DC5-8D06-46D2-9CFE-95B444BF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63606-71B2-4FD1-90F9-7130ADE9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EB306-DCBC-4966-8065-2426175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20B13-07C1-40BA-A358-7EE1D427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16038-B540-4505-B83B-C2C0653A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A22BF-D5B7-41F5-B082-EFC3C84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9E668-1C0E-49CD-B28F-392C6E48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57761-549C-4077-91C1-409190CF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5C5D8-DC22-4B57-BE73-1D63C18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AC4-8EF1-4DDC-8944-63DA4E76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5AD26-956B-49E5-8AFA-1218036E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FFEE8-8977-431A-AE06-B92CBACB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52D43-A2F2-4750-A2DB-EB372420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DF7E5-0296-433C-91BD-6490B3B0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54832-4611-4DD0-8AFB-83AF92DD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E7BB2-95C9-4FC3-A25D-D27B059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DEEE0-9F2E-4B8D-AB4C-68D1FFDA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BC7C1-D74E-4423-88E3-66EBE3F2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5423B-7CCE-4AFA-BD49-7A35EB8D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8B8AC-2E21-4F6F-901F-3303404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4A51-9B23-4DC9-8FB3-6BED44CB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AFE4-2BB1-4425-9D16-BC550971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F3027-9592-4217-9B7C-A41E339C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CA7EA-EB74-4C5C-932E-2C8551B0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46C78-DD3C-498F-ABA6-F847AED8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F47FF-81F9-416C-BD9B-2F1BBDC5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55BAE-46EB-4D99-B125-362C02FC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AECCB-7E70-4924-B47C-3BACDB3F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C5694-98DC-44E4-B531-B98969D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7B896-7896-4A77-B804-F0174CF1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70C7B-B58C-4D63-A4E4-6D0649E6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D2C2-3723-437D-9C3A-DB7AB3A2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7B2A4-91A9-411F-A95B-5EC8B7E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A5CD5-AAF0-4E7E-AF62-D149384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3FD95-01B0-4974-A543-5D37216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6507C-F83C-48AB-8CBC-7E9A499A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44B6F-0149-4466-A397-C0B0D6BD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381F3-C29C-4A04-AE2D-D4C94607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FD383-B7BD-42E0-8DA8-48084AD7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A684A-F0B3-4E22-8830-4147B30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74C54-7CC5-4B9A-81C1-1C074AD1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13D79-F4C6-41D7-AC6E-EC15FB1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6323-B0C5-4892-AA09-4D5ADD72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9B979-4CD5-4314-A6BB-D72D7AE2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CC4B9-0E92-4103-A118-7EA8E7D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4BC47-1AA7-4615-A520-9337844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E1108-7A8A-4865-AD0E-FC0EA7D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A0985-BF29-46BC-B585-BB65A67E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F0EBA-AE0F-408F-B60F-F6EE0A99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FF6CA-0C86-4291-BFF6-7D1A82BB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E7B9-5AEA-473D-AA8A-F663FC41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9DDD-E68F-4CBB-9BD9-7D549636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079E-392B-445B-9240-AB5E51F4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A17D-E556-484B-8063-275BE93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F4A-033C-4D94-BF9F-07E1B323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9A7F-D48E-47BD-8E7C-CC832DA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DCEC-CC73-4E0E-A888-14ECC5E7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8001-B597-4519-A484-2624071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4D17-6361-49A1-9494-CE5B5772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F01-2940-46CD-9125-081FC140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5EAC-CBB5-416F-925F-9C216FB8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358C-3FCB-496D-BEFF-522A1742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C2BD-E74F-4B39-9FBD-43469D9C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CA47-9EC7-4FAC-AE94-433A733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25C7-7DC5-42CE-B389-714B87B6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8E0-3B1E-43D8-9935-0047E3E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2F94-5902-487F-B57E-2DF5DA51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3A1B-E4EC-4370-A502-D546D9C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A270-0A9E-4BD4-85B9-2CA2658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0A8C-6AED-4666-8BDF-7D46304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8AAA-2AB5-47E7-B569-6EDE1D6E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774B-1E4E-4333-840F-7E6CDF90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CD84-9543-400E-82DD-C7B12CF3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2AC7-E3CF-4FA9-AFC1-917E770E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444C-F471-40C9-9520-4E4340C7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FC9AA-F78F-4C76-8343-5E3B82D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FC9-6A15-45E0-BACB-BE98A59E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84353-D25D-44FF-9142-81893EE3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E61A-2544-4632-8513-B013F619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2C23-9B84-4320-A7D3-504C7EBC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54FB-DFD0-4B1F-9304-5A2D9FA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D91B-CE06-4207-9C51-436089F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6645-3897-4D10-8545-F912C92E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6261-30CF-4075-8293-793D527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175A-449C-4E93-97C9-B8B67163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BB30E-8C63-4EC6-8768-B4F8A2F9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02F4-D39A-41E9-89B2-375B2918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F84-014A-4D3B-8DD4-8F7E5A8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E45D-ED14-4F01-8989-3C6C81FA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70EA-9A54-4976-9527-8A9E8BEC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8C2A-E5D2-46A5-9448-E9758426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650F-228E-42DB-9722-567E6787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84312-CF6A-4AF2-AE7A-BD019C4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77C8-E091-4722-AB21-8F21BF7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4A9C-F44C-42FC-8DEF-2FB1E3B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A087E-30B6-4B34-A57F-A488633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2D19-DBA3-4F0E-AEF1-9C4D6E6A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08FB-4471-44F5-A8BA-977F4B86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F63-F7AA-44DC-B0F1-871EC92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683A6-36AD-46F1-9173-5BD7D51B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83EFD-E0B4-4A9C-B730-B248F07B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72FB7-08ED-45C6-98B6-9112AF26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4B4F-67D7-46F5-B021-C8000657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5221-B421-4B5F-80BE-804921E4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1722-A82A-48E4-A20F-F305F796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09AC-5A0F-4544-B7B2-74AD68A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0F7C-48CB-414E-A291-3257F75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249A-3A9B-47B9-AF5F-6C4A578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BCE1-8CB9-4FCF-AB89-5D82D47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F88-3182-4EB9-B625-E907997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77B20-AA7F-4881-A8CB-DA7DB05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AD07-DCCD-48B9-877F-B33F9601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1C97-3E79-4E51-9DD8-A332930F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E0D5-3D2F-4ECE-A669-73066D95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B3E63-81B8-46DA-9CAB-2305EEF9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E1AA0-038B-418F-91D7-DB0A90A8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09DD8-C7AD-4EEC-9239-C84DD473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A4271-6BB2-427C-A7AD-3953C6D4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F8E9-0E0A-41EC-B958-E71488BE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E7FF-175B-4737-8C92-F657886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215-641F-422B-BB1B-AB3CEDB6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A6113-AFC5-4BBE-9E07-59421B9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92826-CC25-4B64-A288-26F087B5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BE046-95E9-4B2F-8469-C308ECB5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A78AD-FACA-42F4-846C-85B4A500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B740-52F4-46BC-943A-8A6FE9C3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32A8C-F817-4B98-9592-7886E061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9018B-BA0D-4529-AA88-099131CA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2724A-5293-476B-B329-DB2EF76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63CEF-B87A-47C4-BAE7-01C402E5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6EE6-F99D-46A1-9857-FED091E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5FB-4244-48D0-9B98-1566CD3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81FFF-D2E8-4484-9115-F1BD338C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B87E-2E5F-4C81-A6FA-E30FAB8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38AB-D79C-47B7-913B-4933E26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C821-B63B-4A66-B6DA-93D526B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BE12-F6E0-4EB8-8B32-00F579C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4969-8348-4EA3-989C-6076FAEF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37ADE-5CB6-435B-B367-83B9B2CC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4119-F634-4693-A56C-B5B6A4A6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15193-52D5-4157-AF4A-5C022483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185BA-64E9-42A9-9E8F-E05B2AB9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5AE515-318D-4347-B172-D7DD80E4B0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DB9F03-0E22-4338-871D-47847D43C8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8CE4D6-8F5E-4540-9637-506A7AD0F6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EE0B7E-8ED2-4C5E-B8E8-289CF505050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42FC53-6677-436D-906E-79076D92E3F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509E48-29D9-4684-A983-5966665BD9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89102F-9240-4D71-A406-EDACB6E268F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952C42-23CC-4BC1-8B5D-C311BFEACB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1DFEC8-44DB-4A4A-972D-5678F8AB100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E46B30-E1DD-4202-A6D6-CFD1B693A59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930AB3-46B4-40AE-BDF7-22FFD3B184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1E94FC-3C08-456F-8C35-E056EB34A48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223C49-7D76-4507-8893-DBB491DE22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803920" y="323532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1"/>
          <p:cNvSpPr/>
          <p:nvPr/>
        </p:nvSpPr>
        <p:spPr>
          <a:xfrm>
            <a:off x="6915600" y="3917880"/>
            <a:ext cx="8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3" descr="C:\Users\ADMIN\Desktop\29.02-04.03\29.02 пн\скачанные файлы.jpg"/>
          <p:cNvPicPr/>
          <p:nvPr/>
        </p:nvPicPr>
        <p:blipFill>
          <a:blip r:embed="rId12"/>
          <a:stretch/>
        </p:blipFill>
        <p:spPr>
          <a:xfrm>
            <a:off x="712800" y="2133720"/>
            <a:ext cx="2181240" cy="1633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4" descr="C:\Users\ADMIN\Desktop\29.02-04.03\29.02 пн\скачанные файлы (1).jpg"/>
          <p:cNvPicPr/>
          <p:nvPr/>
        </p:nvPicPr>
        <p:blipFill>
          <a:blip r:embed="rId13"/>
          <a:stretch/>
        </p:blipFill>
        <p:spPr>
          <a:xfrm>
            <a:off x="1095480" y="3859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14"/>
          <a:stretch/>
        </p:blipFill>
        <p:spPr>
          <a:xfrm>
            <a:off x="3720960" y="2259000"/>
            <a:ext cx="20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843280" y="554184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tretch/>
        </p:blipFill>
        <p:spPr>
          <a:xfrm>
            <a:off x="3851280" y="55418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MIN\Desktop\29.02-04.03\29.02 пн\images (2).jpg"/>
          <p:cNvPicPr/>
          <p:nvPr/>
        </p:nvPicPr>
        <p:blipFill>
          <a:blip r:embed="rId2"/>
          <a:stretch/>
        </p:blipFill>
        <p:spPr>
          <a:xfrm>
            <a:off x="1476360" y="1052640"/>
            <a:ext cx="56023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9097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АЧАЛО   СЕРЕДИНА   КОНЕЦ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6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3492360" y="184464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632448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5" name="Line 94"/>
          <p:cNvSpPr/>
          <p:nvPr/>
        </p:nvSpPr>
        <p:spPr>
          <a:xfrm>
            <a:off x="152280" y="655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639720" y="1658880"/>
            <a:ext cx="2486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184560" y="3459240"/>
            <a:ext cx="284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3" descr=""/>
          <p:cNvPicPr/>
          <p:nvPr/>
        </p:nvPicPr>
        <p:blipFill>
          <a:blip r:embed="rId4"/>
          <a:stretch/>
        </p:blipFill>
        <p:spPr>
          <a:xfrm>
            <a:off x="4552920" y="3459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7" name="TextBox 8"/>
          <p:cNvSpPr/>
          <p:nvPr/>
        </p:nvSpPr>
        <p:spPr>
          <a:xfrm>
            <a:off x="6593040" y="1566720"/>
            <a:ext cx="2233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3" descr=""/>
          <p:cNvPicPr/>
          <p:nvPr/>
        </p:nvPicPr>
        <p:blipFill>
          <a:blip r:embed="rId5"/>
          <a:stretch/>
        </p:blipFill>
        <p:spPr>
          <a:xfrm>
            <a:off x="3956040" y="1251000"/>
            <a:ext cx="15415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2962440" y="5229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3995640" y="522936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Картинки по запросу белка"/>
          <p:cNvPicPr/>
          <p:nvPr/>
        </p:nvPicPr>
        <p:blipFill>
          <a:blip r:embed="rId2"/>
          <a:stretch/>
        </p:blipFill>
        <p:spPr>
          <a:xfrm>
            <a:off x="2157480" y="442800"/>
            <a:ext cx="45403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2843280" y="573264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3886200" y="57326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Users\ADMIN\Desktop\29.02-04.03\29.02 пн\скачанные файлы (6).jpg"/>
          <p:cNvPicPr/>
          <p:nvPr/>
        </p:nvPicPr>
        <p:blipFill>
          <a:blip r:embed="rId2"/>
          <a:stretch/>
        </p:blipFill>
        <p:spPr>
          <a:xfrm>
            <a:off x="2790720" y="334800"/>
            <a:ext cx="35355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2836800" y="559440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3925800" y="56070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C:\Users\ADMIN\Desktop\29.02-04.03\29.02 пн\скачанные файлы (7).jpg"/>
          <p:cNvPicPr/>
          <p:nvPr/>
        </p:nvPicPr>
        <p:blipFill>
          <a:blip r:embed="rId2"/>
          <a:stretch/>
        </p:blipFill>
        <p:spPr>
          <a:xfrm>
            <a:off x="2340000" y="620640"/>
            <a:ext cx="4373640" cy="4434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"/>
          <p:cNvPicPr/>
          <p:nvPr/>
        </p:nvPicPr>
        <p:blipFill>
          <a:blip r:embed="rId3"/>
          <a:stretch/>
        </p:blipFill>
        <p:spPr>
          <a:xfrm>
            <a:off x="4559400" y="567540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1547640" y="544500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ОН        Б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5724360" y="538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3313080" y="538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" descr="C:\Users\ADMIN\Desktop\29.02-04.03\29.02 пн\скачанные файлы (4).jpg"/>
          <p:cNvPicPr/>
          <p:nvPr/>
        </p:nvPicPr>
        <p:blipFill>
          <a:blip r:embed="rId3"/>
          <a:stretch/>
        </p:blipFill>
        <p:spPr>
          <a:xfrm>
            <a:off x="357120" y="1820880"/>
            <a:ext cx="4114800" cy="30812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C:\Users\ADMIN\Desktop\29.02-04.03\29.02 пн\скачанные файлы (5).jpg"/>
          <p:cNvPicPr/>
          <p:nvPr/>
        </p:nvPicPr>
        <p:blipFill>
          <a:blip r:embed="rId4"/>
          <a:stretch/>
        </p:blipFill>
        <p:spPr>
          <a:xfrm>
            <a:off x="4565520" y="1413000"/>
            <a:ext cx="2189160" cy="1736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C:\Users\ADMIN\Desktop\29.02-04.03\29.02 пн\images (3).jpg"/>
          <p:cNvPicPr/>
          <p:nvPr/>
        </p:nvPicPr>
        <p:blipFill>
          <a:blip r:embed="rId5"/>
          <a:stretch/>
        </p:blipFill>
        <p:spPr>
          <a:xfrm>
            <a:off x="6012000" y="33624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960640" y="5373720"/>
            <a:ext cx="35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5211720" y="5327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C:\Users\ADMIN\Desktop\15.02-19.02\15.02 пн\скачанные файлы.jpg"/>
          <p:cNvPicPr/>
          <p:nvPr/>
        </p:nvPicPr>
        <p:blipFill>
          <a:blip r:embed="rId2"/>
          <a:stretch/>
        </p:blipFill>
        <p:spPr>
          <a:xfrm>
            <a:off x="2970360" y="1413000"/>
            <a:ext cx="2925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2962440" y="544500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4859280" y="54450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0" descr="C:\Users\ADMIN\Desktop\29.02-04.03\29.02 пн\БАНАНЧИК.jpg"/>
          <p:cNvPicPr/>
          <p:nvPr/>
        </p:nvPicPr>
        <p:blipFill>
          <a:blip r:embed="rId2"/>
          <a:stretch/>
        </p:blipFill>
        <p:spPr>
          <a:xfrm>
            <a:off x="2124000" y="1197000"/>
            <a:ext cx="4905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2962440" y="544500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ЕМ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1"/>
          <a:stretch/>
        </p:blipFill>
        <p:spPr>
          <a:xfrm>
            <a:off x="5796000" y="54910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C:\Users\ADMIN\Desktop\29.02-04.03\29.02 пн\images (1).jpg"/>
          <p:cNvPicPr/>
          <p:nvPr/>
        </p:nvPicPr>
        <p:blipFill>
          <a:blip r:embed="rId2"/>
          <a:stretch/>
        </p:blipFill>
        <p:spPr>
          <a:xfrm>
            <a:off x="2340000" y="620640"/>
            <a:ext cx="500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37:46Z</dcterms:modified>
  <cp:revision>89</cp:revision>
  <dc:subject/>
  <dc:title>Загадки о лесе</dc:title>
</cp:coreProperties>
</file>