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wmf" ContentType="image/x-wmf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788-F5F2-4D86-B78B-229D407F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8F4-16E3-4FB5-B1B3-A25623B5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63AA4-68F1-4C90-B274-6956F103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FEE76-DD20-48B7-B311-F2D98CE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C6B8A-60FC-4E26-A62C-97F2F53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681F-C399-4E3E-806D-98C7C36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03B2C-607E-4D46-B578-A4FAB6D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C4E08-21D3-49B4-8870-5BA44C0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2A61C-27D5-421D-A11D-9CEA708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557FE-C09D-440F-B1F2-8C97D8C4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AEEB3-ABF8-44EA-922F-F648AA1D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31301-AD37-4D3A-854E-2EA58A58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E3E-72D2-418F-BF3B-2657272B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B469-333B-4327-834A-89085AE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60C7-AEC3-432B-A2B0-9D9B83D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2D01D-2C64-4901-881B-422A6F0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89EA7-2FB0-4A49-81F5-9CE8263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F815A-5725-4326-AA4A-D7FEE5F7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D9EFC-8202-4D0D-BF09-8209282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7C756-9CE1-4CDF-BC0A-FFDC98D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6F089-684D-4BF0-B0AD-3B7168D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37399-D6E4-44F6-9470-365DB6DA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BAF33-DE63-46F7-A40A-40F80EA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640-17A8-4587-A3E1-3E66E312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91184-842B-4926-BC6E-5AF83EE5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B85E-1219-4021-A91F-E4BA9EC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FA260-1F59-4DCA-A97C-6AC9E630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8BBA-99A7-4C31-BD47-A9383C3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E50D0-FC4C-459F-A816-1A799CB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B8177-0D3D-42F1-B5D7-004FE88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BE445-22FB-4CF6-BB18-E96F343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49936-CD2B-4DA7-A54F-02A7338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8980B-F7BA-42E2-91C6-EE937229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ED37-C06D-45A9-A908-C1068FB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590B-0661-4D65-8DB0-7B9B35D7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8E91A-458D-4961-8598-40E5F4C9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DBFF3-6704-4D5F-8B63-5D078BD1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7BBBB-F1CB-41B6-97F4-3B9FCC7F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619E-B749-4904-975D-2B33F5F8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3ADA-2E9F-4147-A38D-487BE33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CF6F4-7EE2-4E2D-822F-8B1D6F4C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7B538-BCDF-41A0-9B1C-95FCAE89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7EB05-32FD-4BC0-88CC-84DE7BB1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D9D05-7788-417F-8692-827E42BD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42ADA-074A-4A21-A22F-D060506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24A5-3334-43FE-8D92-7BB0F25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E5E0E-B44F-48C0-B2B9-8C7E10A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D3BE4-4A32-4B1D-BA4D-978FDFF6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CF00F-937B-4082-A68C-41C34CFD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CC548-67BF-4BDF-8A32-31AD44B5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46EE2-7BE4-41A8-BCFD-54124940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0838F-16EA-488A-9599-3D843A3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0CCBC-7E4E-4969-8869-0BD4560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FD984-C1B1-4D00-80AF-389D10E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D0839-E6F8-477A-9537-9F7E4B7A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2818E-5C51-40D2-B37B-7529723F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1FF0-0CF8-45C9-8A55-200119C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B2393-4870-4541-A292-D0EE83E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5838F-BF03-40FE-A037-9C73E9BF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5C88E-1EA0-4198-AEEE-5AEE451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6B5E7-BDE5-488A-9B63-A3EC2C3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8BB05-85E0-45C0-B3BD-FC904450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6EC6A-1864-4478-B429-BE8B9EDC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4E109-7C18-4EC0-B3BE-CD8143FF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CD48-9970-4853-A0F7-868BEB1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9CC-8F3F-4D11-A3C1-CF6BCA19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BE0-2EA1-49E4-B0CB-93A37318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9AD1-4670-4DD4-A974-E565891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50D-A016-4222-9CFA-C970DCA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EEB7-87A2-44E7-8339-A53B4EE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64E8-BD53-4200-A39F-692ABC5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451-A3A3-4C77-BDEC-BA6EF2E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1D5-315E-4DEF-9AAD-9202F64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777-CC67-423A-9108-1AC3047B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7DD3-E637-4A61-84D6-2B8E014A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23C8-D87D-4EBF-B8F4-2B418A19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AA34-5A5B-4A40-8E36-2076754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D3B6-46D1-444A-888F-4C247986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FED0C-FF70-40E3-8667-651E2699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592-6C3F-4071-95A5-68EB982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5517-38D4-4CC7-8CA7-59A5978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B5A01-1DF2-4A8F-846B-045E5E2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C8C7-1549-472B-9E86-1417EFB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463A-0246-4D95-AD2B-B92B546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6EAB-70FE-4515-97EB-F6A013AF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D138-1438-4763-A3E0-56ACD87A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487E-40C9-4E34-9D35-6C84A9CC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AED4-4661-40F0-9CC0-097EAFF9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F8024-CF89-422C-814F-0CD8C2A6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5747-55B5-4D39-BA9A-898A2654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EAC-8D12-4748-BE8A-CB2FB68A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F052-4053-4A29-AF9B-DBED70B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CC2C-4106-4FA9-955C-3364B007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8526-CCFB-4714-92BC-60E961D2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B699-DC9C-43BB-8B07-2C3B78E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50B4-AF35-40A9-817A-56F0766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DB00-1135-4E06-A4EC-D0B1EBA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0B84-5CF2-44BF-B5CA-13BD628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87DD-EEF6-4766-BABD-57E98A51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EE9D-8279-44BF-A13E-74883879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C385-414F-4664-B4F8-CC6FC8BB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28B-1B9A-4DF7-A616-11651D8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2F1F-ACA7-48DC-81E2-0A3A9468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E6B76-4075-4F7C-82CE-C2EECFF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0692-6051-43D9-94DC-5CEB2BC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5586-A94C-4FC5-B6DF-5902B77D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57CB-F7D1-420A-B1A8-C1FAA14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4F89-31B1-425B-920A-F01271F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3CC26-F0D0-4DE3-BA2C-6EE52C6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BC65-787A-4118-A5F4-47C4AC6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326B-F1EB-496C-81A3-BD4F6E2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5D92-D123-4785-B370-622D48D8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20F-6696-48FD-A7EF-E235B84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C7C6-89C3-49E7-B7A1-EF597768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8999F-5978-4DD6-9D6B-20595B3D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F692-F7E5-4E4D-815D-BDAE415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DE08E-D8B4-41E4-AD9F-90214D3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8F42-197A-4016-9BC6-8BE9D87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394C-A126-4A4C-BD8E-20C5F4A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05E4-3C80-4552-BA0C-8F08F05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09F0-A56C-47F4-8B71-51687DF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1D36-FDEE-4936-8854-7CBA308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9F64-8C56-4AE3-8903-ECED6AE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F45-7CDC-4149-A84A-F50E8A4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750F-A16F-460C-A162-258495C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1D78E-016C-4DE7-BF6B-E461CEED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4A8A-390B-4256-A382-58E7628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D3F1-E98C-4DBB-A2DA-CC5605FB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0491-6058-4CD6-9C59-FABF8F8E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DE88-774C-4F4E-8D52-2032637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1968-A75B-42B7-AA18-5F4B143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14C7-CD5B-45CF-8A71-87EA1878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A032-442C-4D05-B49A-B01132F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B23E-EAB5-4438-A181-B1457D1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512-3672-470B-8B94-32AAC08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B64A-37C9-4BF5-9F1B-24D66FB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F224-2DEF-47E5-8B33-F5AAF1B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C5FF-BFCD-40A9-803C-F32F4EAF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7431-B87B-49FB-88F9-4F2E881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6FBE-10D1-4ACA-9FEA-59365E3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3B3E-3932-4838-9316-FC00FBA0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2F3C-EBC9-4C6B-85E1-97474A2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8423-2A4D-46D4-AC2A-2007A18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37B9-4CF6-40B8-A2D2-2CD9419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3A6B-DBBE-4EA3-A9C1-1A5D9CF3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F82-1487-4CF2-BC06-D5A3CE6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D2C60-5968-4B22-B804-F5E3D85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453D-BFFF-422E-9E79-7122A58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DD6A-6EA1-4BCD-8377-18EA0A4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BE891-A72D-4455-A890-17893884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720E-E5DB-4771-8CF4-56CA311A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9324D-50A8-4B62-BAE2-9AD59249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F8509-225C-4BEC-8D90-0AF43958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BAA17-2CAF-4F59-A4B0-8E9C122D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FB355-D2DE-4321-83A9-7529B32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F4247-DD19-4BBE-8E45-A61DBD48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3593D6-D9AE-429E-BBE0-21A7B43C00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77AE00-ABD5-413D-92E6-4240C7325F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A225C3-4BDD-49A0-86D1-186190A56E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301978-BEA3-46E4-8580-1EED8A7649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EE112C-587E-4B76-8FD1-5C2C40284F9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94F111-2AFA-4FFA-B6DE-47FA8973F5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76548-0483-406E-9D28-8F3D729D0B0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BDD482-B39D-4767-8B32-FCB54C8DF8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2250F1-9BFB-4BF8-903F-06FEFF4760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41DE3E-1B9A-402E-98C0-7FA397A714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868A9C-717B-46BC-9914-A3B3BC9B2E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E95361-78CF-4049-B30A-43C5A56431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D9B6B5-44DE-455C-9E7B-4CD68BA931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803920" y="323532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1"/>
          <p:cNvSpPr/>
          <p:nvPr/>
        </p:nvSpPr>
        <p:spPr>
          <a:xfrm>
            <a:off x="6915600" y="3917880"/>
            <a:ext cx="8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3" descr="C:\Users\ADMIN\Desktop\29.02-04.03\29.02 пн\скачанные файлы.jpg"/>
          <p:cNvPicPr/>
          <p:nvPr/>
        </p:nvPicPr>
        <p:blipFill>
          <a:blip r:embed="rId12"/>
          <a:stretch/>
        </p:blipFill>
        <p:spPr>
          <a:xfrm>
            <a:off x="712800" y="2133720"/>
            <a:ext cx="2181240" cy="1633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4" descr="C:\Users\ADMIN\Desktop\29.02-04.03\29.02 пн\скачанные файлы (1).jpg"/>
          <p:cNvPicPr/>
          <p:nvPr/>
        </p:nvPicPr>
        <p:blipFill>
          <a:blip r:embed="rId13"/>
          <a:stretch/>
        </p:blipFill>
        <p:spPr>
          <a:xfrm>
            <a:off x="1095480" y="385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14"/>
          <a:stretch/>
        </p:blipFill>
        <p:spPr>
          <a:xfrm>
            <a:off x="3720960" y="2259000"/>
            <a:ext cx="20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843280" y="554184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3851280" y="55418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MIN\Desktop\29.02-04.03\29.02 пн\images (2).jpg"/>
          <p:cNvPicPr/>
          <p:nvPr/>
        </p:nvPicPr>
        <p:blipFill>
          <a:blip r:embed="rId2"/>
          <a:stretch/>
        </p:blipFill>
        <p:spPr>
          <a:xfrm>
            <a:off x="1476360" y="1052640"/>
            <a:ext cx="56023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097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ЧАЛО   СЕРЕДИНА   КОНЕЦ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3492360" y="184464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632448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5" name="Line 94"/>
          <p:cNvSpPr/>
          <p:nvPr/>
        </p:nvSpPr>
        <p:spPr>
          <a:xfrm>
            <a:off x="152280" y="655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184560" y="345924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8"/>
          <p:cNvSpPr/>
          <p:nvPr/>
        </p:nvSpPr>
        <p:spPr>
          <a:xfrm>
            <a:off x="6593040" y="1566720"/>
            <a:ext cx="2233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3" descr=""/>
          <p:cNvPicPr/>
          <p:nvPr/>
        </p:nvPicPr>
        <p:blipFill>
          <a:blip r:embed="rId5"/>
          <a:stretch/>
        </p:blipFill>
        <p:spPr>
          <a:xfrm>
            <a:off x="3956040" y="1251000"/>
            <a:ext cx="15415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3995640" y="5229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Картинки по запросу белка"/>
          <p:cNvPicPr/>
          <p:nvPr/>
        </p:nvPicPr>
        <p:blipFill>
          <a:blip r:embed="rId2"/>
          <a:stretch/>
        </p:blipFill>
        <p:spPr>
          <a:xfrm>
            <a:off x="2157480" y="442800"/>
            <a:ext cx="45403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843280" y="573264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886200" y="57326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ADMIN\Desktop\29.02-04.03\29.02 пн\скачанные файлы (6).jpg"/>
          <p:cNvPicPr/>
          <p:nvPr/>
        </p:nvPicPr>
        <p:blipFill>
          <a:blip r:embed="rId2"/>
          <a:stretch/>
        </p:blipFill>
        <p:spPr>
          <a:xfrm>
            <a:off x="2790720" y="334800"/>
            <a:ext cx="35355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2836800" y="559440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925800" y="56070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C:\Users\ADMIN\Desktop\29.02-04.03\29.02 пн\скачанные файлы (7).jpg"/>
          <p:cNvPicPr/>
          <p:nvPr/>
        </p:nvPicPr>
        <p:blipFill>
          <a:blip r:embed="rId2"/>
          <a:stretch/>
        </p:blipFill>
        <p:spPr>
          <a:xfrm>
            <a:off x="2340000" y="620640"/>
            <a:ext cx="4373640" cy="4434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"/>
          <p:cNvPicPr/>
          <p:nvPr/>
        </p:nvPicPr>
        <p:blipFill>
          <a:blip r:embed="rId3"/>
          <a:stretch/>
        </p:blipFill>
        <p:spPr>
          <a:xfrm>
            <a:off x="4559400" y="56754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1547640" y="544500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ОН        Б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5724360" y="538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3313080" y="538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" descr="C:\Users\ADMIN\Desktop\29.02-04.03\29.02 пн\скачанные файлы (4).jpg"/>
          <p:cNvPicPr/>
          <p:nvPr/>
        </p:nvPicPr>
        <p:blipFill>
          <a:blip r:embed="rId3"/>
          <a:stretch/>
        </p:blipFill>
        <p:spPr>
          <a:xfrm>
            <a:off x="357120" y="1820880"/>
            <a:ext cx="4114800" cy="3081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C:\Users\ADMIN\Desktop\29.02-04.03\29.02 пн\скачанные файлы (5).jpg"/>
          <p:cNvPicPr/>
          <p:nvPr/>
        </p:nvPicPr>
        <p:blipFill>
          <a:blip r:embed="rId4"/>
          <a:stretch/>
        </p:blipFill>
        <p:spPr>
          <a:xfrm>
            <a:off x="4565520" y="1413000"/>
            <a:ext cx="2189160" cy="1736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C:\Users\ADMIN\Desktop\29.02-04.03\29.02 пн\images (3).jpg"/>
          <p:cNvPicPr/>
          <p:nvPr/>
        </p:nvPicPr>
        <p:blipFill>
          <a:blip r:embed="rId5"/>
          <a:stretch/>
        </p:blipFill>
        <p:spPr>
          <a:xfrm>
            <a:off x="6012000" y="33624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960640" y="537372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5211720" y="5327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C:\Users\ADMIN\Desktop\15.02-19.02\15.02 пн\скачанные файлы.jpg"/>
          <p:cNvPicPr/>
          <p:nvPr/>
        </p:nvPicPr>
        <p:blipFill>
          <a:blip r:embed="rId2"/>
          <a:stretch/>
        </p:blipFill>
        <p:spPr>
          <a:xfrm>
            <a:off x="2970360" y="1413000"/>
            <a:ext cx="2925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2962440" y="544500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4859280" y="54450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0" descr="C:\Users\ADMIN\Desktop\29.02-04.03\29.02 пн\БАНАНЧИК.jpg"/>
          <p:cNvPicPr/>
          <p:nvPr/>
        </p:nvPicPr>
        <p:blipFill>
          <a:blip r:embed="rId2"/>
          <a:stretch/>
        </p:blipFill>
        <p:spPr>
          <a:xfrm>
            <a:off x="2124000" y="1197000"/>
            <a:ext cx="4905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2962440" y="544500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ЕМ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5796000" y="54910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C:\Users\ADMIN\Desktop\29.02-04.03\29.02 пн\images (1).jpg"/>
          <p:cNvPicPr/>
          <p:nvPr/>
        </p:nvPicPr>
        <p:blipFill>
          <a:blip r:embed="rId2"/>
          <a:stretch/>
        </p:blipFill>
        <p:spPr>
          <a:xfrm>
            <a:off x="2340000" y="620640"/>
            <a:ext cx="500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7:46Z</dcterms:modified>
  <cp:revision>89</cp:revision>
  <dc:subject/>
  <dc:title>Загадки о лесе</dc:title>
</cp:coreProperties>
</file>