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DC1-C1D4-4D91-939B-52B00A0A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664-9C64-4AAD-B296-3F5A8BC0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DC8FF-4273-48F7-98F9-544033B3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C9C99-FF49-4861-BC20-68BF78F7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ADF95-CF82-4ECB-8ED5-6802372A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F1445-F889-4E25-92D0-25DFA1D2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66A2E-BCF6-43C2-AED9-21E12D8A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DFCB5-1265-486F-AD37-02447172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06232-87F5-4219-9CA1-74D365F9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90C3F-DB94-4F99-A271-1944D770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74C47-A58B-4D10-A425-E88827A5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8C5A1-EF5E-4347-9A6D-2C53137A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0E7-AC74-4DEF-95A7-B4D67078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F2E04-61EC-43AB-B3FF-C8508537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4C0F4-4187-4101-B081-A1D31794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5D669-4D20-4B5A-9BF6-47CEED85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132A0-05C2-4A01-B49D-08EBCF86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88C3C-0815-4169-A86E-678E16AE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89DA2-28A5-4884-9FE5-B80FCD66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2C7DE-4735-4791-817B-218E55A3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49F58-3AFC-4A6C-B3FA-89FCD014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D56BB-1B38-47B6-9E79-4C1EEEA3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6C1E8-B32A-444E-8EA0-2AA729EA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511-E6E8-4044-9E99-E408F87F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4027B-2C84-46A7-9AE1-31AD06F9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EEF76-1C5F-4F2A-9022-E8878097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2AF15-8F5A-4E3C-B185-44F58DEF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A00E1-AFB0-45BA-80AF-7AEE3976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B450E-45AF-4B7E-A82C-19E47D4D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B25DE-051E-489A-ABFB-58A08525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2C633-7AFD-4360-B7F4-63203130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D79AF-CC31-4605-8DB7-8F984B69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5CEB3-C88A-4FE7-B12F-9E55A63C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F9E5D-FBE4-4AD2-B3C5-19F9326F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D7A3-6E8B-4F65-8BDA-15AD0B22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C0F16-0C96-41D6-86DB-42CFBAB4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CC2AC-95BE-4F3E-B243-C44703B0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D8BF7-A2D6-4B0F-8253-D480DD8E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75E89-FA86-4545-8AC8-451D7186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A090C-66A9-4005-8267-B58F4DFA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49B75-1C8B-409F-9D23-FB18BBE8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CC488-FFE7-41EB-8ACD-48602596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B49F0-7E01-4DDB-A2F5-BDDA909D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43A18-C02E-470C-B4AD-4FCBC59B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0D46E-3F2E-4990-8383-02F11716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6D3B-1D28-4B1F-B436-7808B413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3C035-792D-4AA0-9F89-24F13040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BF055-F985-4EBE-BA2A-8E0F6CA4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97B3E-6DBD-4B29-BBDE-0B471B55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DB7CC-899B-409D-8660-4CD26FE3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87307-B789-4168-B8BF-2F4FF488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2090B-2C8D-44F9-9DEA-F876467B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43178-CCD5-43B1-9A1B-B50E58D0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EC45A-884B-4917-976A-520C0C39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1B101-CF37-430D-AFD6-398A3FAF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2D3CE-125E-40EC-98D3-E3519524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25D8-E502-4E96-A528-1D45A149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DCA5C-B56F-4737-87CE-CD184DF9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D8ACA-A816-4FCF-96CC-2D793B6B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8A372-A371-45FD-92B5-0087F3C4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11BDE-4149-4432-A4CA-3AE599FC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09A5B-F370-4F68-9113-AC61D3B6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C71FE-1D04-41E2-9734-B0D220D6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FB69B4-02E3-496C-B705-4A1A4190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E033-D1FE-44F0-A896-61947ACB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6C1C-E9D8-4999-8FA9-9CB9C080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0C93-1282-4F30-B443-37D2B4AE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D8C3-2F73-4BC4-8078-31F411F2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6CD-F16F-408C-836B-A2A90050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3EAB-9A39-4209-888D-6194CD11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4B77-A153-4937-B8B3-404524D2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B3E0-A3B9-48E9-AA57-447C567E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9EF5-19FA-4C26-A396-D7A95205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1E27-DA0D-4D25-B4F0-D55BECA0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0146-CCB7-4062-9636-8629A230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85240-D765-42AE-BAA8-01373631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75BC8-7806-4CCE-9CE7-858E2DC7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8FC7A-E638-46E4-B525-88E2E575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39050-7F8C-4734-8C12-B7AD842E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754-2C56-474D-B504-EB186743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EF80-1ACD-4283-B679-AD1B511E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EADBA-992F-4CBC-974D-4383C261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57804-BFA9-4F8C-A8CF-CC1A3889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DA759-1A0B-475A-9BDA-7018E391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A08FB-1811-4182-8980-FFC7809B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07FC9-74EA-4CC0-8742-4DA8EECA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311F1-2E53-4E48-B54C-AECC1136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BA3F4-882B-4325-8C5B-F0A8E3EC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6F22F-2F19-40A2-AF94-B8F28F9E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C6A63-0BE9-4BCE-8CA5-2D99BCC5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AD2-1B06-4598-A038-20982DC6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8992F-74AF-4B74-A1BC-6A832486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E0537-9107-40BD-91E5-6D8A9FA7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ED241-247B-4905-BEE0-DD1B40A9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BCBB8-08EA-4399-8C37-A87608F4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064A1-2574-47FA-90C7-6FB0E2D4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00A6A-2311-4948-90AD-BAF6DFB6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55835-3DCB-4C24-80B7-5CB35050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6A54-10A8-4E7F-976F-69D4B5CD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B9121-B19C-4C26-BC45-398EE5C8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963E7-6FD9-43E1-A8FF-6C32A864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2DD-049B-44C4-B09A-2FAD44B4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22D4A-224A-45C2-B1D1-81A682F0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7C684-694D-44FA-BF79-03C9D320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4144A-57B2-42BF-99B3-5AE4B296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A5922-40E1-4999-9F8D-2DD83D2A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FB269-AC72-49BB-8529-E5E7DC79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A3CF3-0165-4E87-8ED4-35DB6B16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7E1C3-EF33-4D33-8C8F-B7F9131E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EDFEA-E985-4BD1-81DD-9B443694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89607-39B1-4B18-9CD7-9991A306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82376-F6A9-41F0-AEB5-10B16CB1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4FF-3197-4F4E-BC66-079A139A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385F3-AE3C-479C-B0FD-BBBEEAB6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E7F64-C3D9-48BF-A5A6-71E74C84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4F97B-8EBF-44B4-A81D-DBF671AA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6D16C-73B5-4267-9446-7BCDCDAB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ACAA1-6E51-49B9-8FB0-09B35246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E044F-FE91-4008-8877-4C49984A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C86A4-5B7E-48CD-8CF4-818D6C03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94C6A-11A1-42FD-B9FD-6A1018D4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B89D5-DFE8-43EE-88F2-33D48DF1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0A83C-FEB1-459D-B348-7A3B4338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49E-A155-4490-9375-F02439EE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E33D2-29A3-4E04-92DE-596EE201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B98D7-1496-4536-A585-B92AFE42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FB432-D77E-4880-B5E1-28F1C3F4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FFC27-A0A0-47EC-A7CC-758ABC92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0B036-11F9-465E-AD92-BA221B7A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996DA-DE96-4358-B561-64EDA93E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B4579-13FB-4859-AB19-C09C7AB6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2B468-0273-4F29-8A76-AD9FE42A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7901B-5B93-4E9D-944C-E1F35822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49164-05DD-4B75-8035-29B63AA5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42C-2BA8-43DE-B39F-E1B6967C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B9498-E1D9-4B96-B0F0-0686145A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12FCD-EE1E-49BB-A54E-2787DB2E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282F1-E311-42B9-B3B9-8679EC8D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6D2F5-CD99-4579-9145-ECB30C14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65492-DADD-4C65-AC87-220AA8A8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BA6E5-336A-4726-AA7C-6ED70738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4B30E-EF4F-41FF-880D-63DDABDD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0D8C5-E609-451E-BA37-B566EDAF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AB9F4-B113-4D0C-B207-A55F8638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6B303-09C5-4D89-9AA2-1D03B246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93C-D35E-4182-A092-9E564804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E8B6F-56A3-4348-827D-62F621E8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C94D8-3328-411B-B611-C1B0721A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A765A-4FF5-487F-B439-827E1629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7C9B2-0AAC-4050-BFD3-2EC89BFE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5998C-C39F-47E2-880C-29108B9A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FFFDC-0BBE-47F4-9C76-1250D566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D0673-D3FC-42C9-864E-91515E38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56BF9-2B0E-44E9-AB8D-40A675A0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C090D-9244-4FAA-9A1A-0F9C3D76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5581F-FECD-4734-9509-802ED447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6C5C59-8017-4236-8551-55E028D7AB2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2279A2-8436-4189-9101-CC7A5035A04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39BACD-8601-473D-83BD-0DF1DE4B3D2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A0C0AC-EBB5-49E8-977A-7DC9E535AD6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665715-2910-4235-BEC7-BABBA9F6A24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904120-3DD1-405D-AB85-608FC86FFDF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0B4CF5-8934-4D91-A2A7-3897D696C46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CBC2B8-A4E2-414C-8253-426F782A6F3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2CCCAD-641D-4C4D-AFEA-21FE80C71ED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15EC80-C691-4B5F-89C6-A5711A77830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1812BC-24D8-4C18-8FAB-766B125A9BD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5DD071-30B7-41E9-92E9-E8A70CDB790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6E8D98-9307-49E0-928A-059C16B6CD8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3"/>
          <p:cNvSpPr/>
          <p:nvPr/>
        </p:nvSpPr>
        <p:spPr>
          <a:xfrm>
            <a:off x="770040" y="46512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 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[</a:t>
            </a:r>
            <a:r>
              <a:rPr b="1" lang="ru-RU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"/>
          <p:cNvPicPr/>
          <p:nvPr/>
        </p:nvPicPr>
        <p:blipFill>
          <a:blip r:embed="rId1"/>
          <a:stretch/>
        </p:blipFill>
        <p:spPr>
          <a:xfrm>
            <a:off x="1630440" y="7128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"/>
          <p:cNvPicPr/>
          <p:nvPr/>
        </p:nvPicPr>
        <p:blipFill>
          <a:blip r:embed="rId2"/>
          <a:stretch/>
        </p:blipFill>
        <p:spPr>
          <a:xfrm>
            <a:off x="4932360" y="72396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8"/>
          <p:cNvSpPr/>
          <p:nvPr/>
        </p:nvSpPr>
        <p:spPr>
          <a:xfrm>
            <a:off x="4903920" y="576900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УК-СЛЫ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2" descr=""/>
          <p:cNvPicPr/>
          <p:nvPr/>
        </p:nvPicPr>
        <p:blipFill>
          <a:blip r:embed="rId3"/>
          <a:stretch/>
        </p:blipFill>
        <p:spPr>
          <a:xfrm>
            <a:off x="8204040" y="701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5" descr=""/>
          <p:cNvPicPr/>
          <p:nvPr/>
        </p:nvPicPr>
        <p:blipFill>
          <a:blip r:embed="rId4"/>
          <a:stretch/>
        </p:blipFill>
        <p:spPr>
          <a:xfrm>
            <a:off x="341964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6" descr=""/>
          <p:cNvPicPr/>
          <p:nvPr/>
        </p:nvPicPr>
        <p:blipFill>
          <a:blip r:embed="rId5"/>
          <a:stretch/>
        </p:blipFill>
        <p:spPr>
          <a:xfrm>
            <a:off x="4049640" y="792000"/>
            <a:ext cx="219240" cy="241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7" descr=""/>
          <p:cNvPicPr/>
          <p:nvPr/>
        </p:nvPicPr>
        <p:blipFill>
          <a:blip r:embed="rId6"/>
          <a:stretch/>
        </p:blipFill>
        <p:spPr>
          <a:xfrm>
            <a:off x="637236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8" descr=""/>
          <p:cNvPicPr/>
          <p:nvPr/>
        </p:nvPicPr>
        <p:blipFill>
          <a:blip r:embed="rId7"/>
          <a:stretch/>
        </p:blipFill>
        <p:spPr>
          <a:xfrm>
            <a:off x="7093080" y="77940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9" descr="C:\Users\ADMIN\Desktop\23.10\images.png"/>
          <p:cNvPicPr/>
          <p:nvPr/>
        </p:nvPicPr>
        <p:blipFill>
          <a:blip r:embed="rId8"/>
          <a:stretch/>
        </p:blipFill>
        <p:spPr>
          <a:xfrm>
            <a:off x="5803920" y="3235320"/>
            <a:ext cx="3111480" cy="2494080"/>
          </a:xfrm>
          <a:prstGeom prst="rect">
            <a:avLst/>
          </a:prstGeom>
          <a:ln w="0">
            <a:noFill/>
          </a:ln>
        </p:spPr>
      </p:pic>
      <p:sp>
        <p:nvSpPr>
          <p:cNvPr id="589" name="Прямоугольник 1"/>
          <p:cNvSpPr/>
          <p:nvPr/>
        </p:nvSpPr>
        <p:spPr>
          <a:xfrm>
            <a:off x="6917040" y="3917880"/>
            <a:ext cx="88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[Д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8"/>
          <p:cNvSpPr/>
          <p:nvPr/>
        </p:nvSpPr>
        <p:spPr>
          <a:xfrm>
            <a:off x="307800" y="575928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А-ПИ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31" descr=""/>
          <p:cNvPicPr/>
          <p:nvPr/>
        </p:nvPicPr>
        <p:blipFill>
          <a:blip r:embed="rId9"/>
          <a:stretch/>
        </p:blipFill>
        <p:spPr>
          <a:xfrm>
            <a:off x="3933720" y="579276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2" descr=""/>
          <p:cNvPicPr/>
          <p:nvPr/>
        </p:nvPicPr>
        <p:blipFill>
          <a:blip r:embed="rId10"/>
          <a:stretch/>
        </p:blipFill>
        <p:spPr>
          <a:xfrm>
            <a:off x="7481880" y="5759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3" descr=""/>
          <p:cNvPicPr/>
          <p:nvPr/>
        </p:nvPicPr>
        <p:blipFill>
          <a:blip r:embed="rId11"/>
          <a:stretch/>
        </p:blipFill>
        <p:spPr>
          <a:xfrm>
            <a:off x="1055520" y="57466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3" descr="C:\Users\ADMIN\Desktop\29.02-04.03\02.03 ср\images (1).jpg"/>
          <p:cNvPicPr/>
          <p:nvPr/>
        </p:nvPicPr>
        <p:blipFill>
          <a:blip r:embed="rId12"/>
          <a:stretch/>
        </p:blipFill>
        <p:spPr>
          <a:xfrm>
            <a:off x="1036800" y="3510000"/>
            <a:ext cx="2352600" cy="19429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4" descr="C:\Users\ADMIN\Desktop\29.02-04.03\02.03 ср\скачанные файлы.jpg"/>
          <p:cNvPicPr/>
          <p:nvPr/>
        </p:nvPicPr>
        <p:blipFill>
          <a:blip r:embed="rId13"/>
          <a:stretch/>
        </p:blipFill>
        <p:spPr>
          <a:xfrm>
            <a:off x="1258920" y="188748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5" descr=""/>
          <p:cNvPicPr/>
          <p:nvPr/>
        </p:nvPicPr>
        <p:blipFill>
          <a:blip r:embed="rId14"/>
          <a:stretch/>
        </p:blipFill>
        <p:spPr>
          <a:xfrm>
            <a:off x="4268880" y="2560680"/>
            <a:ext cx="179712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3"/>
          <p:cNvSpPr/>
          <p:nvPr/>
        </p:nvSpPr>
        <p:spPr>
          <a:xfrm>
            <a:off x="770040" y="46512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читать слог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" descr=""/>
          <p:cNvPicPr/>
          <p:nvPr/>
        </p:nvPicPr>
        <p:blipFill>
          <a:blip r:embed="rId1"/>
          <a:stretch/>
        </p:blipFill>
        <p:spPr>
          <a:xfrm>
            <a:off x="219564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"/>
          <p:cNvPicPr/>
          <p:nvPr/>
        </p:nvPicPr>
        <p:blipFill>
          <a:blip r:embed="rId2"/>
          <a:stretch/>
        </p:blipFill>
        <p:spPr>
          <a:xfrm>
            <a:off x="4932360" y="59688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8"/>
          <p:cNvSpPr/>
          <p:nvPr/>
        </p:nvSpPr>
        <p:spPr>
          <a:xfrm>
            <a:off x="639720" y="1658880"/>
            <a:ext cx="2486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8"/>
          <p:cNvSpPr/>
          <p:nvPr/>
        </p:nvSpPr>
        <p:spPr>
          <a:xfrm>
            <a:off x="3184560" y="3459240"/>
            <a:ext cx="284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2" descr=""/>
          <p:cNvPicPr/>
          <p:nvPr/>
        </p:nvPicPr>
        <p:blipFill>
          <a:blip r:embed="rId3"/>
          <a:stretch/>
        </p:blipFill>
        <p:spPr>
          <a:xfrm>
            <a:off x="6875640" y="716040"/>
            <a:ext cx="115560" cy="921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3" descr=""/>
          <p:cNvPicPr/>
          <p:nvPr/>
        </p:nvPicPr>
        <p:blipFill>
          <a:blip r:embed="rId4"/>
          <a:stretch/>
        </p:blipFill>
        <p:spPr>
          <a:xfrm>
            <a:off x="4551480" y="425124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607" name="TextBox 8"/>
          <p:cNvSpPr/>
          <p:nvPr/>
        </p:nvSpPr>
        <p:spPr>
          <a:xfrm>
            <a:off x="6593040" y="1566720"/>
            <a:ext cx="223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4" descr=""/>
          <p:cNvPicPr/>
          <p:nvPr/>
        </p:nvPicPr>
        <p:blipFill>
          <a:blip r:embed="rId5"/>
          <a:stretch/>
        </p:blipFill>
        <p:spPr>
          <a:xfrm>
            <a:off x="3983040" y="1658880"/>
            <a:ext cx="13683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8"/>
          <p:cNvSpPr/>
          <p:nvPr/>
        </p:nvSpPr>
        <p:spPr>
          <a:xfrm>
            <a:off x="2962440" y="522936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5292720" y="527544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8" descr="C:\Users\ADMIN\Desktop\29.02-04.03\02.03 ср\скачанные файлы (4).jpg"/>
          <p:cNvPicPr/>
          <p:nvPr/>
        </p:nvPicPr>
        <p:blipFill>
          <a:blip r:embed="rId2"/>
          <a:stretch/>
        </p:blipFill>
        <p:spPr>
          <a:xfrm>
            <a:off x="2058840" y="1197000"/>
            <a:ext cx="53197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2962440" y="522936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3995640" y="527544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" descr="C:\Users\ADMIN\Desktop\29.02-04.03\02.03 ср\скачанные файлы (5).jpg"/>
          <p:cNvPicPr/>
          <p:nvPr/>
        </p:nvPicPr>
        <p:blipFill>
          <a:blip r:embed="rId2"/>
          <a:stretch/>
        </p:blipFill>
        <p:spPr>
          <a:xfrm>
            <a:off x="2662200" y="1052640"/>
            <a:ext cx="411336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8"/>
          <p:cNvSpPr/>
          <p:nvPr/>
        </p:nvSpPr>
        <p:spPr>
          <a:xfrm>
            <a:off x="2843280" y="5732640"/>
            <a:ext cx="39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3990960" y="57164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8" descr="C:\Users\ADMIN\Desktop\29.02-04.03\02.03 ср\скачанные файлы (2).jpg"/>
          <p:cNvPicPr/>
          <p:nvPr/>
        </p:nvPicPr>
        <p:blipFill>
          <a:blip r:embed="rId2"/>
          <a:stretch/>
        </p:blipFill>
        <p:spPr>
          <a:xfrm>
            <a:off x="2873520" y="981000"/>
            <a:ext cx="32828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2916360" y="5716440"/>
            <a:ext cx="39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3" descr=""/>
          <p:cNvPicPr/>
          <p:nvPr/>
        </p:nvPicPr>
        <p:blipFill>
          <a:blip r:embed="rId1"/>
          <a:stretch/>
        </p:blipFill>
        <p:spPr>
          <a:xfrm>
            <a:off x="3990960" y="57164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" descr="C:\Users\ADMIN\Desktop\29.02-04.03\02.03 ср\скачанные файлы (7).jpg"/>
          <p:cNvPicPr/>
          <p:nvPr/>
        </p:nvPicPr>
        <p:blipFill>
          <a:blip r:embed="rId2"/>
          <a:stretch/>
        </p:blipFill>
        <p:spPr>
          <a:xfrm>
            <a:off x="3057480" y="447840"/>
            <a:ext cx="3159000" cy="5263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" descr=""/>
          <p:cNvPicPr/>
          <p:nvPr/>
        </p:nvPicPr>
        <p:blipFill>
          <a:blip r:embed="rId3"/>
          <a:stretch/>
        </p:blipFill>
        <p:spPr>
          <a:xfrm>
            <a:off x="4637160" y="580860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8"/>
          <p:cNvSpPr/>
          <p:nvPr/>
        </p:nvSpPr>
        <p:spPr>
          <a:xfrm>
            <a:off x="3419640" y="5084640"/>
            <a:ext cx="267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9" descr="C:\Users\ADMIN\Desktop\29.02-04.03\02.03 ср\скачанные файлы (3).jpg"/>
          <p:cNvPicPr/>
          <p:nvPr/>
        </p:nvPicPr>
        <p:blipFill>
          <a:blip r:embed="rId1"/>
          <a:stretch/>
        </p:blipFill>
        <p:spPr>
          <a:xfrm>
            <a:off x="2195640" y="1268280"/>
            <a:ext cx="4833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8"/>
          <p:cNvSpPr/>
          <p:nvPr/>
        </p:nvSpPr>
        <p:spPr>
          <a:xfrm>
            <a:off x="3203640" y="558972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5651640" y="563256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"/>
          <p:cNvPicPr/>
          <p:nvPr/>
        </p:nvPicPr>
        <p:blipFill>
          <a:blip r:embed="rId2"/>
          <a:stretch/>
        </p:blipFill>
        <p:spPr>
          <a:xfrm>
            <a:off x="4284720" y="5589720"/>
            <a:ext cx="109440" cy="871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C:\Users\ADMIN\Desktop\29.02-04.03\02.03 ср\скачанные файлы (6).jpg"/>
          <p:cNvPicPr/>
          <p:nvPr/>
        </p:nvPicPr>
        <p:blipFill>
          <a:blip r:embed="rId3"/>
          <a:stretch/>
        </p:blipFill>
        <p:spPr>
          <a:xfrm>
            <a:off x="2949480" y="701640"/>
            <a:ext cx="399744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080" y="259920"/>
            <a:ext cx="90979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НАЧАЛО   СЕРЕДИНА   КОНЕЦ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457200" y="1905120"/>
          <a:ext cx="2362320" cy="838080"/>
        </p:xfrm>
        <a:graphic>
          <a:graphicData uri="http://schemas.openxmlformats.org/drawingml/2006/table">
            <a:tbl>
              <a:tblPr/>
              <a:tblGrid>
                <a:gridCol w="787320"/>
                <a:gridCol w="787320"/>
                <a:gridCol w="7876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48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3492360" y="1844640"/>
          <a:ext cx="2362320" cy="83808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4800" spc="-1" strike="noStrike">
                          <a:solidFill>
                            <a:srgbClr val="00b0f0"/>
                          </a:solidFill>
                          <a:latin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6324480" y="1905120"/>
          <a:ext cx="2362320" cy="83808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4800" spc="-1" strike="noStrike">
                          <a:solidFill>
                            <a:srgbClr val="00b0f0"/>
                          </a:solidFill>
                          <a:latin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0" name="Line 94"/>
          <p:cNvSpPr/>
          <p:nvPr/>
        </p:nvSpPr>
        <p:spPr>
          <a:xfrm>
            <a:off x="152280" y="655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06:44Z</dcterms:created>
  <dc:creator>Яковлева М.Л., Богайцева М.В.</dc:creator>
  <dc:description/>
  <dc:language>en-US</dc:language>
  <cp:lastModifiedBy>ADMIN</cp:lastModifiedBy>
  <dcterms:modified xsi:type="dcterms:W3CDTF">2016-09-19T19:31:12Z</dcterms:modified>
  <cp:revision>90</cp:revision>
  <dc:subject/>
  <dc:title>Загадки о лесе</dc:title>
</cp:coreProperties>
</file>