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CC3-EDFD-475B-B448-0DBFD406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D44-90BF-4406-9DB6-32871E4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340B2-E34B-4BB7-A048-96631FB9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EA724-7D01-4320-84E3-C1B89434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FC9F-3FF7-445C-951E-82072DBC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75D6D-AA7D-4FEB-B168-26675C2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CF37D-40BD-4030-B6ED-7F050E2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9CA88-78FA-4E6D-84EB-BFB85C5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BEC50-A855-4176-828A-FCEC48C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BCF6C-F9D1-406F-8CF3-E8FFAC7E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24BC2-E410-4D53-BB1C-1FCCA7CC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2E5BE-81C8-4987-90E6-7EA569AB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4DF-D380-4738-AE9A-E7C74F00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DE331-D002-4CF0-BF3F-11D9EC8D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A0494-EAA6-4650-8350-33205B0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B140A-B94B-4DC2-A6FE-F9F046A3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ABCA-DF24-47DE-AB62-E92571B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8D044-33F0-4AE3-8EFE-BFEE127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BB305-5933-431F-BF18-C9525937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EA34-908B-4B62-AF22-3D5F766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B29B5-AE6D-4375-BF42-A13F6210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D2DD0-BEA9-428F-964A-5CB34B9E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237E-7E82-4980-8CEE-26EFA5E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725-6F5A-4072-81B6-2E40CEA4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A74A-7069-4DCD-BBA6-EB281F74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2733-A918-4BEF-A818-E8B786D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ED80C-F45D-467D-AB47-8D3F198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8714-0ED2-464A-9A48-ED03E2B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E03AF-4C2B-432C-99C5-E29ABC9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AA0D-DFC4-41B0-9A28-105C2B07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F0E8A-300F-4F18-83C2-47179EF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65F6-04E9-499D-9FE5-C39DDE7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CB1DE-9799-4861-BAAE-71151885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1FAD4-42FF-4223-86F1-3F66B8A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F01-84F0-4AC8-924A-C20421D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5F18-3FE9-4E3D-BD3D-466E3C8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B0D53-3D94-475E-9985-A5F9CA22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F4251-254A-4A95-BA60-C604E7E1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698E5-3EAA-48A9-8D71-D830EA30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FC81C-6B22-4A8A-8B60-DB82DC2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125F8-16E6-48E7-9E7F-98245D2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0EE33-4FFE-4E86-8863-9FA34D5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7DE29-015E-4645-AAA9-CD6A3BE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C8496-7F42-4DE5-81BD-82CC149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D3F28-FA36-4752-9051-CAF2D6B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E56F-C77B-4D34-BC3B-7030E24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82A7E-0809-41A5-93C0-AA75514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4A492-6894-4EB6-A60A-8A7F95B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D4298-A8DF-4266-96F2-B7025E0F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B7F24-5D13-4834-8262-3D5E6574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6CE73-B931-48B7-9F7D-F6312706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8C4D9-A605-413F-A733-013AB025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43858-30B7-4E4B-960E-4E2D321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A3341-8D12-41C3-BDC2-7DA2047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B7861-1951-486C-A291-FDB5DBC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A236C-7DD7-46EA-B634-A976F79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2D5-CEE7-4108-BEE5-A9981B81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27ACD-D36C-4216-9D54-ED631EEE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CEDD9-F47F-4684-A874-746E6433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74A89-A013-48E4-AE5A-9A1F7FC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61F84-7FAA-4D3E-BA93-8C86EDF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A6BD3-4F51-417E-BB9C-91B09CD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0D67A-4660-4EC3-81F3-C1701068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960A0-F430-4EEA-AAB7-09D57266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2FA-AD09-44D8-B82E-808F973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C06-819F-4D00-9D4E-DF29B8A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4082-CE43-4B27-A22E-22A6E157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CBDC-0284-4213-AC5C-DAF4385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01E-FE7A-4171-8213-81BD50B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A2C-E173-4F09-9A50-9A5D3FB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D3F-3D5B-4D83-A8C8-16CB6E1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936-CF0C-4416-B876-5832DFB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B52-E717-4096-9692-65F49AAE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8F8-F5D6-4B9E-B280-763E0005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122B-4BBE-4EC5-9E3D-37FDA804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9865-C895-486B-8619-65E4C9EE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7D93-7558-4133-9554-DAD8D112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3659-5054-4B54-9BDE-21746A4D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B049-2A37-4E51-BDB6-4636D60F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D12-D261-4CFA-8E60-44912697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7DDF-1C4A-4472-B769-8C9A4B7B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4935-557F-43F4-8214-1FE7A1E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CF26-E1CD-458C-BE63-CF93AC50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5AFF-04F0-4F77-9255-199ACEB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A2F7-6CD4-4D46-96F7-76D62E7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5849-3847-45F8-9BF1-C075E62A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0704-F44C-4A04-80A7-6232DE32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70F5-7F00-425A-B64F-AA8ADF01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A1AC-288D-46FC-B4E7-84BEB88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C1B0-5F85-439F-87CD-0BAC80AE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7A0-7F00-4301-B130-11D0E712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80F0-E0DC-4DD0-8E20-FA3AD1E2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55BA-DEAA-4D7B-8A25-5A346F6F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8612-0880-4E95-82A6-48265EC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DF8B-D52B-47C5-B45C-CFE7224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B4F7-F99D-49E3-99FF-48105FD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7D0A-BE46-4061-9C1F-BA652E8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8EEC-C840-4CA4-ABBA-BDF4CF4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355A-21CC-4F76-A36D-C1EDFF83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6251-7FEE-4AC3-B23D-0AE5741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975B-0640-4F39-BE91-B988454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823-8674-40E8-9E70-AF4108B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BF5F-453F-4D8F-941E-A656B45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6D84-A276-4BB6-B17E-9141D48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29EA-C5D8-4BBF-A673-D753BAB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0CE9-6A94-438E-8655-A9F2792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A3A0C-F722-40FD-9E58-8F66172F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862A-B116-4E93-8A07-5656BB7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C265-A28E-49CB-BA95-2CE4112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0D95-CA94-4A08-B3BF-F95CF4D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3277-BD06-4669-838B-DAC77EAB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B207F-8CAB-4BA8-BB9A-B1499E53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55B-906A-4A86-8881-DC011BE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FA9B-1A0B-45EE-BAB6-8A98BCC7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A047-1E16-4422-A074-8422AB33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D1A1-15FF-41D8-BB6E-08103FF7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B15CA-943E-44B9-86DC-BBE3DB16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EED6-0CFE-49F3-AC4A-AEA12CA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92BF-C297-4B20-B018-384A365C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2E8C8-5473-42F9-AE23-153F9FC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F2E6-A644-437F-80F5-B31E0E05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8B41-8225-4470-BAF7-04811C2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3983-1F8B-42C1-BB54-774FC718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1BC-7096-4B37-8CBB-E3D6579E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D586B-DF34-44B7-89C6-499DD21E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654B-9D02-4F8F-A1FA-AA597DC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B566-5D58-4C59-B4E8-1FC0B333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1C852-E3AF-4F63-A652-71AEF4A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D595-F760-4DE6-844F-E7BE8AB4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28B0A-FA52-4832-A2F0-066555D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7FF3-3950-4511-9C9D-D92ACE1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F6E65-D601-4AAC-8A92-970861E6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1047-C126-4932-8233-D440999A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83EB-04B1-40C6-AE6C-3A228873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498-86EE-4916-9A92-DC55B39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74809-B8F4-4F85-BD61-62913EB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5FDF-BBD9-4B7D-BB7B-8B46C02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1B87-F761-4810-A232-0A8EA2F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8FBE6-4A4F-46B1-8329-A7B6F776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F29E-F72B-4CE1-9AF2-E6DCD9B0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5D2F-B508-428D-85C7-6CD4601D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42131-BD8E-4036-A6D4-E4B6B80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A401-1888-455C-830A-E5D8FBDC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11C3-B2B4-44B6-8E19-5DDD49B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7A47-2459-4435-A6CE-CDB1DB1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D0D-3059-421E-9802-8DF7B4A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DAB8-886C-45FE-B0B0-F42A01F7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02812-D59C-4B11-AB7A-9A465C8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A859D-322F-4BD9-8C8A-71FAFB1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87C99-8211-49C2-A2AB-998DA5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BC9D9-4E78-4EE4-AB2F-25B3FDF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A081-D9C4-410A-B653-AC28E59A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9B6D0-6B60-4C0D-BB43-6D0FBA12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8B844-0583-4C20-8D65-1E9E01B3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8323-0851-4926-8F14-56680583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DFF85-476B-4CD3-B199-110A228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EFFC50-3A7C-4C4A-A774-CEDE4E7C40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4C98C5-41A0-4B6A-BE56-B7FF0E6B7E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4EEDD9-B930-4E46-A968-F2E770F4E8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2DEA7B-AC60-4C58-94AD-F88CA0C279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5F9515-920D-460B-848D-4E3C021EED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3232A8-82CA-4A41-8961-61279562A9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A5C251-B888-446B-B78B-74AD660DA3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BBB556-D86C-4351-985B-47B81539FA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8D3148-0BB6-48CE-B5FB-2A5ED6F737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C84EBA-5E55-41CA-9972-9EB5DBE053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ADEE96-DBA4-4AEF-B005-7401222EF9D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CE0967-BC0E-4F4A-A9FD-05A99356DED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9A1CA9-E67E-4EB4-99D9-6663099C83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770040" y="46512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[</a:t>
            </a: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</a:t>
            </a:r>
            <a:r>
              <a:rPr b="1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1630440" y="71280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2"/>
          <a:stretch/>
        </p:blipFill>
        <p:spPr>
          <a:xfrm>
            <a:off x="4932360" y="72396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4903920" y="576900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УК-СЛЫ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"/>
          <p:cNvPicPr/>
          <p:nvPr/>
        </p:nvPicPr>
        <p:blipFill>
          <a:blip r:embed="rId3"/>
          <a:stretch/>
        </p:blipFill>
        <p:spPr>
          <a:xfrm>
            <a:off x="8204040" y="701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5" descr=""/>
          <p:cNvPicPr/>
          <p:nvPr/>
        </p:nvPicPr>
        <p:blipFill>
          <a:blip r:embed="rId4"/>
          <a:stretch/>
        </p:blipFill>
        <p:spPr>
          <a:xfrm>
            <a:off x="341964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6" descr=""/>
          <p:cNvPicPr/>
          <p:nvPr/>
        </p:nvPicPr>
        <p:blipFill>
          <a:blip r:embed="rId5"/>
          <a:stretch/>
        </p:blipFill>
        <p:spPr>
          <a:xfrm>
            <a:off x="4049640" y="792000"/>
            <a:ext cx="219240" cy="24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7" descr=""/>
          <p:cNvPicPr/>
          <p:nvPr/>
        </p:nvPicPr>
        <p:blipFill>
          <a:blip r:embed="rId6"/>
          <a:stretch/>
        </p:blipFill>
        <p:spPr>
          <a:xfrm>
            <a:off x="6372360" y="784080"/>
            <a:ext cx="218880" cy="24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8" descr=""/>
          <p:cNvPicPr/>
          <p:nvPr/>
        </p:nvPicPr>
        <p:blipFill>
          <a:blip r:embed="rId7"/>
          <a:stretch/>
        </p:blipFill>
        <p:spPr>
          <a:xfrm>
            <a:off x="7093080" y="77940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9" descr="C:\Users\ADMIN\Desktop\23.10\images.png"/>
          <p:cNvPicPr/>
          <p:nvPr/>
        </p:nvPicPr>
        <p:blipFill>
          <a:blip r:embed="rId8"/>
          <a:stretch/>
        </p:blipFill>
        <p:spPr>
          <a:xfrm>
            <a:off x="5803920" y="3235320"/>
            <a:ext cx="3111480" cy="249408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1"/>
          <p:cNvSpPr/>
          <p:nvPr/>
        </p:nvSpPr>
        <p:spPr>
          <a:xfrm>
            <a:off x="6917040" y="3917880"/>
            <a:ext cx="8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[Д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307800" y="5759280"/>
            <a:ext cx="40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КВА-ПИ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1" descr=""/>
          <p:cNvPicPr/>
          <p:nvPr/>
        </p:nvPicPr>
        <p:blipFill>
          <a:blip r:embed="rId9"/>
          <a:stretch/>
        </p:blipFill>
        <p:spPr>
          <a:xfrm>
            <a:off x="3933720" y="579276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"/>
          <p:cNvPicPr/>
          <p:nvPr/>
        </p:nvPicPr>
        <p:blipFill>
          <a:blip r:embed="rId10"/>
          <a:stretch/>
        </p:blipFill>
        <p:spPr>
          <a:xfrm>
            <a:off x="7481880" y="57592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"/>
          <p:cNvPicPr/>
          <p:nvPr/>
        </p:nvPicPr>
        <p:blipFill>
          <a:blip r:embed="rId11"/>
          <a:stretch/>
        </p:blipFill>
        <p:spPr>
          <a:xfrm>
            <a:off x="1055520" y="57466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3" descr="C:\Users\ADMIN\Desktop\29.02-04.03\02.03 ср\images (1).jpg"/>
          <p:cNvPicPr/>
          <p:nvPr/>
        </p:nvPicPr>
        <p:blipFill>
          <a:blip r:embed="rId12"/>
          <a:stretch/>
        </p:blipFill>
        <p:spPr>
          <a:xfrm>
            <a:off x="1036800" y="3510000"/>
            <a:ext cx="2352600" cy="1942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4" descr="C:\Users\ADMIN\Desktop\29.02-04.03\02.03 ср\скачанные файлы.jpg"/>
          <p:cNvPicPr/>
          <p:nvPr/>
        </p:nvPicPr>
        <p:blipFill>
          <a:blip r:embed="rId13"/>
          <a:stretch/>
        </p:blipFill>
        <p:spPr>
          <a:xfrm>
            <a:off x="1258920" y="188748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14"/>
          <a:stretch/>
        </p:blipFill>
        <p:spPr>
          <a:xfrm>
            <a:off x="4268880" y="2560680"/>
            <a:ext cx="17971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770040" y="46512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читать сло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19564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932360" y="59688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639720" y="1658880"/>
            <a:ext cx="248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184560" y="3459240"/>
            <a:ext cx="284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2" descr=""/>
          <p:cNvPicPr/>
          <p:nvPr/>
        </p:nvPicPr>
        <p:blipFill>
          <a:blip r:embed="rId3"/>
          <a:stretch/>
        </p:blipFill>
        <p:spPr>
          <a:xfrm>
            <a:off x="6875640" y="716040"/>
            <a:ext cx="115560" cy="921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3" descr=""/>
          <p:cNvPicPr/>
          <p:nvPr/>
        </p:nvPicPr>
        <p:blipFill>
          <a:blip r:embed="rId4"/>
          <a:stretch/>
        </p:blipFill>
        <p:spPr>
          <a:xfrm>
            <a:off x="4551480" y="42512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607" name="TextBox 8"/>
          <p:cNvSpPr/>
          <p:nvPr/>
        </p:nvSpPr>
        <p:spPr>
          <a:xfrm>
            <a:off x="6593040" y="1566720"/>
            <a:ext cx="223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4" descr=""/>
          <p:cNvPicPr/>
          <p:nvPr/>
        </p:nvPicPr>
        <p:blipFill>
          <a:blip r:embed="rId5"/>
          <a:stretch/>
        </p:blipFill>
        <p:spPr>
          <a:xfrm>
            <a:off x="3983040" y="1658880"/>
            <a:ext cx="1368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5292720" y="5275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C:\Users\ADMIN\Desktop\29.02-04.03\02.03 ср\скачанные файлы (4).jpg"/>
          <p:cNvPicPr/>
          <p:nvPr/>
        </p:nvPicPr>
        <p:blipFill>
          <a:blip r:embed="rId2"/>
          <a:stretch/>
        </p:blipFill>
        <p:spPr>
          <a:xfrm>
            <a:off x="2058840" y="1197000"/>
            <a:ext cx="5319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962440" y="5229360"/>
            <a:ext cx="35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3995640" y="527544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ADMIN\Desktop\29.02-04.03\02.03 ср\скачанные файлы (5).jpg"/>
          <p:cNvPicPr/>
          <p:nvPr/>
        </p:nvPicPr>
        <p:blipFill>
          <a:blip r:embed="rId2"/>
          <a:stretch/>
        </p:blipFill>
        <p:spPr>
          <a:xfrm>
            <a:off x="2662200" y="1052640"/>
            <a:ext cx="41133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2843280" y="573264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990960" y="57164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C:\Users\ADMIN\Desktop\29.02-04.03\02.03 ср\скачанные файлы (2).jpg"/>
          <p:cNvPicPr/>
          <p:nvPr/>
        </p:nvPicPr>
        <p:blipFill>
          <a:blip r:embed="rId2"/>
          <a:stretch/>
        </p:blipFill>
        <p:spPr>
          <a:xfrm>
            <a:off x="2873520" y="981000"/>
            <a:ext cx="3282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916360" y="5716440"/>
            <a:ext cx="39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3" descr=""/>
          <p:cNvPicPr/>
          <p:nvPr/>
        </p:nvPicPr>
        <p:blipFill>
          <a:blip r:embed="rId1"/>
          <a:stretch/>
        </p:blipFill>
        <p:spPr>
          <a:xfrm>
            <a:off x="3990960" y="57164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C:\Users\ADMIN\Desktop\29.02-04.03\02.03 ср\скачанные файлы (7).jpg"/>
          <p:cNvPicPr/>
          <p:nvPr/>
        </p:nvPicPr>
        <p:blipFill>
          <a:blip r:embed="rId2"/>
          <a:stretch/>
        </p:blipFill>
        <p:spPr>
          <a:xfrm>
            <a:off x="3057480" y="447840"/>
            <a:ext cx="3159000" cy="5263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3"/>
          <a:stretch/>
        </p:blipFill>
        <p:spPr>
          <a:xfrm>
            <a:off x="4637160" y="5808600"/>
            <a:ext cx="2188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3419640" y="5084640"/>
            <a:ext cx="26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9" descr="C:\Users\ADMIN\Desktop\29.02-04.03\02.03 ср\скачанные файлы (3).jpg"/>
          <p:cNvPicPr/>
          <p:nvPr/>
        </p:nvPicPr>
        <p:blipFill>
          <a:blip r:embed="rId1"/>
          <a:stretch/>
        </p:blipFill>
        <p:spPr>
          <a:xfrm>
            <a:off x="2195640" y="1268280"/>
            <a:ext cx="4833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3203640" y="55897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5651640" y="56325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4284720" y="5589720"/>
            <a:ext cx="109440" cy="87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:\Users\ADMIN\Desktop\29.02-04.03\02.03 ср\скачанные файлы (6).jpg"/>
          <p:cNvPicPr/>
          <p:nvPr/>
        </p:nvPicPr>
        <p:blipFill>
          <a:blip r:embed="rId3"/>
          <a:stretch/>
        </p:blipFill>
        <p:spPr>
          <a:xfrm>
            <a:off x="2949480" y="701640"/>
            <a:ext cx="39974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097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ЧАЛО   СЕРЕДИНА   КОНЕЦ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5720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492360" y="184464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6324480" y="1905120"/>
          <a:ext cx="2362320" cy="8380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4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0" name="Line 94"/>
          <p:cNvSpPr/>
          <p:nvPr/>
        </p:nvSpPr>
        <p:spPr>
          <a:xfrm>
            <a:off x="152280" y="655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31:12Z</dcterms:modified>
  <cp:revision>90</cp:revision>
  <dc:subject/>
  <dc:title>Загадки о лесе</dc:title>
</cp:coreProperties>
</file>