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C40-558E-448E-B3D3-F8ACF81A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DE0-BAFF-44DA-A090-AFB438B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5A89D-D561-4095-8971-5744A8D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FFFB-6308-4175-B7A0-C2151204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AC06-0A9A-4197-8DD6-6C651AC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53B6D-AEFB-4F9E-8A6E-7C4F9B5B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69C3C-D99B-4DB7-B043-20F6E75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C0E07-F16D-4A16-B358-AA90D63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99239-BCBC-4B71-94F9-BA98C45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BE3B2-A8AB-4BD6-857B-30D27147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33DCC-1EBF-44BF-9010-580D0B29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25104-6320-4D6A-BF44-39EC353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29D-7F68-42E6-AD47-C76EEF11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B0E98-CC1C-4823-8041-4F5FCAF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4880E-8433-41DF-9724-7DCF1FA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6EC2B-B31A-49D2-9B03-6DB0FF94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FA33A-CAAC-4900-B720-097583A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2141-78B6-40C3-8286-49B55EB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820B1-85BF-4CE9-B876-587FAB2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495B2-9F97-4270-9332-D13E168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A900-0AC7-4C13-A333-E17E508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4C568-A278-4883-9214-2EBDB5EB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2EF1-1274-44A8-98A5-6E0E2B8D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097-DC07-4545-80FA-3BB8221D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ADC6E-9E71-4291-BE56-E3776CAE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D70D-3F68-4683-80C0-E4DB8050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5580E-3AF3-4521-8CFB-1BDBE2D0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8522-1634-48B0-AAF6-8276EB0A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599A-0426-4F06-84E2-F8AE9500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3CD52-BB20-4353-83AB-89C5B360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42EC1-79FF-492B-99EE-1E33512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4E526-EE8A-4E9A-A6CD-A88B702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FB62-3AB8-46A7-97E0-1095EA5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5652A-57B2-490D-BE4A-370955C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C30-A21D-4DCE-90E9-49C19C38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B418C-D8CC-4FC6-B19A-0D66A317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FFE4-D8EA-460E-A44E-90136A0A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4D0B9-EE33-457D-8089-31A51245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E9D01-825E-4C31-8E98-43D7217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1F7BD-7958-4B2B-91F9-91B67207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2EEE3-7B68-4309-B03F-6C09C6D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CE65B-F5C7-4AC9-8065-744623B1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D6667-6C76-4FFC-B595-DAEE47B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520E-BA69-4128-893C-44D3C8D3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5AC1C-E9E6-4553-AF32-0428CBE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E8B0-F97C-4AF3-80F3-BC4410C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44883-6BBB-4062-8826-BA25719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5C969-404A-477B-92EE-729FC7A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5557-B4EB-43A0-9046-FE4ED1B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D666C-1987-4071-8BF7-A2B5123E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9D766-CADC-49BB-8290-C915E28F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5E66-57AC-4CEF-B60A-0F15622E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B25-B538-4FB9-A36A-BA8295B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0AC-7A9C-485A-AC98-760C583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0E59-9A49-4E16-95A6-5402C01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91EE-7BDA-42FB-B859-6B001DD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5BF-3DEB-4E00-AE76-828AAB9A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54CD-6B74-49D5-9F2F-9ED9186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E56-F4AE-40CE-A837-518A116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337A-9FB5-4CD1-9B30-55FCE5E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D72-BE8F-47AB-8C92-8DC96DCE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2405-6E9A-4F5C-B531-3CC263F4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64EC-5875-4551-9577-17E68990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70EF-C513-4E28-B4A7-FA4A157A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B128-A207-4926-B473-045BFE5A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90FB-28B1-470E-9DFF-B2340541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D1CB-BD3A-400C-B20A-7642067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C6F-D6EC-4517-BDDC-2400AA2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6B4F-FA68-4741-8B9E-A0F06265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A892-46B7-408C-AFC9-5397018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4FA1-2FC4-4556-857B-B325E1B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E4BE-B157-4256-BEB5-826612B1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0764-A346-457E-8993-0A377FCA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EFFE-09A5-40F1-89E5-025ECDD8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371B-BA89-4FB7-864E-C48E097D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C2F8-FC30-42AC-AB52-8C837D90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5B9B9-6EBA-41B3-A598-595B6DF6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D421-9ADA-4430-87DA-34D2657D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71E-55C1-42B8-86F5-967A7C8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684A1-C913-40A7-911E-738736EA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3BBC-57E4-42BC-AECE-1E5D473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1D6C-23F0-4055-B299-024FAB3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3076-6779-4551-9775-6417C9B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020F-AC97-405B-9598-A05AA43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47D3-E1CC-4E4B-B761-5D94309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447B-7D5D-4580-BFEC-B3CE282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26CB-F654-4647-8DD3-18058ACC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9C42-67FE-4E05-803E-2C346E79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0C42-21F2-4D35-89DC-3B5E8194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545-C967-418A-A76B-C301463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4F3EE-D199-4837-9529-4857FB32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81A0-0C10-45AA-AFFF-6FE59BBB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833F-F97E-477E-A622-92D975A2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72E2-6BBB-433C-B5CA-81EE14C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15D0-57CD-4DA9-AA75-94F21E4D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05FC-CABD-495E-ACDC-B2EA287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A243F-0AD2-4783-AA5A-3358AAA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EE93-47D4-4A71-877C-9DFD740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91CD-E410-480A-8BDA-CCCECB1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0169-F431-4829-8560-A2694C4E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07C-6036-4BEE-A121-EC63DD7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7B46C-0B55-486D-9983-D6F672E3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5F0B-BBDA-4ABA-83B2-A6579D5E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A43C-BF2E-465A-AAF5-AB5B2F2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54CD-F2CD-4723-BBDD-64E0D07D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DBD4-E747-4BD3-B61C-8514088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C23B-2ECB-4E5E-B170-C0B342BF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2C89-2595-4741-AEF2-93F6ED2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7B11-5356-441B-BAA5-4224DF5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42BB-1992-4B53-ABF5-A19CE89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31166-CD70-4163-95D1-8F77D0C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E7C-4CCF-447F-99D4-8359982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FE13-7AD9-48AA-AEA3-12F86CA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5FFB-D5EF-4870-9D73-70B53B05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AB06-1D54-4799-8A5C-58821446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BFBA-C928-470D-A905-C7730B6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50FA-8615-4581-BBE5-E67FBB1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2341-44CF-441D-83D5-1FD0056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9121-591F-4181-B73A-4231F68B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0ED9E-1D2E-4508-ADE6-AFE08981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3BED-D2CF-4EC1-B6E8-C9C1933A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F7E2-9B86-4BD1-B78D-A73FC58D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40A-4786-4B97-9E7D-610B3AA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5768-3485-4051-B082-C417C56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FE7F-55EB-487B-8F7C-C9DF08F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C3E6-D738-47A0-8257-A50C565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3A57-5748-4AD6-9334-76D45F66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1B7A-23DF-422F-AA59-061C4CF4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F8E28-AF03-4AA1-92B3-CC89C64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9B3C2-01F7-4133-A574-43343D2A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9725-4D97-49CA-8CDE-FA552150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472A-FC85-46CD-8DC0-573E0B7F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2C0F0-5B29-4DF3-9F95-1365216B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EE6-638C-4249-A9A3-B258011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A837-C403-4A6D-8BC9-7F6E091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9DC9-14F4-44CC-A20B-DCE6D044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16CF8-70F6-49B9-AFB9-BDE755B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28A8-518C-48C0-89E0-4087EDE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D06E-8E7E-42F0-87ED-2C9D252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E1DC-E3A8-41B4-AA88-559099EB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287ED-C885-49F9-93F9-4FBF3DAD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68E08-9172-4AFC-BE22-148FC05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C079B-1E44-4430-8236-49719DCA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227CB-89B0-4440-B8E3-10FA7A9B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F27C2-466B-493E-B231-658F19272A0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D4106F-C39C-4FE2-A1AD-3860D01505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3DC549-A96A-4682-B12C-E44940F71E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F6BA3C-9B9C-4220-9E79-F3317E826B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27D5DE-58DC-4DC5-80D4-AEAA234AF0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92B8D1-A9D8-40ED-A250-D520333B4F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8556E0-6D99-472C-A761-00C67675FC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F878A3-519F-4BFA-91EF-3EAAF1683A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67409A-FEA8-408A-ADE9-546F15AF8D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D9479B-3A37-43D2-B71F-EC414C8E29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6DBA42-E4AF-4A2B-8442-29B664725A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DD9C11-4DEC-4B05-B32F-221C3C2FAB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2"/>
          <p:cNvSpPr/>
          <p:nvPr/>
        </p:nvSpPr>
        <p:spPr>
          <a:xfrm>
            <a:off x="541440" y="38088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лавная  (большая)  строчная (маленька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е Ё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C:\Users\ADMIN\Desktop\15.02-19.02\15.02 пн\images (1).jpg"/>
          <p:cNvPicPr/>
          <p:nvPr/>
        </p:nvPicPr>
        <p:blipFill>
          <a:blip r:embed="rId1"/>
          <a:stretch/>
        </p:blipFill>
        <p:spPr>
          <a:xfrm>
            <a:off x="5580000" y="2606760"/>
            <a:ext cx="3056040" cy="2192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C:\Users\ADMIN\Desktop\15.02-19.02\15.02 пн\bukva-e-200.png"/>
          <p:cNvPicPr/>
          <p:nvPr/>
        </p:nvPicPr>
        <p:blipFill>
          <a:blip r:embed="rId2"/>
          <a:stretch/>
        </p:blipFill>
        <p:spPr>
          <a:xfrm>
            <a:off x="684360" y="263700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C:\Users\ADMIN\Desktop\15.02-19.02\15.02 пн\скачанные файлы (1).jpg"/>
          <p:cNvPicPr/>
          <p:nvPr/>
        </p:nvPicPr>
        <p:blipFill>
          <a:blip r:embed="rId3"/>
          <a:stretch/>
        </p:blipFill>
        <p:spPr>
          <a:xfrm>
            <a:off x="3165480" y="43527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700360" y="1243080"/>
            <a:ext cx="31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   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3238560" y="1989000"/>
            <a:ext cx="361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  СЁ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БЕ  БЁ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Е  В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РЕ   Р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Е   Л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ДЕ   Д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"/>
          <p:cNvSpPr/>
          <p:nvPr/>
        </p:nvSpPr>
        <p:spPr>
          <a:xfrm>
            <a:off x="6086520" y="558972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8"/>
          <a:stretch/>
        </p:blipFill>
        <p:spPr>
          <a:xfrm>
            <a:off x="2681280" y="5543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9"/>
          <a:stretch/>
        </p:blipFill>
        <p:spPr>
          <a:xfrm>
            <a:off x="7211880" y="55436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760320" y="55450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5" descr="C:\Users\ADMIN\Desktop\15.02-19.02\15.02 пн\eris1.jpg"/>
          <p:cNvPicPr/>
          <p:nvPr/>
        </p:nvPicPr>
        <p:blipFill>
          <a:blip r:embed="rId10"/>
          <a:stretch/>
        </p:blipFill>
        <p:spPr>
          <a:xfrm>
            <a:off x="995400" y="2133720"/>
            <a:ext cx="3254400" cy="2381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6" descr="C:\Users\ADMIN\Desktop\15.02-19.02\15.02 пн\images (2).jpg"/>
          <p:cNvPicPr/>
          <p:nvPr/>
        </p:nvPicPr>
        <p:blipFill>
          <a:blip r:embed="rId11"/>
          <a:stretch/>
        </p:blipFill>
        <p:spPr>
          <a:xfrm>
            <a:off x="4719600" y="2141640"/>
            <a:ext cx="36133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1243080" y="5433840"/>
            <a:ext cx="17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6215040" y="551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C:\Users\ADMIN\Desktop\15.02-19.02\15.02 пн\joris1.jpg"/>
          <p:cNvPicPr/>
          <p:nvPr/>
        </p:nvPicPr>
        <p:blipFill>
          <a:blip r:embed="rId8"/>
          <a:stretch/>
        </p:blipFill>
        <p:spPr>
          <a:xfrm>
            <a:off x="5068800" y="2060640"/>
            <a:ext cx="3276720" cy="2298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Users\ADMIN\Desktop\15.02-19.02\15.02 пн\скачанные файлы.jpg"/>
          <p:cNvPicPr/>
          <p:nvPr/>
        </p:nvPicPr>
        <p:blipFill>
          <a:blip r:embed="rId9"/>
          <a:stretch/>
        </p:blipFill>
        <p:spPr>
          <a:xfrm>
            <a:off x="1187280" y="1700280"/>
            <a:ext cx="2451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3"/>
          <p:cNvSpPr/>
          <p:nvPr/>
        </p:nvSpPr>
        <p:spPr>
          <a:xfrm>
            <a:off x="763560" y="66348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исать букв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2297160" y="9079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4816440" y="9018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"/>
          <p:cNvPicPr/>
          <p:nvPr/>
        </p:nvPicPr>
        <p:blipFill>
          <a:blip r:embed="rId3"/>
          <a:stretch/>
        </p:blipFill>
        <p:spPr>
          <a:xfrm>
            <a:off x="6727680" y="8557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C:\Users\ADMIN\Desktop\15.02-19.02\15.02 пн\скачанные файлы (1).jpg"/>
          <p:cNvPicPr/>
          <p:nvPr/>
        </p:nvPicPr>
        <p:blipFill>
          <a:blip r:embed="rId4"/>
          <a:stretch/>
        </p:blipFill>
        <p:spPr>
          <a:xfrm>
            <a:off x="1908000" y="1700280"/>
            <a:ext cx="5478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23:20Z</dcterms:modified>
  <cp:revision>63</cp:revision>
  <dc:subject/>
  <dc:title>Загадки о лесе</dc:title>
</cp:coreProperties>
</file>