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701-A0C8-44DD-AD3D-315D7A5B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6E9-814C-4B10-AED5-CF2B4653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9047A-1666-4097-97F4-AC443C1B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0ABAE-21CF-47FB-8582-8CA090F7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52655-3E84-4BDF-AD4E-C2C2C621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F402E-5D6A-4AB3-A94B-A3D06F23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FC6E8-C760-401A-8A4E-90261F75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CFEB5-8FDA-4AAA-9D8A-83C7029E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FAE13-ED54-49CF-92AD-F2525776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E8434-CB7A-4FAD-8473-07998C78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066C0-E028-4EBA-A6FE-369AC40E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A06CA-D591-4599-ACA9-D99DCE3B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42D-578A-4FA3-8A2F-AB68B2B8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37AD3-DBE4-4C37-955E-712C5655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1F5C7-43D3-45A8-9A89-F49E3DED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6BD65-5F5E-4FEF-A9EA-08DECC08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4F414-5E42-4394-A0DF-50BB8738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7A166-2095-4C2C-8625-23D930AD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69E73-DFBE-4BFB-B331-7AA33217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9CC94-562B-40DF-AB60-85F37E53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BEF5C-5DE6-4F44-A355-32880F07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17BCB-08BF-4C77-B6E5-F4E483B6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64BFD-7A73-46FD-A843-7FCD0B65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76A-AFDA-4B1D-A9FD-4ADA1725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09D50-6E02-4746-98D8-A439A59D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3F255-A3F2-41C9-818B-00F905C5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60618-4E7E-49BA-87D9-C83C1181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AFB2D-6202-4748-B587-47C99023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B475C-1B69-497E-80F3-422CBB44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D2FAA-2A28-416C-BDE1-AB585CFD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1E81F-6210-40EB-83D6-6F899D20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15312-8B10-45D1-A858-25D60CDD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3BFAF-5C20-4822-BFE2-928F4026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0EDE3-F5F2-46A6-BA14-7A42F9CB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1DE6-FF75-4E3E-BAB9-C78CB582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1D82F-5567-4DCB-8E90-DA2E34F1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8DFC0-D677-4D1E-B562-4DFCCF5C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9E263-0D37-4698-AADD-120CD57E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F2B4C-BD58-40FF-9CD1-6CEF7F88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E5828-33AE-463E-93E7-62EA8AE8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A8FEE-DA69-4A38-91D1-FB42A027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51B01-689D-4B29-970F-94653904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CB34C-C6A2-4108-AFEC-46191729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B730C-B248-4C1D-B3B0-ACE5D20C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343BE-B9D4-4B74-ADAD-D4BEC9A7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3E36-F1B6-4AE6-AEA8-4252619F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2E083-850B-46EF-B253-11B466BC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1B2B4-34B2-4150-B272-625FCE73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838F9-A346-411C-8530-24FB3F53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28CA8-4789-433A-AA72-B0768B79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22565-C56B-4B79-A4F0-43844F0D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AF71-6191-42CB-96B8-94AEB280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D4E8-BAB4-4E67-B8C0-1AE39BDC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B8C0-1341-4F33-B8D4-D9ADE709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2C30-7AB0-4BE9-AA66-B4516F3D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760F-CF36-452C-BBD6-B791BF1B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591-ED38-48B6-BF81-F3DC5CCE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7526-47F0-47B0-8FB0-645DEEF1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4D9A-E364-4C73-BF0A-D15A8073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C35B-0AB4-4BDD-9012-A2EA16C4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2ED0-C460-4009-BCFA-22E3191C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3D88-7BB0-4745-8D03-15D5B2A6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FBC08-0814-45EA-A329-1E0951F4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C623-7171-4FF6-92EB-DEB2F5D0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6B40F-C5C9-462D-A5C8-0F20EBDF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D6FA0-5B84-4CAA-9A53-E136D739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B7595-C36C-4243-ADB0-360FBEE0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559B-70B7-481C-A26F-3AE548CC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424EE-0C45-468C-AEC7-EDAA6675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3417A-CFFB-494C-B663-E7DC559F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E9E1-408C-4182-95AC-DF4BF478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7B589-198B-42BF-AD37-86E24158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3529E-DEB9-4782-8C45-15DFE354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0C802-2DD5-49FA-869E-002F1636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CC609-A28B-4D44-ACBC-34A9B02D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C0013-474F-4F38-AF93-7239BCD2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67236-AD4C-4438-BC88-77431A4D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698CA-4E47-4584-892D-A828F340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170-3BCA-49DB-8643-B3CA2CF8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B1635-0645-46E0-8FDC-0C05C3A8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98308-E974-4F07-BC7F-4A6CCA51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CC711-4837-4CB3-BCA5-CF34C4B9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B8F45-F39F-484E-8552-FEB937F3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0EAA6-4A73-4784-86A2-26054175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3ED84-FE80-4E2E-86B7-B9C04B1A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785F9-F6A4-4FC9-8C96-B4326F1A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C4848-A4CD-43D5-9904-8877CFC0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2F818-BB65-4EDB-9F96-E4885FD9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4C072-8E1F-4D24-B34A-2AF523C9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D87-1DF1-4163-99BB-D78E1A7F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7BE6E-1FA8-4B54-B10C-ABBCA8B7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9BED0-E51D-49C0-993F-49876C95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DDC03-C76F-42A4-8094-AC1C3FA9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6EDC5-04A4-467F-AA66-6AADB7CA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09DD2-503C-4D09-865A-732DB25B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B02EE-7AEA-4FAC-8DF0-7AF88B10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7269E-5373-4596-BDDD-55275DCF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C0D31-3976-40E2-8031-31746786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1C4F9-BA09-4EBB-AD3A-6A88A329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4693C-3470-4911-AD5B-1720C84B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DF7-33AB-4605-8741-F35A46D4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62D12-70B4-433C-8E11-1C726727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3E47A-742C-47DC-B371-1E76C4A9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94A39-7D5C-47E1-9C95-5B8A3340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74EE5-B0F4-4ABE-A76A-646DD5E1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20177-9731-4935-BE2A-4D150412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9BBB9-19D1-4846-A386-E083AD90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0D74F-7F59-4BFD-B934-DD93D7DD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A1E28-CC60-40A9-B175-70A38BCB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8B264-D94B-4187-ABEF-31F0DCE9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AA976-B884-470F-A9E3-308CCAC1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927-3CD3-498F-BDB7-E9291E10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EB0DB-F708-4DBC-88CA-4E745B0E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0AE0B-D809-4081-AB0A-03E8919E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DE300-8F74-473C-A912-1CD84547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18154-7277-4DB5-8229-EA6B2BAC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4C999-C76A-450B-A411-8BB60888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1BA6F-2237-4DA9-8FBD-6728BBA7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E52BB-B9B1-481C-800A-B5E10ED5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5A5E3-BF32-42EB-B05A-F623AFDF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E66EE-C122-4DA7-A180-710EE3A4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67212-2635-4BA9-BE00-9C8EE393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C90-BC9C-42A2-AA81-C91CE9CF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8B229-D6E1-4569-8112-CE66514B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30E4F-2258-40BA-AF89-F7435FA3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0AF8D-D74A-4F37-9486-EB950D0D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4E173-F92D-4096-8ED7-278A7B7B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C1515-AA6A-45DF-B536-84EB1503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0F901-8C35-41FC-A6A3-0BEFB2D3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0805D-0BA1-4A4A-B024-09AA7781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53E37-1702-439D-A7E6-6FD81FBA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42FD7-498E-4320-AD6B-9FA6CB26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FBE67-304C-475B-A7E7-15717393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C84-3928-4417-9FEC-91849AF3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5C905-58C5-435E-8203-B36205F4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3F0DD-496B-473E-8147-DCD74783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6F114-3CBC-42E7-A509-1C5D37B8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315D2-290F-4787-BEFF-A99D7313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C27FA-456D-465B-ADC1-971DA8D8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40AFA-D234-4EF1-AB0F-5F5D687D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27438-98C3-4B90-8097-5D0E7129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36620-F797-43D2-9162-B4CBDC6D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7EF3D-2504-4D83-95D5-90CE85C1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65B4C-24D4-4B5C-9833-8D8C47AE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2162B7-97D7-405C-BF7F-4D025767D50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5D6E38-D5F9-4FF2-9C4E-DC9D008D452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09D80C-7907-4E4A-A859-81A96ECE9E4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D5B188-A801-43A4-82B2-8AF35F5B251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D11AD7-3199-4071-B5CD-63CE688D971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E3F01E-9A11-414C-AAE6-8166BC506B8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22A68D-9BC7-4D58-A8FC-B711229EB54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699581-330F-4743-B4F9-65C14BFCD7C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82AD6D-2AF6-495E-9AE2-BDAB8AEBA7A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F31366-FCF8-441D-A723-26E814849E3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250B55-79D0-465F-A20F-04A22FF29FD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800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800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97680C-BC21-4A16-821D-81D045FA95D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2"/>
          <p:cNvSpPr/>
          <p:nvPr/>
        </p:nvSpPr>
        <p:spPr>
          <a:xfrm>
            <a:off x="541440" y="38088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главная  (большая)  строчная (маленькая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е Ёё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C:\Users\ADMIN\Desktop\15.02-19.02\15.02 пн\images (1).jpg"/>
          <p:cNvPicPr/>
          <p:nvPr/>
        </p:nvPicPr>
        <p:blipFill>
          <a:blip r:embed="rId1"/>
          <a:stretch/>
        </p:blipFill>
        <p:spPr>
          <a:xfrm>
            <a:off x="5580000" y="2606760"/>
            <a:ext cx="3056040" cy="2192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" descr="C:\Users\ADMIN\Desktop\15.02-19.02\15.02 пн\bukva-e-200.png"/>
          <p:cNvPicPr/>
          <p:nvPr/>
        </p:nvPicPr>
        <p:blipFill>
          <a:blip r:embed="rId2"/>
          <a:stretch/>
        </p:blipFill>
        <p:spPr>
          <a:xfrm>
            <a:off x="684360" y="2637000"/>
            <a:ext cx="2539800" cy="19047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" descr="C:\Users\ADMIN\Desktop\15.02-19.02\15.02 пн\скачанные файлы (1).jpg"/>
          <p:cNvPicPr/>
          <p:nvPr/>
        </p:nvPicPr>
        <p:blipFill>
          <a:blip r:embed="rId3"/>
          <a:stretch/>
        </p:blipFill>
        <p:spPr>
          <a:xfrm>
            <a:off x="3165480" y="43527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763560" y="36180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169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"/>
          <p:cNvPicPr/>
          <p:nvPr/>
        </p:nvPicPr>
        <p:blipFill>
          <a:blip r:embed="rId2"/>
          <a:stretch/>
        </p:blipFill>
        <p:spPr>
          <a:xfrm>
            <a:off x="493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"/>
          <p:cNvPicPr/>
          <p:nvPr/>
        </p:nvPicPr>
        <p:blipFill>
          <a:blip r:embed="rId3"/>
          <a:stretch/>
        </p:blipFill>
        <p:spPr>
          <a:xfrm>
            <a:off x="817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"/>
          <p:cNvPicPr/>
          <p:nvPr/>
        </p:nvPicPr>
        <p:blipFill>
          <a:blip r:embed="rId4"/>
          <a:stretch/>
        </p:blipFill>
        <p:spPr>
          <a:xfrm>
            <a:off x="3419640" y="70488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"/>
          <p:cNvPicPr/>
          <p:nvPr/>
        </p:nvPicPr>
        <p:blipFill>
          <a:blip r:embed="rId5"/>
          <a:stretch/>
        </p:blipFill>
        <p:spPr>
          <a:xfrm>
            <a:off x="4140360" y="69696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7" descr=""/>
          <p:cNvPicPr/>
          <p:nvPr/>
        </p:nvPicPr>
        <p:blipFill>
          <a:blip r:embed="rId6"/>
          <a:stretch/>
        </p:blipFill>
        <p:spPr>
          <a:xfrm>
            <a:off x="7164360" y="69228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7"/>
          <a:stretch/>
        </p:blipFill>
        <p:spPr>
          <a:xfrm>
            <a:off x="6443640" y="692280"/>
            <a:ext cx="219240" cy="23760"/>
          </a:xfrm>
          <a:prstGeom prst="rect">
            <a:avLst/>
          </a:prstGeom>
          <a:ln w="0">
            <a:noFill/>
          </a:ln>
        </p:spPr>
      </p:pic>
      <p:sp>
        <p:nvSpPr>
          <p:cNvPr id="547" name="TextBox 2"/>
          <p:cNvSpPr/>
          <p:nvPr/>
        </p:nvSpPr>
        <p:spPr>
          <a:xfrm>
            <a:off x="2700360" y="1243080"/>
            <a:ext cx="31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   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"/>
          <p:cNvSpPr/>
          <p:nvPr/>
        </p:nvSpPr>
        <p:spPr>
          <a:xfrm>
            <a:off x="3238560" y="1989000"/>
            <a:ext cx="3619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СЕ  СЁ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БЕ  БЁ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ВЕ  В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РЕ   Р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ЛЕ   Л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ДЕ   Д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3"/>
          <p:cNvSpPr/>
          <p:nvPr/>
        </p:nvSpPr>
        <p:spPr>
          <a:xfrm>
            <a:off x="763560" y="36180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169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493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"/>
          <p:cNvPicPr/>
          <p:nvPr/>
        </p:nvPicPr>
        <p:blipFill>
          <a:blip r:embed="rId3"/>
          <a:stretch/>
        </p:blipFill>
        <p:spPr>
          <a:xfrm>
            <a:off x="817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" descr=""/>
          <p:cNvPicPr/>
          <p:nvPr/>
        </p:nvPicPr>
        <p:blipFill>
          <a:blip r:embed="rId4"/>
          <a:stretch/>
        </p:blipFill>
        <p:spPr>
          <a:xfrm>
            <a:off x="3419640" y="70488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"/>
          <p:cNvPicPr/>
          <p:nvPr/>
        </p:nvPicPr>
        <p:blipFill>
          <a:blip r:embed="rId5"/>
          <a:stretch/>
        </p:blipFill>
        <p:spPr>
          <a:xfrm>
            <a:off x="4140360" y="69696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"/>
          <p:cNvPicPr/>
          <p:nvPr/>
        </p:nvPicPr>
        <p:blipFill>
          <a:blip r:embed="rId6"/>
          <a:stretch/>
        </p:blipFill>
        <p:spPr>
          <a:xfrm>
            <a:off x="7164360" y="69228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"/>
          <p:cNvPicPr/>
          <p:nvPr/>
        </p:nvPicPr>
        <p:blipFill>
          <a:blip r:embed="rId7"/>
          <a:stretch/>
        </p:blipFill>
        <p:spPr>
          <a:xfrm>
            <a:off x="6443640" y="692280"/>
            <a:ext cx="219240" cy="23760"/>
          </a:xfrm>
          <a:prstGeom prst="rect">
            <a:avLst/>
          </a:prstGeom>
          <a:ln w="0">
            <a:noFill/>
          </a:ln>
        </p:spPr>
      </p:pic>
      <p:sp>
        <p:nvSpPr>
          <p:cNvPr id="56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8"/>
          <p:cNvSpPr/>
          <p:nvPr/>
        </p:nvSpPr>
        <p:spPr>
          <a:xfrm>
            <a:off x="6086520" y="5589720"/>
            <a:ext cx="23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8"/>
          <a:stretch/>
        </p:blipFill>
        <p:spPr>
          <a:xfrm>
            <a:off x="2681280" y="554364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9"/>
          <a:stretch/>
        </p:blipFill>
        <p:spPr>
          <a:xfrm>
            <a:off x="7211880" y="554364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64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8"/>
          <p:cNvSpPr/>
          <p:nvPr/>
        </p:nvSpPr>
        <p:spPr>
          <a:xfrm>
            <a:off x="760320" y="5545080"/>
            <a:ext cx="39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В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5" descr="C:\Users\ADMIN\Desktop\15.02-19.02\15.02 пн\eris1.jpg"/>
          <p:cNvPicPr/>
          <p:nvPr/>
        </p:nvPicPr>
        <p:blipFill>
          <a:blip r:embed="rId10"/>
          <a:stretch/>
        </p:blipFill>
        <p:spPr>
          <a:xfrm>
            <a:off x="995400" y="2133720"/>
            <a:ext cx="3254400" cy="23810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6" descr="C:\Users\ADMIN\Desktop\15.02-19.02\15.02 пн\images (2).jpg"/>
          <p:cNvPicPr/>
          <p:nvPr/>
        </p:nvPicPr>
        <p:blipFill>
          <a:blip r:embed="rId11"/>
          <a:stretch/>
        </p:blipFill>
        <p:spPr>
          <a:xfrm>
            <a:off x="4719600" y="2141640"/>
            <a:ext cx="361332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3"/>
          <p:cNvSpPr/>
          <p:nvPr/>
        </p:nvSpPr>
        <p:spPr>
          <a:xfrm>
            <a:off x="763560" y="36180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говорить хорош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169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"/>
          <p:cNvPicPr/>
          <p:nvPr/>
        </p:nvPicPr>
        <p:blipFill>
          <a:blip r:embed="rId2"/>
          <a:stretch/>
        </p:blipFill>
        <p:spPr>
          <a:xfrm>
            <a:off x="493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4" descr=""/>
          <p:cNvPicPr/>
          <p:nvPr/>
        </p:nvPicPr>
        <p:blipFill>
          <a:blip r:embed="rId3"/>
          <a:stretch/>
        </p:blipFill>
        <p:spPr>
          <a:xfrm>
            <a:off x="8172360" y="62388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"/>
          <p:cNvPicPr/>
          <p:nvPr/>
        </p:nvPicPr>
        <p:blipFill>
          <a:blip r:embed="rId4"/>
          <a:stretch/>
        </p:blipFill>
        <p:spPr>
          <a:xfrm>
            <a:off x="3419640" y="70488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"/>
          <p:cNvPicPr/>
          <p:nvPr/>
        </p:nvPicPr>
        <p:blipFill>
          <a:blip r:embed="rId5"/>
          <a:stretch/>
        </p:blipFill>
        <p:spPr>
          <a:xfrm>
            <a:off x="4140360" y="696960"/>
            <a:ext cx="218880" cy="237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"/>
          <p:cNvPicPr/>
          <p:nvPr/>
        </p:nvPicPr>
        <p:blipFill>
          <a:blip r:embed="rId6"/>
          <a:stretch/>
        </p:blipFill>
        <p:spPr>
          <a:xfrm>
            <a:off x="7164360" y="692280"/>
            <a:ext cx="219240" cy="237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8" descr=""/>
          <p:cNvPicPr/>
          <p:nvPr/>
        </p:nvPicPr>
        <p:blipFill>
          <a:blip r:embed="rId7"/>
          <a:stretch/>
        </p:blipFill>
        <p:spPr>
          <a:xfrm>
            <a:off x="6443640" y="692280"/>
            <a:ext cx="219240" cy="2376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8"/>
          <p:cNvSpPr/>
          <p:nvPr/>
        </p:nvSpPr>
        <p:spPr>
          <a:xfrm>
            <a:off x="1243080" y="5433840"/>
            <a:ext cx="17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8"/>
          <p:cNvSpPr/>
          <p:nvPr/>
        </p:nvSpPr>
        <p:spPr>
          <a:xfrm>
            <a:off x="6215040" y="5516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" descr="C:\Users\ADMIN\Desktop\15.02-19.02\15.02 пн\joris1.jpg"/>
          <p:cNvPicPr/>
          <p:nvPr/>
        </p:nvPicPr>
        <p:blipFill>
          <a:blip r:embed="rId8"/>
          <a:stretch/>
        </p:blipFill>
        <p:spPr>
          <a:xfrm>
            <a:off x="5068800" y="2060640"/>
            <a:ext cx="3276720" cy="22986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C:\Users\ADMIN\Desktop\15.02-19.02\15.02 пн\скачанные файлы.jpg"/>
          <p:cNvPicPr/>
          <p:nvPr/>
        </p:nvPicPr>
        <p:blipFill>
          <a:blip r:embed="rId9"/>
          <a:stretch/>
        </p:blipFill>
        <p:spPr>
          <a:xfrm>
            <a:off x="1187280" y="1700280"/>
            <a:ext cx="2451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3"/>
          <p:cNvSpPr/>
          <p:nvPr/>
        </p:nvSpPr>
        <p:spPr>
          <a:xfrm>
            <a:off x="763560" y="663480"/>
            <a:ext cx="791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писать букв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2297160" y="907920"/>
            <a:ext cx="115920" cy="921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"/>
          <p:cNvPicPr/>
          <p:nvPr/>
        </p:nvPicPr>
        <p:blipFill>
          <a:blip r:embed="rId2"/>
          <a:stretch/>
        </p:blipFill>
        <p:spPr>
          <a:xfrm>
            <a:off x="4816440" y="901800"/>
            <a:ext cx="115920" cy="918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"/>
          <p:cNvPicPr/>
          <p:nvPr/>
        </p:nvPicPr>
        <p:blipFill>
          <a:blip r:embed="rId3"/>
          <a:stretch/>
        </p:blipFill>
        <p:spPr>
          <a:xfrm>
            <a:off x="6727680" y="855720"/>
            <a:ext cx="115920" cy="92160"/>
          </a:xfrm>
          <a:prstGeom prst="rect">
            <a:avLst/>
          </a:prstGeom>
          <a:ln w="0">
            <a:noFill/>
          </a:ln>
        </p:spPr>
      </p:pic>
      <p:sp>
        <p:nvSpPr>
          <p:cNvPr id="58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7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3" descr="C:\Users\ADMIN\Desktop\15.02-19.02\15.02 пн\скачанные файлы (1).jpg"/>
          <p:cNvPicPr/>
          <p:nvPr/>
        </p:nvPicPr>
        <p:blipFill>
          <a:blip r:embed="rId4"/>
          <a:stretch/>
        </p:blipFill>
        <p:spPr>
          <a:xfrm>
            <a:off x="1908000" y="1700280"/>
            <a:ext cx="54784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7:06:44Z</dcterms:created>
  <dc:creator>Яковлева М.Л., Богайцева М.В.</dc:creator>
  <dc:description/>
  <dc:language>en-US</dc:language>
  <cp:lastModifiedBy>ADMIN</cp:lastModifiedBy>
  <dcterms:modified xsi:type="dcterms:W3CDTF">2016-09-19T19:23:20Z</dcterms:modified>
  <cp:revision>63</cp:revision>
  <dc:subject/>
  <dc:title>Загадки о лесе</dc:title>
</cp:coreProperties>
</file>