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889-D3F5-48D5-A761-07C9A912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71D-B7BA-4A7E-A930-48312AC0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E1E73-511C-4486-99E3-64E8DC5B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E9EFF-30A2-442E-9851-B05CB779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4082C-CB16-4AB3-B7F3-6DE40F7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B2682-DE8A-43AC-AF40-92C6171A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F68C0-7230-4540-B0FC-29AB2FFD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CFA95-406B-44A6-9DDE-223BECED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F575A-82E2-463B-8A76-034C2FC3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EA839-BE16-457E-B403-66FB4890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87ECA-995E-4970-A16F-617C1F4C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F3967-4FE1-4FF7-B05F-2142F143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2DE-3AE5-4B65-8A36-9DDACA04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82A8D-4BBB-49FD-BED6-3959B0CA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117A3-F78E-49A8-97A3-826904FB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73CD8-3332-4D3F-872F-5F6624F8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7AD05-9D41-4F24-8E19-000E42F1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376F7-846C-4E1B-92E7-6C8F107F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B7893-4535-4FCC-8BB7-1A42B162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0C54F-1ADD-4FFA-8217-019E068A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CA958-986F-4A81-97C2-B839252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63405-6320-4CD3-9982-680517F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010F6-D01E-4BA3-9DC9-D5AEC4C4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8A6-1BA1-4655-8351-40C8A237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32A00-8E3C-405A-92E2-AB912B1B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27269-7903-46FD-8B99-0F9FB90C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66654-9B35-4C83-8FC0-777421D2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4D7DD-222E-4924-9494-188AC220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89B21-49AB-42AD-97DE-F22D942A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6A832-6E0C-4BF5-BB24-80E4B2D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20C8-F638-44AF-9CFB-95A240AD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A6A7F-956E-425B-8A7F-7DB502A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3BD86-E92D-4C1A-8D26-78DB3403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AB480-C3D9-47B4-8A51-7AF0136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64CA-509D-41DF-942B-261C1E56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E4BE5-DEA9-461C-B527-EC3EA5D8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122D7-B48B-4FFE-AEA5-7B0D0485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8121F-62E0-46A1-B27C-D8DEE4B1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ED7C7-E9BA-4FB0-A8C7-1E8007D1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1D481-B1A2-4835-87A9-4E21F091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961CC-6BE1-4397-A60D-A55136E9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3AA79-92D7-4DA6-B4FB-DF65E8AF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1F64F-6CE1-4C26-8453-FD59DA3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9EE58-1C9B-4AE8-8672-DB5BC536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E1F89-A0D8-401F-BA4F-7C120B31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F1B9-8EA4-474D-B70A-F07D0DFB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12768-9370-4DE6-ADC5-D0D2D7DB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2E6A1-1C99-4598-8099-229FE70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53088-6E9C-4621-9F66-D971AC0D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57642-8A7E-4BAA-AEF0-103F94F0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4378B-F2EE-42C3-A59A-DAA9CCCA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7AE5-72BE-4989-A046-28274A5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35A9-090C-4370-B75E-4E1178D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6CB0-1D6C-4966-AC3D-8F95517B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4A36-1B47-4DD6-86C4-C4E7004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7C39-68F1-4F30-BD30-4E00DCB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E75-68A0-4E42-8BE9-F32CE26D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8ED5-67A3-47C2-9209-EBCD7D4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1BFD-C2ED-43DA-8DEF-B69693D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8613-5FC7-4887-9BA2-A38F417F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B96-9619-4D96-8481-1FB7DFD7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243C-DD63-4489-A951-09DA1A01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07D5-CCE2-4C28-AC73-92363945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5AA6-9327-43D2-95A5-55DCF724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7510-E70D-4C3B-9246-C9FD79B3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5B14-9F58-4840-B302-B7DF15DB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5CE0-8F1D-43C9-A333-D7FB2B67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C5D-737A-4D8C-9FC0-3B90B502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3AEA-2261-4A85-95CA-6870FF74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BE5C-11D4-4E44-A20C-16CA2181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D8A6-A23A-45C0-B5EB-07E0A4A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B26C-E9DE-4CF0-84BB-7A90CB21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AE22-554B-4B62-8B30-18789B5B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A714-B1B5-4013-901E-08F4ED28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62F0-3F5C-432A-8F32-7F037369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FCDD-5270-49E5-B633-4FB0D0BF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D1EE-EF9C-4B45-B493-FF149CA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6AD7-618A-48A0-9CBA-4BB596EF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CA0-0503-40A5-A940-CCF837B9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5CB5-268F-440B-978F-F8A1F297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793E5-6DEA-4BB3-ADF9-6A41779D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5182-CE47-46AD-BEAB-924615FC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28A2E-854F-4DB9-957F-34C41FCB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2A9F9-7937-4523-9158-0703A63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2410-B3CB-49F0-9D86-B46F1C60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D9B1-DF08-4485-9FC6-7F1E28CD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4106-B032-47C4-A40B-79BDEEEF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E2B0-C4F6-4C0A-88C3-A370DDD8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E89B6-8C5C-4D8A-B6D7-9DCB70BF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CE8-8AD5-429D-B8C4-DFBD39BE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7B9C4-50BF-4F46-AD46-E56BB93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E24BC-BF0A-4837-A866-280C1568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A985-0EB8-40BA-899A-F70E16EA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C7448-FBB3-400C-A513-A2E00362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C5BA1-6D7D-4DC8-BEAD-A1162928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09DF-F11A-43A6-A513-3EB61D7E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3203-8F5A-4CC8-A15C-EB62A306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9524-B1F0-4012-BA46-2E39023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9C2C-E17D-422D-A624-BC0A4436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0FBD6-661F-41FD-8A58-EB684B60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505-3237-489E-83F3-DF3FEAFB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420F-5093-49DB-AFA7-79BE2C34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5349C-B178-444C-838C-B78B3286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C73C-6014-4904-8792-6C830C2A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E996C-2B63-4ED6-9AA9-8AE45931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48B8-D869-4654-8CE4-3C0E031E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8BF3-7B83-47BB-A7C4-DF14D41A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FB41E-53CE-4919-855A-2FD1D42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FE15-19E7-4EB1-BA9F-018A6D3C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8E2F-B483-4CFD-8FD7-D95310A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D01BE-64A4-4747-BBDC-BF5B94E9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805-FF16-4D5A-A0E1-CDBC8BE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8806-8389-4BDE-B7CE-7F0F7960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78519-A3F6-4246-81E7-395D7C37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0262-EA6D-44E6-BD47-B27C6B5F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14030-AB47-415C-A6AF-9C94B69F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D59B7-DA0D-46EA-A872-C79DFCB7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38890-9D95-4043-B76A-FA87063D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FB075-608F-44DF-A479-DBD8FF50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435F-0DA9-44ED-B60F-1DE45D3E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7C84-C56F-4258-98DD-C106BF7C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8F80A-920E-44B7-B767-EF04ABE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480-D93E-4BBA-891E-31DE7AAE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8DCC1-765F-46B4-BAF0-DD9467A3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DD9FC-533E-4F93-95E5-F071D59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28EA8-8008-4949-B1E8-CE406EE8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D5040-6655-4142-AF2B-910F8C80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A6CC-56F1-4C6F-8867-CA4F7282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8A3B3-61BA-4D39-A57B-1A0C45BC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75985-81AC-4218-B73F-1B2B470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EC825-7975-4B2C-9DB7-B8B22F46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DEF2-BAD1-4C25-8E97-44B1FECD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A302E-BF35-4E3B-8899-77DB0B61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D16-1C97-423A-B813-2354776F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65315-438E-493A-90E7-AD284171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E20D-6CD8-44A5-A98D-C76D946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5B2EE-1652-4442-A6A2-A3F48091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C50A-0605-4F17-9DE8-F2F3FC77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2298C-F417-4DC0-9C36-7A755CBE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878C0-0047-4166-9B3A-DD9AC0D1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2DCC3-C93F-456A-83EF-B226BAA6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3F832-9CA5-4333-8F0F-7FE70C29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AC3C6-8609-4B22-9DE6-30F2FD8F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65F62-EC1C-4293-82BE-5473355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433BA6-E62A-4DB0-B2D6-87038987E4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D4177E-6643-4FD4-B654-2BCDC775AC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54DF22-7A7E-4D08-BA51-BE3442D06A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DED4B0-7B99-46A4-B934-9BCE8905FCB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6F7D1F-47FE-4F3A-A918-5FF6E9CF5B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C6B01F-D5F6-41A8-9EBA-1DF7A355E7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89FD5E-AC4A-406E-B28C-38E2F0B729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42340A-830E-4B85-9367-D04C78AA84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C4CC47-19F6-442E-9CA5-28BC8F62E3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AE8DFC-5BFB-4CA1-867F-E167CA12F5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B538AB-B2A5-4FCE-98EF-2BBF07B840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B762DD-64A8-4C2D-8780-7DCEDD7672D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20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0.wmf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похож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5940360" y="6904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3" descr="C:\Users\ADMIN\Desktop\15.02-19.02\19.02 пт\скачанные файлы (12).jpg"/>
          <p:cNvPicPr/>
          <p:nvPr/>
        </p:nvPicPr>
        <p:blipFill>
          <a:blip r:embed="rId2"/>
          <a:stretch/>
        </p:blipFill>
        <p:spPr>
          <a:xfrm>
            <a:off x="971640" y="1415880"/>
            <a:ext cx="1942920" cy="2352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C:\Users\ADMIN\Desktop\15.02-19.02\19.02 пт\скачанные файлы (11).jpg"/>
          <p:cNvPicPr/>
          <p:nvPr/>
        </p:nvPicPr>
        <p:blipFill>
          <a:blip r:embed="rId3"/>
          <a:stretch/>
        </p:blipFill>
        <p:spPr>
          <a:xfrm>
            <a:off x="6372360" y="1628640"/>
            <a:ext cx="1857240" cy="2457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C:\Users\ADMIN\Desktop\15.02-19.02\19.02 пт\скачанные файлы (10).jpg"/>
          <p:cNvPicPr/>
          <p:nvPr/>
        </p:nvPicPr>
        <p:blipFill>
          <a:blip r:embed="rId4"/>
          <a:stretch/>
        </p:blipFill>
        <p:spPr>
          <a:xfrm>
            <a:off x="3348000" y="3068640"/>
            <a:ext cx="22971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2700360" y="57326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2" descr=""/>
          <p:cNvPicPr/>
          <p:nvPr/>
        </p:nvPicPr>
        <p:blipFill>
          <a:blip r:embed="rId1"/>
          <a:stretch/>
        </p:blipFill>
        <p:spPr>
          <a:xfrm>
            <a:off x="5232240" y="57326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9" descr="C:\Users\ADMIN\Desktop\15.02-19.02\19.02 пт\скачанные файлы (9).jpg"/>
          <p:cNvPicPr/>
          <p:nvPr/>
        </p:nvPicPr>
        <p:blipFill>
          <a:blip r:embed="rId2"/>
          <a:stretch/>
        </p:blipFill>
        <p:spPr>
          <a:xfrm>
            <a:off x="4896000" y="1668600"/>
            <a:ext cx="3654360" cy="2369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C:\Users\ADMIN\Desktop\15.02-19.02\19.02 пт\images (2).jpg"/>
          <p:cNvPicPr/>
          <p:nvPr/>
        </p:nvPicPr>
        <p:blipFill>
          <a:blip r:embed="rId3"/>
          <a:stretch/>
        </p:blipFill>
        <p:spPr>
          <a:xfrm>
            <a:off x="1871640" y="1982880"/>
            <a:ext cx="1655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900000" y="1773360"/>
            <a:ext cx="2489400" cy="1400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8"/>
          <p:cNvSpPr/>
          <p:nvPr/>
        </p:nvSpPr>
        <p:spPr>
          <a:xfrm>
            <a:off x="2627280" y="465120"/>
            <a:ext cx="465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игр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4954680" y="1682640"/>
            <a:ext cx="1952640" cy="19623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1692360" y="3645000"/>
            <a:ext cx="2236680" cy="19922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5251320" y="3933720"/>
            <a:ext cx="1656000" cy="2030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2" descr=""/>
          <p:cNvPicPr/>
          <p:nvPr/>
        </p:nvPicPr>
        <p:blipFill>
          <a:blip r:embed="rId5"/>
          <a:stretch/>
        </p:blipFill>
        <p:spPr>
          <a:xfrm>
            <a:off x="3454560" y="6206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2" descr=""/>
          <p:cNvPicPr/>
          <p:nvPr/>
        </p:nvPicPr>
        <p:blipFill>
          <a:blip r:embed="rId6"/>
          <a:stretch/>
        </p:blipFill>
        <p:spPr>
          <a:xfrm>
            <a:off x="6084720" y="69048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4643280" y="1492200"/>
            <a:ext cx="2490840" cy="13986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8"/>
          <p:cNvSpPr/>
          <p:nvPr/>
        </p:nvSpPr>
        <p:spPr>
          <a:xfrm>
            <a:off x="2195640" y="306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5850000" y="3375000"/>
            <a:ext cx="1954080" cy="1962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2095560" y="3500280"/>
            <a:ext cx="2236680" cy="1992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1257480" y="1343160"/>
            <a:ext cx="1655640" cy="2031840"/>
          </a:xfrm>
          <a:prstGeom prst="rect">
            <a:avLst/>
          </a:prstGeom>
          <a:ln w="0">
            <a:noFill/>
          </a:ln>
        </p:spPr>
      </p:pic>
      <p:sp>
        <p:nvSpPr>
          <p:cNvPr id="668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2" descr=""/>
          <p:cNvPicPr/>
          <p:nvPr/>
        </p:nvPicPr>
        <p:blipFill>
          <a:blip r:embed="rId5"/>
          <a:stretch/>
        </p:blipFill>
        <p:spPr>
          <a:xfrm>
            <a:off x="3995640" y="542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6"/>
          <a:stretch/>
        </p:blipFill>
        <p:spPr>
          <a:xfrm>
            <a:off x="6012000" y="496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6" descr=""/>
          <p:cNvPicPr/>
          <p:nvPr/>
        </p:nvPicPr>
        <p:blipFill>
          <a:blip r:embed="rId7"/>
          <a:stretch/>
        </p:blipFill>
        <p:spPr>
          <a:xfrm>
            <a:off x="6616800" y="57780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1355760" y="1557360"/>
            <a:ext cx="2490840" cy="1398600"/>
          </a:xfrm>
          <a:prstGeom prst="rect">
            <a:avLst/>
          </a:prstGeom>
          <a:ln w="0">
            <a:noFill/>
          </a:ln>
        </p:spPr>
      </p:pic>
      <p:sp>
        <p:nvSpPr>
          <p:cNvPr id="676" name="TextBox 8"/>
          <p:cNvSpPr/>
          <p:nvPr/>
        </p:nvSpPr>
        <p:spPr>
          <a:xfrm>
            <a:off x="2371680" y="4348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5435640" y="3789360"/>
            <a:ext cx="1954080" cy="1962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1797120" y="4005360"/>
            <a:ext cx="2236680" cy="1992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5584680" y="1389240"/>
            <a:ext cx="1656000" cy="20304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5"/>
          <a:stretch/>
        </p:blipFill>
        <p:spPr>
          <a:xfrm>
            <a:off x="6588000" y="692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" descr=""/>
          <p:cNvPicPr/>
          <p:nvPr/>
        </p:nvPicPr>
        <p:blipFill>
          <a:blip r:embed="rId6"/>
          <a:stretch/>
        </p:blipFill>
        <p:spPr>
          <a:xfrm>
            <a:off x="3846600" y="6033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"/>
          <p:cNvPicPr/>
          <p:nvPr/>
        </p:nvPicPr>
        <p:blipFill>
          <a:blip r:embed="rId7"/>
          <a:stretch/>
        </p:blipFill>
        <p:spPr>
          <a:xfrm>
            <a:off x="5940360" y="6872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4643280" y="1492200"/>
            <a:ext cx="2490840" cy="1398600"/>
          </a:xfrm>
          <a:prstGeom prst="rect">
            <a:avLst/>
          </a:prstGeom>
          <a:ln w="0">
            <a:noFill/>
          </a:ln>
        </p:spPr>
      </p:pic>
      <p:sp>
        <p:nvSpPr>
          <p:cNvPr id="688" name="TextBox 8"/>
          <p:cNvSpPr/>
          <p:nvPr/>
        </p:nvSpPr>
        <p:spPr>
          <a:xfrm>
            <a:off x="2195640" y="306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2023920" y="1413000"/>
            <a:ext cx="1954440" cy="1962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5076720" y="3375000"/>
            <a:ext cx="2235240" cy="19922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2279520" y="3494160"/>
            <a:ext cx="1657440" cy="20304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5"/>
          <a:stretch/>
        </p:blipFill>
        <p:spPr>
          <a:xfrm>
            <a:off x="6381720" y="62064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" descr=""/>
          <p:cNvPicPr/>
          <p:nvPr/>
        </p:nvPicPr>
        <p:blipFill>
          <a:blip r:embed="rId6"/>
          <a:stretch/>
        </p:blipFill>
        <p:spPr>
          <a:xfrm>
            <a:off x="3635280" y="5270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7"/>
          <a:stretch/>
        </p:blipFill>
        <p:spPr>
          <a:xfrm>
            <a:off x="5651640" y="552600"/>
            <a:ext cx="115920" cy="9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1668600" y="3862440"/>
            <a:ext cx="2490480" cy="1400040"/>
          </a:xfrm>
          <a:prstGeom prst="rect">
            <a:avLst/>
          </a:prstGeom>
          <a:ln w="0">
            <a:noFill/>
          </a:ln>
        </p:spPr>
      </p:pic>
      <p:sp>
        <p:nvSpPr>
          <p:cNvPr id="700" name="TextBox 8"/>
          <p:cNvSpPr/>
          <p:nvPr/>
        </p:nvSpPr>
        <p:spPr>
          <a:xfrm>
            <a:off x="2195640" y="306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5850000" y="3375000"/>
            <a:ext cx="1954080" cy="19620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4591080" y="1484280"/>
            <a:ext cx="2236680" cy="19922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1257480" y="1343160"/>
            <a:ext cx="1655640" cy="20318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5"/>
          <a:stretch/>
        </p:blipFill>
        <p:spPr>
          <a:xfrm>
            <a:off x="6372360" y="62064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" descr=""/>
          <p:cNvPicPr/>
          <p:nvPr/>
        </p:nvPicPr>
        <p:blipFill>
          <a:blip r:embed="rId6"/>
          <a:stretch/>
        </p:blipFill>
        <p:spPr>
          <a:xfrm>
            <a:off x="3635280" y="5284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"/>
          <p:cNvPicPr/>
          <p:nvPr/>
        </p:nvPicPr>
        <p:blipFill>
          <a:blip r:embed="rId7"/>
          <a:stretch/>
        </p:blipFill>
        <p:spPr>
          <a:xfrm>
            <a:off x="5708520" y="52236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8" descr="C:\Users\ADMIN\Desktop\15.02-19.02\19.02 пт\скачанные файлы (5).jpg"/>
          <p:cNvPicPr/>
          <p:nvPr/>
        </p:nvPicPr>
        <p:blipFill>
          <a:blip r:embed="rId1"/>
          <a:stretch/>
        </p:blipFill>
        <p:spPr>
          <a:xfrm>
            <a:off x="1668600" y="3862440"/>
            <a:ext cx="2490480" cy="14000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8"/>
          <p:cNvSpPr/>
          <p:nvPr/>
        </p:nvSpPr>
        <p:spPr>
          <a:xfrm>
            <a:off x="2195640" y="306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не ста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5850000" y="3375000"/>
            <a:ext cx="1954080" cy="1962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C:\Users\ADMIN\Desktop\15.02-19.02\19.02 пт\скачанные файлы (7).jpg"/>
          <p:cNvPicPr/>
          <p:nvPr/>
        </p:nvPicPr>
        <p:blipFill>
          <a:blip r:embed="rId3"/>
          <a:stretch/>
        </p:blipFill>
        <p:spPr>
          <a:xfrm>
            <a:off x="4591080" y="1484280"/>
            <a:ext cx="2236680" cy="19922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0" descr="C:\Users\ADMIN\Desktop\15.02-19.02\19.02 пт\images (2).jpg"/>
          <p:cNvPicPr/>
          <p:nvPr/>
        </p:nvPicPr>
        <p:blipFill>
          <a:blip r:embed="rId4"/>
          <a:stretch/>
        </p:blipFill>
        <p:spPr>
          <a:xfrm>
            <a:off x="1257480" y="1343160"/>
            <a:ext cx="1655640" cy="20318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8"/>
          <p:cNvSpPr/>
          <p:nvPr/>
        </p:nvSpPr>
        <p:spPr>
          <a:xfrm>
            <a:off x="2023920" y="553572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ет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5"/>
          <a:stretch/>
        </p:blipFill>
        <p:spPr>
          <a:xfrm>
            <a:off x="6372360" y="62064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" descr=""/>
          <p:cNvPicPr/>
          <p:nvPr/>
        </p:nvPicPr>
        <p:blipFill>
          <a:blip r:embed="rId6"/>
          <a:stretch/>
        </p:blipFill>
        <p:spPr>
          <a:xfrm>
            <a:off x="3635280" y="5284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"/>
          <p:cNvPicPr/>
          <p:nvPr/>
        </p:nvPicPr>
        <p:blipFill>
          <a:blip r:embed="rId7"/>
          <a:stretch/>
        </p:blipFill>
        <p:spPr>
          <a:xfrm>
            <a:off x="5708520" y="52236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6" descr=""/>
          <p:cNvPicPr/>
          <p:nvPr/>
        </p:nvPicPr>
        <p:blipFill>
          <a:blip r:embed="rId5"/>
          <a:stretch/>
        </p:blipFill>
        <p:spPr>
          <a:xfrm>
            <a:off x="412740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680080" y="320976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1"/>
          <p:cNvSpPr/>
          <p:nvPr/>
        </p:nvSpPr>
        <p:spPr>
          <a:xfrm>
            <a:off x="6650280" y="3859200"/>
            <a:ext cx="9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Ф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1" descr=""/>
          <p:cNvPicPr/>
          <p:nvPr/>
        </p:nvPicPr>
        <p:blipFill>
          <a:blip r:embed="rId12"/>
          <a:stretch/>
        </p:blipFill>
        <p:spPr>
          <a:xfrm>
            <a:off x="4049640" y="2421000"/>
            <a:ext cx="1192320" cy="1922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1" descr="C:\Users\ADMIN\Desktop\15.02-19.02\19.02 пт\скачанные файлы (13).jpg"/>
          <p:cNvPicPr/>
          <p:nvPr/>
        </p:nvPicPr>
        <p:blipFill>
          <a:blip r:embed="rId13"/>
          <a:stretch/>
        </p:blipFill>
        <p:spPr>
          <a:xfrm>
            <a:off x="808200" y="2852640"/>
            <a:ext cx="272088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639720" y="1658880"/>
            <a:ext cx="24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2987640" y="2060640"/>
            <a:ext cx="28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3" descr=""/>
          <p:cNvPicPr/>
          <p:nvPr/>
        </p:nvPicPr>
        <p:blipFill>
          <a:blip r:embed="rId4"/>
          <a:stretch/>
        </p:blipFill>
        <p:spPr>
          <a:xfrm>
            <a:off x="4297320" y="20606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3" name="TextBox 8"/>
          <p:cNvSpPr/>
          <p:nvPr/>
        </p:nvSpPr>
        <p:spPr>
          <a:xfrm>
            <a:off x="6593040" y="1566720"/>
            <a:ext cx="223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1" descr=""/>
          <p:cNvPicPr/>
          <p:nvPr/>
        </p:nvPicPr>
        <p:blipFill>
          <a:blip r:embed="rId5"/>
          <a:stretch/>
        </p:blipFill>
        <p:spPr>
          <a:xfrm>
            <a:off x="3798720" y="3284640"/>
            <a:ext cx="1190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"/>
          <p:cNvPicPr/>
          <p:nvPr/>
        </p:nvPicPr>
        <p:blipFill>
          <a:blip r:embed="rId2"/>
          <a:stretch/>
        </p:blipFill>
        <p:spPr>
          <a:xfrm>
            <a:off x="4883040" y="68112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2" descr=""/>
          <p:cNvPicPr/>
          <p:nvPr/>
        </p:nvPicPr>
        <p:blipFill>
          <a:blip r:embed="rId3"/>
          <a:stretch/>
        </p:blipFill>
        <p:spPr>
          <a:xfrm>
            <a:off x="7580160" y="674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6" descr=""/>
          <p:cNvPicPr/>
          <p:nvPr/>
        </p:nvPicPr>
        <p:blipFill>
          <a:blip r:embed="rId4"/>
          <a:stretch/>
        </p:blipFill>
        <p:spPr>
          <a:xfrm>
            <a:off x="6732720" y="781200"/>
            <a:ext cx="218880" cy="237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8"/>
          <p:cNvSpPr/>
          <p:nvPr/>
        </p:nvSpPr>
        <p:spPr>
          <a:xfrm>
            <a:off x="765000" y="177336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917640" y="2781360"/>
            <a:ext cx="329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971640" y="371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971640" y="4724280"/>
            <a:ext cx="391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6" descr=""/>
          <p:cNvPicPr/>
          <p:nvPr/>
        </p:nvPicPr>
        <p:blipFill>
          <a:blip r:embed="rId5"/>
          <a:stretch/>
        </p:blipFill>
        <p:spPr>
          <a:xfrm>
            <a:off x="1476360" y="2924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2" descr=""/>
          <p:cNvPicPr/>
          <p:nvPr/>
        </p:nvPicPr>
        <p:blipFill>
          <a:blip r:embed="rId6"/>
          <a:stretch/>
        </p:blipFill>
        <p:spPr>
          <a:xfrm>
            <a:off x="2868480" y="281952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2" descr=""/>
          <p:cNvPicPr/>
          <p:nvPr/>
        </p:nvPicPr>
        <p:blipFill>
          <a:blip r:embed="rId7"/>
          <a:stretch/>
        </p:blipFill>
        <p:spPr>
          <a:xfrm>
            <a:off x="3305160" y="47480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3059280" y="5346720"/>
            <a:ext cx="38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C:\Users\ADMIN\Desktop\15.02-19.02\19.02 пт\скачанные файлы (7).jpg"/>
          <p:cNvPicPr/>
          <p:nvPr/>
        </p:nvPicPr>
        <p:blipFill>
          <a:blip r:embed="rId1"/>
          <a:stretch/>
        </p:blipFill>
        <p:spPr>
          <a:xfrm>
            <a:off x="3198960" y="434880"/>
            <a:ext cx="5381640" cy="4792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6" descr=""/>
          <p:cNvPicPr/>
          <p:nvPr/>
        </p:nvPicPr>
        <p:blipFill>
          <a:blip r:embed="rId2"/>
          <a:stretch/>
        </p:blipFill>
        <p:spPr>
          <a:xfrm>
            <a:off x="4067280" y="54450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3"/>
          <a:stretch/>
        </p:blipFill>
        <p:spPr>
          <a:xfrm>
            <a:off x="3348000" y="534672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8"/>
          <p:cNvSpPr/>
          <p:nvPr/>
        </p:nvSpPr>
        <p:spPr>
          <a:xfrm>
            <a:off x="777960" y="540216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2" descr=""/>
          <p:cNvPicPr/>
          <p:nvPr/>
        </p:nvPicPr>
        <p:blipFill>
          <a:blip r:embed="rId1"/>
          <a:stretch/>
        </p:blipFill>
        <p:spPr>
          <a:xfrm>
            <a:off x="2916360" y="538020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C:\Users\ADMIN\Desktop\15.02-19.02\19.02 пт\скачанные файлы (5).jpg"/>
          <p:cNvPicPr/>
          <p:nvPr/>
        </p:nvPicPr>
        <p:blipFill>
          <a:blip r:embed="rId2"/>
          <a:stretch/>
        </p:blipFill>
        <p:spPr>
          <a:xfrm>
            <a:off x="744480" y="1844640"/>
            <a:ext cx="3489480" cy="19605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C:\Users\ADMIN\Desktop\15.02-19.02\19.02 пт\скачанные файлы (6).jpg"/>
          <p:cNvPicPr/>
          <p:nvPr/>
        </p:nvPicPr>
        <p:blipFill>
          <a:blip r:embed="rId3"/>
          <a:stretch/>
        </p:blipFill>
        <p:spPr>
          <a:xfrm>
            <a:off x="5076720" y="2822400"/>
            <a:ext cx="3159360" cy="19447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C:\Users\ADMIN\Desktop\15.02-19.02\19.02 пт\скачанные файлы (6).jpg"/>
          <p:cNvPicPr/>
          <p:nvPr/>
        </p:nvPicPr>
        <p:blipFill>
          <a:blip r:embed="rId4"/>
          <a:stretch/>
        </p:blipFill>
        <p:spPr>
          <a:xfrm>
            <a:off x="5076720" y="882720"/>
            <a:ext cx="3159360" cy="19447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8"/>
          <p:cNvSpPr/>
          <p:nvPr/>
        </p:nvSpPr>
        <p:spPr>
          <a:xfrm>
            <a:off x="5043600" y="5554800"/>
            <a:ext cx="37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2" descr=""/>
          <p:cNvPicPr/>
          <p:nvPr/>
        </p:nvPicPr>
        <p:blipFill>
          <a:blip r:embed="rId5"/>
          <a:stretch/>
        </p:blipFill>
        <p:spPr>
          <a:xfrm>
            <a:off x="7164360" y="556272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6" descr=""/>
          <p:cNvPicPr/>
          <p:nvPr/>
        </p:nvPicPr>
        <p:blipFill>
          <a:blip r:embed="rId6"/>
          <a:stretch/>
        </p:blipFill>
        <p:spPr>
          <a:xfrm>
            <a:off x="1476360" y="553068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6" descr=""/>
          <p:cNvPicPr/>
          <p:nvPr/>
        </p:nvPicPr>
        <p:blipFill>
          <a:blip r:embed="rId7"/>
          <a:stretch/>
        </p:blipFill>
        <p:spPr>
          <a:xfrm>
            <a:off x="5724360" y="5668920"/>
            <a:ext cx="21924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900000" y="501480"/>
            <a:ext cx="75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любишь конфет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2" descr=""/>
          <p:cNvPicPr/>
          <p:nvPr/>
        </p:nvPicPr>
        <p:blipFill>
          <a:blip r:embed="rId1"/>
          <a:stretch/>
        </p:blipFill>
        <p:spPr>
          <a:xfrm>
            <a:off x="2919240" y="728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C:\Users\ADMIN\Desktop\15.02-19.02\19.02 пт\скачанные файлы (6).jpg"/>
          <p:cNvPicPr/>
          <p:nvPr/>
        </p:nvPicPr>
        <p:blipFill>
          <a:blip r:embed="rId2"/>
          <a:stretch/>
        </p:blipFill>
        <p:spPr>
          <a:xfrm>
            <a:off x="2703600" y="2492280"/>
            <a:ext cx="3160800" cy="1944720"/>
          </a:xfrm>
          <a:prstGeom prst="rect">
            <a:avLst/>
          </a:prstGeom>
          <a:ln w="0">
            <a:noFill/>
          </a:ln>
        </p:spPr>
      </p:pic>
      <p:sp>
        <p:nvSpPr>
          <p:cNvPr id="615" name="TextBox 8"/>
          <p:cNvSpPr/>
          <p:nvPr/>
        </p:nvSpPr>
        <p:spPr>
          <a:xfrm>
            <a:off x="1116000" y="556272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юбл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2" descr=""/>
          <p:cNvPicPr/>
          <p:nvPr/>
        </p:nvPicPr>
        <p:blipFill>
          <a:blip r:embed="rId3"/>
          <a:stretch/>
        </p:blipFill>
        <p:spPr>
          <a:xfrm>
            <a:off x="6145200" y="57135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6" descr=""/>
          <p:cNvPicPr/>
          <p:nvPr/>
        </p:nvPicPr>
        <p:blipFill>
          <a:blip r:embed="rId4"/>
          <a:stretch/>
        </p:blipFill>
        <p:spPr>
          <a:xfrm>
            <a:off x="5473800" y="7732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2" descr=""/>
          <p:cNvPicPr/>
          <p:nvPr/>
        </p:nvPicPr>
        <p:blipFill>
          <a:blip r:embed="rId5"/>
          <a:stretch/>
        </p:blipFill>
        <p:spPr>
          <a:xfrm>
            <a:off x="6732720" y="72720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2" descr=""/>
          <p:cNvPicPr/>
          <p:nvPr/>
        </p:nvPicPr>
        <p:blipFill>
          <a:blip r:embed="rId6"/>
          <a:stretch/>
        </p:blipFill>
        <p:spPr>
          <a:xfrm>
            <a:off x="3924360" y="5719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6" descr=""/>
          <p:cNvPicPr/>
          <p:nvPr/>
        </p:nvPicPr>
        <p:blipFill>
          <a:blip r:embed="rId7"/>
          <a:stretch/>
        </p:blipFill>
        <p:spPr>
          <a:xfrm>
            <a:off x="4933800" y="5721480"/>
            <a:ext cx="219240" cy="23760"/>
          </a:xfrm>
          <a:prstGeom prst="rect">
            <a:avLst/>
          </a:prstGeom>
          <a:ln w="0">
            <a:noFill/>
          </a:ln>
        </p:spPr>
      </p:pic>
      <p:sp>
        <p:nvSpPr>
          <p:cNvPr id="621" name="TextBox 8"/>
          <p:cNvSpPr/>
          <p:nvPr/>
        </p:nvSpPr>
        <p:spPr>
          <a:xfrm>
            <a:off x="4284720" y="5546880"/>
            <a:ext cx="39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т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971640" y="515952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0" descr=""/>
          <p:cNvPicPr/>
          <p:nvPr/>
        </p:nvPicPr>
        <p:blipFill>
          <a:blip r:embed="rId1"/>
          <a:stretch/>
        </p:blipFill>
        <p:spPr>
          <a:xfrm>
            <a:off x="7451640" y="52293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C:\Users\ADMIN\Desktop\15.02-19.02\19.02 пт\скачанные файлы (2).jpg"/>
          <p:cNvPicPr/>
          <p:nvPr/>
        </p:nvPicPr>
        <p:blipFill>
          <a:blip r:embed="rId2"/>
          <a:stretch/>
        </p:blipFill>
        <p:spPr>
          <a:xfrm>
            <a:off x="971640" y="1687680"/>
            <a:ext cx="2644560" cy="2657160"/>
          </a:xfrm>
          <a:prstGeom prst="rect">
            <a:avLst/>
          </a:prstGeom>
          <a:ln w="0">
            <a:noFill/>
          </a:ln>
        </p:spPr>
      </p:pic>
      <p:sp>
        <p:nvSpPr>
          <p:cNvPr id="628" name="TextBox 8"/>
          <p:cNvSpPr/>
          <p:nvPr/>
        </p:nvSpPr>
        <p:spPr>
          <a:xfrm>
            <a:off x="5199120" y="517536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9" descr="C:\Users\ADMIN\Desktop\15.02-19.02\19.02 пт\скачанные файлы (3).jpg"/>
          <p:cNvPicPr/>
          <p:nvPr/>
        </p:nvPicPr>
        <p:blipFill>
          <a:blip r:embed="rId3"/>
          <a:stretch/>
        </p:blipFill>
        <p:spPr>
          <a:xfrm>
            <a:off x="4448160" y="638280"/>
            <a:ext cx="3870360" cy="2520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0" descr="C:\Users\ADMIN\Desktop\15.02-19.02\19.02 пт\скачанные файлы (1).jpg"/>
          <p:cNvPicPr/>
          <p:nvPr/>
        </p:nvPicPr>
        <p:blipFill>
          <a:blip r:embed="rId4"/>
          <a:stretch/>
        </p:blipFill>
        <p:spPr>
          <a:xfrm>
            <a:off x="5199120" y="301608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3"/>
          <p:cNvSpPr/>
          <p:nvPr/>
        </p:nvSpPr>
        <p:spPr>
          <a:xfrm>
            <a:off x="1763640" y="276120"/>
            <a:ext cx="596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игр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3206880" y="4651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"/>
          <p:cNvPicPr/>
          <p:nvPr/>
        </p:nvPicPr>
        <p:blipFill>
          <a:blip r:embed="rId2"/>
          <a:stretch/>
        </p:blipFill>
        <p:spPr>
          <a:xfrm>
            <a:off x="5878440" y="46512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3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8"/>
          <p:cNvSpPr/>
          <p:nvPr/>
        </p:nvSpPr>
        <p:spPr>
          <a:xfrm>
            <a:off x="2340000" y="112536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й шарф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612720" y="1989000"/>
            <a:ext cx="596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ей шарф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й шарф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й мне шарф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. Возь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асиб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3"/>
          <a:stretch/>
        </p:blipFill>
        <p:spPr>
          <a:xfrm>
            <a:off x="2627280" y="4724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4"/>
          <a:stretch/>
        </p:blipFill>
        <p:spPr>
          <a:xfrm>
            <a:off x="3213000" y="558972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"/>
          <p:cNvPicPr/>
          <p:nvPr/>
        </p:nvPicPr>
        <p:blipFill>
          <a:blip r:embed="rId5"/>
          <a:stretch/>
        </p:blipFill>
        <p:spPr>
          <a:xfrm>
            <a:off x="4211640" y="46782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6"/>
          <a:stretch/>
        </p:blipFill>
        <p:spPr>
          <a:xfrm>
            <a:off x="2627280" y="549756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20:01Z</dcterms:modified>
  <cp:revision>92</cp:revision>
  <dc:subject/>
  <dc:title>Загадки о лесе</dc:title>
</cp:coreProperties>
</file>