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667-7F3F-4E11-A391-FE711868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18E-37B9-467A-9CB6-A62ED36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F3615-0A9E-42CD-926B-B2C51643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32C58-E45D-49C2-A2FE-CEE3D54C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8ECA3-A80E-4EEC-9598-FF7C786E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7FCE2-B134-4F57-A74B-62327B4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DE3F-69C6-47C8-8269-9C1E9E3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0FADF-ACED-4DA9-888E-B944B66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4D2A-71C0-4AF5-8D46-3CB8C7D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19470-850C-4405-8370-83B5C6EB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565C4-3562-4AA0-9311-5C08FB99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8642B-11E6-48F8-BAEE-063FDEED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885-0B22-491C-8907-C7E511BB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140FC-9710-413C-B2C0-BA332E0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17E2C-1455-4A6B-815B-D6E81296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5B1E5-0EDA-4FF0-9764-8BED6644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02FDA-18E3-41C1-96FF-F002E4D3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A6471-379C-4DCF-BA0C-E81C7F97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EB424-F430-46C3-8E5A-BF29AF9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C3A5B-E598-41F2-BADB-0E3FA43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4BCF8-C5EB-476A-AB38-6AA192E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D0CDA-B925-4E91-998E-638D6E5A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ECAD3-9608-4FC7-950D-339F97CE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AC6-8251-4EAB-B38D-3A5FB46F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284D2-7409-4CF8-AF84-E44A7A01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D2B03-5225-4235-B067-2E7E111F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BE4A-E465-4CC2-B0DD-20E3317F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BA6A6-CE63-40C2-8DF8-EF76F1DB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C7A5C-F848-4161-95BF-A4BD751E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D812-DE26-4C45-8797-46785E7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534CA-D0B0-4F4A-B1D6-CCAADABC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E80A-9335-401B-AF9D-1B7CDF9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8EA58-9301-4836-B537-C0F0D88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2BEB7-824D-49DD-AFD9-14934CD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0FF5-DBB2-42D7-AD2C-7DAA9104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57403-B84B-4F76-ACC2-4EB433F4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A7DA-3998-4C8E-92EA-D5F6B87D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5D4FA-C8DE-44EC-B37D-EC825247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EDE1A-C0DA-458A-9EEA-1425EC76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DB653-EED5-456E-B693-D8591CE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77F8F-D494-44C7-9253-1E553DA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72CA2-008C-46DF-8CF2-7CEE4BDC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7CF25-6D9D-4537-9908-65EAD35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94D43-1CFC-4468-8AE4-0E2E139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F587E-E06F-46E6-81BE-E4A99D7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B95-035A-40EF-B19E-5976A9B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BC579-3A9F-4550-8FDD-C442220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70E17-0D62-4E6D-B7A6-05488A1D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468F7-2CA1-4A3E-B412-79E99EE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3CC29-6374-4584-A829-877897B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71263-2502-441F-B7A0-5BBCB742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3570-DFDC-4A77-908D-7F5EEC4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F095-63EF-4FEF-A1DB-DA59334A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28DE-CCFF-4E96-8BCB-ECA0BA6D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F09D-190A-4E2B-B069-E9C4173E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EBD9-DCDA-4D54-9B10-5078E15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5CF-0B75-4DFD-8896-A6B9051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6D9-2453-48E7-8453-32D846D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86B1-781E-41D1-B97C-5E382255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C7E0-8EDD-4731-96EE-BE24CE9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9D1F-1FD6-4AF3-A6A8-33D47649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6139-1BA9-4B41-B39B-08516D52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2CC3-B3D1-413F-92E0-7960FF48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BB57-F174-4923-8FED-82794FE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07D7-DAB5-4F26-BD21-C0CE8FE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A7D0-F5A9-4BF1-BDCA-D9F4245B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6D78-77C7-435B-9536-8C74EBE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AB7-89CB-49A0-AF5B-8FF1759E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3D1B-F6CC-4A0F-B1C9-7FD3B2C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7F75-7436-4B82-A4BC-F102F67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3B96-85BB-4F3E-83EB-03FB0B2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3068-6D25-4FA6-ACCE-D8502EA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FCBD-3AC3-4017-8012-5C096B73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9C33-8C7A-40C2-815E-65166DA6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642E-12DF-4D5C-AC99-139C2299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9CC9-F460-4AA5-BEE2-8B4CB9A8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4B82-0528-4B3C-869B-C19F4D9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72D6-2C7D-444E-96FF-9E7E2D6D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B72-8060-4090-92B0-7C0F7B87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2E41-6B7C-4E16-A8FA-3B1793FD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2F81-D73F-4099-87EA-40ECA15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37D0-5DCE-4D39-8D4E-5F3F3CC7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E64F-0956-47E4-986A-C5983D44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8CFA-00A0-4D3D-B954-64A0F01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84F2-30C6-4C64-9CB2-B9365EE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A669-D476-4E26-AF93-B536A9A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0A60-8590-44F0-A006-A5F7A7E9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4D8B-FB90-43E8-B1A5-15BCA4CB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8D72-2487-49C1-863C-9F50A2E9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D07-74FC-43E5-A402-9E6DD53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5F15-E97C-4C34-9B78-EA239465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0FDE-2C04-4193-9366-00183692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3AE9-7B5C-404A-BC56-A1D33EA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5754B-94F3-4EDD-8AC7-3451E4E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16AD-CBDF-48A8-B502-2FC14DDE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2E2D-ED32-44F3-856C-74826B9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3E84-AFA3-4C88-A79D-3A27E80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0D0AE-A925-4E41-A339-C1A424B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3E420-0894-4645-8A19-54EB9B6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6EF3-F579-4DEA-A316-C8F95C34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374-28F4-44F3-B480-BA5B93DB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FCF8-97A1-46CC-A16D-17F6B5EC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B967-85A2-4200-B88B-85612364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F819D-5B4B-425C-A35C-D7F78451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02370-E4E0-4CCA-BF0F-241D2A54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69B7A-B819-454B-9813-CAF48BE1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199D-2224-408A-B37F-D0326F82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DB58-132E-4CF4-A701-4F103572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DDAD8-CB5C-4065-A334-EA582FA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E5FB-B403-40AC-B84F-42AF3EB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90C88-F415-4D1D-9942-554A84B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C05-2763-47F1-936F-7EACD9F9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1B344-6049-42A7-BD80-731A7580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E18B-B944-433D-B475-49ADA77B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E21E-719E-47E1-B7DB-CA4E3A9F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9700-FA89-4D85-B67E-FDD8DD78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E91A-5A32-4564-9BDE-5F40D93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A932-9F22-476C-A55E-4A7777A9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EB2EB-09AA-4605-B196-FF45D6C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FFAC-0F1D-4042-A473-4139B064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2F97-5711-401A-85C2-E3FB733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D4685-1FEE-4596-B45E-1E24BB5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1F3-DC28-4097-B393-8A9D3D2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D6C9-54A9-40C6-8626-7AC601FF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B0C29-2A46-4A2F-82DE-48F731E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F6FA-C241-4934-9C39-B1F90A1D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85D9-2ECC-4BA0-95A0-AF190F26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90B6-5B09-44FB-8FC5-51E6761B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83264-47E7-4CAC-9B5B-C44719A0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52FEE-24BC-4B42-8924-C2BE0699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C1FD-F3C6-4555-A67C-D32381EA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F841-332E-447B-BD87-6050CF2D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9F47-D705-46E8-B2B1-31D4128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C61-B0E9-4FE7-900A-B0A2D22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F196-D312-438C-9832-6B5A40E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A7F89-D61F-418C-8313-7DF6225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865FC-E4E6-4F72-BF21-44652BC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1652F-2255-4F35-9347-BCB91D22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A1B33-0C69-420E-BADE-C3DC374B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DA7F9-CD0A-4D06-A386-7C1D536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1C3A-2048-42F5-9A27-350DBF1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58F6C-994F-45DA-9500-08E40CF6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16FD0-7AF8-4B50-9B7C-F16AAD4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61250-348D-4093-8B30-F21BFE1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46B4BD-230C-4AE3-9CC3-32EE715F362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9A9C12-27B8-4BCB-8FAC-F7EAF09F4D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9DB2F9-25C0-4A72-95BC-66C05AE214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B55B3E-69C9-4A6F-AFFA-E75EFD7598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98785D-BB40-4EBD-AB84-7429164D59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255F50-AB61-4EE2-B632-F328B30D43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19E42A-C4DC-4BC6-8933-0C2F4EEDB1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501762-F0C4-4994-8F11-C4E5551DC9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CB04F8-5F15-4842-A97F-8AD2FE31D2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C2862C-1E4D-4580-8380-8404CF5C9B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804C62-5B1A-4972-82C2-D0EC803CAB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874FC0-18F3-4EF9-9DED-971FDB5FF0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29320" y="3448080"/>
            <a:ext cx="2925720" cy="23446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1"/>
          <p:cNvSpPr/>
          <p:nvPr/>
        </p:nvSpPr>
        <p:spPr>
          <a:xfrm>
            <a:off x="6650640" y="422424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[Н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2" descr=""/>
          <p:cNvPicPr/>
          <p:nvPr/>
        </p:nvPicPr>
        <p:blipFill>
          <a:blip r:embed="rId12"/>
          <a:stretch/>
        </p:blipFill>
        <p:spPr>
          <a:xfrm>
            <a:off x="3909960" y="2435400"/>
            <a:ext cx="1631880" cy="219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3" descr=""/>
          <p:cNvPicPr/>
          <p:nvPr/>
        </p:nvPicPr>
        <p:blipFill>
          <a:blip r:embed="rId13"/>
          <a:stretch/>
        </p:blipFill>
        <p:spPr>
          <a:xfrm>
            <a:off x="612720" y="3822840"/>
            <a:ext cx="2316240" cy="161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4" descr="C:\Users\ADMIN\Desktop\ТЕЛО ЧЕЛОВЕКА\скачанные файлы.jpg"/>
          <p:cNvPicPr/>
          <p:nvPr/>
        </p:nvPicPr>
        <p:blipFill>
          <a:blip r:embed="rId14"/>
          <a:stretch/>
        </p:blipFill>
        <p:spPr>
          <a:xfrm>
            <a:off x="7176960" y="1557360"/>
            <a:ext cx="1027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838080" y="1793880"/>
            <a:ext cx="1793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"/>
          <p:cNvSpPr/>
          <p:nvPr/>
        </p:nvSpPr>
        <p:spPr>
          <a:xfrm>
            <a:off x="6620040" y="1793880"/>
            <a:ext cx="1793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3184560" y="345924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3" descr=""/>
          <p:cNvPicPr/>
          <p:nvPr/>
        </p:nvPicPr>
        <p:blipFill>
          <a:blip r:embed="rId4"/>
          <a:stretch/>
        </p:blipFill>
        <p:spPr>
          <a:xfrm>
            <a:off x="4552920" y="34592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1" descr="C:\Users\ADMIN\Desktop\ТЕЛО ЧЕЛОВЕКА\images (7).jpg"/>
          <p:cNvPicPr/>
          <p:nvPr/>
        </p:nvPicPr>
        <p:blipFill>
          <a:blip r:embed="rId1"/>
          <a:stretch/>
        </p:blipFill>
        <p:spPr>
          <a:xfrm>
            <a:off x="5661000" y="3797280"/>
            <a:ext cx="2711520" cy="271152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2195640" y="5857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3"/>
          <a:stretch/>
        </p:blipFill>
        <p:spPr>
          <a:xfrm>
            <a:off x="421164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1" name="TextBox 2"/>
          <p:cNvSpPr/>
          <p:nvPr/>
        </p:nvSpPr>
        <p:spPr>
          <a:xfrm>
            <a:off x="2362320" y="4508640"/>
            <a:ext cx="31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  <a:ea typeface="Arial"/>
              </a:rPr>
              <a:t>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3166920" y="2674800"/>
            <a:ext cx="17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4"/>
          <a:stretch/>
        </p:blipFill>
        <p:spPr>
          <a:xfrm>
            <a:off x="7711920" y="35560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5397480" y="3490920"/>
            <a:ext cx="32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Р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5"/>
          <a:stretch/>
        </p:blipFill>
        <p:spPr>
          <a:xfrm>
            <a:off x="1116000" y="3297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8"/>
          <p:cNvSpPr/>
          <p:nvPr/>
        </p:nvSpPr>
        <p:spPr>
          <a:xfrm>
            <a:off x="423720" y="3274920"/>
            <a:ext cx="213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5" descr=""/>
          <p:cNvPicPr/>
          <p:nvPr/>
        </p:nvPicPr>
        <p:blipFill>
          <a:blip r:embed="rId6"/>
          <a:stretch/>
        </p:blipFill>
        <p:spPr>
          <a:xfrm>
            <a:off x="7596360" y="60012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6" descr=""/>
          <p:cNvPicPr/>
          <p:nvPr/>
        </p:nvPicPr>
        <p:blipFill>
          <a:blip r:embed="rId7"/>
          <a:stretch/>
        </p:blipFill>
        <p:spPr>
          <a:xfrm>
            <a:off x="6659640" y="6825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C:\Users\ADMIN\Desktop\ТЕЛО ЧЕЛОВЕКА\nos.jpg"/>
          <p:cNvPicPr/>
          <p:nvPr/>
        </p:nvPicPr>
        <p:blipFill>
          <a:blip r:embed="rId8"/>
          <a:stretch/>
        </p:blipFill>
        <p:spPr>
          <a:xfrm>
            <a:off x="3398760" y="1927080"/>
            <a:ext cx="1546200" cy="708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C:\Users\ADMIN\Desktop\ТЕЛО ЧЕЛОВЕКА\images (6).jpg"/>
          <p:cNvPicPr/>
          <p:nvPr/>
        </p:nvPicPr>
        <p:blipFill>
          <a:blip r:embed="rId9"/>
          <a:stretch/>
        </p:blipFill>
        <p:spPr>
          <a:xfrm>
            <a:off x="784080" y="3989520"/>
            <a:ext cx="1414440" cy="23270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2" descr=""/>
          <p:cNvPicPr/>
          <p:nvPr/>
        </p:nvPicPr>
        <p:blipFill>
          <a:blip r:embed="rId10"/>
          <a:stretch/>
        </p:blipFill>
        <p:spPr>
          <a:xfrm>
            <a:off x="5994360" y="361476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3" descr=""/>
          <p:cNvPicPr/>
          <p:nvPr/>
        </p:nvPicPr>
        <p:blipFill>
          <a:blip r:embed="rId11"/>
          <a:stretch/>
        </p:blipFill>
        <p:spPr>
          <a:xfrm>
            <a:off x="6799320" y="36036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4" descr=""/>
          <p:cNvPicPr/>
          <p:nvPr/>
        </p:nvPicPr>
        <p:blipFill>
          <a:blip r:embed="rId12"/>
          <a:stretch/>
        </p:blipFill>
        <p:spPr>
          <a:xfrm>
            <a:off x="3805200" y="465300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5" descr=""/>
          <p:cNvPicPr/>
          <p:nvPr/>
        </p:nvPicPr>
        <p:blipFill>
          <a:blip r:embed="rId13"/>
          <a:stretch/>
        </p:blipFill>
        <p:spPr>
          <a:xfrm>
            <a:off x="4925880" y="451152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исать буквы 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"/>
          <p:cNvPicPr/>
          <p:nvPr/>
        </p:nvPicPr>
        <p:blipFill>
          <a:blip r:embed="rId1"/>
          <a:stretch/>
        </p:blipFill>
        <p:spPr>
          <a:xfrm>
            <a:off x="1739880" y="6667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"/>
          <p:cNvPicPr/>
          <p:nvPr/>
        </p:nvPicPr>
        <p:blipFill>
          <a:blip r:embed="rId2"/>
          <a:stretch/>
        </p:blipFill>
        <p:spPr>
          <a:xfrm>
            <a:off x="4500720" y="668160"/>
            <a:ext cx="115560" cy="9216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1104840" y="5183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Ы 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1" descr=""/>
          <p:cNvPicPr/>
          <p:nvPr/>
        </p:nvPicPr>
        <p:blipFill>
          <a:blip r:embed="rId3"/>
          <a:stretch/>
        </p:blipFill>
        <p:spPr>
          <a:xfrm>
            <a:off x="4784760" y="52005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3" descr=""/>
          <p:cNvPicPr/>
          <p:nvPr/>
        </p:nvPicPr>
        <p:blipFill>
          <a:blip r:embed="rId4"/>
          <a:stretch/>
        </p:blipFill>
        <p:spPr>
          <a:xfrm>
            <a:off x="1739880" y="5183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2" descr=""/>
          <p:cNvPicPr/>
          <p:nvPr/>
        </p:nvPicPr>
        <p:blipFill>
          <a:blip r:embed="rId5"/>
          <a:stretch/>
        </p:blipFill>
        <p:spPr>
          <a:xfrm>
            <a:off x="6573960" y="4005360"/>
            <a:ext cx="1630080" cy="2192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3" descr=""/>
          <p:cNvPicPr/>
          <p:nvPr/>
        </p:nvPicPr>
        <p:blipFill>
          <a:blip r:embed="rId6"/>
          <a:stretch/>
        </p:blipFill>
        <p:spPr>
          <a:xfrm>
            <a:off x="1120680" y="1936800"/>
            <a:ext cx="4032360" cy="2805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4" descr="C:\Users\ADMIN\Desktop\ТЕЛО ЧЕЛОВЕКА\скачанные файлы.jpg"/>
          <p:cNvPicPr/>
          <p:nvPr/>
        </p:nvPicPr>
        <p:blipFill>
          <a:blip r:embed="rId7"/>
          <a:stretch/>
        </p:blipFill>
        <p:spPr>
          <a:xfrm>
            <a:off x="6184800" y="1936800"/>
            <a:ext cx="1771920" cy="1847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8"/>
          <a:stretch/>
        </p:blipFill>
        <p:spPr>
          <a:xfrm>
            <a:off x="6012000" y="7142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33:12Z</dcterms:modified>
  <cp:revision>68</cp:revision>
  <dc:subject/>
  <dc:title>Загадки о лесе</dc:title>
</cp:coreProperties>
</file>