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wmf" ContentType="image/x-wmf"/>
  <Override PartName="/ppt/media/image11.jpeg" ContentType="image/jpeg"/>
  <Override PartName="/ppt/media/image8.wmf" ContentType="image/x-wmf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B6FD-5ED0-4FCC-810A-F8C6DE9F7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C201-D5C9-47F6-AEA9-E9A08896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5FDFE-B7DF-47B4-A45B-E90CCE41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DAE44-8918-45C5-ADA3-517D6F59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A537E1-9D6E-42E6-AD1E-FE1C556E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1A3CB-200E-491C-A82A-0FDE163D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ABC09-111B-4C83-84BA-CEAEAA60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861EE1-4167-4B1E-8C70-D2CA52E3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B01B9-11BA-448A-B35C-0B1BC848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890C6-BFEF-48BA-8624-D89363CD1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9D8DA-3E91-4E39-9349-2F0A15CA5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CD274-2B60-4008-AD80-8B26CFD5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68BD-B216-47AD-A46B-264949EAC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46D8F2-C9FF-4179-B670-85805A5B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EA3DA-6B16-4C11-B3D5-4641EFF2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9E94C-8192-4DF9-BDF5-4A133058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B2B22-8BC0-4DBC-BE82-08284744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629CE-3DD6-4629-AEF8-F61E9F33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E96759-2D75-45E1-8CFA-CF847484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11FC35-3D00-4AD3-8E31-E694FEC3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B34DE0-C04A-4BC2-BF9B-D1610D7D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71770-C509-4C5F-BAF0-D27B78BD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12D0A-4935-4927-AABA-0C5FB302B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C43B-0481-41F3-8332-1A0ACE05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4BF5A-3F2B-4794-9B14-78153E21F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207B4-7A36-41DC-91F2-1AD52910A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2587C-09ED-4088-A92E-90750B51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6850C-07BD-49A2-A280-7F1613BB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9DD6B-9A26-4C69-9E0A-C304349F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DD063-BA27-462D-95EC-5F194B58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F95E6-2B94-4ED1-B487-F4791355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3671B-358A-4705-8746-AAE2617B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4CEA0-41AE-4C93-83EA-15005273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CD592-78BC-43F1-9F51-E5E352E2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535E-ED5A-4A96-AB4C-7CC9B6318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B2F82-0641-4943-B51E-B4AD9B78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D39BA-E7D3-4C44-97E4-9B5E4482F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E3A61-5481-405B-A6A6-FAF99813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A72B4-2BCC-44F1-B93D-81EF2C45C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0842A9-BCCB-4548-A493-61922057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65F13-D7ED-4827-A29A-BA656C76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93BE04-BFF8-4BE3-9227-F439A6E6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73DE3-B2A5-4436-9ABC-EF9858F4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B3EE01-F99C-40B7-BEEF-1E3D0F4E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B6C3BE-6C06-420C-94A6-B9CF24D3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FF70-148F-4452-8AF2-06EBF05C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308880-35D7-4D06-A863-B76C20C8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3F49F4-0F0A-450B-90CC-4C2FC8AD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51A122-B14C-486B-91DE-D49A6ADF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0CF84F-D56D-4F5E-8367-C5B53CC7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F38686-794C-45CE-A9C5-D73C9177A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3DBA-A378-4058-BEF6-A576585E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966F-7065-4024-8EE1-2055FCF2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64C8-12B7-496F-B3F8-9D45BE28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216B-3B1D-4B2A-9AB1-53F372D5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5F8E-3F24-4AAE-B7BC-2EB52570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F72A-C5AA-4C58-A2FA-117F424E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B50A-DAE7-4D33-8BE6-EABF89FB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F6D8-0BDF-4FB2-B07B-6BFE5CB6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C28D-4F6E-4067-94AB-49C344D4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D7B6-8FAF-4046-B322-9D7793445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320E-4000-49BB-9D84-6BF23C559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23517-C603-4291-83A4-2FCA1E861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63B24-422A-4407-AEBC-1BE9EB53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1FC45-BB29-4413-9F3B-E5345D7C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698A4-B476-4E68-B92C-1D5C4393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AD1AC-5DD4-46CE-A507-92069188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78BD-EE1F-48E6-8894-FD7952A3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A5A6F-78BC-47C0-B4F3-B8507233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82F1E-FA9D-4A08-AC4D-F9C0E392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1C5F3-7C5A-4EB9-AEC2-267EC167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38584-D388-47E0-9CA1-1F0D1CBA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30D85-090A-4E4C-9066-AC614E82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5BF4A-DA54-4D99-8071-BF53E6AB6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4B452-3B79-4683-AAD1-73B09B2F7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5ED64-EEC1-4CFF-B9E8-2C711D6E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03F0C-3673-425F-B543-24C983AC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52ED5-2ED8-4431-B6B1-FF034150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B284-A674-4F9F-BEA9-B3FE815D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A6191-E3AB-45E0-8F9D-8F232338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177D5-DA69-4E21-929E-A74908C9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21DBB-8A43-438F-80F3-9DAC2CDA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F447D-DAEB-43A7-9130-451769CA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DC6A2-10E4-449E-BD19-2F1A185B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75AB5-C759-489B-A2D7-E425689A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CA7F9-147E-4116-97E7-AC4A51A1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E0166-E34C-4BA5-9A76-F4B65B849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6C9BF-FEAF-47AD-A4CD-29B44972A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6A04B-9725-4E33-8322-A4A4756D4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AD1A-B8A7-4AF2-B345-F3E8F3CB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9DBFB-F658-409A-8308-775F8287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64318-FFA6-4961-8157-7DD47E1E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1640D-E986-4DEC-A66A-6E213B62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B9260-6B65-4D3D-B892-F8BB2A54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10B69-AAD8-4F3A-ADDF-BA979FE2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1DED8-1EC8-49B3-A0CF-9C436274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9C152-FBDF-41F8-BF5B-CD2313DE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546F4-43CD-4808-85CA-003D42AB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76F63-B4F5-4CAF-957F-BF483373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B6548-4BFC-48E0-8436-63D59DFBC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6AD6-8D8E-49B2-90C3-10622C93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36BC6-B64E-4295-87BF-71DCF172C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3BBEC-CC95-4884-8AB8-2FDFB6197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04008-002A-46D4-A72D-E5AE6DEE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DD571-4542-4A54-AC23-D6AD2038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12D96-AE0E-4F0C-BDA7-37162056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7C0F6-DCB4-4D5E-B5E5-69716786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C3720-763A-4F69-AF6C-0E4D074E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130D0-AABA-47B2-9180-EC74A081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A4C69-2E6D-468C-A541-D0367290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01C08-EAE7-4BA3-9CEB-D81FEB17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D280-85EF-4CAD-B6E7-4A19F81F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41EAB-430F-4F13-A3A7-0D125AB4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953ED-4DC5-43A4-9620-144B1E61F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1E038-2903-40A9-A9F7-7580A4176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BB5F4-A0FA-427F-8723-EB493530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F50E7-2429-4AE3-9781-DB50C021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B0201-26A1-4470-B67E-E9ADAD89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F67F3-AC5A-4F30-A26A-C1BA757A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F6257-2E98-40D8-B35B-7982FC46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4257C-5144-4FC2-878D-53D12F6D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5ABF4-6A4C-4BC0-AD8A-4A0C2570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9A4C-B8A3-4B45-8591-A7127940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34E6A-AD4C-4F28-9965-9ED7BE0E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75606-7EC3-495A-ABB8-78815AC1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CA511-2E3A-4B77-B70D-449F85D7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C5CEB-59F3-4A59-BA03-6036CCBD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4218F-0C65-4D27-AB98-6307B09C7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BB0FD-72E3-45A7-9876-46575339A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348B9-FD68-4848-B4BB-5A02D579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786A0-BC73-44A7-8547-CBAFD9C1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19328-E5A0-48D4-A4E8-02E99E72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67D99-91A6-47D9-9494-D3E28EAA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31C0-8CAC-4990-9577-31ABF33A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FDF3D-F78D-4FF4-AA58-7EE920C1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AA87B-94AC-4C02-8ABB-9D95B154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EC1B8-005F-46FA-8BD8-4EAD7890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E37DC-9167-47B2-AEFA-B3E9BF67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AA431-F0DD-4F60-91B9-5A8B76B1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CDD2D-FFDA-412C-A984-4A17BD28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3C3AC-C194-4958-AC1E-F207BDF99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90876-1078-4635-9207-BF9F7EB7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F6729-D22A-4DCC-9018-AB9619AB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D56BD-D020-46C2-93FF-4480747B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A01BEC9-697C-40D1-9AF2-B79F1314B28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8CD5A7F-4437-4D65-8DBA-0C62E9BC1CB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7583BFE-B4A1-4E75-9F5C-2BEC640CDE0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268A3CF-810C-4DC3-AA5F-1C89FAE6E3F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4B6B06-45C4-4CDB-9BD7-CE181E57F46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840224-BA86-48BD-B4E0-F1ED409108E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3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C52C4AA-1F2A-4A75-A7E1-379464A5FBE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8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341AC85-054A-41AB-AA0A-0527690FC8C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BCA681C-3017-488D-9122-6A67B5E7596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7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F291E7-EA46-40D5-9865-BCB605954A9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ED0170-2CF1-44D7-BF98-DC440D3CBC7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59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DC271A8-D87C-46E0-A291-E84B6036D75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7.wmf"/><Relationship Id="rId13" Type="http://schemas.openxmlformats.org/officeDocument/2006/relationships/image" Target="../media/image8.wmf"/><Relationship Id="rId14" Type="http://schemas.openxmlformats.org/officeDocument/2006/relationships/image" Target="../media/image9.jpeg"/><Relationship Id="rId1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jpe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Box 3"/>
          <p:cNvSpPr/>
          <p:nvPr/>
        </p:nvSpPr>
        <p:spPr>
          <a:xfrm>
            <a:off x="770040" y="465120"/>
            <a:ext cx="7912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говорить хорош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  </a:t>
            </a:r>
            <a:r>
              <a:rPr b="1" lang="en-US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[</a:t>
            </a: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</a:t>
            </a:r>
            <a:r>
              <a:rPr b="1" lang="en-US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]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1"/>
          <a:stretch/>
        </p:blipFill>
        <p:spPr>
          <a:xfrm>
            <a:off x="1630440" y="71280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4" descr=""/>
          <p:cNvPicPr/>
          <p:nvPr/>
        </p:nvPicPr>
        <p:blipFill>
          <a:blip r:embed="rId2"/>
          <a:stretch/>
        </p:blipFill>
        <p:spPr>
          <a:xfrm>
            <a:off x="4932360" y="723960"/>
            <a:ext cx="115920" cy="92160"/>
          </a:xfrm>
          <a:prstGeom prst="rect">
            <a:avLst/>
          </a:prstGeom>
          <a:ln w="0">
            <a:noFill/>
          </a:ln>
        </p:spPr>
      </p:pic>
      <p:sp>
        <p:nvSpPr>
          <p:cNvPr id="538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8"/>
          <p:cNvSpPr/>
          <p:nvPr/>
        </p:nvSpPr>
        <p:spPr>
          <a:xfrm>
            <a:off x="4903920" y="5769000"/>
            <a:ext cx="40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ВУК-СЛЫШ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2" descr=""/>
          <p:cNvPicPr/>
          <p:nvPr/>
        </p:nvPicPr>
        <p:blipFill>
          <a:blip r:embed="rId3"/>
          <a:stretch/>
        </p:blipFill>
        <p:spPr>
          <a:xfrm>
            <a:off x="8204040" y="70164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5" descr=""/>
          <p:cNvPicPr/>
          <p:nvPr/>
        </p:nvPicPr>
        <p:blipFill>
          <a:blip r:embed="rId4"/>
          <a:stretch/>
        </p:blipFill>
        <p:spPr>
          <a:xfrm>
            <a:off x="3419640" y="784080"/>
            <a:ext cx="218880" cy="241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6" descr=""/>
          <p:cNvPicPr/>
          <p:nvPr/>
        </p:nvPicPr>
        <p:blipFill>
          <a:blip r:embed="rId5"/>
          <a:stretch/>
        </p:blipFill>
        <p:spPr>
          <a:xfrm>
            <a:off x="4049640" y="792000"/>
            <a:ext cx="219240" cy="2412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27" descr=""/>
          <p:cNvPicPr/>
          <p:nvPr/>
        </p:nvPicPr>
        <p:blipFill>
          <a:blip r:embed="rId6"/>
          <a:stretch/>
        </p:blipFill>
        <p:spPr>
          <a:xfrm>
            <a:off x="6372360" y="784080"/>
            <a:ext cx="218880" cy="241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8" descr=""/>
          <p:cNvPicPr/>
          <p:nvPr/>
        </p:nvPicPr>
        <p:blipFill>
          <a:blip r:embed="rId7"/>
          <a:stretch/>
        </p:blipFill>
        <p:spPr>
          <a:xfrm>
            <a:off x="7093080" y="77940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9" descr="C:\Users\ADMIN\Desktop\23.10\images.png"/>
          <p:cNvPicPr/>
          <p:nvPr/>
        </p:nvPicPr>
        <p:blipFill>
          <a:blip r:embed="rId8"/>
          <a:stretch/>
        </p:blipFill>
        <p:spPr>
          <a:xfrm>
            <a:off x="5629320" y="3448080"/>
            <a:ext cx="2925720" cy="2344680"/>
          </a:xfrm>
          <a:prstGeom prst="rect">
            <a:avLst/>
          </a:prstGeom>
          <a:ln w="0">
            <a:noFill/>
          </a:ln>
        </p:spPr>
      </p:pic>
      <p:sp>
        <p:nvSpPr>
          <p:cNvPr id="548" name="Прямоугольник 1"/>
          <p:cNvSpPr/>
          <p:nvPr/>
        </p:nvSpPr>
        <p:spPr>
          <a:xfrm>
            <a:off x="6650640" y="4224240"/>
            <a:ext cx="88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  <a:ea typeface="Arial"/>
              </a:rPr>
              <a:t>[Н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8"/>
          <p:cNvSpPr/>
          <p:nvPr/>
        </p:nvSpPr>
        <p:spPr>
          <a:xfrm>
            <a:off x="307800" y="5759280"/>
            <a:ext cx="40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УКВА-ПИШ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31" descr=""/>
          <p:cNvPicPr/>
          <p:nvPr/>
        </p:nvPicPr>
        <p:blipFill>
          <a:blip r:embed="rId9"/>
          <a:stretch/>
        </p:blipFill>
        <p:spPr>
          <a:xfrm>
            <a:off x="3933720" y="579276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2" descr=""/>
          <p:cNvPicPr/>
          <p:nvPr/>
        </p:nvPicPr>
        <p:blipFill>
          <a:blip r:embed="rId10"/>
          <a:stretch/>
        </p:blipFill>
        <p:spPr>
          <a:xfrm>
            <a:off x="7481880" y="57592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33" descr=""/>
          <p:cNvPicPr/>
          <p:nvPr/>
        </p:nvPicPr>
        <p:blipFill>
          <a:blip r:embed="rId11"/>
          <a:stretch/>
        </p:blipFill>
        <p:spPr>
          <a:xfrm>
            <a:off x="1055520" y="57466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22" descr=""/>
          <p:cNvPicPr/>
          <p:nvPr/>
        </p:nvPicPr>
        <p:blipFill>
          <a:blip r:embed="rId12"/>
          <a:stretch/>
        </p:blipFill>
        <p:spPr>
          <a:xfrm>
            <a:off x="3909960" y="2435400"/>
            <a:ext cx="1631880" cy="21938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23" descr=""/>
          <p:cNvPicPr/>
          <p:nvPr/>
        </p:nvPicPr>
        <p:blipFill>
          <a:blip r:embed="rId13"/>
          <a:stretch/>
        </p:blipFill>
        <p:spPr>
          <a:xfrm>
            <a:off x="612720" y="3822840"/>
            <a:ext cx="2316240" cy="16110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24" descr="C:\Users\ADMIN\Desktop\ТЕЛО ЧЕЛОВЕКА\скачанные файлы.jpg"/>
          <p:cNvPicPr/>
          <p:nvPr/>
        </p:nvPicPr>
        <p:blipFill>
          <a:blip r:embed="rId14"/>
          <a:stretch/>
        </p:blipFill>
        <p:spPr>
          <a:xfrm>
            <a:off x="7176960" y="1557360"/>
            <a:ext cx="102708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Box 3"/>
          <p:cNvSpPr/>
          <p:nvPr/>
        </p:nvSpPr>
        <p:spPr>
          <a:xfrm>
            <a:off x="770040" y="465120"/>
            <a:ext cx="791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читать слог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3" descr=""/>
          <p:cNvPicPr/>
          <p:nvPr/>
        </p:nvPicPr>
        <p:blipFill>
          <a:blip r:embed="rId1"/>
          <a:stretch/>
        </p:blipFill>
        <p:spPr>
          <a:xfrm>
            <a:off x="2195640" y="6238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4" descr=""/>
          <p:cNvPicPr/>
          <p:nvPr/>
        </p:nvPicPr>
        <p:blipFill>
          <a:blip r:embed="rId2"/>
          <a:stretch/>
        </p:blipFill>
        <p:spPr>
          <a:xfrm>
            <a:off x="4932360" y="596880"/>
            <a:ext cx="115920" cy="92160"/>
          </a:xfrm>
          <a:prstGeom prst="rect">
            <a:avLst/>
          </a:prstGeom>
          <a:ln w="0">
            <a:noFill/>
          </a:ln>
        </p:spPr>
      </p:pic>
      <p:sp>
        <p:nvSpPr>
          <p:cNvPr id="559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8"/>
          <p:cNvSpPr/>
          <p:nvPr/>
        </p:nvSpPr>
        <p:spPr>
          <a:xfrm>
            <a:off x="838080" y="1793880"/>
            <a:ext cx="17938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8"/>
          <p:cNvSpPr/>
          <p:nvPr/>
        </p:nvSpPr>
        <p:spPr>
          <a:xfrm>
            <a:off x="6620040" y="1793880"/>
            <a:ext cx="17938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8"/>
          <p:cNvSpPr/>
          <p:nvPr/>
        </p:nvSpPr>
        <p:spPr>
          <a:xfrm>
            <a:off x="3184560" y="3459240"/>
            <a:ext cx="284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ЛОГ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2" descr=""/>
          <p:cNvPicPr/>
          <p:nvPr/>
        </p:nvPicPr>
        <p:blipFill>
          <a:blip r:embed="rId3"/>
          <a:stretch/>
        </p:blipFill>
        <p:spPr>
          <a:xfrm>
            <a:off x="6875640" y="716040"/>
            <a:ext cx="115560" cy="921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23" descr=""/>
          <p:cNvPicPr/>
          <p:nvPr/>
        </p:nvPicPr>
        <p:blipFill>
          <a:blip r:embed="rId4"/>
          <a:stretch/>
        </p:blipFill>
        <p:spPr>
          <a:xfrm>
            <a:off x="4552920" y="3459240"/>
            <a:ext cx="115920" cy="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1" descr="C:\Users\ADMIN\Desktop\ТЕЛО ЧЕЛОВЕКА\images (7).jpg"/>
          <p:cNvPicPr/>
          <p:nvPr/>
        </p:nvPicPr>
        <p:blipFill>
          <a:blip r:embed="rId1"/>
          <a:stretch/>
        </p:blipFill>
        <p:spPr>
          <a:xfrm>
            <a:off x="5661000" y="3797280"/>
            <a:ext cx="2711520" cy="2711520"/>
          </a:xfrm>
          <a:prstGeom prst="rect">
            <a:avLst/>
          </a:prstGeom>
          <a:ln w="0">
            <a:noFill/>
          </a:ln>
        </p:spPr>
      </p:pic>
      <p:sp>
        <p:nvSpPr>
          <p:cNvPr id="568" name="TextBox 3"/>
          <p:cNvSpPr/>
          <p:nvPr/>
        </p:nvSpPr>
        <p:spPr>
          <a:xfrm>
            <a:off x="763560" y="361800"/>
            <a:ext cx="791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читать слов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3" descr=""/>
          <p:cNvPicPr/>
          <p:nvPr/>
        </p:nvPicPr>
        <p:blipFill>
          <a:blip r:embed="rId2"/>
          <a:stretch/>
        </p:blipFill>
        <p:spPr>
          <a:xfrm>
            <a:off x="2195640" y="58572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4" descr=""/>
          <p:cNvPicPr/>
          <p:nvPr/>
        </p:nvPicPr>
        <p:blipFill>
          <a:blip r:embed="rId3"/>
          <a:stretch/>
        </p:blipFill>
        <p:spPr>
          <a:xfrm>
            <a:off x="4211640" y="596880"/>
            <a:ext cx="115920" cy="92160"/>
          </a:xfrm>
          <a:prstGeom prst="rect">
            <a:avLst/>
          </a:prstGeom>
          <a:ln w="0">
            <a:noFill/>
          </a:ln>
        </p:spPr>
      </p:pic>
      <p:sp>
        <p:nvSpPr>
          <p:cNvPr id="571" name="TextBox 2"/>
          <p:cNvSpPr/>
          <p:nvPr/>
        </p:nvSpPr>
        <p:spPr>
          <a:xfrm>
            <a:off x="2362320" y="4508640"/>
            <a:ext cx="315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  <a:ea typeface="Arial"/>
              </a:rPr>
              <a:t>СЛО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8"/>
          <p:cNvSpPr/>
          <p:nvPr/>
        </p:nvSpPr>
        <p:spPr>
          <a:xfrm>
            <a:off x="3166920" y="2674800"/>
            <a:ext cx="173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2" descr=""/>
          <p:cNvPicPr/>
          <p:nvPr/>
        </p:nvPicPr>
        <p:blipFill>
          <a:blip r:embed="rId4"/>
          <a:stretch/>
        </p:blipFill>
        <p:spPr>
          <a:xfrm>
            <a:off x="7711920" y="3556080"/>
            <a:ext cx="115920" cy="92160"/>
          </a:xfrm>
          <a:prstGeom prst="rect">
            <a:avLst/>
          </a:prstGeom>
          <a:ln w="0">
            <a:noFill/>
          </a:ln>
        </p:spPr>
      </p:pic>
      <p:sp>
        <p:nvSpPr>
          <p:cNvPr id="575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8"/>
          <p:cNvSpPr/>
          <p:nvPr/>
        </p:nvSpPr>
        <p:spPr>
          <a:xfrm>
            <a:off x="5397480" y="3490920"/>
            <a:ext cx="323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ОР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2" descr=""/>
          <p:cNvPicPr/>
          <p:nvPr/>
        </p:nvPicPr>
        <p:blipFill>
          <a:blip r:embed="rId5"/>
          <a:stretch/>
        </p:blipFill>
        <p:spPr>
          <a:xfrm>
            <a:off x="1116000" y="3297240"/>
            <a:ext cx="115920" cy="92160"/>
          </a:xfrm>
          <a:prstGeom prst="rect">
            <a:avLst/>
          </a:prstGeom>
          <a:ln w="0">
            <a:noFill/>
          </a:ln>
        </p:spPr>
      </p:pic>
      <p:sp>
        <p:nvSpPr>
          <p:cNvPr id="579" name="TextBox 8"/>
          <p:cNvSpPr/>
          <p:nvPr/>
        </p:nvSpPr>
        <p:spPr>
          <a:xfrm>
            <a:off x="423720" y="3274920"/>
            <a:ext cx="213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25" descr=""/>
          <p:cNvPicPr/>
          <p:nvPr/>
        </p:nvPicPr>
        <p:blipFill>
          <a:blip r:embed="rId6"/>
          <a:stretch/>
        </p:blipFill>
        <p:spPr>
          <a:xfrm>
            <a:off x="7596360" y="600120"/>
            <a:ext cx="115560" cy="9216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26" descr=""/>
          <p:cNvPicPr/>
          <p:nvPr/>
        </p:nvPicPr>
        <p:blipFill>
          <a:blip r:embed="rId7"/>
          <a:stretch/>
        </p:blipFill>
        <p:spPr>
          <a:xfrm>
            <a:off x="6659640" y="68256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9" descr="C:\Users\ADMIN\Desktop\ТЕЛО ЧЕЛОВЕКА\nos.jpg"/>
          <p:cNvPicPr/>
          <p:nvPr/>
        </p:nvPicPr>
        <p:blipFill>
          <a:blip r:embed="rId8"/>
          <a:stretch/>
        </p:blipFill>
        <p:spPr>
          <a:xfrm>
            <a:off x="3398760" y="1927080"/>
            <a:ext cx="1546200" cy="7081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20" descr="C:\Users\ADMIN\Desktop\ТЕЛО ЧЕЛОВЕКА\images (6).jpg"/>
          <p:cNvPicPr/>
          <p:nvPr/>
        </p:nvPicPr>
        <p:blipFill>
          <a:blip r:embed="rId9"/>
          <a:stretch/>
        </p:blipFill>
        <p:spPr>
          <a:xfrm>
            <a:off x="784080" y="3989520"/>
            <a:ext cx="1414440" cy="23270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2" descr=""/>
          <p:cNvPicPr/>
          <p:nvPr/>
        </p:nvPicPr>
        <p:blipFill>
          <a:blip r:embed="rId10"/>
          <a:stretch/>
        </p:blipFill>
        <p:spPr>
          <a:xfrm>
            <a:off x="5994360" y="3614760"/>
            <a:ext cx="219240" cy="237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23" descr=""/>
          <p:cNvPicPr/>
          <p:nvPr/>
        </p:nvPicPr>
        <p:blipFill>
          <a:blip r:embed="rId11"/>
          <a:stretch/>
        </p:blipFill>
        <p:spPr>
          <a:xfrm>
            <a:off x="6799320" y="360360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24" descr=""/>
          <p:cNvPicPr/>
          <p:nvPr/>
        </p:nvPicPr>
        <p:blipFill>
          <a:blip r:embed="rId12"/>
          <a:stretch/>
        </p:blipFill>
        <p:spPr>
          <a:xfrm>
            <a:off x="3805200" y="4653000"/>
            <a:ext cx="219240" cy="2376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25" descr=""/>
          <p:cNvPicPr/>
          <p:nvPr/>
        </p:nvPicPr>
        <p:blipFill>
          <a:blip r:embed="rId13"/>
          <a:stretch/>
        </p:blipFill>
        <p:spPr>
          <a:xfrm>
            <a:off x="4925880" y="4511520"/>
            <a:ext cx="115920" cy="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Box 3"/>
          <p:cNvSpPr/>
          <p:nvPr/>
        </p:nvSpPr>
        <p:spPr>
          <a:xfrm>
            <a:off x="770040" y="465120"/>
            <a:ext cx="791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писать буквы Н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3" descr=""/>
          <p:cNvPicPr/>
          <p:nvPr/>
        </p:nvPicPr>
        <p:blipFill>
          <a:blip r:embed="rId1"/>
          <a:stretch/>
        </p:blipFill>
        <p:spPr>
          <a:xfrm>
            <a:off x="1739880" y="66672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4" descr=""/>
          <p:cNvPicPr/>
          <p:nvPr/>
        </p:nvPicPr>
        <p:blipFill>
          <a:blip r:embed="rId2"/>
          <a:stretch/>
        </p:blipFill>
        <p:spPr>
          <a:xfrm>
            <a:off x="4500720" y="668160"/>
            <a:ext cx="115560" cy="92160"/>
          </a:xfrm>
          <a:prstGeom prst="rect">
            <a:avLst/>
          </a:prstGeom>
          <a:ln w="0">
            <a:noFill/>
          </a:ln>
        </p:spPr>
      </p:pic>
      <p:sp>
        <p:nvSpPr>
          <p:cNvPr id="591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8"/>
          <p:cNvSpPr/>
          <p:nvPr/>
        </p:nvSpPr>
        <p:spPr>
          <a:xfrm>
            <a:off x="1104840" y="5183280"/>
            <a:ext cx="40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УКВЫ ПИШ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31" descr=""/>
          <p:cNvPicPr/>
          <p:nvPr/>
        </p:nvPicPr>
        <p:blipFill>
          <a:blip r:embed="rId3"/>
          <a:stretch/>
        </p:blipFill>
        <p:spPr>
          <a:xfrm>
            <a:off x="4784760" y="520056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3" descr=""/>
          <p:cNvPicPr/>
          <p:nvPr/>
        </p:nvPicPr>
        <p:blipFill>
          <a:blip r:embed="rId4"/>
          <a:stretch/>
        </p:blipFill>
        <p:spPr>
          <a:xfrm>
            <a:off x="1739880" y="51832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22" descr=""/>
          <p:cNvPicPr/>
          <p:nvPr/>
        </p:nvPicPr>
        <p:blipFill>
          <a:blip r:embed="rId5"/>
          <a:stretch/>
        </p:blipFill>
        <p:spPr>
          <a:xfrm>
            <a:off x="6573960" y="4005360"/>
            <a:ext cx="1630080" cy="21924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23" descr=""/>
          <p:cNvPicPr/>
          <p:nvPr/>
        </p:nvPicPr>
        <p:blipFill>
          <a:blip r:embed="rId6"/>
          <a:stretch/>
        </p:blipFill>
        <p:spPr>
          <a:xfrm>
            <a:off x="1120680" y="1936800"/>
            <a:ext cx="4032360" cy="28051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24" descr="C:\Users\ADMIN\Desktop\ТЕЛО ЧЕЛОВЕКА\скачанные файлы.jpg"/>
          <p:cNvPicPr/>
          <p:nvPr/>
        </p:nvPicPr>
        <p:blipFill>
          <a:blip r:embed="rId7"/>
          <a:stretch/>
        </p:blipFill>
        <p:spPr>
          <a:xfrm>
            <a:off x="6184800" y="1936800"/>
            <a:ext cx="1771920" cy="184788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2" descr=""/>
          <p:cNvPicPr/>
          <p:nvPr/>
        </p:nvPicPr>
        <p:blipFill>
          <a:blip r:embed="rId8"/>
          <a:stretch/>
        </p:blipFill>
        <p:spPr>
          <a:xfrm>
            <a:off x="6012000" y="714240"/>
            <a:ext cx="115920" cy="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07:06:44Z</dcterms:created>
  <dc:creator>Яковлева М.Л., Богайцева М.В.</dc:creator>
  <dc:description/>
  <dc:language>en-US</dc:language>
  <cp:lastModifiedBy>ADMIN</cp:lastModifiedBy>
  <dcterms:modified xsi:type="dcterms:W3CDTF">2016-09-19T19:33:12Z</dcterms:modified>
  <cp:revision>68</cp:revision>
  <dc:subject/>
  <dc:title>Загадки о лесе</dc:title>
</cp:coreProperties>
</file>