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7F0-0D5D-49E0-837B-D58DA456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198-BE63-4827-8C7C-3C9BACF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DF0-B398-4682-9FE6-8E8C39DF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CB6-2290-409A-98EE-A75A23FC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9E0C-A1FF-4CC0-881C-2027050B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CCF9-898B-435C-BCB6-C6BA97D3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1448-8CC6-4882-B7D1-A8BC9E65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1A79-1AD8-4849-8F87-989FE4BA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F946-98F7-4860-8A47-7F1BA7E1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4768-8C9C-4D9C-8A2F-E46CA79D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8CCE-C43D-46B5-81FE-6AA2CE4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C17-C278-4BF0-9875-6BE3E18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DF23-B727-4FCE-9608-0E97A7CC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A657-12F5-4CAF-A32C-E619ED3B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4CF0-F643-41AC-8567-58B38852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B582-A5B7-4579-AB86-A1FEB28B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7048-18AD-4866-87A2-215B473D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08F-E5EB-4DC5-99B7-DB47D8F4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949-9909-4828-882D-FDD612CB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73E-CABA-4D13-B7A1-F5864A8A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A64-3C98-4A12-9A86-443C4675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E2F-2DA5-4CFF-8CF4-0A704A3E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978-C389-4E8F-8108-7D062D99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D7A-E8B9-41DA-A992-8DB72247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31F2-AB94-43EB-8F6E-D7CA2CBC9C66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FECA-B882-4258-87AA-3CAEFB04587F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652320"/>
            <a:ext cx="8753400" cy="8287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2" descr=""/>
          <p:cNvPicPr/>
          <p:nvPr/>
        </p:nvPicPr>
        <p:blipFill>
          <a:blip r:embed="rId2"/>
          <a:stretch/>
        </p:blipFill>
        <p:spPr>
          <a:xfrm>
            <a:off x="963720" y="5205240"/>
            <a:ext cx="7246800" cy="1305000"/>
          </a:xfrm>
          <a:prstGeom prst="rect">
            <a:avLst/>
          </a:prstGeom>
          <a:ln w="0">
            <a:noFill/>
          </a:ln>
        </p:spPr>
      </p:pic>
      <p:pic>
        <p:nvPicPr>
          <p:cNvPr id="97" name="Uletaj_na_krylyah_vetra_minus_-_Bez_nazvaniya_(iPlayer.fm).mp3" descr=""/>
          <p:cNvPicPr/>
          <p:nvPr/>
        </p:nvPicPr>
        <p:blipFill>
          <a:blip r:embed="rId3"/>
          <a:stretch/>
        </p:blipFill>
        <p:spPr>
          <a:xfrm>
            <a:off x="442764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1835280" y="65844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 Перуну взывал, но Перун молчит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Сварог молчит, и Даждьбог молчит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А душа тоскует, душа бо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ari.ru/sites/default/files/uploads/articles/ec27022eb0214a6cab2930315d23e7b3/92856_0.jpg"/>
          <p:cNvPicPr/>
          <p:nvPr/>
        </p:nvPicPr>
        <p:blipFill>
          <a:blip r:embed="rId1"/>
          <a:stretch/>
        </p:blipFill>
        <p:spPr>
          <a:xfrm>
            <a:off x="179280" y="2205000"/>
            <a:ext cx="5002200" cy="450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rusnardom.ru/wp-content/uploads/2015/08/perun.jpg"/>
          <p:cNvPicPr/>
          <p:nvPr/>
        </p:nvPicPr>
        <p:blipFill>
          <a:blip r:embed="rId2"/>
          <a:stretch/>
        </p:blipFill>
        <p:spPr>
          <a:xfrm>
            <a:off x="5651640" y="2205000"/>
            <a:ext cx="3313080" cy="4457880"/>
          </a:xfrm>
          <a:prstGeom prst="rect">
            <a:avLst/>
          </a:prstGeom>
          <a:ln w="0">
            <a:noFill/>
          </a:ln>
        </p:spPr>
      </p:pic>
      <p:pic>
        <p:nvPicPr>
          <p:cNvPr id="123" name="Uletaj_na_krylyah_vetra_minus_-_Bez_nazvaniya_(iPlayer.fm).mp3" descr=""/>
          <p:cNvPicPr/>
          <p:nvPr/>
        </p:nvPicPr>
        <p:blipFill>
          <a:blip r:embed="rId3"/>
          <a:stretch/>
        </p:blipFill>
        <p:spPr>
          <a:xfrm>
            <a:off x="442764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0" y="4797360"/>
            <a:ext cx="93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Князь, давным-давно, когда был ты мал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Твоя бабушка учила меня молитв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Чтобы я читал при кровавой битве: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«Упокой, Господь, со святыми их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Русских воинов и другов мои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storage.surfingbird.ru/s/14/12/10/18/r2_joBH0ee8B_orig_ab5dbcfb.jpg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4678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5364000" y="1197000"/>
            <a:ext cx="37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</a:rPr>
              <a:t>Князь</a:t>
            </a:r>
            <a:r>
              <a:rPr b="1" i="1" lang="ru-RU" sz="1800" spc="-1" strike="noStrike">
                <a:solidFill>
                  <a:srgbClr val="a3171e"/>
                </a:solidFill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a3171e"/>
                </a:solidFill>
                <a:latin typeface="Constantia"/>
              </a:rPr>
              <a:t>Владими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 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Знаю сам, что бабушка была мудра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Ты, Добрыня, завтра ко мне с утра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Самых разных вер людей пригласи…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Тяжко жить без веры на вольной Рус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lemur59.ru/sites/default/files/images/vladimir_solnishko%20-01.png"/>
          <p:cNvPicPr/>
          <p:nvPr/>
        </p:nvPicPr>
        <p:blipFill>
          <a:blip r:embed="rId1"/>
          <a:stretch/>
        </p:blipFill>
        <p:spPr>
          <a:xfrm>
            <a:off x="179280" y="260280"/>
            <a:ext cx="519912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724360" y="765000"/>
            <a:ext cx="36370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Вышел князь во двор, сел на княжий трон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И гостей заморских поджидать стал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35676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Благодарствую, что пришли ко мн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Расскажите мне о своей стран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 вы молитесь, во что верите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какою мерой все в мире мер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http://peremeny.ru/book/dnisily/files/2010/07/Volodymer_Olha.jpg"/>
          <p:cNvPicPr/>
          <p:nvPr/>
        </p:nvPicPr>
        <p:blipFill>
          <a:blip r:embed="rId1"/>
          <a:stretch/>
        </p:blipFill>
        <p:spPr>
          <a:xfrm>
            <a:off x="108000" y="189000"/>
            <a:ext cx="5475240" cy="307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www.kievstyle.ru/images/books/1/1.htm6.jpg"/>
          <p:cNvPicPr/>
          <p:nvPr/>
        </p:nvPicPr>
        <p:blipFill>
          <a:blip r:embed="rId2"/>
          <a:stretch/>
        </p:blipFill>
        <p:spPr>
          <a:xfrm>
            <a:off x="4427640" y="3500280"/>
            <a:ext cx="4554360" cy="2998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264960"/>
            <a:ext cx="54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Мусульманин: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 Наш Аллах велит нам в день по пять раз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В землю кланяться, совершать намаз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Убивать неверных, вина не пить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в посты до ночи без пищи 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http://fs1.ppt4web.ru/images/3958/61899/640/img13.jpg"/>
          <p:cNvPicPr/>
          <p:nvPr/>
        </p:nvPicPr>
        <p:blipFill>
          <a:blip r:embed="rId1"/>
          <a:stretch/>
        </p:blipFill>
        <p:spPr>
          <a:xfrm>
            <a:off x="5435640" y="189000"/>
            <a:ext cx="3457440" cy="41479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5"/>
          <p:cNvSpPr/>
          <p:nvPr/>
        </p:nvSpPr>
        <p:spPr>
          <a:xfrm>
            <a:off x="3348000" y="458136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нязь Владимир: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 Убивать, поститься, не пить вина…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-то шибко вера ваша скуч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cs543105.vk.me/v543105006/a7a/Zqlfgu7lekM.jpg"/>
          <p:cNvPicPr/>
          <p:nvPr/>
        </p:nvPicPr>
        <p:blipFill>
          <a:blip r:embed="rId2"/>
          <a:stretch/>
        </p:blipFill>
        <p:spPr>
          <a:xfrm>
            <a:off x="179280" y="2924280"/>
            <a:ext cx="280836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660240"/>
            <a:ext cx="42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удей: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За грехи нас Бог рассеял, как зерно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ет страны иудейской давным-да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79280" y="401508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нязь Владими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е понравился что-то мне твой рассказ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 бы Бог не рассеял и нас, как вас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vysokovo.prihod.ru/users/67/1167/editor_files/image/%D0%A4%D0%B8%D0%BB%D0%B0%D1%82%D0%BE%D0%B2.%20%D0%92%D1%8B%D0%B1%D0%BE%D1%80%20%D0%92%D0%B5%D1%80%D1%8B%20%D0%BA%D0%BD%D1%8F%D0%B7%D0%B5%D0%BC%20%D0%92%D0%BB%D0%B0%D0%B4%D0%B8%D0%BC%D0%B8%D1%80%D0%BE%D0%BC.jpg"/>
          <p:cNvPicPr/>
          <p:nvPr/>
        </p:nvPicPr>
        <p:blipFill>
          <a:blip r:embed="rId1"/>
          <a:stretch/>
        </p:blipFill>
        <p:spPr>
          <a:xfrm>
            <a:off x="4500720" y="333360"/>
            <a:ext cx="4201920" cy="610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0" y="4532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Монах: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 А у нас на Пасху, князь, каждый год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 вино, веселье пьянит народ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о играет сердце не от вина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Духом радости вольной душа пол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://elohov.ru/wp-content/uploads/2014/07/%D0%92%D1%8B%D0%B1%D0%BE%D1%80-%D0%B2%D0%B5%D1%80%D1%8B-%D0%9A%D0%BD%D1%8F%D0%B7%D0%B5%D0%BC-%D0%92%D0%BB%D0%B0%D0%B4%D0%B8%D0%BC%D0%B8%D1%80%D0%BE%D0%BC-1.jpg"/>
          <p:cNvPicPr/>
          <p:nvPr/>
        </p:nvPicPr>
        <p:blipFill>
          <a:blip r:embed="rId1"/>
          <a:stretch/>
        </p:blipFill>
        <p:spPr>
          <a:xfrm>
            <a:off x="1258920" y="2060640"/>
            <a:ext cx="6991200" cy="4665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403280" y="620640"/>
            <a:ext cx="66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Слуги верные, завтра без лишних слов: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В Византию к грекам пошлите послов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Пусть они посмотрят, прибыв в Царьград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Правда ль этой вере народ так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http://put-doroga.com/wp-content/uploads/2014/01/N.M-Kreshhenie-Rusi.jpg"/>
          <p:cNvPicPr/>
          <p:nvPr/>
        </p:nvPicPr>
        <p:blipFill>
          <a:blip r:embed="rId1"/>
          <a:stretch/>
        </p:blipFill>
        <p:spPr>
          <a:xfrm>
            <a:off x="250920" y="2327400"/>
            <a:ext cx="8642160" cy="4313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08000" y="451080"/>
            <a:ext cx="845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ос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3171e"/>
                </a:solidFill>
                <a:latin typeface="Constantia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: Князь, будь здрав! Я радость не утаю: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То ли был в Царьграде, то ли был в р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08000" y="1601640"/>
            <a:ext cx="694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3171e"/>
                </a:solidFill>
                <a:latin typeface="Constant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: Там молитвы сладкие, будто мед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в церквах целуется весь нар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8000" y="2246400"/>
            <a:ext cx="3203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3171e"/>
                </a:solidFill>
                <a:latin typeface="Constant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: Я вкусил веселье, узнал покой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Больше веры, князь, не хочу друг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topwar.ru/uploads/posts/2013-05/1367606636_800px-congress_in_dolobsk_1103.jpg"/>
          <p:cNvPicPr/>
          <p:nvPr/>
        </p:nvPicPr>
        <p:blipFill>
          <a:blip r:embed="rId1"/>
          <a:stretch/>
        </p:blipFill>
        <p:spPr>
          <a:xfrm>
            <a:off x="3203640" y="2421000"/>
            <a:ext cx="578952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0" y="41256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нязь Владимир</a:t>
            </a: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лушайте, други верные, княжий указ: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нарядите ладьи для меня в сей же час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ам поеду к грекам крещенья просить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ривезу веселие для Рус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http://go3.imgsmail.ru/imgpreview?key=b68e21bad3be478&amp;mb=imgdb_preview_369"/>
          <p:cNvPicPr/>
          <p:nvPr/>
        </p:nvPicPr>
        <p:blipFill>
          <a:blip r:embed="rId1"/>
          <a:stretch/>
        </p:blipFill>
        <p:spPr>
          <a:xfrm>
            <a:off x="108000" y="2781360"/>
            <a:ext cx="5222880" cy="3240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lampada.in.ua/wp-content/uploads/2015/07/vladimir_kniaz-035_thumb.jpg"/>
          <p:cNvPicPr/>
          <p:nvPr/>
        </p:nvPicPr>
        <p:blipFill>
          <a:blip r:embed="rId2"/>
          <a:stretch/>
        </p:blipFill>
        <p:spPr>
          <a:xfrm>
            <a:off x="5364000" y="2347920"/>
            <a:ext cx="3672000" cy="4341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-291960" y="-171360"/>
            <a:ext cx="950256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www.uniport.pro/user/1291/blogs/129110411.png"/>
          <p:cNvPicPr/>
          <p:nvPr/>
        </p:nvPicPr>
        <p:blipFill>
          <a:blip r:embed="rId2"/>
          <a:stretch/>
        </p:blipFill>
        <p:spPr>
          <a:xfrm>
            <a:off x="179280" y="1700280"/>
            <a:ext cx="8793360" cy="4983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68360" y="473976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нязь вернулся с честию славною,</a:t>
            </a:r>
            <a:br>
              <a:rPr sz="3200"/>
            </a:br>
            <a:r>
              <a:rPr b="1" lang="ru-RU" sz="32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тала наша Русь православною,</a:t>
            </a:r>
            <a:br>
              <a:rPr sz="3200"/>
            </a:br>
            <a:r>
              <a:rPr b="1" lang="ru-RU" sz="32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теперь уже десять столетий</a:t>
            </a:r>
            <a:br>
              <a:rPr sz="3200"/>
            </a:br>
            <a:r>
              <a:rPr b="1" lang="ru-RU" sz="32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Славят Бога взрослые и д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www.funlib.ru/cimg/2014/102000/4845607"/>
          <p:cNvPicPr/>
          <p:nvPr/>
        </p:nvPicPr>
        <p:blipFill>
          <a:blip r:embed="rId1"/>
          <a:stretch/>
        </p:blipFill>
        <p:spPr>
          <a:xfrm>
            <a:off x="324000" y="260280"/>
            <a:ext cx="8570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395280" y="2276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https://yandex.ru/images/search?p=2&amp;text=</a:t>
            </a:r>
            <a:r>
              <a:rPr b="1" lang="ru-RU" sz="2400" spc="-1" strike="noStrike" u="sng">
                <a:solidFill>
                  <a:srgbClr val="a3171e"/>
                </a:solidFill>
                <a:uFillTx/>
                <a:latin typeface="Constantia"/>
              </a:rPr>
              <a:t>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76480" y="1773360"/>
            <a:ext cx="66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http://rusbatya.ru/knyaz-vladimir-i-pash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395280" y="2781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http://go.mail.ru/search</a:t>
            </a:r>
            <a:r>
              <a:rPr b="1" lang="ru-RU" sz="2400" spc="-1" strike="noStrike" u="sng">
                <a:solidFill>
                  <a:srgbClr val="a3171e"/>
                </a:solidFill>
                <a:uFillTx/>
                <a:latin typeface="Constantia"/>
              </a:rPr>
              <a:t>=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-371520" y="517680"/>
            <a:ext cx="9807480" cy="1103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ufostation.net/images/articles/gorod_1.jpg"/>
          <p:cNvPicPr/>
          <p:nvPr/>
        </p:nvPicPr>
        <p:blipFill>
          <a:blip r:embed="rId1"/>
          <a:stretch/>
        </p:blipFill>
        <p:spPr>
          <a:xfrm>
            <a:off x="4500720" y="189000"/>
            <a:ext cx="4524120" cy="35146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108000" y="907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Aharoni"/>
              </a:rPr>
              <a:t>В некотором царстве, в некотором государств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Aharoni"/>
              </a:rPr>
              <a:t>Не в Бангкоке и не в Багдаде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Aharoni"/>
              </a:rPr>
              <a:t>В стольном русском Киеве-граде,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5364000" y="4292640"/>
            <a:ext cx="39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Князь Влад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с дружиной немалою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Правил Русью с честью удал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player.myshared.ru/826934/data/images/img22.jpg"/>
          <p:cNvPicPr/>
          <p:nvPr/>
        </p:nvPicPr>
        <p:blipFill>
          <a:blip r:embed="rId2"/>
          <a:stretch/>
        </p:blipFill>
        <p:spPr>
          <a:xfrm>
            <a:off x="179280" y="3213000"/>
            <a:ext cx="4989600" cy="3363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716360" y="987480"/>
            <a:ext cx="47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-то к Владимиру с разных концов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рискакали сразу двое гонц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788000" y="28569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Беда, княз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У нашей заставы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оловцы слева и с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716360" y="436788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А на юге, князь, печенеги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а Русь совершают набе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cs10886.userapi.com/u160784843/154482227/x_a8756156.jpg"/>
          <p:cNvPicPr/>
          <p:nvPr/>
        </p:nvPicPr>
        <p:blipFill>
          <a:blip r:embed="rId1"/>
          <a:stretch/>
        </p:blipFill>
        <p:spPr>
          <a:xfrm>
            <a:off x="179280" y="981000"/>
            <a:ext cx="4416480" cy="5662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635280" y="627480"/>
            <a:ext cx="45007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Встал князь Владим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расправил плечи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к дружине с та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обратился речь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11280" y="3038040"/>
            <a:ext cx="320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Негоже нам, други, наслаждаться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За землю русскую время сражаться!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сполнимся духа храброго, ратного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рогоним поганых врагов об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3024000" cy="337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http://www.funlib.ru/cimg/2014/101715/2253506"/>
          <p:cNvPicPr/>
          <p:nvPr/>
        </p:nvPicPr>
        <p:blipFill>
          <a:blip r:embed="rId2"/>
          <a:stretch/>
        </p:blipFill>
        <p:spPr>
          <a:xfrm>
            <a:off x="3780000" y="3068640"/>
            <a:ext cx="52513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547640" y="5516640"/>
            <a:ext cx="58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Вышло войско храброе на заставу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За Русь сразиться да за княжью сла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content.minimodelism.ru/clipart/4841/i69i7V24lR06p2gT-92.jpg"/>
          <p:cNvPicPr/>
          <p:nvPr/>
        </p:nvPicPr>
        <p:blipFill>
          <a:blip r:embed="rId1"/>
          <a:stretch/>
        </p:blipFill>
        <p:spPr>
          <a:xfrm>
            <a:off x="179280" y="333360"/>
            <a:ext cx="88329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395280" y="51577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На высоких холмах Киев-град стоит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Полдружины русской в чистом поле лежит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Вот уж скоро ночь настанет над Русью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</a:rPr>
              <a:t>Князь Владимир в небо глядит со гру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s009.radikal.ru/i308/1102/8a/e8c71728609d.jpg"/>
          <p:cNvPicPr/>
          <p:nvPr/>
        </p:nvPicPr>
        <p:blipFill>
          <a:blip r:embed="rId1"/>
          <a:stretch/>
        </p:blipFill>
        <p:spPr>
          <a:xfrm>
            <a:off x="826920" y="115920"/>
            <a:ext cx="7632720" cy="5116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4967280" y="90792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Добры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Что невесел княз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что сидишь, тоскуя?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Отогнал от Ру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ты беду больш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img-fotki.yandex.ru/get/5636/86441892.480/0_b9acf_da5230d3_orig.jpg"/>
          <p:cNvPicPr/>
          <p:nvPr/>
        </p:nvPicPr>
        <p:blipFill>
          <a:blip r:embed="rId1"/>
          <a:stretch/>
        </p:blipFill>
        <p:spPr>
          <a:xfrm>
            <a:off x="324000" y="189000"/>
            <a:ext cx="4752720" cy="6433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1476360" y="4650120"/>
            <a:ext cx="64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Как могу, Добрыня, я веселиться?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Полдружины моей полегло на рати.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Где теперь их души, моих другов-братий,</a:t>
            </a:r>
            <a:br>
              <a:rPr sz="2400"/>
            </a:br>
            <a:r>
              <a:rPr b="1" lang="ru-RU" sz="2400" spc="-1" strike="noStrike">
                <a:solidFill>
                  <a:srgbClr val="a3171e"/>
                </a:solidFill>
                <a:latin typeface="Constantia"/>
                <a:ea typeface="Times New Roman"/>
              </a:rPr>
              <a:t>И какому богу о них молиться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uspeniya.cerkov.ru/files/2015/07/%D0%A1%D0%B2%D1%8F%D1%82%D0%BE%D0%B9-%D0%BA%D0%BD%D1%8F%D0%B7%D1%8C-%D0%92%D0%BB%D0%B0%D0%B4%D0%B8%D0%BC%D0%B8%D1%80-15.jpg"/>
          <p:cNvPicPr/>
          <p:nvPr/>
        </p:nvPicPr>
        <p:blipFill>
          <a:blip r:embed="rId1"/>
          <a:stretch/>
        </p:blipFill>
        <p:spPr>
          <a:xfrm>
            <a:off x="971640" y="1890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16:40:39Z</dcterms:created>
  <dc:creator>admin</dc:creator>
  <dc:description/>
  <dc:language>en-US</dc:language>
  <cp:lastModifiedBy>admin</cp:lastModifiedBy>
  <dcterms:modified xsi:type="dcterms:W3CDTF">2016-09-20T09:31:19Z</dcterms:modified>
  <cp:revision>39</cp:revision>
  <dc:subject/>
  <dc:title>Слайд 1</dc:title>
</cp:coreProperties>
</file>