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461-452B-4611-96D1-C6B80A6A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1775-FA63-472F-87A2-837CA7E4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01E74-F503-4FC7-B79B-E9876191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418C4-2FC8-4A9C-8EB5-AB325385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1CC3F-DA9A-463C-9374-DF484B90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66756-5CFF-4CAE-AD20-16AE5B0F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78336-F52C-4944-B664-33E8A428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15C2C-7685-4BDE-AEBA-031D4A5D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D432B-A9AA-44A0-9AA6-2AEB4776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03D11-062C-4024-8070-2C781674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08CF9-CBA7-4098-B31D-2DAB05A4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18EB8-69B1-4BCA-B225-554E57FB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FB2D-56B9-4926-81F9-D054B35A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2B220-215C-485B-99F3-CA89361F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DD617-CE37-4362-83EE-49F8F857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3BFAC-59D9-4939-9F8C-F2D63BA4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0E9F2-DA5E-4D21-BE8B-D032A33A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401E0-E902-4875-B06D-A152EF31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92430-D1D1-48D5-8480-EE44CF6F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54DBB-C408-4A61-9126-05C4075A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54316-FBB9-45F7-BCEC-50C594E7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9E99B-2226-4A4B-B1B8-66222647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392E0-38DF-43D5-825D-B64E31F2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8C6F-E1BA-446E-9D3E-971B1A7D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A9C72-717D-4B02-8E3C-C5D75D00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6069D-6992-432D-9F07-0AB5DD90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117D4-1DB6-4B2F-A35D-099C6217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31476-ABD2-426D-83EA-895F0395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6DA9B-7580-4EE9-A9C7-0D971A05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4747A-F142-4BF3-8642-7EFABF7D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E7A31-5052-42AD-B192-892BE41C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315E1-20B0-4BE5-BD7F-9881984C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138FE-1EEE-4BAD-B351-4164F9F5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10D16-7765-4D1B-9CD7-AC616AF5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58E2-50C6-4ED8-9CE4-182D7263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3E832-81DD-4CE4-A368-68AD6DD9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88B3D-F88A-4DB5-B9B1-71A9012A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628D7-7BF4-42DE-BA5E-157E6669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4DC8B-FFF7-4B50-A10D-A88EF194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52219-8DE3-4F7E-BAE5-4560F9DC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87903-802C-4263-950B-2403AB2F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F5F22-226A-420D-9486-2D527EFE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88CDD-7809-47C9-988D-AA65C2B8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16618-0261-4787-8D41-764C41F9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0B317-3717-427C-BAE0-A1172C06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1BE2-6C9A-40F4-922E-122B47BA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CA1D1-3D7B-42D9-9EF3-FF7400C9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7E677-3DFC-4D6A-91F2-F4BF8502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02A8A-DD2A-4CD8-82FC-0D4994AF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15213-4A24-4CC9-95DA-A9B14BBF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B0F42-553D-41AA-BB91-24B55A04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67E889-6A70-439A-A692-8DC6A3E5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95C238-7005-4330-A9CA-0191044D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93A5C3-7D42-44FB-85A1-D5E732F4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38F4DE-E0BA-4BCC-889A-924A9C74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300B48-51A8-496E-90FD-F4AD1C08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CA33-DE53-4565-94AA-D1D54A59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0FEA8F-1620-464A-B343-EE54D106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CB0BCF-73B8-4C7B-B92E-BDA1D5C2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BE005E-8A06-441F-BE98-96BE67D6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FA075-E24D-4536-8C10-11475B88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22505-9F61-4CBF-9985-A2C00022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3A0977-5563-462A-9F55-774D0570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4B5A3E-7F16-44A3-8941-21D3C97A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B220335-4BED-4B36-ACF4-AC3C4C91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310C90-28CF-4E90-8A2C-AF9117B0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1645F9-F99A-4675-BC28-D85C827A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B992-0E3A-4B5D-BD57-1CD4E282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3916BF1-568D-4247-8D21-94C3BF27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0D759D3-AE73-48E1-9BD0-1EA21FAB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01E6C7-0621-43DF-A9E9-9A72BB3B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C3D8AD-1574-4DFE-B7F9-DB372A1E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949DE2-4DA4-4803-852F-40381767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216128D-67BC-4647-8861-37F5ADD8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75AEEFB-576E-4811-A654-8E2D52E7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F7A2771-3968-4385-9073-1F3FE5A7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DFDEE27-1149-4A49-B2EF-D70EF7C6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59FF1D-E94F-4C1E-BCD5-9782CD2C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5899-0D6A-4A06-8673-9C0EDA22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54A039-1901-4097-8BED-3E6F2669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1A5F35-0F53-4A70-AC94-F6D24580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10972E-0C63-461B-B5AC-088FDDDB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CDA503-7509-4519-BB9E-C7E7D2C1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7021F2-2936-4761-B0AC-618F881A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B9C4B2-4D89-4193-8737-F1CF0E5E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034D03-8C3C-4E57-BA8C-225FD5BD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AC4BAF-62A4-48BB-BC75-8E005021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D5B4C3-5422-4B65-9092-80C67963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30C35C-668F-4072-AB31-E97D8666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DDAF-9A29-4732-A5C2-A481A4F6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75A980-C66D-4DBC-9AC3-0D57A166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B9660D-CFAD-4D33-BD88-CF4C40F4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D4E9CF-A83A-4CE6-8F0A-68D6C1BE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E6E8BB-DBA2-4D00-A1B4-A3238339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F15FE3-3F4B-4442-85A8-DC820FCC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E351F1-FFF7-458A-A01E-DAABBA27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7D8B6B-8577-4B3A-AD62-C5D65EBD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0E0819-8F95-430E-A654-BD5BC8AC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CEB8BA-39D9-4C02-9A32-3B8C2E13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B907AD-29F8-44B3-9EAB-C4402BF7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5462-18E6-4278-9D2E-4F24686A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754F95-4CBE-490E-AC1A-071E1882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0E3F0F-380B-4B70-A8F7-70A96F3F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8688CC-4A1D-4221-814C-AD2A7658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1DF922-30CA-4CE0-99DB-A1FD0036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77051C-A7C8-4B23-A5E9-B3CFB2FF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0C992A-2CE0-4618-B9A2-630F4A7C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74F4DE-9A17-4413-B6C5-1E4691DD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727FBE-B86F-4DE5-86B1-1D2F12DA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1F0A54-7AAA-4B15-B36A-283B5A98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2F0680-3081-49DC-8020-E3FB7477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5076-F2A0-4121-829D-FE9544BE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CD04-BC8E-4AB9-841C-564F0D51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5F4A5B-FF6E-40D5-978A-8E2279D9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8B8BCB-3ECA-4C86-A246-885E6699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BC5A60-A295-416E-8B39-E5883DAF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4AE136-7BCE-46A0-94F8-BB943FA1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2E1144-5025-4A43-865E-5B188DE4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6821B9-027C-416A-8D9E-F20BFCA6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72E5DA-C395-4232-9570-375D8B58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8F72D2-6A40-4836-8470-C5B4A4DD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3AD034-1F30-47FF-A28A-80656128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91932C-6073-49E9-8E74-A1E61C3B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8D69-BD7A-4767-900C-7CF8B332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98555C-5C31-48BE-A6CC-8307200E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951683-D358-4944-B227-A52AFF42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53227B-0278-4699-BFD9-7775A88E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6B54FF-FB2A-4452-9D1D-AF9FD46C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EEF930-E9CE-4C6C-B229-42C6002B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5FD0EB-F41A-4CA8-8642-D3F0D960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FD66CD-302E-41C1-A986-EC7A2700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45A4B9-9BAA-4ABB-834C-E94BF825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43EFF7-BCBE-445B-B2E2-8C7AB6D4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3EBE2D-A776-419E-97F2-DB3A8339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F23C-7E8E-48CF-BC02-5D1F6A12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F705C6-1A02-4EFC-BA4B-60B7D4ED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67C103-90ED-4606-88ED-8B62F736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553EB2-4F1D-4C14-ABBD-07BB9958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BBB084-2676-4802-A32C-26C130E1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A45E24-E54C-444B-8025-84795716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8AD1F9-B95C-4F4F-A58C-3C0C5ADE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D95B28-4B67-47A0-BF95-A8239ED9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3739B8-B414-4677-9786-417215D1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888177-47C6-4B4B-A261-66975976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4FF35A-8182-4797-9C45-E09484A8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BF54-FE61-47B5-8C51-2EDCE5DD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C7D63E-8FC8-441E-ADEA-8F9751D5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21AC35-3533-4AB2-AAD8-B6F385D1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2C22D1-EC3C-427A-AF3A-5B5D2E50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41688A-9823-4F49-98D9-721CEB2D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D23CDF-8EDF-43B1-911D-5EF00D47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F85512-AD97-4D24-B2AE-EEC04E7A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12941B-78BC-484D-A554-C6538169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9FCAFA-B7DD-49CD-8117-D491CF65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A48BFC-28C5-42EC-BD2B-D9F7106D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C55729-146A-4A5D-B14E-683F6683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553B-AB91-4B8B-801D-CD77BCB2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E8FC08-EABE-4633-A654-38ECB8FD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B023D8-B4EE-43E5-9E32-FBA71D26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AB6318-917B-4C31-AE9F-68328D5D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37284E-5C23-48DD-975E-9EDF24CE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E5580A-D195-4F63-B898-E0BFF09C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D08963-007E-4945-A414-AE9DC863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3120ED-C1AF-42DA-972D-588151AA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72CBF1-BB11-4488-A17C-E21C01A0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94BC6B-6A56-4E65-96DE-1B50EE36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089033-FC71-487A-9013-2CB3143D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5D59D-81A8-4397-A97B-5B28C64C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BC2416-5E08-449A-9409-C302510F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C88A21-71AA-4C30-9C85-997E803F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F9DD9A-EB6D-4F5C-B22A-343610B2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B6682D-E351-4ED1-AAF1-F13169A1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B13E6C-4E44-463E-8CFD-CEB1F955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AA9F32-6602-481F-88DB-7B843950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D35860-2823-4614-B809-F73D90C9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349761-7097-4061-9BEB-C77F9BC3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0EF994-B123-4F4B-84EC-21B28132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44400F-C905-4188-945A-AC26121F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C389D-9298-4E7A-BB5D-96290770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DB4A72-D716-4541-BDA3-876C2B73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8F4BD8-307C-4D1D-A1E9-BC1F7505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2ECB5A-CEE6-481F-90C9-DE4D3600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C9FEB7-0B7E-400F-80C5-8BE164A4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0721CF-4F81-4F39-86E6-FCE3E2F6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136F2D-D48E-480E-B55E-2B13755A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E59B2E-4059-4FB3-A5E4-B386A5EC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E4BB60-6691-40F8-ADC1-60F408CD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8AA108-88BA-496C-9D96-27DFD300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C8DBBE-EF90-4C2F-96C7-D33A0DAF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DE15A-2548-49C6-8A3B-C3037713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EE5393-8596-4D56-BAD2-04BA1456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87F2CB-A26F-4F82-B3F8-A685D706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4DF4DF-2AF4-4B69-96E4-111CA48D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32A32D-B4F2-45B7-A9A9-7A9143FE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E0178F-733F-41E3-8F65-D1C14BDB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F30E9A-85AF-4F44-B634-044AD835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C0B749-2011-4D46-A28A-49B5A0DD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AF283C-4EE9-45EA-80B3-B780BA94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1CF86D-6157-4A66-8C59-C3D9AD43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25A638-5665-48DF-94A5-0DD1F703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ECCE3-4656-4D1C-81B3-ED6E3599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B6FA4E-828E-4A1B-AB4E-73F8F670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705641-BC58-4C59-8DFE-D960C4D4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DC7663-3403-4D89-9089-FDDF767B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3DEC16-95E4-4BD3-ACF4-701FD86B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B6A5B0-A6A3-4467-BFB2-EFB8A54F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85BF1E-9729-4C73-A7C5-E76D461E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3AE9DC-327F-4532-A951-BD04162A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F947C6-589E-49D8-82BF-517338A9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6E4C77-B14B-4F42-9443-C99CD297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B773B-2521-45AC-A910-2EE2450D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3DC6-F007-4B6C-A1F2-1988655B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38C9A-E509-4A92-8172-5F70BC60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8C984-E191-4D6B-9426-3D5E40B2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A9F6B-D0FE-44D6-AB8D-43FBBB21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989B6-0586-4D5D-BBBA-DDBAF0AE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E2622-F896-4F3F-9C34-FCBFDE7B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FC1D7-F384-475F-A11C-7B503C29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809B9-18F7-4969-9152-0A7AA356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6F74C-EF7A-4CA2-960F-DB0FA80A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1A80C-3187-4A78-BE51-A5C087B0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BFA4F-D26D-4507-9FFE-E5DEBF8A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D26B-D3FC-47C2-A01F-C4E6398C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268AD-EFE7-41AB-8D3A-82D13959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245F6-3DEA-4B68-AAA5-94A57F6D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55B4B-3076-4DC6-AB29-79EFE01A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EB4FF-5155-4CCD-9481-A724E496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4D12B-DBAF-4429-B871-F604C4A4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E7CDE-918F-448D-B9E0-F9DA850F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20B78-9898-4840-B2C6-5BAEE45A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7AEB0-0816-49E4-9A29-C97419E1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581AD-ED4F-45BB-9CB9-17731C33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B3829-64ED-4BA3-AFEC-C15F6CE9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076F-D14A-459A-B445-BB9160E8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BEF4E-3B10-45CD-AC9D-30815AA8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E5D9C-F289-4747-8987-54EC5E58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AB1D6-9C40-4ECC-B72A-4EBD4C45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5FE1A-725B-4950-904C-5453C5EF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A5751-EC6B-4CAE-B5A7-AA6F76CC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A9343-2EE7-4FDD-BC41-6CAAF365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7AB3E-9F94-4A1E-86D7-B9BBE4BD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199DA-3A87-4256-9823-93992A67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EAC47-4F39-4F3D-90FE-C5E06CBA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D5D54-A982-4775-869E-DBEA85A5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B219-83B8-486B-B2A6-4828E909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D6610-A7AC-48F1-BAF4-736A56DE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E7E3E-BC70-4D04-AC9D-295AE7AF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F2230-0A90-4F21-AF83-5A8260B9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440B5-91C0-4E1A-8977-64FDD84A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084ED-3A5D-409D-BC85-8CD36C02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7C3BB-2870-4EDA-BE89-83E56D31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0004A-8E24-4F02-BE39-4F5A686B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24774-B78E-40AD-A9FA-C5E9129A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91132-937E-4C7C-94C9-38E5925E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14F91-A90D-4892-B37B-DC6AF8EE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8D82-86EF-4E70-AE88-293A443D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B020C-DA6D-4F06-89DE-F14EC609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D4488-82AE-40B6-AD0A-ACA02679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7FA3D-DE17-441D-87BD-3F2009F6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62F8A-A4A9-46F0-98F9-C6D51CC9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3681B-A4B4-48E5-BEC6-B81B1003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FCF4D-C718-4E4C-8A3E-54C55DB3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D1A44-801B-451B-8CB0-694AAF62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140F2-F77A-46E6-80F4-6419AE2C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09D68-EBA1-45D9-A850-A01F5DFB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4A61B-FECC-4F03-A5BA-39E33925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711-6CCD-4CD8-AEB4-85B8D89B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50F5C-DC88-4DAD-99F9-ABD9E90B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92740-727F-43A3-8F42-C2EBF2BB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5A3F8-7BFD-4D57-8F9D-7E570A61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89B34-4A89-459F-849D-20871B5F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6669C-323B-43C7-BD5A-AFA13B3A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C3F91-4F46-49F5-8923-E3386F56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6C141-E039-4352-8385-83BF454E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4E002-BF70-4345-9E8C-2E294121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6BDA1-AC1B-4F9D-9A08-6732D18E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B07A5-E36F-4059-9A19-908974DD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68D-3105-4AFD-BD36-EFBEF974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4DBF0-A262-4B9F-AD24-FD631F87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F4D01-3DA5-4197-88AE-FCB044C9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B3ABA-9369-42A2-924C-4D05A15F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0882F-CE91-4717-8E9E-3AFB7DE2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78D13-DE40-4FEC-A24F-4BCE8CAA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DE616-FF7E-4843-A4A0-0722D0D2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C01A9-F586-440F-87D0-3A58D259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8BECE-0B88-4F15-A8B2-3EAC7D0B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D0E80-1BF7-4289-8225-CFAF3B5A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D62C4-6F0C-4CC3-9754-56061CEC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5EA374-1E73-43AE-81A1-28714774CCD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0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52C1CF-40CD-4AA0-8424-74ED23163AD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F0E5C0-D5C2-4F81-BEC1-E62BCA0F3B3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90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2B777A-AC31-4E8E-AB00-746A4665327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53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C807FE-8075-4530-A23E-BAC8B0D2CFE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1240" indent="-28548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15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59876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59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4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4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83C10B-F327-4787-95F0-77620FD533F1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ftr" idx="4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1240" indent="-28548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15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59876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59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4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4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3392E9-2709-462A-8726-F03BA5F0798F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1240" indent="-28548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15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59876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59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4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4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1E94B6-DA19-4D86-896B-7EFD813398D0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1240" indent="-28548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15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59876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59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5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5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B1825D-7010-43EB-96E8-B2F0D9D28E68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1240" indent="-28548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15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59876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59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CE3526-457D-4D88-908B-CDDFD0052627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1240" indent="-28548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15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59876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59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CDEF2E-8B92-41E5-BDF0-369BE983D8DD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1240" indent="-28548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15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59876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59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86F236-F8E6-43F3-A9AE-A1CDB9CED965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1240" indent="-28548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15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59876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59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dt" idx="5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ftr" idx="5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sldNum" idx="6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981B20-6C7C-4C55-9B6F-E9E9F3143A75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1240" indent="-28548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15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59876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59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6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6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6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A87995-4881-4DFC-9D54-E1FDBC7596C8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1240" indent="-28548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15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59876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59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C98DB1-5B9C-498B-ACA1-0E193C95DE23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1240" indent="-28548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15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59876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59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6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6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6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29D99A-A915-44B2-B45A-88E999E13C9C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1240" indent="-28548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15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59876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596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5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7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7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7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10D786-19BB-4DCB-94D5-9E97B523F35C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90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D9ADE8-8CB9-48F6-9A4E-247E03A08D7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3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7AC744-A7B7-40A8-A00B-04130A14559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80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487BEF-D3A7-42F5-8DC1-6B02BEF22BA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DA2532-133A-45F5-8236-FE0997CAE2E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70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6C58A5-D360-47EC-876A-AC47E959C1A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1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ECE49B-09FE-4715-A727-A3941D1146C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D8893D-BCA0-40C0-9033-5D59BE20376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8000" spc="-1" strike="noStrike">
                <a:solidFill>
                  <a:srgbClr val="2f5897"/>
                </a:solidFill>
                <a:latin typeface="Palatino Linotype"/>
              </a:rPr>
              <a:t>ПРОДУКТЫ</a:t>
            </a: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Picture 2" descr="C:\Users\ADMIN\Documents\скачанные файлы.jpg"/>
          <p:cNvPicPr/>
          <p:nvPr/>
        </p:nvPicPr>
        <p:blipFill>
          <a:blip r:embed="rId1"/>
          <a:stretch/>
        </p:blipFill>
        <p:spPr>
          <a:xfrm>
            <a:off x="900000" y="836640"/>
            <a:ext cx="7123320" cy="3484440"/>
          </a:xfrm>
          <a:prstGeom prst="rect">
            <a:avLst/>
          </a:prstGeom>
          <a:ln w="0">
            <a:noFill/>
          </a:ln>
        </p:spPr>
      </p:pic>
      <p:sp>
        <p:nvSpPr>
          <p:cNvPr id="1091" name="TextBox 2"/>
          <p:cNvSpPr/>
          <p:nvPr/>
        </p:nvSpPr>
        <p:spPr>
          <a:xfrm>
            <a:off x="3132000" y="5157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РУ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Picture 5" descr=""/>
          <p:cNvPicPr/>
          <p:nvPr/>
        </p:nvPicPr>
        <p:blipFill>
          <a:blip r:embed="rId2"/>
          <a:stretch/>
        </p:blipFill>
        <p:spPr>
          <a:xfrm>
            <a:off x="4284720" y="5167440"/>
            <a:ext cx="115920" cy="9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C:\Users\ADMIN\Documents\скачанные файлы (5).jpg"/>
          <p:cNvPicPr/>
          <p:nvPr/>
        </p:nvPicPr>
        <p:blipFill>
          <a:blip r:embed="rId1"/>
          <a:stretch/>
        </p:blipFill>
        <p:spPr>
          <a:xfrm>
            <a:off x="1835280" y="631800"/>
            <a:ext cx="5257800" cy="4640400"/>
          </a:xfrm>
          <a:prstGeom prst="rect">
            <a:avLst/>
          </a:prstGeom>
          <a:ln w="0">
            <a:noFill/>
          </a:ln>
        </p:spPr>
      </p:pic>
      <p:sp>
        <p:nvSpPr>
          <p:cNvPr id="1094" name="TextBox 2"/>
          <p:cNvSpPr/>
          <p:nvPr/>
        </p:nvSpPr>
        <p:spPr>
          <a:xfrm>
            <a:off x="3132000" y="5157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ВОЩ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5" descr=""/>
          <p:cNvPicPr/>
          <p:nvPr/>
        </p:nvPicPr>
        <p:blipFill>
          <a:blip r:embed="rId2"/>
          <a:stretch/>
        </p:blipFill>
        <p:spPr>
          <a:xfrm>
            <a:off x="3708360" y="521352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3" descr=""/>
          <p:cNvPicPr/>
          <p:nvPr/>
        </p:nvPicPr>
        <p:blipFill>
          <a:blip r:embed="rId3"/>
          <a:stretch/>
        </p:blipFill>
        <p:spPr>
          <a:xfrm>
            <a:off x="5435640" y="5235480"/>
            <a:ext cx="21888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TextBox 1"/>
          <p:cNvSpPr/>
          <p:nvPr/>
        </p:nvSpPr>
        <p:spPr>
          <a:xfrm>
            <a:off x="1979640" y="981000"/>
            <a:ext cx="54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2"/>
          <p:cNvSpPr/>
          <p:nvPr/>
        </p:nvSpPr>
        <p:spPr>
          <a:xfrm>
            <a:off x="325440" y="3284640"/>
            <a:ext cx="835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одукты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Picture 4" descr=""/>
          <p:cNvPicPr/>
          <p:nvPr/>
        </p:nvPicPr>
        <p:blipFill>
          <a:blip r:embed="rId1"/>
          <a:stretch/>
        </p:blipFill>
        <p:spPr>
          <a:xfrm>
            <a:off x="6012000" y="148428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5" descr=""/>
          <p:cNvPicPr/>
          <p:nvPr/>
        </p:nvPicPr>
        <p:blipFill>
          <a:blip r:embed="rId2"/>
          <a:stretch/>
        </p:blipFill>
        <p:spPr>
          <a:xfrm>
            <a:off x="2050920" y="377352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6" descr=""/>
          <p:cNvPicPr/>
          <p:nvPr/>
        </p:nvPicPr>
        <p:blipFill>
          <a:blip r:embed="rId3"/>
          <a:stretch/>
        </p:blipFill>
        <p:spPr>
          <a:xfrm>
            <a:off x="4281480" y="387180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5" descr=""/>
          <p:cNvPicPr/>
          <p:nvPr/>
        </p:nvPicPr>
        <p:blipFill>
          <a:blip r:embed="rId4"/>
          <a:stretch/>
        </p:blipFill>
        <p:spPr>
          <a:xfrm>
            <a:off x="4932360" y="140796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5" descr=""/>
          <p:cNvPicPr/>
          <p:nvPr/>
        </p:nvPicPr>
        <p:blipFill>
          <a:blip r:embed="rId5"/>
          <a:stretch/>
        </p:blipFill>
        <p:spPr>
          <a:xfrm>
            <a:off x="826920" y="35002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5" descr=""/>
          <p:cNvPicPr/>
          <p:nvPr/>
        </p:nvPicPr>
        <p:blipFill>
          <a:blip r:embed="rId6"/>
          <a:stretch/>
        </p:blipFill>
        <p:spPr>
          <a:xfrm>
            <a:off x="5724360" y="3670200"/>
            <a:ext cx="1159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Box 1"/>
          <p:cNvSpPr/>
          <p:nvPr/>
        </p:nvSpPr>
        <p:spPr>
          <a:xfrm>
            <a:off x="0" y="102564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кушать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2"/>
          <p:cNvSpPr/>
          <p:nvPr/>
        </p:nvSpPr>
        <p:spPr>
          <a:xfrm>
            <a:off x="324000" y="3284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пить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7" name="Picture 4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5" descr=""/>
          <p:cNvPicPr/>
          <p:nvPr/>
        </p:nvPicPr>
        <p:blipFill>
          <a:blip r:embed="rId2"/>
          <a:stretch/>
        </p:blipFill>
        <p:spPr>
          <a:xfrm>
            <a:off x="5651640" y="12682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5" descr=""/>
          <p:cNvPicPr/>
          <p:nvPr/>
        </p:nvPicPr>
        <p:blipFill>
          <a:blip r:embed="rId3"/>
          <a:stretch/>
        </p:blipFill>
        <p:spPr>
          <a:xfrm>
            <a:off x="2340000" y="37162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5" descr=""/>
          <p:cNvPicPr/>
          <p:nvPr/>
        </p:nvPicPr>
        <p:blipFill>
          <a:blip r:embed="rId4"/>
          <a:stretch/>
        </p:blipFill>
        <p:spPr>
          <a:xfrm>
            <a:off x="6156360" y="37162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6" descr=""/>
          <p:cNvPicPr/>
          <p:nvPr/>
        </p:nvPicPr>
        <p:blipFill>
          <a:blip r:embed="rId5"/>
          <a:stretch/>
        </p:blipFill>
        <p:spPr>
          <a:xfrm>
            <a:off x="3780000" y="155268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7" descr=""/>
          <p:cNvPicPr/>
          <p:nvPr/>
        </p:nvPicPr>
        <p:blipFill>
          <a:blip r:embed="rId6"/>
          <a:stretch/>
        </p:blipFill>
        <p:spPr>
          <a:xfrm>
            <a:off x="4389480" y="3813120"/>
            <a:ext cx="21888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TextBox 3"/>
          <p:cNvSpPr/>
          <p:nvPr/>
        </p:nvSpPr>
        <p:spPr>
          <a:xfrm>
            <a:off x="628560" y="249228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говорить хорош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Picture 2" descr=""/>
          <p:cNvPicPr/>
          <p:nvPr/>
        </p:nvPicPr>
        <p:blipFill>
          <a:blip r:embed="rId1"/>
          <a:stretch/>
        </p:blipFill>
        <p:spPr>
          <a:xfrm>
            <a:off x="1565280" y="27082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2"/>
          <a:stretch/>
        </p:blipFill>
        <p:spPr>
          <a:xfrm>
            <a:off x="4883040" y="267012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3"/>
          <a:stretch/>
        </p:blipFill>
        <p:spPr>
          <a:xfrm>
            <a:off x="8088480" y="2703600"/>
            <a:ext cx="115560" cy="921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5" descr=""/>
          <p:cNvPicPr/>
          <p:nvPr/>
        </p:nvPicPr>
        <p:blipFill>
          <a:blip r:embed="rId4"/>
          <a:stretch/>
        </p:blipFill>
        <p:spPr>
          <a:xfrm>
            <a:off x="3309840" y="280044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6" descr=""/>
          <p:cNvPicPr/>
          <p:nvPr/>
        </p:nvPicPr>
        <p:blipFill>
          <a:blip r:embed="rId5"/>
          <a:stretch/>
        </p:blipFill>
        <p:spPr>
          <a:xfrm>
            <a:off x="4024440" y="283212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7" descr=""/>
          <p:cNvPicPr/>
          <p:nvPr/>
        </p:nvPicPr>
        <p:blipFill>
          <a:blip r:embed="rId6"/>
          <a:stretch/>
        </p:blipFill>
        <p:spPr>
          <a:xfrm>
            <a:off x="7054920" y="2814480"/>
            <a:ext cx="218880" cy="241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8" descr=""/>
          <p:cNvPicPr/>
          <p:nvPr/>
        </p:nvPicPr>
        <p:blipFill>
          <a:blip r:embed="rId7"/>
          <a:stretch/>
        </p:blipFill>
        <p:spPr>
          <a:xfrm>
            <a:off x="6338880" y="2752560"/>
            <a:ext cx="219240" cy="24120"/>
          </a:xfrm>
          <a:prstGeom prst="rect">
            <a:avLst/>
          </a:prstGeom>
          <a:ln w="0">
            <a:noFill/>
          </a:ln>
        </p:spPr>
      </p:pic>
      <p:sp>
        <p:nvSpPr>
          <p:cNvPr id="1063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Box 1"/>
          <p:cNvSpPr/>
          <p:nvPr/>
        </p:nvSpPr>
        <p:spPr>
          <a:xfrm>
            <a:off x="3132000" y="5157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7" name="Picture 5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33376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TextBox 1"/>
          <p:cNvSpPr/>
          <p:nvPr/>
        </p:nvSpPr>
        <p:spPr>
          <a:xfrm>
            <a:off x="3132000" y="5157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5" descr=""/>
          <p:cNvPicPr/>
          <p:nvPr/>
        </p:nvPicPr>
        <p:blipFill>
          <a:blip r:embed="rId1"/>
          <a:stretch/>
        </p:blipFill>
        <p:spPr>
          <a:xfrm>
            <a:off x="4284720" y="516744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2" descr="C:\Users\ADMIN\Documents\images (3).jpg"/>
          <p:cNvPicPr/>
          <p:nvPr/>
        </p:nvPicPr>
        <p:blipFill>
          <a:blip r:embed="rId2"/>
          <a:stretch/>
        </p:blipFill>
        <p:spPr>
          <a:xfrm>
            <a:off x="2205000" y="1454040"/>
            <a:ext cx="439092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TextBox 1"/>
          <p:cNvSpPr/>
          <p:nvPr/>
        </p:nvSpPr>
        <p:spPr>
          <a:xfrm>
            <a:off x="3132000" y="5157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3" name="Picture 3" descr=""/>
          <p:cNvPicPr/>
          <p:nvPr/>
        </p:nvPicPr>
        <p:blipFill>
          <a:blip r:embed="rId1"/>
          <a:stretch/>
        </p:blipFill>
        <p:spPr>
          <a:xfrm>
            <a:off x="2533680" y="1628640"/>
            <a:ext cx="4221000" cy="28083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5" descr=""/>
          <p:cNvPicPr/>
          <p:nvPr/>
        </p:nvPicPr>
        <p:blipFill>
          <a:blip r:embed="rId2"/>
          <a:stretch/>
        </p:blipFill>
        <p:spPr>
          <a:xfrm>
            <a:off x="4284720" y="516744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6" descr=""/>
          <p:cNvPicPr/>
          <p:nvPr/>
        </p:nvPicPr>
        <p:blipFill>
          <a:blip r:embed="rId3"/>
          <a:stretch/>
        </p:blipFill>
        <p:spPr>
          <a:xfrm>
            <a:off x="5435640" y="5226120"/>
            <a:ext cx="21888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TextBox 3"/>
          <p:cNvSpPr/>
          <p:nvPr/>
        </p:nvSpPr>
        <p:spPr>
          <a:xfrm>
            <a:off x="3132000" y="5157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ЛЕ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7" name="Picture 5" descr="G:\10.11\хлеб.jpg"/>
          <p:cNvPicPr/>
          <p:nvPr/>
        </p:nvPicPr>
        <p:blipFill>
          <a:blip r:embed="rId1"/>
          <a:stretch/>
        </p:blipFill>
        <p:spPr>
          <a:xfrm>
            <a:off x="2984400" y="1477800"/>
            <a:ext cx="3179880" cy="308304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6" descr=""/>
          <p:cNvPicPr/>
          <p:nvPr/>
        </p:nvPicPr>
        <p:blipFill>
          <a:blip r:embed="rId2"/>
          <a:stretch/>
        </p:blipFill>
        <p:spPr>
          <a:xfrm>
            <a:off x="5148360" y="5229360"/>
            <a:ext cx="21888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TextBox 3"/>
          <p:cNvSpPr/>
          <p:nvPr/>
        </p:nvSpPr>
        <p:spPr>
          <a:xfrm>
            <a:off x="3276720" y="508464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Б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Picture 5" descr="C:\Users\ADMIN\Desktop\математика 25.02.2016\бублики.jpg"/>
          <p:cNvPicPr/>
          <p:nvPr/>
        </p:nvPicPr>
        <p:blipFill>
          <a:blip r:embed="rId1"/>
          <a:stretch/>
        </p:blipFill>
        <p:spPr>
          <a:xfrm>
            <a:off x="3132000" y="981000"/>
            <a:ext cx="2597400" cy="34657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5" descr=""/>
          <p:cNvPicPr/>
          <p:nvPr/>
        </p:nvPicPr>
        <p:blipFill>
          <a:blip r:embed="rId2"/>
          <a:stretch/>
        </p:blipFill>
        <p:spPr>
          <a:xfrm>
            <a:off x="4118040" y="5084640"/>
            <a:ext cx="1159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Box 1"/>
          <p:cNvSpPr/>
          <p:nvPr/>
        </p:nvSpPr>
        <p:spPr>
          <a:xfrm>
            <a:off x="3132000" y="5157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3" name="Picture 5" descr=""/>
          <p:cNvPicPr/>
          <p:nvPr/>
        </p:nvPicPr>
        <p:blipFill>
          <a:blip r:embed="rId1"/>
          <a:stretch/>
        </p:blipFill>
        <p:spPr>
          <a:xfrm>
            <a:off x="5724360" y="516744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2" descr=""/>
          <p:cNvPicPr/>
          <p:nvPr/>
        </p:nvPicPr>
        <p:blipFill>
          <a:blip r:embed="rId2"/>
          <a:stretch/>
        </p:blipFill>
        <p:spPr>
          <a:xfrm>
            <a:off x="2400480" y="1413000"/>
            <a:ext cx="4487760" cy="30240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3" descr=""/>
          <p:cNvPicPr/>
          <p:nvPr/>
        </p:nvPicPr>
        <p:blipFill>
          <a:blip r:embed="rId3"/>
          <a:stretch/>
        </p:blipFill>
        <p:spPr>
          <a:xfrm>
            <a:off x="3995640" y="5259240"/>
            <a:ext cx="219240" cy="2412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4"/>
          <a:stretch/>
        </p:blipFill>
        <p:spPr>
          <a:xfrm>
            <a:off x="4729320" y="528336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6" descr=""/>
          <p:cNvPicPr/>
          <p:nvPr/>
        </p:nvPicPr>
        <p:blipFill>
          <a:blip r:embed="rId5"/>
          <a:stretch/>
        </p:blipFill>
        <p:spPr>
          <a:xfrm>
            <a:off x="5435640" y="5226120"/>
            <a:ext cx="21888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8" name="Picture 2" descr="C:\Users\ADMIN\Documents\скачанные файлы (6).jpg"/>
          <p:cNvPicPr/>
          <p:nvPr/>
        </p:nvPicPr>
        <p:blipFill>
          <a:blip r:embed="rId1"/>
          <a:stretch/>
        </p:blipFill>
        <p:spPr>
          <a:xfrm>
            <a:off x="2924280" y="1236600"/>
            <a:ext cx="3232080" cy="3230640"/>
          </a:xfrm>
          <a:prstGeom prst="rect">
            <a:avLst/>
          </a:prstGeom>
          <a:ln w="0">
            <a:noFill/>
          </a:ln>
        </p:spPr>
      </p:pic>
      <p:sp>
        <p:nvSpPr>
          <p:cNvPr id="1089" name="TextBox 8"/>
          <p:cNvSpPr/>
          <p:nvPr/>
        </p:nvSpPr>
        <p:spPr>
          <a:xfrm>
            <a:off x="3132000" y="433080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7:06:44Z</dcterms:created>
  <dc:creator>Яковлева М.Л., Богайцева М.В.</dc:creator>
  <dc:description/>
  <dc:language>en-US</dc:language>
  <cp:lastModifiedBy>ADMIN</cp:lastModifiedBy>
  <dcterms:modified xsi:type="dcterms:W3CDTF">2016-09-19T19:17:33Z</dcterms:modified>
  <cp:revision>64</cp:revision>
  <dc:subject/>
  <dc:title>Загадки о лесе</dc:title>
</cp:coreProperties>
</file>