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42A-A240-43EE-BF58-D13292DE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57A-CC43-4AEE-A203-5709A479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AC0F2-939B-4391-98F9-6C81A442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70403-4A23-4E1D-B93A-DCD13038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A24A2-12F5-4187-9324-89EBEFF8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BB79-C918-42A3-9877-1BD69159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7D0A0-670F-4E92-B280-554D8B7A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ABE33-AEA6-4AB0-B980-370359F6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673C0-0766-4439-86F0-8FF80B26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06730-22E5-4282-A417-D8BDA504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C1BCB-1749-4FC2-86AD-5090BEEB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F9D18-780F-4489-AAF9-27897E96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03D-C113-42FE-AE6D-0705F343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081B7-A7C1-41C5-A7A0-F467B5E0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4D0A3-A841-43E7-86D7-2AA3544F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9B406-A72D-4C7C-AF41-55284942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AF7F1-37FB-4B43-8C93-8D06AD2D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59F6B-C3F8-43C5-8C60-A4372E2C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0FA2E-D049-4005-95B6-A37B4C44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72DF9-B913-4E01-8FAC-8A1174C3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A819D-481E-413F-9075-2BDE33D9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BBE1F-7E08-4B38-8054-481451DC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05719-D6EB-45A4-BA74-0560CCA6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80D-6744-4FE3-ABDD-3344B693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16958-B68B-4CF7-8A57-6CA13374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383D3-8990-4007-A36C-24B36FE0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44B3C-1A0F-4260-A1FF-05FE1B70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F8BAB-3F65-4D82-84AB-F9059B38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8AF63-28C4-45D8-8FB9-2E387399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EBE5F-A8D5-45A5-82DE-2243B145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197CF-0836-429F-8C13-2FEE45B7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34C3B-3B27-4542-9E2A-86563E54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4A063-2696-4C01-9A99-723E6308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E1623-A328-437B-A676-0B3DDB05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AF77-D363-4B5D-A13D-D1AD1E83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91511-EB17-46DF-B3C8-9471353A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FBA2B-479D-45AF-ABD5-D4EEDBCA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6FF2C-CDCE-4F3E-B1D6-50CC1905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504BC-7FDE-4F8A-9C48-1123A466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D929C-84A7-4600-98BB-1344C3BF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BCB56-1526-48E3-B9ED-AF11546D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C2D04-182F-4CA5-AD30-09FDD537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8B1F9-3D4D-4ECF-9D8B-73EDBD55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D0FB5-9FF4-4C19-AB2B-8805868A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33657-7976-4AF2-B84B-5E39830C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3D55-8458-4C02-866E-A756699A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38B7C-DF7C-46AD-B70A-507AE1B5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31196-726C-4AB8-9CCF-FCDFD14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21F26-7EF9-40DD-B347-23B87B69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51B73-F040-4BD3-9B57-701482EB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45725-8AF9-4299-A85D-DCDD3118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4476A-B409-4DE0-A6D7-90AD4328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0C8FB-BC4E-46BF-9E1C-9F840429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C237A-C3CC-4A3A-92CC-C433685F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1B23E-EE8A-4CEB-8A7B-11C0FA5B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2682E-5F7F-40A5-B9BB-E2473997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4836-9B9B-400E-B177-2B5AB517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AFACE-F991-494D-979E-A1E68CF3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EDB42-FF0C-4B1C-8FD7-330CE05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94D13-FDE8-4F99-A6FD-EAF7DF11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F9D60-4ADD-4E34-9370-66323F59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5E8F5-FE54-402C-A8C7-736B8430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94EDD-A408-4EAA-BFFC-E7565805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5F641-B4F6-4B97-821B-93950C4F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DC46A8-EC18-49AF-8952-F584FDB9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D83718-838B-4389-AD8E-0DAF9021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F4ED8D-82A7-4322-AA7D-8E40FD15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B3C6-4BB6-4DD8-BBFF-8D59E7D6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ED6112-62B0-4399-B59D-1054F4A8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9CAE9C-73A1-4FCD-94DA-98E28909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002E8F-0D5D-4EEA-AEB5-ECFE1FDA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3D8803-BC9F-4B51-99E5-DC2DB1BE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536474-02B1-4C11-91E8-80961345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E30EE7-0130-4039-992E-5025E357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F9AE2E-5FEE-420B-9F9B-468EE981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8F7F5C-96B6-42C3-88C6-7C3772F1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7FC964-2870-4858-B7C7-F135C779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76AB3-4292-4631-B110-872BF1D5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542B-6C5D-453B-89D8-8655DC5F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DF590-C43C-4164-A7DE-5CB9CBA9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AFD48-32A5-4EED-84C2-92BDC37B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7B719-F18F-4F93-B2A3-4CF2F129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72CCA7-ECF3-4E96-873C-9EA9F21C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626F0-610D-4C04-8616-74C0439C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EA256-E173-44FE-9B1F-4F8E6AC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E8144-33A0-4DF3-A7C2-EA5C4BD8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2C0F5-973C-4F31-9AA0-B3E5B2B4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DD4AE-5631-48B4-B75A-EAE33B94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1E9E5-3F76-48AE-B959-FDA9A1F5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1220-9D7B-4EE6-A39E-5938C690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BAFCB-D4A8-419A-ADFA-ABC057A3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9630C-54E6-4E36-8806-19D2AF5C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7F886B-374B-4C5D-AF8E-3EA8A3D4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ADF88-2F8D-48EF-9B06-847CA775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68D57-B07F-4E5B-B8C1-5DA4344F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8E746-6EC1-4BBD-B664-B00732DB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515262-A37D-48D3-9274-2462DF4E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1E839-7808-451C-81A5-4F701789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BC530-DBB5-4DE4-B501-B36B5F6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0B14F6-D353-4777-A12B-96EEEFEF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B8AB-FABD-431E-AEC4-7BD7A4B2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118F3-D561-4205-9771-7E89723E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D0582-4638-42DC-8A7C-CE1AC5E5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0B07B-0FF4-47E2-92A7-54BDBC2C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55019-2228-49DE-B5ED-28927762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8156F-828E-4FAD-870C-D27C9503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01CD6-2456-4230-B9A2-4827A575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4030C-CC2D-4CE7-A288-3D6F809A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323E5-4B8F-4071-9100-D94EDFCB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8AE94-370B-4AAC-AA41-06B4CBC7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15BA7-5272-4C55-A1EE-E276A4F1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988-FD0F-4184-90F6-2151F5DE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F587-776D-472E-A667-8202BD36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7445A-AAA8-4B40-96C5-1B4C97E3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72F29-5AEB-4211-B234-CB29A8A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3A5C2-4595-490F-A437-EA193B91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4BE4F-F15E-4E39-873E-1FE1DC54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45195-8868-4194-9936-1F8D21AE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B931A-7BA1-4096-A968-0801097E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C1EF1-17C3-47C0-A705-A84D535B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AA8BD-12F1-4E8C-B84D-4339BDDC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1D9724-089D-4511-B7C6-064E9B46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6BFBE-781D-4ACC-979F-D8923E96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CED0-D195-4593-A607-B8DC8461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BEC23-ECCC-46D1-B022-2628BCA1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51C52C-A73E-4A3C-9461-B45DAA33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BF7C8-CADE-43DF-9282-9AB1F38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69BD8-8FDB-475E-9D2B-B30DF559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E86798-6550-4EE2-B941-A604C7C8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E40D76-E401-46C6-A389-5F9BCC6A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A5811-60D5-48D5-B324-FC39C630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5F6A9-DEA0-461F-9F15-E1E5DA25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75E67-43C3-4B90-983C-AE255ED7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BF7544-A209-484D-B590-9B9CDF36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2FAA-BF54-4534-ACAC-6B6B19EC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FB464C-FF24-48AE-8744-7429D4BC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10ECB6-D5F3-495D-8799-EFD1944C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ED0D1C-9412-4369-AF35-09A249F7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ACCB2-F3F4-4EBC-96EF-8DF1E72C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841946-5CD8-4A16-A6EA-BC4AE0BC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641C9-7063-4989-9688-4F7094C1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9EA1D3-7BDE-44B7-99D2-104D772A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D61033-4ADD-4009-9A9E-763C26AE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64E532-98E1-4B02-A580-C48FA9F3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0FBB61-0449-495A-A550-FC17A830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CCEA-B061-4C90-9022-FC9C1584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D6728D-BB6A-414F-AB52-2EF4EDA9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6DB01-3305-4682-AC2E-4246647E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F35BD-0FAA-4728-B285-4CF39098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25EFE7-39B4-4E31-BE7E-D4EF3C23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6AD01-BD21-4D7C-83DE-C95AF082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13526F-769B-403C-884E-88F12A0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ECF17-F5C4-419B-81D0-4EFF1C9D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44111-ED90-471B-8DAB-249F17B0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B8D40D-0A61-4934-A61B-A61686DF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B36401-EC0D-46D7-A436-7D230041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BB2A-61BB-4B1E-89AC-1E268FC3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40254-1D97-4FFD-B7CF-E86972F0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01D78-2E1E-4E1E-9F83-09F67A9D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4D218F-FF83-44EF-9434-75131D6C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31AFD8-C903-4908-800C-55FA59B1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002A83-DC50-4816-946B-7F57D082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22D484-9EA6-4013-B45D-317A6509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B842C-0BAF-4746-B661-03A1E4F2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AE85A-A329-4C88-B901-4AE2069F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A2C47C-9552-4CC5-93E1-93A0832B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B07D6-3E08-41D3-B42C-52E6DF80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D2D3-82F8-46C0-BB3B-3E3CA889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2AB9AD-6793-4220-A355-C82F7A77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5B9005-FB90-4ADE-9EEA-316CFBEA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02F867-F0AA-4CF6-A35A-80459753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673466-E02D-4EF4-AC80-C2B38178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2A3908-401A-41A8-B657-6526D414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8DF4B2-56AB-4074-ACCC-2464059A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D036A2-A279-4ECB-8FA5-7506D853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E0AC21-C981-4BC5-97E0-EBBD8F3C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1A1C96-46B4-4F12-A489-3B9E4E78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4334D-7DD0-4CA9-890F-4058D83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98CCD-29D4-4CBB-90C7-15810EC8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B5B299-0A33-417F-8570-064E4562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CDA184-65BE-4194-9E9F-6BC01A77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66C3A8-C535-45DA-834E-950789FD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B9C2CE-4005-4CDE-8860-40EB6D0F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6DB233-27ED-4D82-B548-7C410517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B4BD05-49A9-4A48-95AF-9909E3E8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199B4C-6126-4D02-96B7-4DB83298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2964FA-CAF2-4A63-B445-1FA803D8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CA5FCF-276D-4605-B47A-31D868DE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6FCD7F-B87B-49C1-93E6-9C31B3D8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E6BB4-64B9-4398-B78B-9C5F2F8D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F80FDF-9AC1-4A70-8309-32D62D89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4B9713-817D-4374-A025-DA65C0B5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92928A-7C0F-4D9E-9ACC-15F79899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D56E23-0975-4F2F-A5A3-0EC38E4C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C3AAD0-C580-4726-9A80-E0B9CC5B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EA5840-9CFC-4557-8421-8D085199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88EEBF-3EE6-45F0-A9AB-B3810F33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62723A-B904-4498-884C-7232F826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421988-108B-4906-9E0D-9F46425B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292E25-AAF0-48C3-88C0-B0A1C2BB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49B52-A031-46A6-BCB7-A0D165B0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C2FFE2-CCE5-4334-BC4D-634B0C13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B17E96-1F47-40E9-AA4C-A3FE5AFC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5FEAD6-B0A7-4981-B9BF-069BB0B2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4A52C9-0FA3-4393-A4B4-550B5665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2B72A6-5835-4484-A66A-80D6F7DC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DBD793-AAED-4F56-9100-DB40A9C4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737A96-92D7-4F69-AC3E-9774E190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6B67F7-0ACB-423E-ABF9-3C99F055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E2F432-F3F8-4FB8-A6BC-64C6C448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8DAE-C746-4EE8-9759-6E8D5EBB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EA7-BB49-4F8C-8DCB-33BFF571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50CD-7D2F-4379-B729-027D2F6A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2077-F94E-483A-8C24-1304DD87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45DC-0247-4C47-911B-36B4D23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4406-6A82-4BDD-8BF8-DF7FC40D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CD02-443E-4A65-B7A0-8416084D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FA5E-06C8-42B9-9B58-316C789B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9165-FD04-4EFA-A52E-E98E96B2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674D-7A5D-491A-8381-D5BE6708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E20B2-094A-41D0-B413-95FC16DC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9588-AFC8-45E0-874C-0D9B5DD0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4F9-7507-401C-8587-0C7EF7E4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FAB98-9532-44D9-8ABB-795FAD5A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9584-D415-4B31-AD31-0C309C81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0A218-1A64-423D-968C-25EAF33E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62FD2-44C7-42CA-BBFB-8A51728C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DBCF-986C-4968-9849-251AD84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58BDD-D0E3-4A19-BCCC-9F4FA162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B36AD-BD4C-459A-86F8-065C73C4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EE31-ECFC-465D-BDEB-CA3052B4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1C6C6-409D-4715-9D09-0E12316A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AB022-F437-4F98-A421-08911FF9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470-A28F-4F8C-B534-E2CFDC67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B3A68-6A3A-4B53-8896-35D4EA6B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9B7C7-FDB5-4427-A6C7-155DED69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00288-23D4-444F-8350-142502D0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DAA28-47B4-4573-9165-1A0D577A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977CD-4C17-4C15-A240-C3919EA2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FED53-7708-4C9D-B404-804395D6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F6903-B6EC-4B96-A46B-AB9CDB8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2EC82-068C-415D-A8CA-CF621D2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8E7E6-91F1-4A1C-8DB7-C268B876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850B-E9FD-4922-92F5-9C7593DF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BC6-0BBD-40F3-A56B-5EDF6F5A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AFC64-011A-44FC-8262-3AAB8183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4576A-4320-48F8-884B-EB284C4C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1F255-92B5-4B0B-B460-84AB1110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69AAA-9AA9-4EF8-931D-FFCFC1D2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E13A3-757B-4A2E-8C3D-56AA5B81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1BC89-B2F4-45FE-A149-7E68DC6D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F7C3E-730E-4157-A326-51938B03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6666E-A191-4D83-A3A1-11C30AEA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D48A2-BAE4-47D2-900B-BF8CAE8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D43B5-157D-42BF-BEA3-894E2896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9C4-55E5-4F2A-9078-14DB2ADC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736A2-6104-41DD-8C5F-011FA081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A8BD6-19E6-43AD-8777-C51C2F84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129B5-656A-4287-8302-C8555784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113DC-095B-404A-AD46-BA7A3F3B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A5358-47D5-4609-8857-1FBD62AC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56F58-522C-4C60-AAC1-9C696812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A9902-3B56-451D-932C-65C0664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B77DB-AE01-4717-8F6B-396E5BCC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01C89-D363-4792-9C0C-9CDAC29B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FBD7B-B844-4D08-934C-B175A72C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340-4FC1-4A18-9197-96B2C482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EAADD-03C3-4002-A219-383F3097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8B01D-EC3D-4001-85E0-42B96DA3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288AE-0291-46DF-8BE9-952AE2AD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9FFE-EE3C-447F-9421-DC03ECB1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37833-3E58-48D9-8A52-33158DB5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7C321-1C94-49EE-B647-CA1003D8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A1F4A-EB9C-49F5-BF05-32C3C2D2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3EB09-2E40-4F1A-9599-1638F7F9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5C8BE-A08D-4579-9591-E9C14C1A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ED0A0-5783-4C26-8452-D18F24EB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F93-0F96-4CC3-8A53-2F09439E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685E2-9F11-466F-86BE-6092D1B5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6EEA5-AACD-4F66-BA29-1ED4436C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711BE-312E-45C9-804C-3301FCEC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25312-3B41-4826-BED0-E123D939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91F39-5BB3-4818-90D8-4C83CEAD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9BB44-134C-43DB-A2AE-D03D47C6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A1535-3E36-48F6-B479-5A694A43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6D547-1E4E-4365-A29D-63B2826D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01959-CA85-4B1E-A43B-61CCE9F1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B2B95-30F4-4C2B-A181-C2FC959B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2FC459-F816-4EB2-A72B-AD083651DC9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35E425-C563-4D3F-B261-3C2802C16A2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9EC435-E264-49D6-AB1F-73DD7111B8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7EAC4B-761A-41A3-A2A9-4781FA25B11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53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F274AB-B930-4109-BDA4-17461B7B107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4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DA5F26-05A9-49F9-99CA-35FC31AA239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4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F804D3-F212-4323-A618-AC6405E3527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4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4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888B02-83FF-49F1-A0AB-EC731356177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7853BB-C461-4C21-84A2-46B51320D0F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B5E7B9-6B49-476A-B9C1-38F6038AE05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C4BCC9-55E2-4E22-89FA-165674ED4D8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23F97A-8155-4473-A88D-14508C8CD80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5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5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6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A8C2CD-B4B3-4FAB-B592-2E1F437BF2C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6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6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6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6A5411-9B01-4A17-8D81-29D542957D0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41B8E7-E975-4CB1-80A6-E4429C38AD3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6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6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509315-8C27-4DE2-92B5-B8BD18B4482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7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7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7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7508B5-737D-408E-AF7B-85FB26858FD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9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B77687-5909-4E9F-875A-0F8841E460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3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1F0F71-8EB5-450D-83D8-AB40619B16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8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419B2D-280B-4ECC-BBF4-F38144C9084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44516D-303A-4275-97C0-9DB69AF9EC8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9C16B5-0899-428B-808F-8DC4AA07B37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1FFCA8-4179-495E-9605-E2226BD5769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8DB8CC-080D-4C1F-B09B-B203F1C4A4A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8000" spc="-1" strike="noStrike">
                <a:solidFill>
                  <a:srgbClr val="2f5897"/>
                </a:solidFill>
                <a:latin typeface="Palatino Linotype"/>
              </a:rPr>
              <a:t>ПРОДУКТЫ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2" descr="C:\Users\ADMIN\Documents\скачанные файлы.jpg"/>
          <p:cNvPicPr/>
          <p:nvPr/>
        </p:nvPicPr>
        <p:blipFill>
          <a:blip r:embed="rId1"/>
          <a:stretch/>
        </p:blipFill>
        <p:spPr>
          <a:xfrm>
            <a:off x="900000" y="836640"/>
            <a:ext cx="7123320" cy="3484440"/>
          </a:xfrm>
          <a:prstGeom prst="rect">
            <a:avLst/>
          </a:prstGeom>
          <a:ln w="0">
            <a:noFill/>
          </a:ln>
        </p:spPr>
      </p:pic>
      <p:sp>
        <p:nvSpPr>
          <p:cNvPr id="1091" name="TextBox 2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Р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5" descr=""/>
          <p:cNvPicPr/>
          <p:nvPr/>
        </p:nvPicPr>
        <p:blipFill>
          <a:blip r:embed="rId2"/>
          <a:stretch/>
        </p:blipFill>
        <p:spPr>
          <a:xfrm>
            <a:off x="4284720" y="5167440"/>
            <a:ext cx="115920" cy="9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C:\Users\ADMIN\Documents\скачанные файлы (5).jpg"/>
          <p:cNvPicPr/>
          <p:nvPr/>
        </p:nvPicPr>
        <p:blipFill>
          <a:blip r:embed="rId1"/>
          <a:stretch/>
        </p:blipFill>
        <p:spPr>
          <a:xfrm>
            <a:off x="1835280" y="631800"/>
            <a:ext cx="5257800" cy="464040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2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ВО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5" descr=""/>
          <p:cNvPicPr/>
          <p:nvPr/>
        </p:nvPicPr>
        <p:blipFill>
          <a:blip r:embed="rId2"/>
          <a:stretch/>
        </p:blipFill>
        <p:spPr>
          <a:xfrm>
            <a:off x="3708360" y="521352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" descr=""/>
          <p:cNvPicPr/>
          <p:nvPr/>
        </p:nvPicPr>
        <p:blipFill>
          <a:blip r:embed="rId3"/>
          <a:stretch/>
        </p:blipFill>
        <p:spPr>
          <a:xfrm>
            <a:off x="5435640" y="523548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1979640" y="98100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2"/>
          <p:cNvSpPr/>
          <p:nvPr/>
        </p:nvSpPr>
        <p:spPr>
          <a:xfrm>
            <a:off x="325440" y="3284640"/>
            <a:ext cx="83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одукты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5" descr=""/>
          <p:cNvPicPr/>
          <p:nvPr/>
        </p:nvPicPr>
        <p:blipFill>
          <a:blip r:embed="rId2"/>
          <a:stretch/>
        </p:blipFill>
        <p:spPr>
          <a:xfrm>
            <a:off x="2050920" y="377352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6" descr=""/>
          <p:cNvPicPr/>
          <p:nvPr/>
        </p:nvPicPr>
        <p:blipFill>
          <a:blip r:embed="rId3"/>
          <a:stretch/>
        </p:blipFill>
        <p:spPr>
          <a:xfrm>
            <a:off x="4281480" y="387180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5" descr=""/>
          <p:cNvPicPr/>
          <p:nvPr/>
        </p:nvPicPr>
        <p:blipFill>
          <a:blip r:embed="rId4"/>
          <a:stretch/>
        </p:blipFill>
        <p:spPr>
          <a:xfrm>
            <a:off x="4932360" y="14079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5" descr=""/>
          <p:cNvPicPr/>
          <p:nvPr/>
        </p:nvPicPr>
        <p:blipFill>
          <a:blip r:embed="rId5"/>
          <a:stretch/>
        </p:blipFill>
        <p:spPr>
          <a:xfrm>
            <a:off x="826920" y="3500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5" descr=""/>
          <p:cNvPicPr/>
          <p:nvPr/>
        </p:nvPicPr>
        <p:blipFill>
          <a:blip r:embed="rId6"/>
          <a:stretch/>
        </p:blipFill>
        <p:spPr>
          <a:xfrm>
            <a:off x="5724360" y="367020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Box 1"/>
          <p:cNvSpPr/>
          <p:nvPr/>
        </p:nvSpPr>
        <p:spPr>
          <a:xfrm>
            <a:off x="0" y="102564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кушать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2"/>
          <p:cNvSpPr/>
          <p:nvPr/>
        </p:nvSpPr>
        <p:spPr>
          <a:xfrm>
            <a:off x="324000" y="3284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ить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Picture 4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5" descr=""/>
          <p:cNvPicPr/>
          <p:nvPr/>
        </p:nvPicPr>
        <p:blipFill>
          <a:blip r:embed="rId2"/>
          <a:stretch/>
        </p:blipFill>
        <p:spPr>
          <a:xfrm>
            <a:off x="5651640" y="1268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5" descr=""/>
          <p:cNvPicPr/>
          <p:nvPr/>
        </p:nvPicPr>
        <p:blipFill>
          <a:blip r:embed="rId3"/>
          <a:stretch/>
        </p:blipFill>
        <p:spPr>
          <a:xfrm>
            <a:off x="2340000" y="3716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"/>
          <p:cNvPicPr/>
          <p:nvPr/>
        </p:nvPicPr>
        <p:blipFill>
          <a:blip r:embed="rId4"/>
          <a:stretch/>
        </p:blipFill>
        <p:spPr>
          <a:xfrm>
            <a:off x="6156360" y="3716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6" descr=""/>
          <p:cNvPicPr/>
          <p:nvPr/>
        </p:nvPicPr>
        <p:blipFill>
          <a:blip r:embed="rId5"/>
          <a:stretch/>
        </p:blipFill>
        <p:spPr>
          <a:xfrm>
            <a:off x="3780000" y="15526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7" descr=""/>
          <p:cNvPicPr/>
          <p:nvPr/>
        </p:nvPicPr>
        <p:blipFill>
          <a:blip r:embed="rId6"/>
          <a:stretch/>
        </p:blipFill>
        <p:spPr>
          <a:xfrm>
            <a:off x="4389480" y="381312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Box 3"/>
          <p:cNvSpPr/>
          <p:nvPr/>
        </p:nvSpPr>
        <p:spPr>
          <a:xfrm>
            <a:off x="628560" y="249228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1565280" y="2708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4883040" y="26701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3"/>
          <a:stretch/>
        </p:blipFill>
        <p:spPr>
          <a:xfrm>
            <a:off x="8088480" y="270360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4"/>
          <a:stretch/>
        </p:blipFill>
        <p:spPr>
          <a:xfrm>
            <a:off x="3309840" y="280044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6" descr=""/>
          <p:cNvPicPr/>
          <p:nvPr/>
        </p:nvPicPr>
        <p:blipFill>
          <a:blip r:embed="rId5"/>
          <a:stretch/>
        </p:blipFill>
        <p:spPr>
          <a:xfrm>
            <a:off x="4024440" y="283212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7" descr=""/>
          <p:cNvPicPr/>
          <p:nvPr/>
        </p:nvPicPr>
        <p:blipFill>
          <a:blip r:embed="rId6"/>
          <a:stretch/>
        </p:blipFill>
        <p:spPr>
          <a:xfrm>
            <a:off x="7054920" y="28144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8" descr=""/>
          <p:cNvPicPr/>
          <p:nvPr/>
        </p:nvPicPr>
        <p:blipFill>
          <a:blip r:embed="rId7"/>
          <a:stretch/>
        </p:blipFill>
        <p:spPr>
          <a:xfrm>
            <a:off x="6338880" y="2752560"/>
            <a:ext cx="219240" cy="24120"/>
          </a:xfrm>
          <a:prstGeom prst="rect">
            <a:avLst/>
          </a:prstGeom>
          <a:ln w="0">
            <a:noFill/>
          </a:ln>
        </p:spPr>
      </p:pic>
      <p:sp>
        <p:nvSpPr>
          <p:cNvPr id="1063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1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5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3337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TextBox 1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5" descr=""/>
          <p:cNvPicPr/>
          <p:nvPr/>
        </p:nvPicPr>
        <p:blipFill>
          <a:blip r:embed="rId1"/>
          <a:stretch/>
        </p:blipFill>
        <p:spPr>
          <a:xfrm>
            <a:off x="4284720" y="51674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2" descr="C:\Users\ADMIN\Documents\images (3).jpg"/>
          <p:cNvPicPr/>
          <p:nvPr/>
        </p:nvPicPr>
        <p:blipFill>
          <a:blip r:embed="rId2"/>
          <a:stretch/>
        </p:blipFill>
        <p:spPr>
          <a:xfrm>
            <a:off x="2205000" y="1454040"/>
            <a:ext cx="43909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TextBox 1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Picture 3" descr=""/>
          <p:cNvPicPr/>
          <p:nvPr/>
        </p:nvPicPr>
        <p:blipFill>
          <a:blip r:embed="rId1"/>
          <a:stretch/>
        </p:blipFill>
        <p:spPr>
          <a:xfrm>
            <a:off x="2533680" y="1628640"/>
            <a:ext cx="4221000" cy="28083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2"/>
          <a:stretch/>
        </p:blipFill>
        <p:spPr>
          <a:xfrm>
            <a:off x="4284720" y="51674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6" descr=""/>
          <p:cNvPicPr/>
          <p:nvPr/>
        </p:nvPicPr>
        <p:blipFill>
          <a:blip r:embed="rId3"/>
          <a:stretch/>
        </p:blipFill>
        <p:spPr>
          <a:xfrm>
            <a:off x="5435640" y="522612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Box 3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ЛЕ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Picture 5" descr="G:\10.11\хлеб.jpg"/>
          <p:cNvPicPr/>
          <p:nvPr/>
        </p:nvPicPr>
        <p:blipFill>
          <a:blip r:embed="rId1"/>
          <a:stretch/>
        </p:blipFill>
        <p:spPr>
          <a:xfrm>
            <a:off x="2984400" y="1477800"/>
            <a:ext cx="3179880" cy="30830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6" descr=""/>
          <p:cNvPicPr/>
          <p:nvPr/>
        </p:nvPicPr>
        <p:blipFill>
          <a:blip r:embed="rId2"/>
          <a:stretch/>
        </p:blipFill>
        <p:spPr>
          <a:xfrm>
            <a:off x="5148360" y="522936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Box 3"/>
          <p:cNvSpPr/>
          <p:nvPr/>
        </p:nvSpPr>
        <p:spPr>
          <a:xfrm>
            <a:off x="3276720" y="5084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5" descr="C:\Users\ADMIN\Desktop\математика 25.02.2016\бублики.jpg"/>
          <p:cNvPicPr/>
          <p:nvPr/>
        </p:nvPicPr>
        <p:blipFill>
          <a:blip r:embed="rId1"/>
          <a:stretch/>
        </p:blipFill>
        <p:spPr>
          <a:xfrm>
            <a:off x="3132000" y="981000"/>
            <a:ext cx="2597400" cy="34657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5" descr=""/>
          <p:cNvPicPr/>
          <p:nvPr/>
        </p:nvPicPr>
        <p:blipFill>
          <a:blip r:embed="rId2"/>
          <a:stretch/>
        </p:blipFill>
        <p:spPr>
          <a:xfrm>
            <a:off x="4118040" y="508464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Box 1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Picture 5" descr=""/>
          <p:cNvPicPr/>
          <p:nvPr/>
        </p:nvPicPr>
        <p:blipFill>
          <a:blip r:embed="rId1"/>
          <a:stretch/>
        </p:blipFill>
        <p:spPr>
          <a:xfrm>
            <a:off x="5724360" y="51674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2" descr=""/>
          <p:cNvPicPr/>
          <p:nvPr/>
        </p:nvPicPr>
        <p:blipFill>
          <a:blip r:embed="rId2"/>
          <a:stretch/>
        </p:blipFill>
        <p:spPr>
          <a:xfrm>
            <a:off x="2400480" y="1413000"/>
            <a:ext cx="4487760" cy="30240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3" descr=""/>
          <p:cNvPicPr/>
          <p:nvPr/>
        </p:nvPicPr>
        <p:blipFill>
          <a:blip r:embed="rId3"/>
          <a:stretch/>
        </p:blipFill>
        <p:spPr>
          <a:xfrm>
            <a:off x="3995640" y="525924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4"/>
          <a:stretch/>
        </p:blipFill>
        <p:spPr>
          <a:xfrm>
            <a:off x="4729320" y="52833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6" descr=""/>
          <p:cNvPicPr/>
          <p:nvPr/>
        </p:nvPicPr>
        <p:blipFill>
          <a:blip r:embed="rId5"/>
          <a:stretch/>
        </p:blipFill>
        <p:spPr>
          <a:xfrm>
            <a:off x="5435640" y="522612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Picture 2" descr="C:\Users\ADMIN\Documents\скачанные файлы (6).jpg"/>
          <p:cNvPicPr/>
          <p:nvPr/>
        </p:nvPicPr>
        <p:blipFill>
          <a:blip r:embed="rId1"/>
          <a:stretch/>
        </p:blipFill>
        <p:spPr>
          <a:xfrm>
            <a:off x="2924280" y="1236600"/>
            <a:ext cx="3232080" cy="3230640"/>
          </a:xfrm>
          <a:prstGeom prst="rect">
            <a:avLst/>
          </a:prstGeom>
          <a:ln w="0">
            <a:noFill/>
          </a:ln>
        </p:spPr>
      </p:pic>
      <p:sp>
        <p:nvSpPr>
          <p:cNvPr id="1089" name="TextBox 8"/>
          <p:cNvSpPr/>
          <p:nvPr/>
        </p:nvSpPr>
        <p:spPr>
          <a:xfrm>
            <a:off x="3132000" y="43308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17:33Z</dcterms:modified>
  <cp:revision>64</cp:revision>
  <dc:subject/>
  <dc:title>Загадки о лесе</dc:title>
</cp:coreProperties>
</file>