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1FD-529A-483E-8602-753622A2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BFE-2B0B-4AF2-A023-05D23B6A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1F3-2951-406E-8FE5-2C477F35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99D-7E32-4AF2-A441-98AEC919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5D8-E401-4404-92AC-D80789FF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ECD-23C0-4B9A-91B2-84D6F25D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BA9-B23B-49BD-8C0B-DF6E1A8D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D3F-ECEC-4B23-9219-235D933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5BD-1B6E-42A0-900A-AA059670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54A-3C2D-48C6-B5F4-0B141DD5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6F7-5BFC-47C4-AFBB-33BBC68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3BA-5624-4CAA-A155-3D994591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D980-6948-4E8E-8D42-587AB69C4F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Супы и их ви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3857760"/>
            <a:ext cx="8072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технолог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мирнова Е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идкое кушанье, представляющие собой отвар, приготовленный по определенному рецепту из мяса, рыбы, птицы, овощей, грибов, крупы и т. д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ар-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о жидкость, насыщенная тем, что в ней  варилось. Чистый отвар, сваренный из мяса, рыбы или птицы называетс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льоном.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поверхности бульона образуется жир. Это-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ва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Виды суп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суп.png"/>
          <p:cNvPicPr/>
          <p:nvPr/>
        </p:nvPicPr>
        <p:blipFill>
          <a:blip r:embed="rId1"/>
          <a:stretch/>
        </p:blipFill>
        <p:spPr>
          <a:xfrm>
            <a:off x="714240" y="1357200"/>
            <a:ext cx="8013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п прозрачный из кур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7120" y="856800"/>
            <a:ext cx="8429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ста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рица - 1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да - 1,5 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рковь - 80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ук репчатый - 1 гол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ошек зеленый - 4 ст. лож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е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пша - 30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шку курицы промойте, залейте холодной водой, доведите до кипения, снимите пену, добавьте коренья и варите на слабом огне до готовности, процеди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ьте в бульон соль, зеленый горошек и проварите в течение 5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аче положите сваренную отдельно и промытую лапшу, кусочки курицы и рубленую зел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780080" y="1311120"/>
            <a:ext cx="4119480" cy="2760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равочные суп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3833640" cy="929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5029200" y="1646280"/>
            <a:ext cx="3840120" cy="5187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п-пюре из цветной капус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44440" y="969840"/>
            <a:ext cx="3773520" cy="957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928680" y="785520"/>
            <a:ext cx="48243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 цветная - 30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- 1 ш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пчатый - 1 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растительное - 2 ст. л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 пшеничная - 2 ст. л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душистый - 5 ш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- 1 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 - по вку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цеп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рковь и лук мелко нарежьте и тушите, добавив 1 столовую ложку масла и 5 столовых ложек воды, до полного выпаривания жидк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пусту залейте кипящей водой, отварите до мягкости. Затем выньте из отвара и протрите вместе с тушеными овощ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ку обжарьте на оставшемся масле до кремового цвета, соедините с протертыми овощами. Постепенно влейте капустный отвар, перемешайте, посолите, поперчите и варите суп 2–3 минуты. При подаче оформите зелен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олодный суп с овощ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00320" y="1143000"/>
            <a:ext cx="5143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фир обезжиренный - 1,5 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к - 2 зубч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пчатый - 2 гол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- 2 ш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сладкий зеленый и красный - по 1 ш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ь укропа рубленая - 2 ст. л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черный молотый, соль по вку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цеп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вощи нарежьте кубиками, разложите по тарелк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хлажденный кефир посолите, поперчите, смешайте с толченым чесноком и залейте полученной смесью овощ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подаче посыпьте рубленой зеленью укро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-23760" y="1494000"/>
            <a:ext cx="4046400" cy="9326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89000" y="1279440"/>
            <a:ext cx="3335400" cy="7608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Сладкие супы» Фруктовый су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28680" y="785520"/>
            <a:ext cx="5000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нас - 44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рикосы - 38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ника - 35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шня - 25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 - 20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 - 4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тана или густые сливки - 4 ст. ло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та - 4 веточ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цеп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убнику промойте, удалите плодоножки с чашелистиками. Абрикосы промойте, удалите косточки, нарежьте дольками. Ананас очистите от кожуры, нарежьте круглыми ломтиками и разделите их на 4 сегмента. Черешню промойте, разрежьте пополам, удалите косточки. 6 стаканов воды прокипятите с сахаром в течение 1–2 минут, процедите через сито. Крахмал разведите небольшим количеством холодной воды. В подготовленный сироп положите плоды и ягоды и после закипания варите 3–4 минуты. Влейте разведенный крахмал, доведите, помешивая, до кипения. Добавьте корицу, по желанию — лимонную кислоту или полчайной ложки лимонного сока. Подавайте со сметаной или взбитыми сливками. Оформите веточками мя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572000" y="1500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п молочный с овоща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298440" y="798480"/>
            <a:ext cx="3987720" cy="1090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2920" y="1000080"/>
            <a:ext cx="42865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 - 50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- 20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 цветная - 20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- 6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шек зеленый консервированный - 2 ст. ло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руза консервированная - 2 ст. ло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сливочное - 2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цеп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ковь нарежьте кубиками, цветную капусту разберите на мелкие соцветия и ошпарь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ипящую воду положите морковь, затем цветную капусту, варите при слабом кипении 15–20 минут. Добавьте горошек, кукурузу, влейте горячее молоко и доведите суп до готовности. Заправьте сливочным мас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1:39:05Z</dcterms:created>
  <dc:creator>Admin</dc:creator>
  <dc:description/>
  <dc:language>en-US</dc:language>
  <cp:lastModifiedBy>Елена</cp:lastModifiedBy>
  <dcterms:modified xsi:type="dcterms:W3CDTF">2012-10-17T06:29:30Z</dcterms:modified>
  <cp:revision>39</cp:revision>
  <dc:subject/>
  <dc:title>Щавелевый суп</dc:title>
</cp:coreProperties>
</file>