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28B-0727-4C28-958C-8FCB028F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87D-BCC3-4CB4-82E2-29C6E221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7E771-9B13-4717-B3A0-CA04D560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6FCBF-5D13-4E97-8F8C-309791A8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7AA24-EA2B-447D-81A8-3628D314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5C927-05D5-41CE-B3FB-AB008010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73D73-3C66-4527-9F92-5E3D7088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443DC-119F-4B99-A585-953EAC60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A5AA8-A429-4641-BC61-A982A46E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DCDD3-AB69-4E08-8BA9-61E6BE24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37E71-7210-4B56-8287-5E7E5A42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3C8F6-BAAA-4C0A-8C63-72D9AFD3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9963-0BEE-4FEB-8B1F-83F6307C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37790-4025-4BE5-A616-950D9F99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7A5B4-9FCF-41C4-BF13-BBB65F98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DF46D-40A4-4AB5-9B2F-715745E4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8A8BF-773D-474C-90E6-D6E07B15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6CE61-8F73-4240-B936-D7175A6A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28A00-BDEC-4BEF-B96B-BF5D7BFF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09351-9E66-40BF-9E2F-6D37C6F4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4FC94-5D24-43BB-BCEE-3623F0AC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6E8B6-2770-4554-9E89-DEC10292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C1125-1942-41AC-A379-5F73A569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1774-6950-4AAC-A2AC-8294F3C9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7A87C-B221-4390-A312-3CBE44F9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ECFC2-D036-4AFC-88ED-235552DC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CB567-BA06-4668-BE98-48B89E48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2FE2A-CB38-4199-8EA9-C7E9DD97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363A9-D990-46CA-B2DE-A11FFFA9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1940B-CE16-4C9A-9010-D6F308B8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3985D-50A1-4850-9045-FCC40D44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FED6D-9129-452C-9E63-87C8C917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D1C00-0AFE-46F8-97C3-5352B5BA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E6DF1-0366-45A2-B1B1-B2A8FDDA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B1E0-F0DC-43B6-9616-041E6B51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46865-82C2-4198-ABD6-87811CC7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3F025-1DCD-44EE-B761-0612251D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02461-6C42-40A5-959E-2E80FBAF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66754-30D5-4367-9CFE-9C3A83E1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63EB3-CCD7-4A58-B29A-900AEEB7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F7C5C-7139-40E0-9445-87FC82A6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8ABFB-9A51-4C39-82A3-EBBC21BF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49D7E-A577-4E68-A910-103D108F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1C4CE-317B-4C2E-940D-63F088C8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96E0D-CAB8-4742-9EF0-93B867B5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DEFE-8517-4042-8A83-2C4FC02E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B8B42-2ABD-4C27-9DA7-B1E27C4A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BE6DA-3F22-4D35-99C8-A7AEA7B2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B9F5F-7D44-459D-9C51-CC8869D5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2BFDB-764B-4FB8-80CA-456F9EE9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67872-E05D-438F-92D0-FA8290F2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A373-C050-4F33-A1FC-82E86F8D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A567-70DB-479D-934C-4B0FC6BA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134A-7F32-4D94-BC5F-67419D3C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4F1F-0998-41A2-ADA4-4CEDA7E3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F168-5924-40D5-9A2F-09CF8B58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A8D8-AE5A-4132-A336-8D160102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7456-06FA-4C2A-B6AB-A39BA965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6404-5A90-4C39-AD77-5BC8EEA8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55C9-35BE-42CA-AA3B-9BC41BA1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C892-B55D-4867-AB55-0C8669F4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A673-5A33-4664-BDBA-123753D5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61055-0C6F-4453-8784-B7A39413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ABF0C-5B80-448D-95D4-C15E78DA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EE94-29D4-464C-AC27-0452DE74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FA1B7-0ACE-4C05-B9DC-38B7FF38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54517-0CD2-4756-A617-B5278702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7CC6-D9CA-41BC-9B41-4F027A51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91C06-462D-4DAB-B5F0-3D520B04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C1D4D-5988-45B3-9350-5DE1D8F8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B0483-CBFA-48A9-86EB-2613122A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54739-7871-46AD-B175-AF1EDA60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E7CFB-814E-4EE5-9CB8-A3902FFA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C61B8-D0E7-4853-969A-4F12A450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27393-9124-4703-A72B-12ED9ACD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8ABB9-6465-4450-B54F-3784FE01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2AD34-D9E3-47B5-90F2-6875826F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0202A-DD62-4A31-86D2-0CFA0469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3ACC-3703-4E0D-9865-BD43DA0F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ED4AD-42CE-42C4-A961-AA1F2148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67BB3-403F-4820-8AA2-72D49658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B02A3-28C4-4A00-8C2B-E4370FC6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79231-227D-4331-97AB-3C24B0D1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12396-247E-4364-8431-C484A02F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5FF9A-7A29-43EB-A66C-1B2B3868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2EA1D-DE31-4FD0-8C20-2D8786BC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A586A-33C9-4ED7-B71B-7C191233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F7C7E-DBED-4213-9F00-8192B7AC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895E1-6D70-4771-800D-50E388DD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3375-1D1A-4C6E-ABAF-29179B65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873B8-0DA5-4997-AC6E-D1A07611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ABEDB-3CDA-40BA-B99C-BF799EC4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02E44-2D25-480E-BA72-90EC74A7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970AD-1FA6-4CB4-947B-A62D5659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56E7B-9AB0-4A85-8FDD-5C61AA17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6128D-1416-4FBA-A600-81F39793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137F8-21F2-453F-9614-DC484236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9E423-FAFE-448C-B995-B0AC14FF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A30E5-FE37-4000-B565-B10212A3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1BA16-FBFC-48C8-8378-5B8A193E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633A-5DC9-4E3A-929B-97739A22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45447-527C-472B-A3D0-ACC01B69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35331-ED64-4984-B266-C837B315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C8AA2-6362-4034-A971-FBD6EA3F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0DD49-F77A-400B-9ECD-EA5961EC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8EC68-B28A-4FB8-B1D8-64BE9037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4F843-196E-45D7-8AE7-818D1618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4B0DA-8907-4640-BE6D-CA1377FE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23825-9FA7-4A98-A657-FBA1B920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0F33A-90E5-4BD2-BB73-B03C1A4F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AEE37-1267-46B0-ACF9-D70DAA34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764-856C-4558-ABC4-DF5D645C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57E4F-E9B9-47A1-ACD1-9A8011E4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7B597-31A6-4360-8E27-C027C145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78990-D7D7-4CE7-BF2B-4A7D9FDA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36D87-BCE2-4B53-9F88-B1764BF4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9068E-2B10-49D8-A484-DD0C6F78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A380C-5DC8-47E9-80A0-DE45EC3C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32B82-C2DE-4805-9AA0-8E20A33E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293C3-883C-4446-B198-E2A9D2C7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ACBBB-34F9-4FF2-B2D4-2D7E9002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642E1-F503-41BE-B73C-CBB8FB4D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27F8-066F-4F9E-88AB-CDE0F7E5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E0F0D-6A2A-4136-8483-71C22E4C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2991A-1C4A-41D4-B34A-25136C4E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E9BEF-270F-4A63-8118-BABD40FF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32007-4E06-4AA8-A86F-9C2F9A40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0CD57-A4B1-47D0-9662-5086C65A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ACD4C-352D-464F-819B-9BB38542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62FDC-778E-432A-AD5E-BCD1B24F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83CF0-9AAD-4C4B-BAD5-AF9D1172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64D39-1C75-491B-BA45-3378AE60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CA5E1-8056-4191-837A-00AB1A8F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3C9E-B150-491D-8CC4-2C883BFA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7968E-64CC-48D7-85AA-1745B333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2F133-1D90-4715-AC7B-C22B095E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871FE-EA71-446C-9CFD-0C3DE821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00E0A-22BA-44C3-B31F-51CDA4C7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E0A71-6121-4CDD-AACD-2EF7EF79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C4B13-BB5B-4A84-B63F-1F558234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B3CEE-AD81-4263-8924-A935308B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1AD1D-6D2E-41C1-A685-AE16A8E9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3D2BC-C94F-4C83-84A8-8D3BFADB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50DC5-5E86-40A1-A2E1-5A081631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094F4C-25BA-42E3-8B3B-C868BB9E2BA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B42493-8DB6-478C-BB8F-CD6B96B7A30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F9ED80-4202-4425-8204-CCDB7CAAAF4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DAB7F5-2AD2-4D72-B4B3-C3165346D3F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BDC5A5-B74C-4DB0-9E62-B82DF5BF71C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B51C6F-40CC-4D7E-87D0-11F42338045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F62419-4914-42C5-B0A2-523F2E27AA0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4A0AE0-09ED-4428-A469-C315052BA1A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1F2BF8-F20E-430E-B4BE-BE2E3787ACB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F01FBB-AD14-4234-AA0A-E9C8D94C14B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987B81-1951-4B16-87E2-496CDF58B85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907806-3CE9-4C13-AF22-A27E5402FEB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7.pn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0.wmf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3"/>
          <p:cNvSpPr/>
          <p:nvPr/>
        </p:nvSpPr>
        <p:spPr>
          <a:xfrm>
            <a:off x="770040" y="465120"/>
            <a:ext cx="791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говорить хорош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  </a:t>
            </a:r>
            <a:r>
              <a:rPr b="1" lang="en-US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[</a:t>
            </a:r>
            <a:r>
              <a:rPr b="1" lang="ru-RU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Г</a:t>
            </a:r>
            <a:r>
              <a:rPr b="1" lang="en-US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]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1630440" y="71280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" descr=""/>
          <p:cNvPicPr/>
          <p:nvPr/>
        </p:nvPicPr>
        <p:blipFill>
          <a:blip r:embed="rId2"/>
          <a:stretch/>
        </p:blipFill>
        <p:spPr>
          <a:xfrm>
            <a:off x="4932360" y="72396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3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8"/>
          <p:cNvSpPr/>
          <p:nvPr/>
        </p:nvSpPr>
        <p:spPr>
          <a:xfrm>
            <a:off x="4903920" y="576900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ВУК-СЛЫ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2" descr=""/>
          <p:cNvPicPr/>
          <p:nvPr/>
        </p:nvPicPr>
        <p:blipFill>
          <a:blip r:embed="rId3"/>
          <a:stretch/>
        </p:blipFill>
        <p:spPr>
          <a:xfrm>
            <a:off x="8204040" y="7016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5" descr=""/>
          <p:cNvPicPr/>
          <p:nvPr/>
        </p:nvPicPr>
        <p:blipFill>
          <a:blip r:embed="rId4"/>
          <a:stretch/>
        </p:blipFill>
        <p:spPr>
          <a:xfrm>
            <a:off x="3419640" y="7840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6" descr=""/>
          <p:cNvPicPr/>
          <p:nvPr/>
        </p:nvPicPr>
        <p:blipFill>
          <a:blip r:embed="rId5"/>
          <a:stretch/>
        </p:blipFill>
        <p:spPr>
          <a:xfrm>
            <a:off x="4049640" y="792000"/>
            <a:ext cx="219240" cy="241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7" descr=""/>
          <p:cNvPicPr/>
          <p:nvPr/>
        </p:nvPicPr>
        <p:blipFill>
          <a:blip r:embed="rId6"/>
          <a:stretch/>
        </p:blipFill>
        <p:spPr>
          <a:xfrm>
            <a:off x="6372360" y="7840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8" descr=""/>
          <p:cNvPicPr/>
          <p:nvPr/>
        </p:nvPicPr>
        <p:blipFill>
          <a:blip r:embed="rId7"/>
          <a:stretch/>
        </p:blipFill>
        <p:spPr>
          <a:xfrm>
            <a:off x="7093080" y="77940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9" descr="C:\Users\ADMIN\Desktop\23.10\images.png"/>
          <p:cNvPicPr/>
          <p:nvPr/>
        </p:nvPicPr>
        <p:blipFill>
          <a:blip r:embed="rId8"/>
          <a:stretch/>
        </p:blipFill>
        <p:spPr>
          <a:xfrm>
            <a:off x="5629320" y="3213000"/>
            <a:ext cx="3111480" cy="2494080"/>
          </a:xfrm>
          <a:prstGeom prst="rect">
            <a:avLst/>
          </a:prstGeom>
          <a:ln w="0">
            <a:noFill/>
          </a:ln>
        </p:spPr>
      </p:pic>
      <p:sp>
        <p:nvSpPr>
          <p:cNvPr id="548" name="Прямоугольник 1"/>
          <p:cNvSpPr/>
          <p:nvPr/>
        </p:nvSpPr>
        <p:spPr>
          <a:xfrm>
            <a:off x="6648840" y="3859200"/>
            <a:ext cx="80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[Г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8"/>
          <p:cNvSpPr/>
          <p:nvPr/>
        </p:nvSpPr>
        <p:spPr>
          <a:xfrm>
            <a:off x="307800" y="575928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УКВА-ПИ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31" descr=""/>
          <p:cNvPicPr/>
          <p:nvPr/>
        </p:nvPicPr>
        <p:blipFill>
          <a:blip r:embed="rId9"/>
          <a:stretch/>
        </p:blipFill>
        <p:spPr>
          <a:xfrm>
            <a:off x="3933720" y="579276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2" descr=""/>
          <p:cNvPicPr/>
          <p:nvPr/>
        </p:nvPicPr>
        <p:blipFill>
          <a:blip r:embed="rId10"/>
          <a:stretch/>
        </p:blipFill>
        <p:spPr>
          <a:xfrm>
            <a:off x="7481880" y="5759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3" descr=""/>
          <p:cNvPicPr/>
          <p:nvPr/>
        </p:nvPicPr>
        <p:blipFill>
          <a:blip r:embed="rId11"/>
          <a:stretch/>
        </p:blipFill>
        <p:spPr>
          <a:xfrm>
            <a:off x="1055520" y="57466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2" descr=""/>
          <p:cNvPicPr/>
          <p:nvPr/>
        </p:nvPicPr>
        <p:blipFill>
          <a:blip r:embed="rId12"/>
          <a:stretch/>
        </p:blipFill>
        <p:spPr>
          <a:xfrm>
            <a:off x="3522600" y="2544840"/>
            <a:ext cx="1467000" cy="235116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2" descr=""/>
          <p:cNvPicPr/>
          <p:nvPr/>
        </p:nvPicPr>
        <p:blipFill>
          <a:blip r:embed="rId13"/>
          <a:stretch/>
        </p:blipFill>
        <p:spPr>
          <a:xfrm>
            <a:off x="725400" y="2225520"/>
            <a:ext cx="2040120" cy="1527480"/>
          </a:xfrm>
          <a:prstGeom prst="rect">
            <a:avLst/>
          </a:prstGeom>
          <a:ln w="0">
            <a:noFill/>
          </a:ln>
        </p:spPr>
      </p:pic>
      <p:pic>
        <p:nvPicPr>
          <p:cNvPr id="555" name="Рисунок 1" descr=""/>
          <p:cNvPicPr/>
          <p:nvPr/>
        </p:nvPicPr>
        <p:blipFill>
          <a:blip r:embed="rId14"/>
          <a:stretch/>
        </p:blipFill>
        <p:spPr>
          <a:xfrm>
            <a:off x="955800" y="34290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Box 3"/>
          <p:cNvSpPr/>
          <p:nvPr/>
        </p:nvSpPr>
        <p:spPr>
          <a:xfrm>
            <a:off x="770040" y="465120"/>
            <a:ext cx="791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говорить хорош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  </a:t>
            </a:r>
            <a:r>
              <a:rPr b="1" lang="en-US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[</a:t>
            </a:r>
            <a:r>
              <a:rPr b="1" lang="ru-RU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</a:t>
            </a:r>
            <a:r>
              <a:rPr b="1" lang="en-US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]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3" descr=""/>
          <p:cNvPicPr/>
          <p:nvPr/>
        </p:nvPicPr>
        <p:blipFill>
          <a:blip r:embed="rId1"/>
          <a:stretch/>
        </p:blipFill>
        <p:spPr>
          <a:xfrm>
            <a:off x="1630440" y="71280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"/>
          <p:cNvPicPr/>
          <p:nvPr/>
        </p:nvPicPr>
        <p:blipFill>
          <a:blip r:embed="rId2"/>
          <a:stretch/>
        </p:blipFill>
        <p:spPr>
          <a:xfrm>
            <a:off x="4932360" y="72396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"/>
          <p:cNvSpPr/>
          <p:nvPr/>
        </p:nvSpPr>
        <p:spPr>
          <a:xfrm>
            <a:off x="4903920" y="576900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ВУК-СЛЫ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2" descr=""/>
          <p:cNvPicPr/>
          <p:nvPr/>
        </p:nvPicPr>
        <p:blipFill>
          <a:blip r:embed="rId3"/>
          <a:stretch/>
        </p:blipFill>
        <p:spPr>
          <a:xfrm>
            <a:off x="8204040" y="7016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5" descr=""/>
          <p:cNvPicPr/>
          <p:nvPr/>
        </p:nvPicPr>
        <p:blipFill>
          <a:blip r:embed="rId4"/>
          <a:stretch/>
        </p:blipFill>
        <p:spPr>
          <a:xfrm>
            <a:off x="3419640" y="7840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6" descr=""/>
          <p:cNvPicPr/>
          <p:nvPr/>
        </p:nvPicPr>
        <p:blipFill>
          <a:blip r:embed="rId5"/>
          <a:stretch/>
        </p:blipFill>
        <p:spPr>
          <a:xfrm>
            <a:off x="4049640" y="792000"/>
            <a:ext cx="219240" cy="241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7" descr=""/>
          <p:cNvPicPr/>
          <p:nvPr/>
        </p:nvPicPr>
        <p:blipFill>
          <a:blip r:embed="rId6"/>
          <a:stretch/>
        </p:blipFill>
        <p:spPr>
          <a:xfrm>
            <a:off x="6372360" y="7840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8" descr=""/>
          <p:cNvPicPr/>
          <p:nvPr/>
        </p:nvPicPr>
        <p:blipFill>
          <a:blip r:embed="rId7"/>
          <a:stretch/>
        </p:blipFill>
        <p:spPr>
          <a:xfrm>
            <a:off x="7093080" y="77940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9" descr="C:\Users\ADMIN\Desktop\23.10\images.png"/>
          <p:cNvPicPr/>
          <p:nvPr/>
        </p:nvPicPr>
        <p:blipFill>
          <a:blip r:embed="rId8"/>
          <a:stretch/>
        </p:blipFill>
        <p:spPr>
          <a:xfrm>
            <a:off x="5629320" y="3213000"/>
            <a:ext cx="3111480" cy="249408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1"/>
          <p:cNvSpPr/>
          <p:nvPr/>
        </p:nvSpPr>
        <p:spPr>
          <a:xfrm>
            <a:off x="6649200" y="3859200"/>
            <a:ext cx="82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[К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8"/>
          <p:cNvSpPr/>
          <p:nvPr/>
        </p:nvSpPr>
        <p:spPr>
          <a:xfrm>
            <a:off x="307800" y="575928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УКВА-ПИ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1" descr=""/>
          <p:cNvPicPr/>
          <p:nvPr/>
        </p:nvPicPr>
        <p:blipFill>
          <a:blip r:embed="rId9"/>
          <a:stretch/>
        </p:blipFill>
        <p:spPr>
          <a:xfrm>
            <a:off x="3933720" y="579276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32" descr=""/>
          <p:cNvPicPr/>
          <p:nvPr/>
        </p:nvPicPr>
        <p:blipFill>
          <a:blip r:embed="rId10"/>
          <a:stretch/>
        </p:blipFill>
        <p:spPr>
          <a:xfrm>
            <a:off x="7481880" y="5759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3" descr=""/>
          <p:cNvPicPr/>
          <p:nvPr/>
        </p:nvPicPr>
        <p:blipFill>
          <a:blip r:embed="rId11"/>
          <a:stretch/>
        </p:blipFill>
        <p:spPr>
          <a:xfrm>
            <a:off x="1055520" y="57466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3" descr=""/>
          <p:cNvPicPr/>
          <p:nvPr/>
        </p:nvPicPr>
        <p:blipFill>
          <a:blip r:embed="rId12"/>
          <a:stretch/>
        </p:blipFill>
        <p:spPr>
          <a:xfrm>
            <a:off x="3875040" y="2535120"/>
            <a:ext cx="1681200" cy="2436840"/>
          </a:xfrm>
          <a:prstGeom prst="rect">
            <a:avLst/>
          </a:prstGeom>
          <a:ln w="0">
            <a:noFill/>
          </a:ln>
        </p:spPr>
      </p:pic>
      <p:pic>
        <p:nvPicPr>
          <p:cNvPr id="575" name="Рисунок 2" descr=""/>
          <p:cNvPicPr/>
          <p:nvPr/>
        </p:nvPicPr>
        <p:blipFill>
          <a:blip r:embed="rId13"/>
          <a:stretch/>
        </p:blipFill>
        <p:spPr>
          <a:xfrm>
            <a:off x="725400" y="2225520"/>
            <a:ext cx="2040120" cy="1527480"/>
          </a:xfrm>
          <a:prstGeom prst="rect">
            <a:avLst/>
          </a:prstGeom>
          <a:ln w="0">
            <a:noFill/>
          </a:ln>
        </p:spPr>
      </p:pic>
      <p:pic>
        <p:nvPicPr>
          <p:cNvPr id="576" name="Рисунок 1" descr=""/>
          <p:cNvPicPr/>
          <p:nvPr/>
        </p:nvPicPr>
        <p:blipFill>
          <a:blip r:embed="rId14"/>
          <a:stretch/>
        </p:blipFill>
        <p:spPr>
          <a:xfrm>
            <a:off x="955800" y="34290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3"/>
          <p:cNvSpPr/>
          <p:nvPr/>
        </p:nvSpPr>
        <p:spPr>
          <a:xfrm>
            <a:off x="770040" y="46512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читать слог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219564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" descr=""/>
          <p:cNvPicPr/>
          <p:nvPr/>
        </p:nvPicPr>
        <p:blipFill>
          <a:blip r:embed="rId2"/>
          <a:stretch/>
        </p:blipFill>
        <p:spPr>
          <a:xfrm>
            <a:off x="4932360" y="59688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8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8"/>
          <p:cNvSpPr/>
          <p:nvPr/>
        </p:nvSpPr>
        <p:spPr>
          <a:xfrm>
            <a:off x="639720" y="1658880"/>
            <a:ext cx="2486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8"/>
          <p:cNvSpPr/>
          <p:nvPr/>
        </p:nvSpPr>
        <p:spPr>
          <a:xfrm>
            <a:off x="3184560" y="3459240"/>
            <a:ext cx="284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О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2" descr=""/>
          <p:cNvPicPr/>
          <p:nvPr/>
        </p:nvPicPr>
        <p:blipFill>
          <a:blip r:embed="rId3"/>
          <a:stretch/>
        </p:blipFill>
        <p:spPr>
          <a:xfrm>
            <a:off x="6875640" y="716040"/>
            <a:ext cx="115560" cy="921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23" descr=""/>
          <p:cNvPicPr/>
          <p:nvPr/>
        </p:nvPicPr>
        <p:blipFill>
          <a:blip r:embed="rId4"/>
          <a:stretch/>
        </p:blipFill>
        <p:spPr>
          <a:xfrm>
            <a:off x="4552920" y="345924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87" name="TextBox 8"/>
          <p:cNvSpPr/>
          <p:nvPr/>
        </p:nvSpPr>
        <p:spPr>
          <a:xfrm>
            <a:off x="6593040" y="1566720"/>
            <a:ext cx="2233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8"/>
          <p:cNvSpPr/>
          <p:nvPr/>
        </p:nvSpPr>
        <p:spPr>
          <a:xfrm>
            <a:off x="2962440" y="4005360"/>
            <a:ext cx="35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5148360" y="400536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1" descr="C:\Users\ADMIN\Desktop\15.02-19.02\15.02 пн\скачанные файлы.jpg"/>
          <p:cNvPicPr/>
          <p:nvPr/>
        </p:nvPicPr>
        <p:blipFill>
          <a:blip r:embed="rId2"/>
          <a:stretch/>
        </p:blipFill>
        <p:spPr>
          <a:xfrm>
            <a:off x="3255840" y="465120"/>
            <a:ext cx="2925720" cy="340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4" name=""/>
          <p:cNvGraphicFramePr/>
          <p:nvPr/>
        </p:nvGraphicFramePr>
        <p:xfrm>
          <a:off x="3348000" y="5373720"/>
          <a:ext cx="2362320" cy="838080"/>
        </p:xfrm>
        <a:graphic>
          <a:graphicData uri="http://schemas.openxmlformats.org/drawingml/2006/table">
            <a:tbl>
              <a:tblPr/>
              <a:tblGrid>
                <a:gridCol w="787320"/>
                <a:gridCol w="787680"/>
                <a:gridCol w="787320"/>
              </a:tblGrid>
              <a:tr h="83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8"/>
          <p:cNvSpPr/>
          <p:nvPr/>
        </p:nvSpPr>
        <p:spPr>
          <a:xfrm>
            <a:off x="2962440" y="4508640"/>
            <a:ext cx="35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Г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3" descr=""/>
          <p:cNvPicPr/>
          <p:nvPr/>
        </p:nvPicPr>
        <p:blipFill>
          <a:blip r:embed="rId1"/>
          <a:stretch/>
        </p:blipFill>
        <p:spPr>
          <a:xfrm>
            <a:off x="3684600" y="451656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5" descr=""/>
          <p:cNvPicPr/>
          <p:nvPr/>
        </p:nvPicPr>
        <p:blipFill>
          <a:blip r:embed="rId2"/>
          <a:stretch/>
        </p:blipFill>
        <p:spPr>
          <a:xfrm>
            <a:off x="4390920" y="456264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" descr="C:\Users\ADMIN\Desktop\15.02-19.02\15.02 пн\скачанные файлы (1).jpg"/>
          <p:cNvPicPr/>
          <p:nvPr/>
        </p:nvPicPr>
        <p:blipFill>
          <a:blip r:embed="rId3"/>
          <a:stretch/>
        </p:blipFill>
        <p:spPr>
          <a:xfrm>
            <a:off x="2087640" y="765000"/>
            <a:ext cx="4824360" cy="296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2" name=""/>
          <p:cNvGraphicFramePr/>
          <p:nvPr/>
        </p:nvGraphicFramePr>
        <p:xfrm>
          <a:off x="3319560" y="5278320"/>
          <a:ext cx="2361960" cy="838440"/>
        </p:xfrm>
        <a:graphic>
          <a:graphicData uri="http://schemas.openxmlformats.org/drawingml/2006/table">
            <a:tbl>
              <a:tblPr/>
              <a:tblGrid>
                <a:gridCol w="787320"/>
                <a:gridCol w="787320"/>
                <a:gridCol w="787320"/>
              </a:tblGrid>
              <a:tr h="83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8"/>
          <p:cNvSpPr/>
          <p:nvPr/>
        </p:nvSpPr>
        <p:spPr>
          <a:xfrm>
            <a:off x="3276720" y="4270320"/>
            <a:ext cx="35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3319560" y="5278320"/>
          <a:ext cx="2361960" cy="838440"/>
        </p:xfrm>
        <a:graphic>
          <a:graphicData uri="http://schemas.openxmlformats.org/drawingml/2006/table">
            <a:tbl>
              <a:tblPr/>
              <a:tblGrid>
                <a:gridCol w="787320"/>
                <a:gridCol w="787320"/>
                <a:gridCol w="787320"/>
              </a:tblGrid>
              <a:tr h="83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8" name="Picture 2" descr="C:\Users\ADMIN\Desktop\15.02-19.02\15.02 пн\скачанные файлы (3).jpg"/>
          <p:cNvPicPr/>
          <p:nvPr/>
        </p:nvPicPr>
        <p:blipFill>
          <a:blip r:embed="rId1"/>
          <a:stretch/>
        </p:blipFill>
        <p:spPr>
          <a:xfrm>
            <a:off x="2700360" y="1413000"/>
            <a:ext cx="3583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8"/>
          <p:cNvSpPr/>
          <p:nvPr/>
        </p:nvSpPr>
        <p:spPr>
          <a:xfrm>
            <a:off x="2627280" y="42703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3319560" y="5278320"/>
          <a:ext cx="2361960" cy="838440"/>
        </p:xfrm>
        <a:graphic>
          <a:graphicData uri="http://schemas.openxmlformats.org/drawingml/2006/table">
            <a:tbl>
              <a:tblPr/>
              <a:tblGrid>
                <a:gridCol w="787320"/>
                <a:gridCol w="787320"/>
                <a:gridCol w="787320"/>
              </a:tblGrid>
              <a:tr h="83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4" name="Picture 2" descr="C:\Users\ADMIN\Desktop\15.02-19.02\15.02 пн\скачанные файлы (4).jpg"/>
          <p:cNvPicPr/>
          <p:nvPr/>
        </p:nvPicPr>
        <p:blipFill>
          <a:blip r:embed="rId1"/>
          <a:stretch/>
        </p:blipFill>
        <p:spPr>
          <a:xfrm>
            <a:off x="3112920" y="647640"/>
            <a:ext cx="2611440" cy="34988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"/>
          <p:cNvPicPr/>
          <p:nvPr/>
        </p:nvPicPr>
        <p:blipFill>
          <a:blip r:embed="rId2"/>
          <a:stretch/>
        </p:blipFill>
        <p:spPr>
          <a:xfrm>
            <a:off x="5724360" y="427032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"/>
          <p:cNvPicPr/>
          <p:nvPr/>
        </p:nvPicPr>
        <p:blipFill>
          <a:blip r:embed="rId3"/>
          <a:stretch/>
        </p:blipFill>
        <p:spPr>
          <a:xfrm>
            <a:off x="4788000" y="4338720"/>
            <a:ext cx="21888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8"/>
          <p:cNvSpPr/>
          <p:nvPr/>
        </p:nvSpPr>
        <p:spPr>
          <a:xfrm>
            <a:off x="1058760" y="402588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Рисунок 1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2665440" cy="266400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2" descr=""/>
          <p:cNvPicPr/>
          <p:nvPr/>
        </p:nvPicPr>
        <p:blipFill>
          <a:blip r:embed="rId2"/>
          <a:stretch/>
        </p:blipFill>
        <p:spPr>
          <a:xfrm rot="8911800">
            <a:off x="5808240" y="141552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623" name="TextBox 8"/>
          <p:cNvSpPr/>
          <p:nvPr/>
        </p:nvSpPr>
        <p:spPr>
          <a:xfrm>
            <a:off x="5343480" y="3573360"/>
            <a:ext cx="288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25" descr=""/>
          <p:cNvPicPr/>
          <p:nvPr/>
        </p:nvPicPr>
        <p:blipFill>
          <a:blip r:embed="rId3"/>
          <a:stretch/>
        </p:blipFill>
        <p:spPr>
          <a:xfrm>
            <a:off x="1835280" y="402588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" descr=""/>
          <p:cNvPicPr/>
          <p:nvPr/>
        </p:nvPicPr>
        <p:blipFill>
          <a:blip r:embed="rId4"/>
          <a:stretch/>
        </p:blipFill>
        <p:spPr>
          <a:xfrm>
            <a:off x="2808360" y="400212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7:06:44Z</dcterms:created>
  <dc:creator>Яковлева М.Л., Богайцева М.В.</dc:creator>
  <dc:description/>
  <dc:language>en-US</dc:language>
  <cp:lastModifiedBy>ADMIN</cp:lastModifiedBy>
  <dcterms:modified xsi:type="dcterms:W3CDTF">2016-09-19T19:40:56Z</dcterms:modified>
  <cp:revision>87</cp:revision>
  <dc:subject/>
  <dc:title>Загадки о лесе</dc:title>
</cp:coreProperties>
</file>