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540-97DC-4874-B835-B68785ED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2E8-7B25-47F4-A816-99A0BCA5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CF12-72AA-4FD6-B665-E9B02215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A82FB-7D58-4C79-BA86-2B0630A2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D4044-1C50-4B1F-B7D5-92BA5775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4C5CB-0895-41E7-A989-26D20E9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1AE17-11AC-4F5F-A56D-24458A2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8A68F-27BF-4C9B-9362-B67B288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BD7BA-6B0A-4E29-8EEF-BB56D8A4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CB9F8-B714-4F9B-8933-B5C3F087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A10BC-F74E-45CD-AF45-3D5379A7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0AC96-5A2A-4352-81A7-6C5168CA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9AF-C377-4085-93DF-962178F9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0B20F-F225-46D6-BF73-23AD2630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929F8-8C85-4EA3-A381-0FF5264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199C2-1027-4502-91A8-E07B9DD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C4888-AF62-4E07-B3BE-D31D7AEC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96287-2E89-4A9D-BC63-25F7C16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F63D1-08C0-4760-9FE2-BB70E63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2F46D-A5A3-4018-B797-217FE743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A0159-8B9F-405F-8927-0888DCA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7F835-60DF-4F96-B61F-274D85F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8A4A8-277F-4CDC-835F-6DF3D3E7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BCF-D198-4B7D-A612-AC7072E6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ECF47-7014-49EB-8A7D-7E08A7BF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F33E2-D541-4E57-B676-A73D7366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26036-3F94-4233-944B-294E0B01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41A58-97C4-46A3-9382-7E588689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D1357-688D-4D79-B5CF-E976D13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A284A-C02C-4B6B-A8FC-466453C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49B43-2AED-4679-B0D4-E2BEE08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69B7D-1F0E-4948-A454-9FE4239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2893F-C155-454A-A837-48D08762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6179F-60A6-446B-A401-53F9EF6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235E-89C6-4244-9362-A8BD0366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4FA5-7AFD-4512-82B9-906A4C1A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2EC66-ED79-4760-A2BC-703222A1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9D103-1267-434A-B5C6-021AAFB2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BF666-E83E-4CC4-9565-C774F7C9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54F99-DAFC-4233-8C4B-EC66428E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4897A-3C95-4282-8964-CC949356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E0294-2D8E-40E7-924D-6775890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39A35-74AF-4A70-96B9-1292FBB2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F3DA0-0B9C-440C-B32D-0787AB4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608A5-5DC0-449F-945B-EE10062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FC25-26FF-499C-8305-9BACADC4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F755A-5ED4-4257-BF1B-4D929AC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E6410-90BD-49C4-8E4F-4EBCE81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BB14-D451-4417-98A3-7FF1AD1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59519-C1A4-4FC4-B59F-1DF84F57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0DAAC-42B1-40E5-AFC9-A5AB3B16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8FBF-FF7F-41FD-9C5F-A61FB922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7A50-B6B3-49E6-B5A7-073C151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8D7-DA33-4D64-A92E-7DA094DD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1B0B-1681-4DA1-A1C4-25DA9518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7A54-D928-4C71-8B9F-1A6DD2B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EAA-F15D-4FD3-948D-BEC489D3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A12D-E993-48E4-A747-3D90AD7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E1FB-0C5E-4627-9BA4-F1BEF371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7DAF-4617-41AE-B45D-9EB1ACC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1BED-4555-4321-8E7B-FC2DEAAC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7BB-E7B1-4733-817A-F94031BC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D740-C3A0-4C36-B8D5-6E59E687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FEEC-A345-4064-9092-41D335FA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CFA1-FD06-456F-BFFC-CED5D845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05F2-AD87-43F9-BDD4-5E4A541C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B7EA-E26B-47CF-B24E-1A2412C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3F1-4FC0-4113-8FE6-0A822412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BFB9-0E00-4D10-B3FB-CDD374CD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1F38-02A6-4744-8966-B8BCB11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8E72-ABB6-4C52-BFC6-DC088B5A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36ED-72A1-48E8-A0A0-F648CBF6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79B5-7FC1-42B2-9C5A-53A3DD36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2CD6-5347-4A30-8FDC-AC5155CD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97BB-9BA0-4F85-86DF-8715FEEA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618D-4CE5-4135-B647-9877D004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33DB-57B6-4CD1-9476-8D89063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CDCC-93B7-4A87-B5EC-CABBEA53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662-02DB-4909-9482-D7F71BB4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1EAC-CDF5-4A65-B383-1E055617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6119-E8B3-4F2C-B1F4-E70B159C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3FA3-F0E3-4A51-9BAB-E6509C11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FC28-B073-4040-BE36-AC2A477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D88A-046D-4337-8393-4F49EFD4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D169-02DF-449E-A216-FC199769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DF668-7F22-4925-A71E-2CDF28B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270F-EE8A-458B-B71D-380DA32E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2D27-3D54-4031-8B9B-93818A2B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E5FD-E4C6-4266-B30C-EF33363C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A8A-B447-463A-9AE1-840BBB1E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B3B2B-2D88-4644-85DD-B9B028C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27BE6-3BA7-4BE7-809C-218C4BB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A2A89-B9EF-49D9-9EFC-9897A679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CE17-448B-462B-AB10-45EE4ED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F12A-CB33-4536-BAD7-EBC30520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4D28F-D631-4EF4-8C26-897DA9CA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0742-63FC-455E-BBC7-F82FF455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C4ED-6C1A-42E7-B63D-57F572A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95058-01C7-4D93-B272-73084A1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F15C0-8166-46DC-9F60-7DCCCD01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D93-FC4C-4CA0-AB1E-5A677344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1A4B-85D7-4707-B26A-1D5B20CE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99FA0-A5BF-4281-B695-6FCDA5F1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598E-ACF6-44C0-92A7-67154A7B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5F3AC-3E14-4C4E-978E-A35F724D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17CA-ECEB-421A-AAA8-96E76ABF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10CD4-19F2-4EF1-B45B-D75A1540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4D30-242C-4029-BF24-EF0635A8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D742B-E024-4012-BC72-F69D6A3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AE5C0-0D4D-4FB2-97AC-53A2106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6F59-7975-48B7-B12A-F2BF57B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5FE-2716-4543-85C5-D4693D60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BE17-08B4-4D6A-B9BA-1226B56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99A16-BCB3-4050-978A-FFBD7403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F595B-3720-48AD-842E-F22DB5CD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3518-162B-4DDD-8886-1CAC9640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63C4-8A5E-4F50-A228-7323F195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3F5C5-0693-4AD0-802E-5A2EADFB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8D413-7FB1-41B6-BA20-D2E0E3BC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CA1C-5D83-46E8-9C60-2C3A689B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D4AD1-394E-4BD0-8F59-F831BE2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58E57-2FCB-42D5-8686-0403A450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FCF-FBDE-4248-B6A8-D925CAF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9306E-107D-487E-9005-AB4F22B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5C2DE-4413-43BB-8DDA-B953370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EBCB-92BA-4B48-9DAC-D7AFE62F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5DEF2-D885-44D0-9349-B7A44106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C9A34-99C3-4868-A8E0-E37DA744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DEB2-033D-472D-85E0-DE777EFF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33D1C-9ABC-4794-84D4-F2D71CFF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000F9-DCDA-4B94-8B14-3B55895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7B043-3902-44BB-AA45-35158B1D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B9F1-719D-4A4F-B29F-D3BC87E6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76A-9E67-40C5-942D-9B1424A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160E9-AB7D-45DA-9B22-24C9D21A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BE6DF-A7E6-45E4-BB5C-7F621B3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8B16A-D9AA-46DB-9863-0A860D2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C0A0-B951-4859-87FC-96B2A906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59D0-17F8-4A8A-839E-B48BB09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9820B-6F93-4AC8-9B3F-3A7EDB02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93D04-7B08-42B1-B1F0-4FA620F4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D672F-02F7-4023-A5C9-62A75129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1524E-51D9-4D0D-AE5A-B1C96048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51D5-ADFF-4739-BC0F-8D15C88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D00D64-25C0-48CD-B674-1D835CAD48D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8AAAE7-7D19-4FBB-9941-14E66D5576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CA6ACE-111B-415A-A75E-38B45DACE8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5C8286-151A-449D-A56B-BCC8035F5E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83EA3A-43A4-4E92-9E25-314C306816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6BD724-A327-4C29-B0D8-434991FB8CC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F39A2B-4859-43E1-838A-6C0CD81E1F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0A82D5-11EE-423C-9925-BED775C3DC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2702DD-C5FC-4741-B188-EC14B04560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20B44C-DF2A-4358-B7E9-5F08B09F0F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5FB757-D1CE-494B-8A18-240AE4D1AA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663B88-0480-4A42-B368-8F05CD6B5F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0.wmf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29320" y="321300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1"/>
          <p:cNvSpPr/>
          <p:nvPr/>
        </p:nvSpPr>
        <p:spPr>
          <a:xfrm>
            <a:off x="6648840" y="385920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Г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2" descr=""/>
          <p:cNvPicPr/>
          <p:nvPr/>
        </p:nvPicPr>
        <p:blipFill>
          <a:blip r:embed="rId12"/>
          <a:stretch/>
        </p:blipFill>
        <p:spPr>
          <a:xfrm>
            <a:off x="3522600" y="2544840"/>
            <a:ext cx="1467000" cy="235116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2" descr=""/>
          <p:cNvPicPr/>
          <p:nvPr/>
        </p:nvPicPr>
        <p:blipFill>
          <a:blip r:embed="rId13"/>
          <a:stretch/>
        </p:blipFill>
        <p:spPr>
          <a:xfrm>
            <a:off x="725400" y="2225520"/>
            <a:ext cx="2040120" cy="152748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" descr=""/>
          <p:cNvPicPr/>
          <p:nvPr/>
        </p:nvPicPr>
        <p:blipFill>
          <a:blip r:embed="rId14"/>
          <a:stretch/>
        </p:blipFill>
        <p:spPr>
          <a:xfrm>
            <a:off x="955800" y="34290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29320" y="321300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6649200" y="385920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К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12"/>
          <a:stretch/>
        </p:blipFill>
        <p:spPr>
          <a:xfrm>
            <a:off x="3875040" y="2535120"/>
            <a:ext cx="1681200" cy="243684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2" descr=""/>
          <p:cNvPicPr/>
          <p:nvPr/>
        </p:nvPicPr>
        <p:blipFill>
          <a:blip r:embed="rId13"/>
          <a:stretch/>
        </p:blipFill>
        <p:spPr>
          <a:xfrm>
            <a:off x="725400" y="2225520"/>
            <a:ext cx="2040120" cy="152748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1" descr=""/>
          <p:cNvPicPr/>
          <p:nvPr/>
        </p:nvPicPr>
        <p:blipFill>
          <a:blip r:embed="rId14"/>
          <a:stretch/>
        </p:blipFill>
        <p:spPr>
          <a:xfrm>
            <a:off x="955800" y="34290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639720" y="1658880"/>
            <a:ext cx="2486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3184560" y="345924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3" descr=""/>
          <p:cNvPicPr/>
          <p:nvPr/>
        </p:nvPicPr>
        <p:blipFill>
          <a:blip r:embed="rId4"/>
          <a:stretch/>
        </p:blipFill>
        <p:spPr>
          <a:xfrm>
            <a:off x="4552920" y="3459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87" name="TextBox 8"/>
          <p:cNvSpPr/>
          <p:nvPr/>
        </p:nvSpPr>
        <p:spPr>
          <a:xfrm>
            <a:off x="6593040" y="1566720"/>
            <a:ext cx="2233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8"/>
          <p:cNvSpPr/>
          <p:nvPr/>
        </p:nvSpPr>
        <p:spPr>
          <a:xfrm>
            <a:off x="2962440" y="4005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C:\Users\ADMIN\Desktop\15.02-19.02\15.02 пн\скачанные файлы.jpg"/>
          <p:cNvPicPr/>
          <p:nvPr/>
        </p:nvPicPr>
        <p:blipFill>
          <a:blip r:embed="rId2"/>
          <a:stretch/>
        </p:blipFill>
        <p:spPr>
          <a:xfrm>
            <a:off x="3255840" y="465120"/>
            <a:ext cx="2925720" cy="340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3348000" y="5373720"/>
          <a:ext cx="2362320" cy="838080"/>
        </p:xfrm>
        <a:graphic>
          <a:graphicData uri="http://schemas.openxmlformats.org/drawingml/2006/table">
            <a:tbl>
              <a:tblPr/>
              <a:tblGrid>
                <a:gridCol w="787320"/>
                <a:gridCol w="787680"/>
                <a:gridCol w="7873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2962440" y="450864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3684600" y="45165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5" descr=""/>
          <p:cNvPicPr/>
          <p:nvPr/>
        </p:nvPicPr>
        <p:blipFill>
          <a:blip r:embed="rId2"/>
          <a:stretch/>
        </p:blipFill>
        <p:spPr>
          <a:xfrm>
            <a:off x="4390920" y="456264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C:\Users\ADMIN\Desktop\15.02-19.02\15.02 пн\скачанные файлы (1).jpg"/>
          <p:cNvPicPr/>
          <p:nvPr/>
        </p:nvPicPr>
        <p:blipFill>
          <a:blip r:embed="rId3"/>
          <a:stretch/>
        </p:blipFill>
        <p:spPr>
          <a:xfrm>
            <a:off x="2087640" y="765000"/>
            <a:ext cx="4824360" cy="296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2" name=""/>
          <p:cNvGraphicFramePr/>
          <p:nvPr/>
        </p:nvGraphicFramePr>
        <p:xfrm>
          <a:off x="3319560" y="5278320"/>
          <a:ext cx="2361960" cy="8384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276720" y="427032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319560" y="5278320"/>
          <a:ext cx="2361960" cy="8384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8" name="Picture 2" descr="C:\Users\ADMIN\Desktop\15.02-19.02\15.02 пн\скачанные файлы (3).jpg"/>
          <p:cNvPicPr/>
          <p:nvPr/>
        </p:nvPicPr>
        <p:blipFill>
          <a:blip r:embed="rId1"/>
          <a:stretch/>
        </p:blipFill>
        <p:spPr>
          <a:xfrm>
            <a:off x="2700360" y="1413000"/>
            <a:ext cx="358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2627280" y="42703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3319560" y="5278320"/>
          <a:ext cx="2361960" cy="8384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4" name="Picture 2" descr="C:\Users\ADMIN\Desktop\15.02-19.02\15.02 пн\скачанные файлы (4).jpg"/>
          <p:cNvPicPr/>
          <p:nvPr/>
        </p:nvPicPr>
        <p:blipFill>
          <a:blip r:embed="rId1"/>
          <a:stretch/>
        </p:blipFill>
        <p:spPr>
          <a:xfrm>
            <a:off x="3112920" y="647640"/>
            <a:ext cx="2611440" cy="3498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5724360" y="42703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"/>
          <p:cNvPicPr/>
          <p:nvPr/>
        </p:nvPicPr>
        <p:blipFill>
          <a:blip r:embed="rId3"/>
          <a:stretch/>
        </p:blipFill>
        <p:spPr>
          <a:xfrm>
            <a:off x="4788000" y="43387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8"/>
          <p:cNvSpPr/>
          <p:nvPr/>
        </p:nvSpPr>
        <p:spPr>
          <a:xfrm>
            <a:off x="1058760" y="4025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Рисуно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" descr=""/>
          <p:cNvPicPr/>
          <p:nvPr/>
        </p:nvPicPr>
        <p:blipFill>
          <a:blip r:embed="rId2"/>
          <a:stretch/>
        </p:blipFill>
        <p:spPr>
          <a:xfrm rot="8911800">
            <a:off x="5808240" y="14155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8"/>
          <p:cNvSpPr/>
          <p:nvPr/>
        </p:nvSpPr>
        <p:spPr>
          <a:xfrm>
            <a:off x="5343480" y="3573360"/>
            <a:ext cx="288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5" descr=""/>
          <p:cNvPicPr/>
          <p:nvPr/>
        </p:nvPicPr>
        <p:blipFill>
          <a:blip r:embed="rId3"/>
          <a:stretch/>
        </p:blipFill>
        <p:spPr>
          <a:xfrm>
            <a:off x="1835280" y="4025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4"/>
          <a:stretch/>
        </p:blipFill>
        <p:spPr>
          <a:xfrm>
            <a:off x="2808360" y="400212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40:56Z</dcterms:modified>
  <cp:revision>87</cp:revision>
  <dc:subject/>
  <dc:title>Загадки о лесе</dc:title>
</cp:coreProperties>
</file>