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73C-491D-44CA-AB48-D29D0C46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232-7D34-42EE-9315-D80810E0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E58-BC5E-495C-A3CF-D01AEB25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E32-5A73-4496-BFFE-2C0637F1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C648-6EB4-4A80-8C78-ADCEDAE5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0D45-03A3-4854-AA1F-C3AD13D6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4359-A479-4070-81A2-6BCB8465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E821-A7AC-4462-8E25-0496D831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F179-3E9C-46BC-A3DB-A45513F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75AF-E21C-4692-BE5B-581DD0C1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7768-5DD1-4BCC-8B55-47069755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2C5-78E2-41E2-B5AC-7783DA89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2886-CF3E-42DA-8FEB-C0636DF4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9380-C96E-4D46-9D66-341B7780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1D74-2531-44D1-B945-A7964EFC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D80C-3210-4F11-83A7-114ACA7A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E717-8E81-423F-A865-70B3816D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B55-2596-47E9-AC86-75BC65D8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B02-0700-4F1F-90E0-41D245C4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740-2AC1-4F8F-B339-44711EED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614-DBB6-4F64-9F22-4F61F494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B17-5D5B-465D-8C4D-FF3F982D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182-9C06-474C-BC47-80B8D76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BE4-C156-49D2-9870-2928628B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F3F5-6A7C-4FC0-A029-F3F825C398C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E21B-12BB-4564-ADC1-8982D0CED0F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05760" cy="60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Учебный проект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Что такое здоровое питание и зачем оно нужно?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Автор: учитель МБОУ г. Мценска Лицей №5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асилевская Ольга Иван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частники: ученики 1-В класс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Литература по тем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кружающий мир. Мир вокруг нас. Учеб. для 1 кл. нач. шк. В 2 ч. А. А. Плешаков. – 7 – е изд. – М. : Просвещение, 2012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кружающий мир. Мир вокруг нас. Рабочая тетрадь к учебнику. В 2 ч. А. А. Плешаков. – 3 – е изд. – М. : Просвещение, 2012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. Безруких, Т. Филиппова, А. Макеева. Разговор о здоровье и правильном питании, рабочая тетрадь,- учебно- методический комплект программы «Разговор о правильном питании » - М., 2013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роект рассчитан  на детей   младшего школьного возраста. В данном проекте затрагивается  вопрос о здоровом питании детей, который особенно актуален в современной жизни.  Проект призван  побудить детей и их родителей к размышлению о своем здоровье, раскрывает и расширяет содержание основных понятий курса по вопросам здорового питания и  способствует созданию мотивации к правильному питанию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После завершения проекта </a:t>
            </a:r>
            <a:br>
              <a:rPr sz="40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дети смогут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785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адекватно оценивать своё питание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ыбирать самые  полезные продукты для здорового, рационального питания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Давайте вместе подумаем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Зачем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человеку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нужно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здоровое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питание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Давайте вместе выясним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Что такое здоровое питание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Что значит правильно питаться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се ли продукты обеспечивают здоровое питание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Вам интересно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Какое питание является здоровым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Что мы любим есть и почему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Почему вкусное не всегда полезно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з чего состоят продукты питан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Что такое режим питан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В работе вам помогу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аш учител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аши родител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Тогда давайте работа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. На уроке окружающего мира в ходе работы по группам дети получат следущие знания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 продуктах, которые вредны, опасны для человека и те, которые укрепляют здоровь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пределить режим правильного пита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. Ну внеурочной деятельности составят примерное меню правильного питания на один ден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. Дома вместе с родителями оформят это меню для будущей коллективной брошюр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. Составить вместе с учителем презентацию – рекламу о правильном питании, подобрав для нее стихи и иллюстр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Результатом нашей работы будет  коллективная брошюр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«Чтоб здоровым быть всегда  -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нужна здоровая еда!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51:19Z</dcterms:created>
  <dc:creator>Lanser Client</dc:creator>
  <dc:description/>
  <dc:language>en-US</dc:language>
  <cp:lastModifiedBy>Jim</cp:lastModifiedBy>
  <dcterms:modified xsi:type="dcterms:W3CDTF">2016-03-19T19:22:16Z</dcterms:modified>
  <cp:revision>39</cp:revision>
  <dc:subject/>
  <dc:title>Слайд 1</dc:title>
</cp:coreProperties>
</file>