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EBE-B493-4BD8-A3DF-4C8DBE22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F17-3108-4698-B08F-8DC78D85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F57-8EEE-4FDC-AAAE-F6F3A822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37E-0786-4D0D-8CA0-BBA9B774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BFF4-987C-4ED9-B154-39536336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16DB-05B0-41DB-BF74-27843677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29D7-4B90-4D5A-AB24-6F0CA60D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F886-C3C2-4C72-B863-59C89955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3CC6-118C-4701-B6E5-F6F060AC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A7FF-372A-4F7C-A78D-314F534E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6DA7-687B-4787-BE42-BA9E5287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DCF-C896-4DBC-9409-3A63B41E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8464-B9B3-40BA-8608-4C5BEBAA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7F94-C5BA-4C11-9F01-097D4D4A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A98D-6EE2-4EB3-BBED-785AD141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DC97-378A-4F73-A7D1-4D6AC7D2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2CA4-36B0-4423-849F-AF4FB1F1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86B-7E34-422C-8928-15321AA6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33F-49BB-4D9E-9A5D-3C34487E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C45-DFB7-45D6-8BE8-5AAEDFA8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130-8EE2-49FF-A04F-EEE8D161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5E80-937E-4EEB-BBCF-60B2334C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3E5-684C-4249-A51A-491249DB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7DC-DBBA-4969-865E-3B57D24D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09F6-F91A-4034-80FE-861C8D96C6E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00DA-914A-48E6-B0BD-18F3F002998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05760" cy="60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Учебный проект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Что такое здоровое питание и зачем оно нужно?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Автор: учитель МБОУ г. Мценска Лицей №5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асилевская Ольга Ивано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частники: ученики 1-В класс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Литература по тем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кружающий мир. Мир вокруг нас. Учеб. для 1 кл. нач. шк. В 2 ч. А. А. Плешаков. – 7 – е изд. – М. : Просвещение, 2012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кружающий мир. Мир вокруг нас. Рабочая тетрадь к учебнику. В 2 ч. А. А. Плешаков. – 3 – е изд. – М. : Просвещение, 2012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. Безруких, Т. Филиппова, А. Макеева. Разговор о здоровье и правильном питании, рабочая тетрадь,- учебно- методический комплект программы «Разговор о правильном питании » - М., 2013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Проект рассчитан  на детей   младшего школьного возраста. В данном проекте затрагивается  вопрос о здоровом питании детей, который особенно актуален в современной жизни.  Проект призван  побудить детей и их родителей к размышлению о своем здоровье, раскрывает и расширяет содержание основных понятий курса по вопросам здорового питания и  способствует созданию мотивации к правильному питанию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После завершения проекта </a:t>
            </a:r>
            <a:br>
              <a:rPr sz="4000"/>
            </a:b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дети смогут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785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адекватно оценивать своё питание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выбирать самые  полезные продукты для здорового, рационального питания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Давайте вместе подумаем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Зачем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человеку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нужно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здоровое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питание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Давайте вместе выясним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Что такое здоровое питание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Что значит правильно питаться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Все ли продукты обеспечивают здоровое питание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Вам интересно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Какое питание является здоровым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Что мы любим есть и почему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Почему вкусное не всегда полезно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з чего состоят продукты питания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Что такое режим питания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В работе вам помогу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Ваш учител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Ваши родител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Тогда давайте работать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. На уроке окружающего мира в ходе работы по группам дети получат следущие знания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 продуктах, которые вредны, опасны для человека и те, которые укрепляют здоровь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пределить режим правильного пита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. Ну внеурочной деятельности составят примерное меню правильного питания на один ден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. Дома вместе с родителями оформят это меню для будущей коллективной брошюр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4. Составить вместе с учителем презентацию – рекламу о правильном питании, подобрав для нее стихи и иллюстр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Результатом нашей работы будет  коллективная брошюр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«Чтоб здоровым быть всегда  -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нужна здоровая еда!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8:51:19Z</dcterms:created>
  <dc:creator>Lanser Client</dc:creator>
  <dc:description/>
  <dc:language>en-US</dc:language>
  <cp:lastModifiedBy>Jim</cp:lastModifiedBy>
  <dcterms:modified xsi:type="dcterms:W3CDTF">2016-03-19T19:22:16Z</dcterms:modified>
  <cp:revision>39</cp:revision>
  <dc:subject/>
  <dc:title>Слайд 1</dc:title>
</cp:coreProperties>
</file>