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DE5-BB82-4E1E-891B-24D58BDB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220-2E55-47EF-8CEB-A7D2A9C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1EC-03A1-4B28-9375-CA80C672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401-EE4F-493F-BDB7-1D8A18E8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8A0-3501-4FFC-82ED-0DC26ED3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9DE-B611-4B22-8EA0-594F1EA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F62-361E-4D0C-8877-5A2D9C8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7EF-FBED-455E-B311-6C0589CC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464-FC79-45EA-A646-5DA4E48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111-5EED-4267-8201-6105DEA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33F-E581-41EF-A0A6-82BA585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FB2-94F2-4F83-87C5-710BDD1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7B78-22DD-410A-A180-0A2098D8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0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alex</cp:lastModifiedBy>
  <dcterms:modified xsi:type="dcterms:W3CDTF">2008-01-27T12:49:59Z</dcterms:modified>
  <cp:revision>21</cp:revision>
  <dc:subject/>
  <dc:title>Слайд 1</dc:title>
</cp:coreProperties>
</file>