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C20-21FC-4CDF-9A50-C4681CFD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24D-FD9C-4B2F-AFAA-1AA495D2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866-72C2-48F5-AAB3-A5F98F4E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B0A-BACD-44A1-A611-D0E0F202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AC6-ED07-4468-9B8A-226CD555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A36-A2F6-4048-B915-57093362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D7F-F365-4398-BB8C-BB957DB6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831-D073-417C-9FC1-3E54EFDB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A46-EA6A-474C-9BEB-3DE48C0D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C28-7FC0-4C03-A0F4-03FE5C4C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917-48B7-48AB-87E2-6D6136C5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46A-3F47-455F-BB7E-4DDFEC5B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DE07-E810-4C93-BEAD-9198AF1A6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c0d2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4f12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ls" descr=""/>
          <p:cNvPicPr/>
          <p:nvPr/>
        </p:nvPicPr>
        <p:blipFill>
          <a:blip r:embed="rId1"/>
          <a:stretch/>
        </p:blipFill>
        <p:spPr>
          <a:xfrm rot="20139000">
            <a:off x="1056960" y="6872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140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1924E-006 L 0.09444 0.57702 E">
                                      <p:cBhvr>
                                        <p:cTn id="14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4182 E">
                                      <p:cBhvr>
                                        <p:cTn id="15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d5323"/>
                </a:solidFill>
                <a:latin typeface="Arial"/>
              </a:rPr>
              <a:t>Будьте здоровы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70200" y="4390920"/>
            <a:ext cx="1728720" cy="229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17554200">
            <a:off x="2987640" y="4581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000" y="243000"/>
            <a:ext cx="847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5323"/>
                </a:solidFill>
                <a:latin typeface="Arial"/>
              </a:rPr>
              <a:t>Ежедневно делайте зарядку для глаз от 2 до 5 минут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51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27"/>
                </a:moveTo>
                <a:arcTo wR="10800" hR="10800" stAng="-23329" swAng="-21576671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69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8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71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18240" y="5533920"/>
            <a:ext cx="1203480" cy="1022400"/>
          </a:xfrm>
          <a:prstGeom prst="ellipse">
            <a:avLst/>
          </a:prstGeom>
          <a:solidFill>
            <a:srgbClr val="e03c82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10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10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11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11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1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100" name="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32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3:26:02Z</dcterms:created>
  <dc:creator>Масько Л.Г.</dc:creator>
  <dc:description/>
  <dc:language>en-US</dc:language>
  <cp:lastModifiedBy>alex</cp:lastModifiedBy>
  <dcterms:modified xsi:type="dcterms:W3CDTF">2008-01-27T12:49:59Z</dcterms:modified>
  <cp:revision>21</cp:revision>
  <dc:subject/>
  <dc:title>Слайд 1</dc:title>
</cp:coreProperties>
</file>