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96E0-DC06-4BDC-87A2-358A6624F3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C80B-6EC4-44B4-914E-9EEEAC9743C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981A-4F06-448A-A83E-894E8AB5DB0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CFF5-5B70-46F4-97A4-617085386E4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A63B-7917-4787-BCFA-CD710DAE31C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4522-54FC-45B8-9438-A84AF8BAA11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146-2498-49C7-ACBC-B19338B7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BC0-C31B-4820-A7D6-AD7E9202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4C1-5B56-48F7-98D7-D5508B6F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6E29-159F-46E7-9D94-3B8D7A6A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AF6B-C34D-4B75-9DD4-841B7B0E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6691-698D-4CC9-BA3B-52E95367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75BA-9D32-4F08-9B3B-DCFFC65E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8E46-6429-4D5B-86E2-FADE3B2F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C2D5-D10B-4F51-8EF7-48F74E9F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5775-9E16-4962-A329-6879A7E4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832A-E831-4F37-9858-98D356E1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4741-881B-425A-BB4C-87484700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310B-430E-4BE3-9AE4-7626BD82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3344-D6F9-4E8F-8AA2-57A03442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F0CE-0007-4778-A4F2-A15DD485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7FAC-B790-4573-9D55-817181D3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7E4D-BBF7-4A11-9772-993B9DA5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56E-3EF1-42F3-95C1-101A180C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881-CA9F-46A1-9E21-8B46B7D2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A0A8-54A1-4225-B230-56B75EE8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D91-F8D8-4130-8244-96B94B76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7F3E-EC28-4D44-A56A-0783286A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C58-206E-4250-9391-7AEB8A1F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1D0D-867F-40A1-90BF-A3B56DA0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саревская Т.П. БСОШ №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199D-F99B-42DE-9646-F480EE42440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саревская Т.П. БСОШ №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1E1F-5A35-4F2B-A033-99CD4D3592A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928800" y="4643280"/>
            <a:ext cx="750096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В гостях у сказки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0" descr="168144"/>
          <p:cNvPicPr/>
          <p:nvPr/>
        </p:nvPicPr>
        <p:blipFill>
          <a:blip r:embed="rId1"/>
          <a:stretch/>
        </p:blipFill>
        <p:spPr>
          <a:xfrm>
            <a:off x="2428920" y="214200"/>
            <a:ext cx="475308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2" descr="http://www.planetaskazok.ru/images/stories/russian/gusi_lebedi_malish/img_08.jpg"/>
          <p:cNvPicPr/>
          <p:nvPr/>
        </p:nvPicPr>
        <p:blipFill>
          <a:blip r:embed="rId1"/>
          <a:stretch/>
        </p:blipFill>
        <p:spPr>
          <a:xfrm>
            <a:off x="0" y="0"/>
            <a:ext cx="4786200" cy="3786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www.gardenbooks.ru/published/publicdata/GARDENBOOK/attachments/SC/products_pictures/F31162317241121020101852.jpg"/>
          <p:cNvPicPr/>
          <p:nvPr/>
        </p:nvPicPr>
        <p:blipFill>
          <a:blip r:embed="rId2"/>
          <a:stretch/>
        </p:blipFill>
        <p:spPr>
          <a:xfrm>
            <a:off x="4390920" y="3500280"/>
            <a:ext cx="4753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0" y="-2088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сная: 4+4+7+3+6 =24 с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тая:  4+1+5+7+4 = 21 с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леная: 4+5+9+6+5 = 29 с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857160" y="2214720"/>
            <a:ext cx="792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ffffff"/>
                </a:solidFill>
                <a:latin typeface="Tahoma"/>
              </a:rPr>
              <a:t>СПАСИБО!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31" descr="03"/>
          <p:cNvPicPr/>
          <p:nvPr/>
        </p:nvPicPr>
        <p:blipFill>
          <a:blip r:embed="rId1"/>
          <a:stretch/>
        </p:blipFill>
        <p:spPr>
          <a:xfrm>
            <a:off x="357120" y="260280"/>
            <a:ext cx="8429760" cy="59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0" y="-61200"/>
            <a:ext cx="871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ая команд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К разности чисел 34 и 5 прибавить разность чисел 6 и 3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 Из разности чисел 86 и 20 вычесть разность чисел 12 и 9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 К сумме чисел 43 и 4 прибавить сумму чисел 10 и 5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 Из суммы чисел 60 и 35 вычесть сумму чисел 14 и 10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0" y="33480"/>
            <a:ext cx="9144000" cy="69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ая команд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К разности чисел 47 и 13 прибавить сумму чисел 6 и 4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К сумме чисел 35 и 20 прибавить разность чисел 16 и 6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Из разности чисел 60 и 30 вычесть сумму чисел 8 и 2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Из суммы чисел 13 и 20 вычесть разность чисел 15 и 5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0" y="29160"/>
            <a:ext cx="914400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тья команд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К числу 32 прибавить разность чисел 25 и 15 и вычесть число 1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Из числа 67 вычесть сумму чисел 16 и 4 и прибавить число 5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К числу 26 прибавить сумму чисел 7 и 2 и вычесть число 15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Из числа 76 вычесть разность чисел 12 и 5 и прибавить число 6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23" descr="04"/>
          <p:cNvPicPr/>
          <p:nvPr/>
        </p:nvPicPr>
        <p:blipFill>
          <a:blip r:embed="rId1"/>
          <a:stretch/>
        </p:blipFill>
        <p:spPr>
          <a:xfrm>
            <a:off x="357120" y="189000"/>
            <a:ext cx="8429760" cy="64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0" y="-65160"/>
            <a:ext cx="914400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6+6)-25=55          55+(90-45)=90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-65+8=33             33-(14+9)=10            10+39+11=60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60-10+34=84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4-24+13=73            73-(11+22)=40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+24-14=50           50+(16+14)=80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80-45)-14=21         21+13+7=41            41+(25+5)=71           71-11-45=15                15+(33+17)=65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http://mukinauki.ru/tw_files2/urls_2/7/d-6837/6837_html_671071ef.jpg"/>
          <p:cNvPicPr/>
          <p:nvPr/>
        </p:nvPicPr>
        <p:blipFill>
          <a:blip r:embed="rId1"/>
          <a:stretch/>
        </p:blipFill>
        <p:spPr>
          <a:xfrm>
            <a:off x="428760" y="214200"/>
            <a:ext cx="8501040" cy="642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118440" y="96120"/>
            <a:ext cx="90626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камен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силиса Премудрая вышивала платки. Она вышила 3 розов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тка, голубых – на 6 больше, чем розовых, а белых –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меньше, чем розовых и голубых вместе.  Сколько всего платоч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шила Василис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1289160"/>
            <a:ext cx="914400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камен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волшебном саду Кощея Бессмертного росли 5 золотых яблонь, серебряных – на 4 больше, а медных на 3 больше, чем золотых и серебряных вместе. Сколько всего яблонь росло в саду Коще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2591280"/>
            <a:ext cx="9144000" cy="39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камен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Бабы Яги было 8 белых гусей, серых – на 4 меньше, а пятнистых на 2 больше, чем белых и серых вместе. Сколько всего гусей было у  Бабы Яг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6:43:10Z</dcterms:created>
  <dc:creator>user</dc:creator>
  <dc:description/>
  <dc:language>en-US</dc:language>
  <cp:lastModifiedBy>Asus</cp:lastModifiedBy>
  <dcterms:modified xsi:type="dcterms:W3CDTF">2013-12-06T18:22:29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