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420A-B023-4A14-A604-01605C4BF4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BCEE-73D6-4BCD-B30A-4EDD772DE72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16C5-133B-494A-82A0-AAB8E30B09D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D7DB-FBF3-439A-B362-53E16C9051C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D7E0-819F-4616-A5C6-71E00742DA1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B837-4302-4142-A0DA-5D4E83313B5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7A47-7532-44DC-9070-830E44ED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7197-D167-44A3-8F35-E229747F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C8D7-17F4-411D-8516-A0FA9EF9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C4D7-A31E-4F46-990C-7C60EE4B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C208-7FB9-4FA3-8A3D-8AD3F1B4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CACB-AF95-4057-AA26-43F1B96C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7D83-0A91-426C-BA4F-3AE6ED9D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1E57-3068-4680-8BFA-A6B3AF85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45F3-A41F-4A14-A2E9-D4367B9C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C416-5DEF-4E23-A318-8BE4EA64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B24F-3088-4EF5-88EB-1C53CF89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1A9B-803A-4885-99C5-4809B58D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6849-BE7C-4D82-BF88-D20098D7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B32D-BE9F-4339-B35B-A1F2D12B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2D34-E807-4323-A0B2-74E9753F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D575-9F2D-463E-B4CE-D4858F98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F575-EC29-4C7F-9EBF-0124044C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F430-42A6-4D6D-8B1F-B8863B0D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68F1-7C18-43D6-9668-03EF5ACF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82CA-6041-4349-8854-3A16C4A8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287-C0F2-42D0-8F99-C16752E9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7732-023F-452F-931C-9747B885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2EF3-EC97-4B50-8382-F54C658D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F9A8-D6FA-4CD2-A45B-2FEB743D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саревская Т.П. БСОШ №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4028-5B66-4BFD-AB4A-C8B3F7A6FA5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саревская Т.П. БСОШ №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AD6F-FB40-4BB7-B19B-279A25E6CB4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928800" y="4643280"/>
            <a:ext cx="750096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В гостях у сказки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0" descr="168144"/>
          <p:cNvPicPr/>
          <p:nvPr/>
        </p:nvPicPr>
        <p:blipFill>
          <a:blip r:embed="rId1"/>
          <a:stretch/>
        </p:blipFill>
        <p:spPr>
          <a:xfrm>
            <a:off x="2428920" y="214200"/>
            <a:ext cx="475308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2" descr="http://www.planetaskazok.ru/images/stories/russian/gusi_lebedi_malish/img_08.jpg"/>
          <p:cNvPicPr/>
          <p:nvPr/>
        </p:nvPicPr>
        <p:blipFill>
          <a:blip r:embed="rId1"/>
          <a:stretch/>
        </p:blipFill>
        <p:spPr>
          <a:xfrm>
            <a:off x="0" y="0"/>
            <a:ext cx="4786200" cy="3786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www.gardenbooks.ru/published/publicdata/GARDENBOOK/attachments/SC/products_pictures/F31162317241121020101852.jpg"/>
          <p:cNvPicPr/>
          <p:nvPr/>
        </p:nvPicPr>
        <p:blipFill>
          <a:blip r:embed="rId2"/>
          <a:stretch/>
        </p:blipFill>
        <p:spPr>
          <a:xfrm>
            <a:off x="4390920" y="3500280"/>
            <a:ext cx="4753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0" y="-20880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сная: 4+4+7+3+6 =24 с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тая:  4+1+5+7+4 = 21 с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леная: 4+5+9+6+5 = 29 с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857160" y="2214720"/>
            <a:ext cx="792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ffffff"/>
                </a:solidFill>
                <a:latin typeface="Tahoma"/>
              </a:rPr>
              <a:t>СПАСИБО!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31" descr="03"/>
          <p:cNvPicPr/>
          <p:nvPr/>
        </p:nvPicPr>
        <p:blipFill>
          <a:blip r:embed="rId1"/>
          <a:stretch/>
        </p:blipFill>
        <p:spPr>
          <a:xfrm>
            <a:off x="357120" y="260280"/>
            <a:ext cx="8429760" cy="59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0" y="-61200"/>
            <a:ext cx="871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ая команд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К разности чисел 34 и 5 прибавить разность чисел 6 и 3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 Из разности чисел 86 и 20 вычесть разность чисел 12 и 9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 К сумме чисел 43 и 4 прибавить сумму чисел 10 и 5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 Из суммы чисел 60 и 35 вычесть сумму чисел 14 и 10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0" y="33480"/>
            <a:ext cx="9144000" cy="69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ая команд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К разности чисел 47 и 13 прибавить сумму чисел 6 и 4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К сумме чисел 35 и 20 прибавить разность чисел 16 и 6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Из разности чисел 60 и 30 вычесть сумму чисел 8 и 2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Из суммы чисел 13 и 20 вычесть разность чисел 15 и 5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0" y="29160"/>
            <a:ext cx="9144000" cy="62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тья команд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К числу 32 прибавить разность чисел 25 и 15 и вычесть число 1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Из числа 67 вычесть сумму чисел 16 и 4 и прибавить число 5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К числу 26 прибавить сумму чисел 7 и 2 и вычесть число 15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Из числа 76 вычесть разность чисел 12 и 5 и прибавить число 6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23" descr="04"/>
          <p:cNvPicPr/>
          <p:nvPr/>
        </p:nvPicPr>
        <p:blipFill>
          <a:blip r:embed="rId1"/>
          <a:stretch/>
        </p:blipFill>
        <p:spPr>
          <a:xfrm>
            <a:off x="357120" y="189000"/>
            <a:ext cx="8429760" cy="64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0" y="-65160"/>
            <a:ext cx="914400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56+6)-25=55          55+(90-45)=90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-65+8=33             33-(14+9)=10            10+39+11=60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60-10+34=84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4-24+13=73            73-(11+22)=40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+24-14=50           50+(16+14)=80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80-45)-14=21         21+13+7=41            41+(25+5)=71           71-11-45=15                15+(33+17)=65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3" descr="http://mukinauki.ru/tw_files2/urls_2/7/d-6837/6837_html_671071ef.jpg"/>
          <p:cNvPicPr/>
          <p:nvPr/>
        </p:nvPicPr>
        <p:blipFill>
          <a:blip r:embed="rId1"/>
          <a:stretch/>
        </p:blipFill>
        <p:spPr>
          <a:xfrm>
            <a:off x="428760" y="214200"/>
            <a:ext cx="8501040" cy="642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118440" y="96120"/>
            <a:ext cx="906264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камен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силиса Премудрая вышивала платки. Она вышила 3 розов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тка, голубых – на 6 больше, чем розовых, а белых –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меньше, чем розовых и голубых вместе.  Сколько всего платоч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шила Василис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1289160"/>
            <a:ext cx="914400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камен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волшебном саду Кощея Бессмертного росли 5 золотых яблонь, серебряных – на 4 больше, а медных на 3 больше, чем золотых и серебряных вместе. Сколько всего яблонь росло в саду Коще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2591280"/>
            <a:ext cx="9144000" cy="39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1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камен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Бабы Яги было 8 белых гусей, серых – на 4 меньше, а пятнистых на 2 больше, чем белых и серых вместе. Сколько всего гусей было у  Бабы Яг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6:43:10Z</dcterms:created>
  <dc:creator>user</dc:creator>
  <dc:description/>
  <dc:language>en-US</dc:language>
  <cp:lastModifiedBy>Asus</cp:lastModifiedBy>
  <dcterms:modified xsi:type="dcterms:W3CDTF">2013-12-06T18:22:29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