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FD8B-E72C-411D-96CE-82AEC43F4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DF2A-1DDF-4B2D-902C-63559156E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D0AC-131D-4F2C-8BF1-AAF7AA346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62FE-1D84-4F85-98CA-A0B75CB0B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03084-D783-4337-8E38-65DDC150F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569D2-A3A8-48C4-A31B-2C419856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A5055-2DAA-485F-A4F6-BE81BBA28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A2C99-DD04-4CA0-95BA-AF3EA4EE8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29C03-8989-4686-983F-8BC5557B4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E6178-F554-4C2A-91BA-1EFD86800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6045A-29AF-4055-A1FE-BD38DE84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36FD-91FD-4FFE-9FEE-25BCAD905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C8D1C-CCB0-4535-B274-6CCBEA2A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CE474-20BC-4887-B6F4-64E1E763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9CB20-30EB-48BC-A534-F68A860A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EF4A5-34F5-4A2A-8BC7-79A85EBA9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BEDF7-394E-4DBF-AEFE-1EB5F3F5F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A4E8-5223-45D4-BE22-E84D4957D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5D56-3234-447D-AF78-B9FCE7ED5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C764-85C6-4012-9E6B-C7B093E83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4C5A-BC2F-43A8-BE5A-DF6A439DB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7AAF-15B1-4268-8A00-980F6ADA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763E-F4B3-4851-AA5E-FC2A6D65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5524-5B1C-4C26-9C81-37DF93D7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5C591-4F15-40B3-B390-9F24DB7E17C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ACD8C-CA18-4826-ADC1-9B59BCDADBE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2340000" y="4076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«Природа для нас –кладовая солнц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  великими сокровищами…                             И охранять природу –                                  значит охранять Родину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М. Пришв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WordArt 5"/>
          <p:cNvSpPr txBox="1"/>
          <p:nvPr/>
        </p:nvSpPr>
        <p:spPr>
          <a:xfrm>
            <a:off x="468360" y="476280"/>
            <a:ext cx="820728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голок природы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 младшей группе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eec94"/>
                </a:solidFill>
                <a:uFillTx/>
                <a:latin typeface="Times New Roman"/>
              </a:rPr>
              <a:t>Коллекция камней и ракушек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Работа с коллекцией камней направлена  – на игру, через которую осуществляется  обучение и развитие ребенка.  Коллекции служат не просто образцами, а объектами, с которыми ребенок имеет возможность играть: подбирать по цвету, размеру, подбрасывать, бросать в воду, конструироват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eec94"/>
                </a:solidFill>
                <a:uFillTx/>
                <a:latin typeface="Times New Roman"/>
              </a:rPr>
              <a:t>Коллекция песок, глина, вода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троительные игры с песком, водой помогают решить многие проблемные ситуации, например, почему сухой песок сыплется, а мокрый - нет; где быстрее прорастёт зёрнышко, в земле или в песке; каким вещам вода на пользу, а каким во вред? Все эти вопросы заставляют малышей думать, сопоставлять и делать вывод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Picture 5" descr="C:\Users\1\Desktop\Рисунок2.png"/>
          <p:cNvPicPr/>
          <p:nvPr/>
        </p:nvPicPr>
        <p:blipFill>
          <a:blip r:embed="rId1"/>
          <a:stretch/>
        </p:blipFill>
        <p:spPr>
          <a:xfrm>
            <a:off x="6022800" y="4502160"/>
            <a:ext cx="290196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eec94"/>
                </a:solidFill>
                <a:uFillTx/>
                <a:latin typeface="Times New Roman"/>
              </a:rPr>
              <a:t> </a:t>
            </a:r>
            <a:r>
              <a:rPr b="1" lang="ru-RU" sz="3200" spc="-1" strike="noStrike" u="sng">
                <a:solidFill>
                  <a:srgbClr val="feec94"/>
                </a:solidFill>
                <a:uFillTx/>
                <a:latin typeface="Times New Roman"/>
              </a:rPr>
              <a:t>Экспериментирование в уголке природы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40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Это база для специфической игровой деятельности ребенка, дети превращаются в ученых, проводят опыты, наблюдения, эксперименты такие как: какая бывает вода, вода – растворитель, можно ли склеить бумагу водой, тонет – не тонет, песочная страна, фокусы с магнитами, почему не тонут корабли, почему предметы движутс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Picture 5" descr="C:\Users\1\Desktop\Рисунок1.jpg"/>
          <p:cNvPicPr/>
          <p:nvPr/>
        </p:nvPicPr>
        <p:blipFill>
          <a:blip r:embed="rId1"/>
          <a:stretch/>
        </p:blipFill>
        <p:spPr>
          <a:xfrm>
            <a:off x="4716360" y="4371840"/>
            <a:ext cx="432288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eec94"/>
                </a:solidFill>
                <a:uFillTx/>
                <a:latin typeface="Times New Roman"/>
              </a:rPr>
              <a:t>Календарь природы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аполнение календаря природы -  дело повседневной жизни, которое сочетается с наблюдениями. Воспитатель с детьми регулярно фиксирует погоду и состояние живой природы, когда ведутся наблюдения за ней. В младшей группе взрослый помогает детям после прогулки отыскать картинки с явлениями природы, которые наблюдали на улице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eec94"/>
                </a:solidFill>
                <a:uFillTx/>
                <a:latin typeface="Times New Roman"/>
              </a:rPr>
              <a:t>Демонстрационный материал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уляжи овощей и фруктов: помидоры, огурцы, морковь, яблоки, капуст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артины, пейзажи по временам года, альбомы, карточки с животными, птица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делки из природного и бросового материала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Picture 4" descr="IMG_1661"/>
          <p:cNvPicPr/>
          <p:nvPr/>
        </p:nvPicPr>
        <p:blipFill>
          <a:blip r:embed="rId1"/>
          <a:stretch/>
        </p:blipFill>
        <p:spPr>
          <a:xfrm>
            <a:off x="345960" y="4581360"/>
            <a:ext cx="2449800" cy="1665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IMG_1660"/>
          <p:cNvPicPr/>
          <p:nvPr/>
        </p:nvPicPr>
        <p:blipFill>
          <a:blip r:embed="rId2"/>
          <a:stretch/>
        </p:blipFill>
        <p:spPr>
          <a:xfrm>
            <a:off x="3576600" y="4581360"/>
            <a:ext cx="2451240" cy="1737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IMG_1660"/>
          <p:cNvPicPr/>
          <p:nvPr/>
        </p:nvPicPr>
        <p:blipFill>
          <a:blip r:embed="rId3"/>
          <a:stretch/>
        </p:blipFill>
        <p:spPr>
          <a:xfrm>
            <a:off x="6588000" y="4581360"/>
            <a:ext cx="223380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eec94"/>
                </a:solidFill>
                <a:uFillTx/>
                <a:latin typeface="Times New Roman"/>
              </a:rPr>
              <a:t>Дидактические игры в уголке природы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6421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дидактических играх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можно использовать натуральные предметы природы, картинки с изображением растений и животных. Дидактические игры помогают детям запомнить правильные названия предметов, усвоить их качества (цвет, форма, величина и запах растений) и уточнить представления, полученные в процессе наблюдения в природе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громную радость доставляет детям угадывание предметов на ощупь. К таким играм относится “Угадай что в мешочке?”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идактические игры экологического содержания: “Кто где живет?”, “Времена года”, “Найди животное”, “Живая природа”, “Ребятам о зверятах”, “Мир растений”, “Подбери и назови”, “В лесу”, “У кого какой цветок”, “Что и как растет”, “Где спряталась матрёшка?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eec94"/>
                </a:solidFill>
                <a:uFillTx/>
                <a:latin typeface="Times New Roman"/>
              </a:rPr>
              <a:t>Детские книги в уголке природы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640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етская энциклопедия. Чижевский А.Е. “Я познаю мир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Энциклопедия  “Мир вокруг тебя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казки о цветах и деревьях  А.Лопати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ольшая книга о природе (в сборник вошли стихи и рассказы русских поэтов и писателей о нашей родной природе, также загадки, пословицы, приметы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Жизнь птиц” Егорова Т.Г. (книга состоит из двух частей, 1-я познавательная часть, 2-я игровые задания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аскраски: цветы; фрукты и ягоды; овощи; животные; птицы, цветы, бабочки; мир природ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292720" y="4879800"/>
            <a:ext cx="38512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277920"/>
            <a:ext cx="83628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eec94"/>
                </a:solidFill>
                <a:uFillTx/>
                <a:latin typeface="Times New Roman"/>
              </a:rPr>
              <a:t>Объем  знаний  и  воспитательные задачи: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3640" y="980640"/>
            <a:ext cx="84358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ети  должны  знать названия  2 – 3 растений, называть  их  части: цветок, лист. Знать  основные  растительные  группы: дерево, трава. Уметь  рассказывать  о  растениях, отмечая  характерные  признаки цветков (один, много, их цвет, запах),  листьев  (большие, маленькие, широкие или узкие, их  окраску). Находить одинаковые  растения, знать, что  за  растениями  нужно  ухаживать – протирать  листья, поливать  их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eec94"/>
                </a:solidFill>
                <a:uFillTx/>
                <a:latin typeface="Times New Roman"/>
              </a:rPr>
              <a:t>С какими растениями рекомендуется знакомить детей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хожими на  дерево, траву, неприхотливыми, цветущими, желательно  с  одноцветными  цветками (бегония, примула, герань, бальзамин), с  широкими  плотными листьями (фикус). Всего 4-5 видов, по 2-3 экземпляра каждого вид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eec94"/>
                </a:solidFill>
                <a:uFillTx/>
                <a:latin typeface="Times New Roman"/>
              </a:rPr>
              <a:t>Что  дети  должны  делать по уходу за растениями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ливать  растения под  руководством  воспитателя, уметь  правильно  держать  лейку, лить  воду  аккуратно, протирать  листья  влажной  тряпочко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23640" y="259920"/>
            <a:ext cx="84978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а основе приобретенных знаний формируются такие качества, как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еалистическое понимание явлений природы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любознательность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мение наблюдать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логически мыслить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любовь к природе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авыки бережного отношения к природе, забота о живых существах рождают не только интерес к природе, но и способствуют формированию у детей лучших черт характера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атриотизм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трудолюбие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важение к труду взрослых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Picture 4" descr="C:\Users\1\Desktop\Рисунок2.jpg"/>
          <p:cNvPicPr/>
          <p:nvPr/>
        </p:nvPicPr>
        <p:blipFill>
          <a:blip r:embed="rId1"/>
          <a:stretch/>
        </p:blipFill>
        <p:spPr>
          <a:xfrm>
            <a:off x="5313240" y="4133880"/>
            <a:ext cx="363384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eec94"/>
                </a:solidFill>
                <a:latin typeface="Times New Roman"/>
              </a:rPr>
              <a:t>«От того, как прошло детство, кто вел ребенка за руку в детские годы, что вошло в его разум и сердце из окружающего мира, - от этого в решающей степени зависит, каким человеком станет малыш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К.Д.Ушинск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Picture 4" descr="C:\Users\1\Desktop\Рисунок3.jpg"/>
          <p:cNvPicPr/>
          <p:nvPr/>
        </p:nvPicPr>
        <p:blipFill>
          <a:blip r:embed="rId1"/>
          <a:stretch/>
        </p:blipFill>
        <p:spPr>
          <a:xfrm>
            <a:off x="108000" y="2903400"/>
            <a:ext cx="5256000" cy="39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820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вести ребёнка в мир природы, научить понимать её, воспитать бережное отношение к ней – важнейшая задача детского сад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знакомить детей с природой, воспитать любовь к ней помогает уголок природы 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ля  постоянного  общения детей  с  растениями в  каждом  детском  саду  должен  быть  оформлен  и  оснащен  уголок  природы. Хорошо  оборудованный  и удачно  расположенный уголок  природы  украшает групповую  комнату, доставляет  удовольствие  детям, дает  возможность  проводить интересные  наблюдения, ухаживать  за   растениями  в  течение  год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5" descr="C:\Users\1\Desktop\Рисунок1.jpg"/>
          <p:cNvPicPr/>
          <p:nvPr/>
        </p:nvPicPr>
        <p:blipFill>
          <a:blip r:embed="rId1"/>
          <a:stretch/>
        </p:blipFill>
        <p:spPr>
          <a:xfrm>
            <a:off x="468360" y="4386240"/>
            <a:ext cx="2663640" cy="2444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C:\Users\1\Desktop\Рисунок2.jpg"/>
          <p:cNvPicPr/>
          <p:nvPr/>
        </p:nvPicPr>
        <p:blipFill>
          <a:blip r:embed="rId2"/>
          <a:stretch/>
        </p:blipFill>
        <p:spPr>
          <a:xfrm>
            <a:off x="5724360" y="4408560"/>
            <a:ext cx="320688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WordArt 5"/>
          <p:cNvSpPr txBox="1"/>
          <p:nvPr/>
        </p:nvSpPr>
        <p:spPr>
          <a:xfrm>
            <a:off x="755640" y="981000"/>
            <a:ext cx="784872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 внимание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5819760" y="5011560"/>
            <a:ext cx="309708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оставитель презентации: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укина Татьяна Николаевна воспитатель первой категор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eec94"/>
                </a:solidFill>
                <a:uFillTx/>
                <a:latin typeface="Times New Roman"/>
              </a:rPr>
              <a:t>Всех обитателей уголка природы можно разделить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ru-RU" sz="2800" spc="-1" strike="noStrike" u="sng">
                <a:solidFill>
                  <a:srgbClr val="ffff00"/>
                </a:solidFill>
                <a:uFillTx/>
                <a:latin typeface="Times New Roman"/>
              </a:rPr>
              <a:t>на постоянные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– живут в уголке круглый год (комнатные растения, рыбки и т.д.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ru-RU" sz="2800" spc="-1" strike="noStrike" u="sng">
                <a:solidFill>
                  <a:srgbClr val="ffff00"/>
                </a:solidFill>
                <a:uFillTx/>
                <a:latin typeface="Times New Roman"/>
              </a:rPr>
              <a:t>временные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(вносятся на короткое время,                     жизнь которых проявляется в те или другие сезоны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4" descr="C:\Users\1\Desktop\Рисунок3.jpg"/>
          <p:cNvPicPr/>
          <p:nvPr/>
        </p:nvPicPr>
        <p:blipFill>
          <a:blip r:embed="rId1"/>
          <a:stretch/>
        </p:blipFill>
        <p:spPr>
          <a:xfrm>
            <a:off x="4284720" y="4292640"/>
            <a:ext cx="471816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уголке природы младших групп помещают растения, имеющие чётко выраженные основные части (стебель, листья) и ярко, обильно и долго цветущие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2400" spc="-1" strike="noStrike" u="sng">
                <a:solidFill>
                  <a:srgbClr val="feec94"/>
                </a:solidFill>
                <a:uFillTx/>
                <a:latin typeface="Times New Roman"/>
              </a:rPr>
              <a:t>Рекомендуемые: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герань, примула, фуксия, вечноцветущая бегония, бальзамин («огонёк»), фикус, азалия, китайский розан, колеус. Из названных видов для наблюдения в течение года вносят 3—4 растения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250920" y="3716280"/>
            <a:ext cx="1711080" cy="1873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"/>
          <p:cNvPicPr/>
          <p:nvPr/>
        </p:nvPicPr>
        <p:blipFill>
          <a:blip r:embed="rId2"/>
          <a:stretch/>
        </p:blipFill>
        <p:spPr>
          <a:xfrm>
            <a:off x="1476360" y="4943520"/>
            <a:ext cx="1895400" cy="19144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"/>
          <p:cNvPicPr/>
          <p:nvPr/>
        </p:nvPicPr>
        <p:blipFill>
          <a:blip r:embed="rId3"/>
          <a:stretch/>
        </p:blipFill>
        <p:spPr>
          <a:xfrm>
            <a:off x="2843280" y="3789360"/>
            <a:ext cx="2343240" cy="15526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"/>
          <p:cNvPicPr/>
          <p:nvPr/>
        </p:nvPicPr>
        <p:blipFill>
          <a:blip r:embed="rId4"/>
          <a:stretch/>
        </p:blipFill>
        <p:spPr>
          <a:xfrm>
            <a:off x="5003640" y="4657680"/>
            <a:ext cx="1648080" cy="22003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"/>
          <p:cNvPicPr/>
          <p:nvPr/>
        </p:nvPicPr>
        <p:blipFill>
          <a:blip r:embed="rId5"/>
          <a:stretch/>
        </p:blipFill>
        <p:spPr>
          <a:xfrm>
            <a:off x="6227640" y="3429000"/>
            <a:ext cx="2114640" cy="15858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"/>
          <p:cNvPicPr/>
          <p:nvPr/>
        </p:nvPicPr>
        <p:blipFill>
          <a:blip r:embed="rId6"/>
          <a:stretch/>
        </p:blipFill>
        <p:spPr>
          <a:xfrm>
            <a:off x="7488360" y="4784760"/>
            <a:ext cx="165564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28036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eec94"/>
                </a:solidFill>
                <a:uFillTx/>
                <a:latin typeface="Times New Roman"/>
              </a:rPr>
              <a:t>Рекомендации к отбору обитателей уголка природы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                                      </a:t>
            </a: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(П.Г.Саморукова «Как знакомить дошкольников с природой»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49636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астение должно быть той или иной экологической групп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ход за растениями по количеству, характеру труда, по затрачиваемым силам должен быть доступен детя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астения  должны быть внешне привлекательн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еобходимо иметь несколько экземпляров одного вида растений (дети увидят индивидуальные признаки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астения должны быть безопасн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еобходимо учитывать возможность нормальной жизнедеятельности роста и развития растени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голок природы должен радовать глаз, украшать интерьер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ети должны свободно подходить к растениям, наблюдать и трудиться в уголке природ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Organization Chart 32"/>
          <p:cNvGrpSpPr/>
          <p:nvPr/>
        </p:nvGrpSpPr>
        <p:grpSpPr>
          <a:xfrm>
            <a:off x="431640" y="476280"/>
            <a:ext cx="8057160" cy="5604120"/>
            <a:chOff x="431640" y="476280"/>
            <a:chExt cx="8057160" cy="5604120"/>
          </a:xfrm>
        </p:grpSpPr>
        <p:cxnSp>
          <p:nvCxnSpPr>
            <p:cNvPr id="137" name="_s1028"/>
            <p:cNvCxnSpPr>
              <a:stCxn id="138" idx="1"/>
              <a:endCxn id="139" idx="2"/>
            </p:cNvCxnSpPr>
            <p:nvPr/>
          </p:nvCxnSpPr>
          <p:spPr>
            <a:xfrm flipH="1" rot="10800000">
              <a:off x="2699640" y="5319720"/>
              <a:ext cx="4730400" cy="27360"/>
            </a:xfrm>
            <a:prstGeom prst="bentConnector4">
              <a:avLst>
                <a:gd name="adj1" fmla="val -2412"/>
                <a:gd name="adj2" fmla="val -2716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0" name="_s1029"/>
            <p:cNvCxnSpPr>
              <a:stCxn id="139" idx="0"/>
              <a:endCxn id="141" idx="2"/>
            </p:cNvCxnSpPr>
            <p:nvPr/>
          </p:nvCxnSpPr>
          <p:spPr>
            <a:xfrm flipV="1" rot="16200000">
              <a:off x="6828840" y="3618720"/>
              <a:ext cx="988920" cy="216000"/>
            </a:xfrm>
            <a:prstGeom prst="bentConnector3">
              <a:avLst>
                <a:gd name="adj1" fmla="val 1154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2" name="_s1030"/>
            <p:cNvCxnSpPr>
              <a:stCxn id="141" idx="0"/>
              <a:endCxn id="143" idx="2"/>
            </p:cNvCxnSpPr>
            <p:nvPr/>
          </p:nvCxnSpPr>
          <p:spPr>
            <a:xfrm flipV="1" rot="16200000">
              <a:off x="5451480" y="371160"/>
              <a:ext cx="558000" cy="2965320"/>
            </a:xfrm>
            <a:prstGeom prst="bentConnector3">
              <a:avLst>
                <a:gd name="adj1" fmla="val 2046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4" name="_s1031"/>
            <p:cNvCxnSpPr>
              <a:stCxn id="145" idx="0"/>
              <a:endCxn id="143" idx="2"/>
            </p:cNvCxnSpPr>
            <p:nvPr/>
          </p:nvCxnSpPr>
          <p:spPr>
            <a:xfrm flipV="1" rot="16200000">
              <a:off x="3579480" y="2242800"/>
              <a:ext cx="1638360" cy="302040"/>
            </a:xfrm>
            <a:prstGeom prst="bentConnector3">
              <a:avLst>
                <a:gd name="adj1" fmla="val 696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6" name="_s1032"/>
            <p:cNvCxnSpPr>
              <a:stCxn id="147" idx="0"/>
              <a:endCxn id="143" idx="2"/>
            </p:cNvCxnSpPr>
            <p:nvPr/>
          </p:nvCxnSpPr>
          <p:spPr>
            <a:xfrm flipH="1" flipV="1" rot="5400000">
              <a:off x="2593440" y="470160"/>
              <a:ext cx="550080" cy="2759760"/>
            </a:xfrm>
            <a:prstGeom prst="bentConnector3">
              <a:avLst>
                <a:gd name="adj1" fmla="val 20759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43" name="_s1033"/>
            <p:cNvSpPr/>
            <p:nvPr/>
          </p:nvSpPr>
          <p:spPr>
            <a:xfrm>
              <a:off x="1978920" y="476280"/>
              <a:ext cx="4537080" cy="10990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Комнатные растени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это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для детей источни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_s1034"/>
            <p:cNvSpPr/>
            <p:nvPr/>
          </p:nvSpPr>
          <p:spPr>
            <a:xfrm>
              <a:off x="431640" y="2125080"/>
              <a:ext cx="2115000" cy="109908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Красоты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_s1035"/>
            <p:cNvSpPr/>
            <p:nvPr/>
          </p:nvSpPr>
          <p:spPr>
            <a:xfrm>
              <a:off x="3492360" y="3213360"/>
              <a:ext cx="2112480" cy="109908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Доброты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_s1036"/>
            <p:cNvSpPr/>
            <p:nvPr/>
          </p:nvSpPr>
          <p:spPr>
            <a:xfrm>
              <a:off x="6155640" y="2133000"/>
              <a:ext cx="2115000" cy="109908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Хорошег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настроени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_s1037"/>
            <p:cNvSpPr/>
            <p:nvPr/>
          </p:nvSpPr>
          <p:spPr>
            <a:xfrm>
              <a:off x="6370920" y="4221000"/>
              <a:ext cx="2117880" cy="1099080"/>
            </a:xfrm>
            <a:prstGeom prst="roundRect">
              <a:avLst>
                <a:gd name="adj" fmla="val 16667"/>
              </a:avLst>
            </a:prstGeom>
            <a:solidFill>
              <a:srgbClr val="8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Здоровь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_s1038"/>
            <p:cNvSpPr/>
            <p:nvPr/>
          </p:nvSpPr>
          <p:spPr>
            <a:xfrm>
              <a:off x="2701080" y="4797720"/>
              <a:ext cx="2112840" cy="1099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Чистого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воздух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5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eec94"/>
                </a:solidFill>
                <a:uFillTx/>
                <a:latin typeface="Times New Roman"/>
              </a:rPr>
              <a:t>По Санитарным Правилам и Нормам при организации экологических пространств необходимо соблюдать следующие требования: 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астения должны быть безопасн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едопустимы ядовитые и колючие раст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едпочтение следует отдавать растениям, очищающим воздух, поглощающим вредные веществ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ля поддержания чистоты осуществляют ежедневный уход за растениям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Животные, рыбы, птицы недопустимы в групповых помещениях. Для этого должно быть предусмотрено отдельное помещение, оборудованное подводкой горячей и холодной воды, со стеллажами для хранения кормов и инвентаря для чистки и дезинфекции клеток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младшей группе в уголке природы помещают аквариум с рыбкой. Для малышей, исходя из особенностей их восприятия, надо подобрать рыбку ярко окрашенную, ведущую в течение большей части года активный образ жизни, охотно поедающую корм. Это обыкновенная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золотая рыбка, золотистый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серебристый карас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ожно содержать птиц. Желательно, чтобы птица имела яркое оперение, веселый нрав, была неприхотлива к пище, пела в неволе. Для этого более всего подойдёт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канарей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емаловажное значение в уголке природы отводится зоне коллекций, которая является интерактивной и предназначена для знакомства детей с различными природными объектами живой и неживой природы, для развития у них навыков классификации объектов по различным признакам, развития сенсорных навыков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4" descr="C:\Users\1\Desktop\Рисунок1.png"/>
          <p:cNvPicPr/>
          <p:nvPr/>
        </p:nvPicPr>
        <p:blipFill>
          <a:blip r:embed="rId1"/>
          <a:stretch/>
        </p:blipFill>
        <p:spPr>
          <a:xfrm>
            <a:off x="4932360" y="3716280"/>
            <a:ext cx="4068720" cy="30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7T11:26:51Z</dcterms:created>
  <dc:creator>Олег</dc:creator>
  <dc:description/>
  <dc:language>en-US</dc:language>
  <cp:lastModifiedBy>Я</cp:lastModifiedBy>
  <dcterms:modified xsi:type="dcterms:W3CDTF">2016-09-21T19:50:27Z</dcterms:modified>
  <cp:revision>23</cp:revision>
  <dc:subject/>
  <dc:title>Слайд 1</dc:title>
</cp:coreProperties>
</file>