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19C-D467-4003-9FE4-0351019E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86B-D390-45DC-A098-AC02AB6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6D7-B5DA-4F93-B516-CAD5589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DDB-C184-4ACF-BD6F-B5C0C1A6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15D0-0FCD-4DDC-AEDD-D24BF207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819F-BAD8-4D30-8C78-14B1A61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3BB3-664E-43A7-85A8-62E6D999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9AEB-2C88-455F-9A0C-CD95AF2F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649D-A29C-4131-BFFD-F312924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99E1-34E4-4ED2-9629-9FA48619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65C6-B43D-4C7E-931A-FA7D0CD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A1C-F47A-408E-9B18-E3FC4866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5BA-0445-417E-B27D-0FDA497A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00E0-5CD0-4028-BBD3-87409550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A17-FC27-4185-8C5A-F76DCFF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25C1-4E73-4A7A-9CB3-75FEC183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64F9-617A-4346-A031-3DEA5CED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148-E794-49D8-8444-00D419C1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8AE-05F9-4EB8-ABD6-5EB3EEB1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0D0-3547-4CA1-A944-8926C893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F35-9BBA-4D85-8485-2C1B15F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9EE-2305-4BF8-97C8-9305450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8E5-E02C-4BF5-9055-8A966E7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CB9-B568-460A-A867-C65AA116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E892-F491-462A-A820-0BAC0DC588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ADBD-EFA6-4E3C-9AFA-9317756CF3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340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Природа для нас –кладовая солнц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 великими сокровищами…                             И охранять природу –                                  значит охранять Родин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. Пришв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468360" y="476280"/>
            <a:ext cx="8207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олок природ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ладшей групп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Коллекция камней и ракушек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с коллекцией камней направлена  – на игру, через которую осуществляется  обучение и развитие ребенка.  Коллекции служат не просто образцами, а объектами, с которыми ребенок имеет возможность играть: подбирать по цвету, размеру, подбрасывать, бросать в воду, конструиров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Коллекция песок, глина, вод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оительные игры с песком, водой помогают решить многие проблемные ситуации, например, почему сухой песок сыплется, а мокрый - нет; где быстрее прорастёт зёрнышко, в земле или в песке; каким вещам вода на пользу, а каким во вред? Все эти вопросы заставляют малышей думать, сопоставлять и делать выв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C:\Users\1\Desktop\Рисунок2.png"/>
          <p:cNvPicPr/>
          <p:nvPr/>
        </p:nvPicPr>
        <p:blipFill>
          <a:blip r:embed="rId1"/>
          <a:stretch/>
        </p:blipFill>
        <p:spPr>
          <a:xfrm>
            <a:off x="6022800" y="4502160"/>
            <a:ext cx="29019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Экспериментирование в уголке природ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база для специфической игровой деятельности ребенка, дети превращаются в ученых, проводят опыты, наблюдения, эксперименты такие как: какая бывает вода, вода – растворитель, можно ли склеить бумагу водой, тонет – не тонет, песочная страна, фокусы с магнитами, почему не тонут корабли, почему предметы движу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C:\Users\1\Desktop\Рисунок1.jpg"/>
          <p:cNvPicPr/>
          <p:nvPr/>
        </p:nvPicPr>
        <p:blipFill>
          <a:blip r:embed="rId1"/>
          <a:stretch/>
        </p:blipFill>
        <p:spPr>
          <a:xfrm>
            <a:off x="4716360" y="4371840"/>
            <a:ext cx="4322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Календарь приро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олнение календаря природы -  дело повседневной жизни, которое сочетается с наблюдениями. Воспитатель с детьми регулярно фиксирует погоду и состояние живой природы, когда ведутся наблюдения за ней. В младшей группе взрослый помогает детям после прогулки отыскать картинки с явлениями природы, которые наблюдали на улиц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Демонстрационный материа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ляжи овощей и фруктов: помидоры, огурцы, морковь, яблоки, капу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ртины, пейзажи по временам года, альбомы, карточки с животными, птиц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елки из природного и бросового материал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IMG_1661"/>
          <p:cNvPicPr/>
          <p:nvPr/>
        </p:nvPicPr>
        <p:blipFill>
          <a:blip r:embed="rId1"/>
          <a:stretch/>
        </p:blipFill>
        <p:spPr>
          <a:xfrm>
            <a:off x="345960" y="4581360"/>
            <a:ext cx="2449800" cy="1665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G_1660"/>
          <p:cNvPicPr/>
          <p:nvPr/>
        </p:nvPicPr>
        <p:blipFill>
          <a:blip r:embed="rId2"/>
          <a:stretch/>
        </p:blipFill>
        <p:spPr>
          <a:xfrm>
            <a:off x="3576600" y="4581360"/>
            <a:ext cx="2451240" cy="1737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IMG_1660"/>
          <p:cNvPicPr/>
          <p:nvPr/>
        </p:nvPicPr>
        <p:blipFill>
          <a:blip r:embed="rId3"/>
          <a:stretch/>
        </p:blipFill>
        <p:spPr>
          <a:xfrm>
            <a:off x="6588000" y="4581360"/>
            <a:ext cx="22338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Дидактические игры в уголке природ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идактических игра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ожно использовать натуральные предметы природы, картинки с изображением растений и животных. Дидактические игры помогают детям запомнить правильные названия предметов, усвоить их качества (цвет, форма, величина и запах растений) и уточнить представления, полученные в процессе наблюдения в природ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громную радость доставляет детям угадывание предметов на ощупь. К таким играм относится “Угадай что в мешочке?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дактические игры экологического содержания: “Кто где живет?”, “Времена года”, “Найди животное”, “Живая природа”, “Ребятам о зверятах”, “Мир растений”, “Подбери и назови”, “В лесу”, “У кого какой цветок”, “Что и как растет”, “Где спряталась матрёшка?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eec94"/>
                </a:solidFill>
                <a:uFillTx/>
                <a:latin typeface="Times New Roman"/>
              </a:rPr>
              <a:t>Детские книги в уголке приро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ская энциклопедия. Чижевский А.Е. “Я познаю мир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нциклопедия  “Мир вокруг тебя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азки о цветах и деревьях  А.Лопат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ая книга о природе (в сборник вошли стихи и рассказы русских поэтов и писателей о нашей родной природе, также загадки, пословицы, примет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ь птиц” Егорова Т.Г. (книга состоит из двух частей, 1-я познавательная часть, 2-я игровые задан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краски: цветы; фрукты и ягоды; овощи; животные; птицы, цветы, бабочки; мир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292720" y="4879800"/>
            <a:ext cx="3851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Объем  знаний  и  воспитательные задачи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ти  должны  знать названия  2 – 3 растений, называть  их  части: цветок, лист. Знать  основные  растительные  группы: дерево, трава. Уметь  рассказывать  о  растениях, отмечая  характерные  признаки цветков (один, много, их цвет, запах),  листьев  (большие, маленькие, широкие или узкие, их  окраску). Находить одинаковые  растения, знать, что  за  растениями  нужно  ухаживать – протирать  листья, поливать  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 какими растениями рекомендуется знакомить дет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хожими на  дерево, траву, неприхотливыми, цветущими, желательно  с  одноцветными  цветками (бегония, примула, герань, бальзамин), с  широкими  плотными листьями (фикус). Всего 4-5 видов, по 2-3 экземпляра каждого ви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Что  дети  должны  делать по уходу за растениям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ивать  растения под  руководством  воспитателя, уметь  правильно  держать  лейку, лить  воду  аккуратно, протирать  листья  влажной  тряпочк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основе приобретенных знаний формируются такие качества, ка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алистическое понимание явлений природ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ознатель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ние наблюда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огически мысли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юбовь к природ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выки бережного отношения к природе, забота о живых существах рождают не только интерес к природе, но и способствуют формированию у детей лучших черт характера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атриотиз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удолюби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важение к труду взросл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C:\Users\1\Desktop\Рисунок2.jpg"/>
          <p:cNvPicPr/>
          <p:nvPr/>
        </p:nvPicPr>
        <p:blipFill>
          <a:blip r:embed="rId1"/>
          <a:stretch/>
        </p:blipFill>
        <p:spPr>
          <a:xfrm>
            <a:off x="5313240" y="4133880"/>
            <a:ext cx="3633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«От того, как прошло детство, кто вел ребенка за руку в детские годы, что вошло в его разум и сердце из окружающего мира, - от этого в решающей степени зависит, каким человеком станет малыш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C:\Users\1\Desktop\Рисунок3.jpg"/>
          <p:cNvPicPr/>
          <p:nvPr/>
        </p:nvPicPr>
        <p:blipFill>
          <a:blip r:embed="rId1"/>
          <a:stretch/>
        </p:blipFill>
        <p:spPr>
          <a:xfrm>
            <a:off x="108000" y="2903400"/>
            <a:ext cx="52560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ести ребёнка в мир природы, научить понимать её, воспитать бережное отношение к ней – важнейшая задача детского са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знакомить детей с природой, воспитать любовь к ней помогает уголок природы 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 постоянного  общения детей  с  растениями в  каждом  детском  саду  должен  быть  оформлен  и  оснащен  уголок  природы. Хорошо  оборудованный  и удачно  расположенный уголок  природы  украшает групповую  комнату, доставляет  удовольствие  детям, дает  возможность  проводить интересные  наблюдения, ухаживать  за   растениями  в  течение 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C:\Users\1\Desktop\Рисунок1.jpg"/>
          <p:cNvPicPr/>
          <p:nvPr/>
        </p:nvPicPr>
        <p:blipFill>
          <a:blip r:embed="rId1"/>
          <a:stretch/>
        </p:blipFill>
        <p:spPr>
          <a:xfrm>
            <a:off x="468360" y="4386240"/>
            <a:ext cx="2663640" cy="244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1\Desktop\Рисунок2.jpg"/>
          <p:cNvPicPr/>
          <p:nvPr/>
        </p:nvPicPr>
        <p:blipFill>
          <a:blip r:embed="rId2"/>
          <a:stretch/>
        </p:blipFill>
        <p:spPr>
          <a:xfrm>
            <a:off x="5724360" y="4408560"/>
            <a:ext cx="3206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5"/>
          <p:cNvSpPr txBox="1"/>
          <p:nvPr/>
        </p:nvSpPr>
        <p:spPr>
          <a:xfrm>
            <a:off x="755640" y="981000"/>
            <a:ext cx="784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19760" y="5011560"/>
            <a:ext cx="309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ставитель презентации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укина Татьяна Николаевна воспитатель первой катег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Всех обитателей уголка природы можно раздел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на постоянны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живут в уголке круглый год (комнатные растения, рыбки и т.д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временны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вносятся на короткое время,                     жизнь которых проявляется в те или другие сезон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C:\Users\1\Desktop\Рисунок3.jpg"/>
          <p:cNvPicPr/>
          <p:nvPr/>
        </p:nvPicPr>
        <p:blipFill>
          <a:blip r:embed="rId1"/>
          <a:stretch/>
        </p:blipFill>
        <p:spPr>
          <a:xfrm>
            <a:off x="4284720" y="4292640"/>
            <a:ext cx="4718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уголке природы младших групп помещают растения, имеющие чётко выраженные основные части (стебель, листья) и ярко, обильно и долго цветущ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Рекомендуемые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герань, примула, фуксия, вечноцветущая бегония, бальзамин («огонёк»), фикус, азалия, китайский розан, колеус. Из названных видов для наблюдения в течение года вносят 3—4 растения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1711080" cy="187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1476360" y="4943520"/>
            <a:ext cx="1895400" cy="1914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2343240" cy="155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5003640" y="4657680"/>
            <a:ext cx="1648080" cy="220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6227640" y="3429000"/>
            <a:ext cx="2114640" cy="15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6"/>
          <a:stretch/>
        </p:blipFill>
        <p:spPr>
          <a:xfrm>
            <a:off x="7488360" y="4784760"/>
            <a:ext cx="165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Рекомендации к отбору обитателей уголка природ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(П.Г.Саморукова «Как знакомить дошкольников с природой»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е должно быть той или иной экологической груп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ход за растениями по количеству, характеру труда, по затрачиваемым силам должен быть доступен де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 должны быть внешне привлека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 иметь несколько экземпляров одного вида растений (дети увидят индивидуальные признак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должны быть безопас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 учитывать возможность нормальной жизнедеятельности роста и развития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к природы должен радовать глаз, украшать интерь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должны свободно подходить к растениям, наблюдать и трудиться в уголке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32"/>
          <p:cNvGrpSpPr/>
          <p:nvPr/>
        </p:nvGrpSpPr>
        <p:grpSpPr>
          <a:xfrm>
            <a:off x="431640" y="476280"/>
            <a:ext cx="8057160" cy="5604120"/>
            <a:chOff x="431640" y="476280"/>
            <a:chExt cx="8057160" cy="560412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flipH="1" rot="10800000">
              <a:off x="2699640" y="5319720"/>
              <a:ext cx="4730400" cy="27360"/>
            </a:xfrm>
            <a:prstGeom prst="bentConnector4">
              <a:avLst>
                <a:gd name="adj1" fmla="val -2412"/>
                <a:gd name="adj2" fmla="val -2716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39" idx="0"/>
              <a:endCxn id="141" idx="2"/>
            </p:cNvCxnSpPr>
            <p:nvPr/>
          </p:nvCxnSpPr>
          <p:spPr>
            <a:xfrm flipV="1" rot="16200000">
              <a:off x="6828840" y="3618720"/>
              <a:ext cx="988920" cy="216000"/>
            </a:xfrm>
            <a:prstGeom prst="bentConnector3">
              <a:avLst>
                <a:gd name="adj1" fmla="val 115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1" idx="0"/>
              <a:endCxn id="143" idx="2"/>
            </p:cNvCxnSpPr>
            <p:nvPr/>
          </p:nvCxnSpPr>
          <p:spPr>
            <a:xfrm flipV="1" rot="16200000">
              <a:off x="5451480" y="371160"/>
              <a:ext cx="558000" cy="2965320"/>
            </a:xfrm>
            <a:prstGeom prst="bentConnector3">
              <a:avLst>
                <a:gd name="adj1" fmla="val 2046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3" idx="2"/>
            </p:cNvCxnSpPr>
            <p:nvPr/>
          </p:nvCxnSpPr>
          <p:spPr>
            <a:xfrm flipV="1" rot="16200000">
              <a:off x="3579480" y="2242800"/>
              <a:ext cx="1638360" cy="302040"/>
            </a:xfrm>
            <a:prstGeom prst="bentConnector3">
              <a:avLst>
                <a:gd name="adj1" fmla="val 69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3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593440" y="470160"/>
              <a:ext cx="550080" cy="2759760"/>
            </a:xfrm>
            <a:prstGeom prst="bentConnector3">
              <a:avLst>
                <a:gd name="adj1" fmla="val 207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033"/>
            <p:cNvSpPr/>
            <p:nvPr/>
          </p:nvSpPr>
          <p:spPr>
            <a:xfrm>
              <a:off x="1978920" y="476280"/>
              <a:ext cx="4537080" cy="1099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Комнатные раст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это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для детей источни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431640" y="2125080"/>
              <a:ext cx="2115000" cy="109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асо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035"/>
            <p:cNvSpPr/>
            <p:nvPr/>
          </p:nvSpPr>
          <p:spPr>
            <a:xfrm>
              <a:off x="3492360" y="3213360"/>
              <a:ext cx="2112480" cy="10990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Доброт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6"/>
            <p:cNvSpPr/>
            <p:nvPr/>
          </p:nvSpPr>
          <p:spPr>
            <a:xfrm>
              <a:off x="6155640" y="2133000"/>
              <a:ext cx="2115000" cy="1099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Хорошег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настрое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7"/>
            <p:cNvSpPr/>
            <p:nvPr/>
          </p:nvSpPr>
          <p:spPr>
            <a:xfrm>
              <a:off x="6370920" y="4221000"/>
              <a:ext cx="2117880" cy="109908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Здоровь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38"/>
            <p:cNvSpPr/>
            <p:nvPr/>
          </p:nvSpPr>
          <p:spPr>
            <a:xfrm>
              <a:off x="2701080" y="4797720"/>
              <a:ext cx="2112840" cy="1099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Чистого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оздух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По Санитарным Правилам и Нормам при организации экологических пространств необходимо соблюдать следующие требования: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должны быть безопас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пустимы ядовитые и колючие раст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почтение следует отдавать растениям, очищающим воздух, поглощающим вредные ве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осуществляют ежедневный уход за раст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вотные, рыбы, птицы недопустимы в групповых помещениях. Для этого должно быть предусмотрено отдельное помещение, оборудованное подводкой горячей и холодной воды, со стеллажами для хранения кормов и инвентаря для чистки и дезинфекции к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младшей группе в уголке природы помещают аквариум с рыбкой. Для малышей, исходя из особенностей их восприятия, надо подобрать рыбку ярко окрашенную, ведущую в течение большей части года активный образ жизни, охотно поедающую корм. Это обыкновенна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олотая рыбка, золотисты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еребристый карас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жно содержать птиц. Желательно, чтобы птица имела яркое оперение, веселый нрав, была неприхотлива к пище, пела в неволе. Для этого более всего подойдё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нарей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маловажное значение в уголке природы отводится зоне коллекций, которая является интерактивной и предназначена для знакомства детей с различными природными объектами живой и неживой природы, для развития у них навыков классификации объектов по различным признакам, развития сенсорных навыков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C:\Users\1\Desktop\Рисунок1.png"/>
          <p:cNvPicPr/>
          <p:nvPr/>
        </p:nvPicPr>
        <p:blipFill>
          <a:blip r:embed="rId1"/>
          <a:stretch/>
        </p:blipFill>
        <p:spPr>
          <a:xfrm>
            <a:off x="4932360" y="3716280"/>
            <a:ext cx="4068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1:26:51Z</dcterms:created>
  <dc:creator>Олег</dc:creator>
  <dc:description/>
  <dc:language>en-US</dc:language>
  <cp:lastModifiedBy>Я</cp:lastModifiedBy>
  <dcterms:modified xsi:type="dcterms:W3CDTF">2016-09-21T19:50:27Z</dcterms:modified>
  <cp:revision>23</cp:revision>
  <dc:subject/>
  <dc:title>Слайд 1</dc:title>
</cp:coreProperties>
</file>