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11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68A7-F2AA-40BB-953C-2382E8C7E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F238-F121-453E-8F2E-CB078CE9C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46FA-525C-47EC-A459-95E067C4D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E77E-DDA9-4CE7-A8D6-3D54F87A2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8D39C-02A0-45B0-A561-E355052E6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F8A37-4E0B-4A15-BE55-F6E04D044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6F754-4606-4EAF-950A-8F9709AA9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24B80-D057-4111-B88D-206B7791C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3FAB8-A33C-4359-9019-8AB638478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B261D-7DE9-4A17-99C8-C336C896E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15C7E-91F3-414D-B385-620BE7D8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25E6-1BC4-4112-8D48-DD2FB618F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1A366-E557-4FB4-9544-30BEB08F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61B57-64AA-44EA-B2F6-8544D1A1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55202-EAEB-44AC-AA6C-7C0F67131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EA15D-BF0F-4E9D-B7B5-1876DFA51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A37CD-6833-4E05-A4EF-08973A47A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97EA-A838-4580-8CB1-9F5B565A5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906A-D2E2-4EAE-B655-F7B98FBC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AA35-D528-4499-AF43-4B4FD40FE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0AD2-FE60-4D98-8A27-75671CA70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48BB-AA29-4F22-AF99-A123DD41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B7F7-529F-40C6-B576-5E85D913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F3B3-160C-4C8D-A277-D36CF3E6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F2B6C-3C6D-4471-B4D2-749916808A1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C04FC-4B12-4E1A-9B92-D3621D50242B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333399"/>
                </a:solidFill>
                <a:uFillTx/>
                <a:latin typeface="Tahoma"/>
              </a:rPr>
              <a:t>ВЫПУСКНАЯ КВАЛИФИКАЦИОННАЯ РАБОТ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TextBox 1"/>
          <p:cNvSpPr/>
          <p:nvPr/>
        </p:nvSpPr>
        <p:spPr>
          <a:xfrm flipH="1">
            <a:off x="4952880" y="53658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Методист – преподаватель А.И.Чудаков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4" descr="http://www.ukrcommerce.com/files/foto/2016-04/553773_1.jpeg"/>
          <p:cNvPicPr/>
          <p:nvPr/>
        </p:nvPicPr>
        <p:blipFill>
          <a:blip r:embed="rId1"/>
          <a:stretch/>
        </p:blipFill>
        <p:spPr>
          <a:xfrm>
            <a:off x="1209600" y="3657600"/>
            <a:ext cx="31244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Темы ВКР  (дипломных работ) разрабатываются преподавателями  совместно со специалистами отрасл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Тема может быть предложена студентом при условии обоснования им целесообразности ее разработк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Темы ВКР  должны отвечать современным требованиям развития науки, техники, производства, экономики, культуры, образования в области профессиональной деятельности выпускник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Picture 4" descr="http://fashionblogsw.info/photo/56b569224ceda.jpg"/>
          <p:cNvPicPr/>
          <p:nvPr/>
        </p:nvPicPr>
        <p:blipFill>
          <a:blip r:embed="rId1"/>
          <a:stretch/>
        </p:blipFill>
        <p:spPr>
          <a:xfrm>
            <a:off x="5867280" y="304920"/>
            <a:ext cx="29718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Темы выпускных квалификационных работ (дипломных работ) рассматриваются методическими комиссиями (МК) и закрепляются за студента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Директор ОУ  приказом по образовательному учреждению назначает руководителей  выпускных квалификационных работ (дипломных работ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5" descr="http://api.ning.com/files/W*U4qF8ex7Pe6xpEcpCWFz9VjbNebdFhNXMsniXDwHpNgUG*-aSp9EP2usZxNm42wkj3JNmGGUxsGTCWv3uWOz*XVbXLWCR4/13.png"/>
          <p:cNvPicPr/>
          <p:nvPr/>
        </p:nvPicPr>
        <p:blipFill>
          <a:blip r:embed="rId1"/>
          <a:stretch/>
        </p:blipFill>
        <p:spPr>
          <a:xfrm>
            <a:off x="5715000" y="0"/>
            <a:ext cx="29624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По утвержденным темам руководители выпускных квалификационных работ разрабатывают индивидуальные задания и календарный план для каждого студента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Индивидуальные задания  и календарный план рассматриваются на МК,  подписываются руководителем работы и утверждаются заместителем директор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Picture 4" descr="http://storage_01.startwish.ru/images/68/1c/1320/2f74a8056ce7ee54c4dec5fece123e239abc_o.jpg"/>
          <p:cNvPicPr/>
          <p:nvPr/>
        </p:nvPicPr>
        <p:blipFill>
          <a:blip r:embed="rId1"/>
          <a:stretch/>
        </p:blipFill>
        <p:spPr>
          <a:xfrm>
            <a:off x="6095880" y="228600"/>
            <a:ext cx="26672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333399"/>
                </a:solidFill>
                <a:uFillTx/>
                <a:latin typeface="Tahoma"/>
              </a:rPr>
              <a:t>СПЕЦИФИКАЦИЯ ВКР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назначение ВКР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форму и условия аттестации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время, отводимое на выполнение и защиту ВКР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наименование объектов контроля и оценк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перечень подлежащих разработке вопросов и трудоемкость их выполнения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образцы задания на выполнение ВКР, календарного плана выполнения ВКР, формы рецензии и отзыва руководителя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оценку выполнения и защиты ВКР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перечень, используемых нормативных документов, литературы, технических средств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Picture 5" descr="http://sots-psy.my1.ru/khoroshej_ucheby.jpg"/>
          <p:cNvPicPr/>
          <p:nvPr/>
        </p:nvPicPr>
        <p:blipFill>
          <a:blip r:embed="rId1"/>
          <a:stretch/>
        </p:blipFill>
        <p:spPr>
          <a:xfrm>
            <a:off x="5638680" y="228600"/>
            <a:ext cx="27655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333399"/>
                </a:solidFill>
                <a:uFillTx/>
                <a:latin typeface="Tahoma"/>
              </a:rPr>
              <a:t>ОЦЕНКА ВКР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складывается из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оценки выполнения ВКР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оценки  защиты, которые выставляет каждый член комиссии ГИА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оценки руководителя ВКР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оценки  рецензент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Picture 5" descr="http://st.depositphotos.com/1281871/2991/i/950/depositphotos_29913519-Education.jpg"/>
          <p:cNvPicPr/>
          <p:nvPr/>
        </p:nvPicPr>
        <p:blipFill>
          <a:blip r:embed="rId1"/>
          <a:stretch/>
        </p:blipFill>
        <p:spPr>
          <a:xfrm>
            <a:off x="5257800" y="152280"/>
            <a:ext cx="312408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333399"/>
                </a:solidFill>
                <a:uFillTx/>
                <a:latin typeface="Tahoma"/>
              </a:rPr>
              <a:t>ФЗ РФ «ОБ ОБРАЗОВАНИИ В РФ» СТАТЬЯ 59. ИТОГОВАЯ АТТЕСТАЦ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Итоговая аттестация представляет собой форму оценки степени и уровня освоения обучающимися образовательной программы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2. Итоговая аттестация проводится на основе принципов объективности и независимости оценки качества подготовки обучающихс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3. Итоговая аттестация, завершающая освоение основных … профессиональных образовательных программ, является обязательной и проводится в порядке и в форме, которые установлены образовательной организацией, если иное не установлено настоящим Федеральным законо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4. Итоговая аттестация, завершающая освоение имеющих государственную аккредитацию основных образовательных программ, является государственной итоговой аттестацией. ГИА  проводится государственными экзаменационными комиссиями в целях определения соответствия результатов освоения обучающимися основных образовательных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программ соответствующим требованиям федерального государственного образовательного стандарта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 или образовательного стандарт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К проведению государственной итоговой аттестации по основным профессиональным образовательным программам привлекаются представители работодателей или их объединени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Picture 5" descr="http://www.doskaurala.ru/orimg/31522-uchebnyj_plan.jpg"/>
          <p:cNvPicPr/>
          <p:nvPr/>
        </p:nvPicPr>
        <p:blipFill>
          <a:blip r:embed="rId1"/>
          <a:stretch/>
        </p:blipFill>
        <p:spPr>
          <a:xfrm>
            <a:off x="6400800" y="4648320"/>
            <a:ext cx="194328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182600" y="1981080"/>
            <a:ext cx="777240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Выпускная квалификационная работа выполняется выпускниками в зависимости от осваиваемой образовательной программы среднего профессионального образования в следующих видах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для выпускников, осваивающих программы подготовки квалифицированных рабочих и служащих, - в виде выпускной практической квалификационной работы и письменной экзаменационной работы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для выпускников, осваивающих программы подготовки специалистов среднего звена, - в виде дипломной работы (дипломного проекта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Picture 5" descr="http://www.spaschool.lv/uploads/news/id361/-%D0%BE%D0%B1%D1%83%D1%87%D0%B5%D0%BD%D0%B8%D0%B5.jpg"/>
          <p:cNvPicPr/>
          <p:nvPr/>
        </p:nvPicPr>
        <p:blipFill>
          <a:blip r:embed="rId1"/>
          <a:stretch/>
        </p:blipFill>
        <p:spPr>
          <a:xfrm>
            <a:off x="6400800" y="0"/>
            <a:ext cx="22096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Выпускная квалификационная работа (дипломная работа) является одним из видов аттестационных испытаний выпускников, завершающих обучение по основной профессиональной образовательной программе среднего профессионального образовани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Picture 4" descr="http://sagata-club.ru/wp-content/uploads/2011/04/Watermelon51.gif"/>
          <p:cNvPicPr/>
          <p:nvPr/>
        </p:nvPicPr>
        <p:blipFill>
          <a:blip r:embed="rId1"/>
          <a:stretch/>
        </p:blipFill>
        <p:spPr>
          <a:xfrm>
            <a:off x="6934320" y="304920"/>
            <a:ext cx="1218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ВКР  завершает обучение по специальности и призвана способствовать систематизации полученных знаний и учений, выявлять уровень освоения профессиональных и общих компетенций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Тематика выпускной квалификационной работы (дипломной работы) должна соответствовать содержанию одного или нескольких профессиональных модул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Picture 4" descr="http://chaplinschool.org/classrooms/images/grade6.jpg"/>
          <p:cNvPicPr/>
          <p:nvPr/>
        </p:nvPicPr>
        <p:blipFill>
          <a:blip r:embed="rId1"/>
          <a:stretch/>
        </p:blipFill>
        <p:spPr>
          <a:xfrm>
            <a:off x="6408720" y="762120"/>
            <a:ext cx="20671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Выпускная квалификационная работа (дипломная работа) должна иметь актуальность, новизну и практическую значимость и выполняться по возможности по предложениям (заказам) предприятий, организаций или образовательных учреждений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Picture 4" descr="http://1.bp.blogspot.com/-qE_VLwcveCI/TtNu17DBp5I/AAAAAAAAHOw/Enb3a_dGTUA/s1600/global_education_reading_1600_clr.png"/>
          <p:cNvPicPr/>
          <p:nvPr/>
        </p:nvPicPr>
        <p:blipFill>
          <a:blip r:embed="rId1"/>
          <a:stretch/>
        </p:blipFill>
        <p:spPr>
          <a:xfrm>
            <a:off x="5486400" y="30240"/>
            <a:ext cx="29718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Тематика  выпускных квалификационных работ (дипломных работ) определяется Программой итоговой государственной аттестаци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Picture 4" descr="http://www.beesbuzz.com/file/pic/marketplace/2012/06/0f00e57acae8c1b632866d06ffa697b7.jpg"/>
          <p:cNvPicPr/>
          <p:nvPr/>
        </p:nvPicPr>
        <p:blipFill>
          <a:blip r:embed="rId1"/>
          <a:stretch/>
        </p:blipFill>
        <p:spPr>
          <a:xfrm>
            <a:off x="4114800" y="3962520"/>
            <a:ext cx="39625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9T17:58:45Z</dcterms:created>
  <dc:creator>pavlovna</dc:creator>
  <dc:description/>
  <dc:language>en-US</dc:language>
  <cp:lastModifiedBy>Альбина Ивановна</cp:lastModifiedBy>
  <dcterms:modified xsi:type="dcterms:W3CDTF">2016-06-21T10:39:3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