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57D-FCF1-4189-8F0A-438632C5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BE8-7C1F-4A64-AE1C-B953BA11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CB7-DDE1-4824-865E-14698D46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799-1906-4F02-92BB-128C83EA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AB1-DBD3-411F-91EE-20490A84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E949-34B4-4311-86D8-7C8E9CD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1739-5B3D-4CF1-91D3-0341130B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1E3D-C85B-4BD6-90EB-E5B58A2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6B8-4ADA-4E80-A5A4-8AE77945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A635-D2D1-4369-A3AD-7E9FB1D7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7342-E2DA-4AF1-BDA5-83E5444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E24-4B60-4BB8-947B-F61CF33E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CB2D-551F-4859-BA25-12F2542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C094-9EA3-4248-86C8-1C8E96B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56E0-6054-4D6D-B902-C96EF268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B0E-086E-48D7-8C84-4C2B0751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C6C0-BD79-4D96-99FE-1B88598D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4F0-3388-4AD3-BC9D-06CDF2DE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78D-E97A-4A94-A977-6E9E20B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C94-8534-4392-8727-F1E3B49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9D8-DDD6-4A5D-BCDF-E30C7834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F90-6B8D-4A4F-A692-4DEF04A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5A8-8CA8-4439-8E32-BF910E8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FD1-EA4D-4118-8796-FF04B24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3134-52D0-49F1-861F-433AB3350C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6061-D7E0-40E4-8CB3-655CC129FB2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ВЫПУСКНАЯ КВАЛИФИКАЦИОННАЯ РА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Box 1"/>
          <p:cNvSpPr/>
          <p:nvPr/>
        </p:nvSpPr>
        <p:spPr>
          <a:xfrm flipH="1">
            <a:off x="4952880" y="5365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етодист – преподаватель А.И.Чудак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http://www.ukrcommerce.com/files/foto/2016-04/553773_1.jpeg"/>
          <p:cNvPicPr/>
          <p:nvPr/>
        </p:nvPicPr>
        <p:blipFill>
          <a:blip r:embed="rId1"/>
          <a:stretch/>
        </p:blipFill>
        <p:spPr>
          <a:xfrm>
            <a:off x="1209600" y="3657600"/>
            <a:ext cx="3124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емы ВКР  (дипломных работ) разрабатываются преподавателями  совместно со специалистами отрас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ема может быть предложена студентом при условии обоснования им целесообразности ее разрабо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емы ВКР  должны отвечать современным требованиям развития науки, техники, производства, экономики, культуры, образования в области профессиональной деятельности выпуск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http://fashionblogsw.info/photo/56b569224ceda.jpg"/>
          <p:cNvPicPr/>
          <p:nvPr/>
        </p:nvPicPr>
        <p:blipFill>
          <a:blip r:embed="rId1"/>
          <a:stretch/>
        </p:blipFill>
        <p:spPr>
          <a:xfrm>
            <a:off x="5867280" y="30492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емы выпускных квалификационных работ (дипломных работ) рассматриваются методическими комиссиями (МК) и закрепляются за студе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иректор ОУ  приказом по образовательному учреждению назначает руководителей  выпускных квалификационных работ (дипломных рабо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http://api.ning.com/files/W*U4qF8ex7Pe6xpEcpCWFz9VjbNebdFhNXMsniXDwHpNgUG*-aSp9EP2usZxNm42wkj3JNmGGUxsGTCWv3uWOz*XVbXLWCR4/13.png"/>
          <p:cNvPicPr/>
          <p:nvPr/>
        </p:nvPicPr>
        <p:blipFill>
          <a:blip r:embed="rId1"/>
          <a:stretch/>
        </p:blipFill>
        <p:spPr>
          <a:xfrm>
            <a:off x="5715000" y="0"/>
            <a:ext cx="2962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 утвержденным темам руководители выпускных квалификационных работ разрабатывают индивидуальные задания и календарный план для каждого студен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ндивидуальные задания  и календарный план рассматриваются на МК,  подписываются руководителем работы и утверждаются заместителем директор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http://storage_01.startwish.ru/images/68/1c/1320/2f74a8056ce7ee54c4dec5fece123e239abc_o.jpg"/>
          <p:cNvPicPr/>
          <p:nvPr/>
        </p:nvPicPr>
        <p:blipFill>
          <a:blip r:embed="rId1"/>
          <a:stretch/>
        </p:blipFill>
        <p:spPr>
          <a:xfrm>
            <a:off x="6095880" y="228600"/>
            <a:ext cx="266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СПЕЦИФИКАЦИЯ ВК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значение ВК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форму и условия аттестац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ремя, отводимое на выполнение и защиту ВК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именование объектов контроля и оце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еречень подлежащих разработке вопросов и трудоемкость их выполн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разцы задания на выполнение ВКР, календарного плана выполнения ВКР, формы рецензии и отзыва руководител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ценку выполнения и защиты ВК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еречень, используемых нормативных документов, литературы, технических средст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http://sots-psy.my1.ru/khoroshej_ucheby.jpg"/>
          <p:cNvPicPr/>
          <p:nvPr/>
        </p:nvPicPr>
        <p:blipFill>
          <a:blip r:embed="rId1"/>
          <a:stretch/>
        </p:blipFill>
        <p:spPr>
          <a:xfrm>
            <a:off x="5638680" y="228600"/>
            <a:ext cx="2765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ОЦЕНКА ВК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кладывается из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выполнения ВКР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 защиты, которые выставляет каждый член комиссии ГИ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руководителя ВКР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 реценз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http://st.depositphotos.com/1281871/2991/i/950/depositphotos_29913519-Education.jpg"/>
          <p:cNvPicPr/>
          <p:nvPr/>
        </p:nvPicPr>
        <p:blipFill>
          <a:blip r:embed="rId1"/>
          <a:stretch/>
        </p:blipFill>
        <p:spPr>
          <a:xfrm>
            <a:off x="5257800" y="152280"/>
            <a:ext cx="3124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ФЗ РФ «ОБ ОБРАЗОВАНИИ В РФ» СТАТЬЯ 59. ИТОГОВАЯ АТТЕСТ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Итоговая аттестация представляет собой форму оценки степени и уровня освоения обучающимися образовательной програм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2. Итоговая аттестация проводится на основе принципов объективности и независимости оценки качества подготовки обучаю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3. Итоговая аттестация, завершающая освоение основных … профессиональных образовательных программ, является обязательной и проводится в порядке и в форме, которые установлены образовательной организацией, если иное не установлено настоящим Федеральным закон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4. Итоговая аттестация, завершающая освоение имеющих государственную аккредитацию основных образовательных программ, является государственной итоговой аттестацией. ГИА  проводится государственными экзаменационными комиссиями в целях определения соответствия результатов освоения обучающимися основных образовательных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грамм соответствующим требованиям федерального государственного образовательного стандарта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или образовательного стандар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проведению государственной итоговой аттестации по основным профессиональным образовательным программам привлекаются представители работодателей или их объедин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http://www.doskaurala.ru/orimg/31522-uchebnyj_plan.jpg"/>
          <p:cNvPicPr/>
          <p:nvPr/>
        </p:nvPicPr>
        <p:blipFill>
          <a:blip r:embed="rId1"/>
          <a:stretch/>
        </p:blipFill>
        <p:spPr>
          <a:xfrm>
            <a:off x="6400800" y="4648320"/>
            <a:ext cx="1943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ыпускная квалификационная работа выполняется выпускниками в зависимости от осваиваемой образовательной программы среднего профессионального образования в следующих видах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ля выпускников, осваивающих программы подготовки квалифицированных рабочих и служащих, - в виде выпускной практической квалификационной работы и письменной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ля выпускников, осваивающих программы подготовки специалистов среднего звена, - в виде дипломной работы (дипломного проект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http://www.spaschool.lv/uploads/news/id361/-%D0%BE%D0%B1%D1%83%D1%87%D0%B5%D0%BD%D0%B8%D0%B5.jpg"/>
          <p:cNvPicPr/>
          <p:nvPr/>
        </p:nvPicPr>
        <p:blipFill>
          <a:blip r:embed="rId1"/>
          <a:stretch/>
        </p:blipFill>
        <p:spPr>
          <a:xfrm>
            <a:off x="6400800" y="0"/>
            <a:ext cx="2209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пускная квалификационная работа (дипломная работа) является одним из видов аттестационных испытаний выпускников, завершающих обучение по основной профессиональной образовательной программе среднего профессионального образова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http://sagata-club.ru/wp-content/uploads/2011/04/Watermelon51.gif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КР  завершает обучение по специальности и призвана способствовать систематизации полученных знаний и учений, выявлять уровень освоения профессиональных и общих компетенц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матика выпускной квалификационной работы (дипломной работы) должна соответствовать содержанию одного или нескольких профессиональных моду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http://chaplinschool.org/classrooms/images/grade6.jpg"/>
          <p:cNvPicPr/>
          <p:nvPr/>
        </p:nvPicPr>
        <p:blipFill>
          <a:blip r:embed="rId1"/>
          <a:stretch/>
        </p:blipFill>
        <p:spPr>
          <a:xfrm>
            <a:off x="6408720" y="762120"/>
            <a:ext cx="206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пускная квалификационная работа (дипломная работа) должна иметь актуальность, новизну и практическую значимость и выполняться по возможности по предложениям (заказам) предприятий, организаций или образовательных учрежд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http://1.bp.blogspot.com/-qE_VLwcveCI/TtNu17DBp5I/AAAAAAAAHOw/Enb3a_dGTUA/s1600/global_education_reading_1600_clr.png"/>
          <p:cNvPicPr/>
          <p:nvPr/>
        </p:nvPicPr>
        <p:blipFill>
          <a:blip r:embed="rId1"/>
          <a:stretch/>
        </p:blipFill>
        <p:spPr>
          <a:xfrm>
            <a:off x="5486400" y="3024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матика  выпускных квалификационных работ (дипломных работ) определяется Программой итоговой государственной аттест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http://www.beesbuzz.com/file/pic/marketplace/2012/06/0f00e57acae8c1b632866d06ffa697b7.jpg"/>
          <p:cNvPicPr/>
          <p:nvPr/>
        </p:nvPicPr>
        <p:blipFill>
          <a:blip r:embed="rId1"/>
          <a:stretch/>
        </p:blipFill>
        <p:spPr>
          <a:xfrm>
            <a:off x="4114800" y="3962520"/>
            <a:ext cx="3962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7:58:45Z</dcterms:created>
  <dc:creator>pavlovna</dc:creator>
  <dc:description/>
  <dc:language>en-US</dc:language>
  <cp:lastModifiedBy>Альбина Ивановна</cp:lastModifiedBy>
  <dcterms:modified xsi:type="dcterms:W3CDTF">2016-06-21T10:39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