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FCF-AFA2-433B-939E-FE004695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109-25FD-4AF3-AFAC-41FB0101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ABC-8411-4BFA-A68A-89E9475C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9AB-74FA-480A-9078-39AE6A00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F29F-47EA-4E92-9DCF-B92A304D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A463-868C-4D93-9DD0-CFA19570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162F-FEB5-41FF-84F9-CDED736E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7E18-208B-42A6-AA75-281782D2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B5FF-552E-48C0-A845-56D902DB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3A41-F5D8-4EDC-85AF-077FA1CF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BB63-04E3-4FD1-8D39-170E311F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FE9-7FD4-422A-9EE3-251A9BB2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CA60-43DD-4CE4-8303-37A861B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58E6-A506-4779-B24D-2F4FB4C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D341-82C9-4EC6-BFA8-121DCCCC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CFCA-AB7A-4252-8E36-A854439D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97DD-BCB9-496F-9A9D-F86CDDD9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8F0-1BDE-403D-AECA-18CB810B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3CF-27FF-4835-BE5A-CD2CE8B0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53D-8B43-479C-843D-DB4B08CB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696-1292-4009-BF05-053BF31D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FAC-63E0-4BA2-9650-F90A7F44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8A0-4799-4400-B72F-39D9F5A5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94F-11C5-4CA0-ABA4-411E20E2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39DF-F984-408C-A0CF-C6C517AE8ED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E5C6-FB54-4266-86E3-24CD2DA1E9B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689040" y="0"/>
            <a:ext cx="7772400" cy="1444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57200" y="3857400"/>
            <a:ext cx="64008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4643280" y="142884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по английскому язы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ника 4 «Б» класса Кузьмина Ив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357120" y="1357200"/>
            <a:ext cx="4137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756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433440" y="285840"/>
            <a:ext cx="3352680" cy="1500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iplodocus was a long-necked, whip-tailed giant, measuring about 90 feet (27 m) long with a 26 foot (8 m) long neck and a 45 foot (14 m) long tail, but its head was less than 2 feet long. It was among the longest land animals e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4143240" y="1000080"/>
            <a:ext cx="426744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311040" y="274680"/>
            <a:ext cx="3151440" cy="1425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25764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 am a T-Rex. T-Rex means terrible lizard. I am big and strong. I walk on two legs and I have two short arms. I have very sharp teeth and claw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4429080" y="714240"/>
            <a:ext cx="38959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0756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237960" y="139680"/>
            <a:ext cx="3224520" cy="1098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kylosaurus was a huge armored dinosaur, measuring about 25-35 feet (7.5-10.7 m) long, 6 feet (1.8 m) wide and 4 feet (1.2 m) tall; it weighed roughly 3-4 tons.  Its entire top side was heavily protected from carnivores with thick, oval plates embedded (fused) in its leathery ski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4143240" y="1357200"/>
            <a:ext cx="4508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281160" y="274680"/>
            <a:ext cx="3290760" cy="1468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onoclonius was a large, early ceratopsian with a huge head that was held close to the ground. Its skull was 6 feet (1.8) long from beak to frill. It had a small frill on its head with a single nose horn that pointed upwards and two smaller horns over the ey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6160" y="1073160"/>
            <a:ext cx="42354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7:24:59Z</dcterms:created>
  <dc:creator>федоров</dc:creator>
  <dc:description/>
  <dc:language>en-US</dc:language>
  <cp:lastModifiedBy>Валуев Джигурда</cp:lastModifiedBy>
  <dcterms:modified xsi:type="dcterms:W3CDTF">2016-04-10T06:02:36Z</dcterms:modified>
  <cp:revision>23</cp:revision>
  <dc:subject/>
  <dc:title>What dinosaurs happen?</dc:title>
</cp:coreProperties>
</file>