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296-6545-4691-AB79-D6B41EEF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EFA-D166-4E7D-90BB-663F00C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1AF-1756-4ED8-B490-114F5297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25C-6E66-42BB-9551-44E25D95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662-4FFA-4A55-A059-0A32BED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C9C8-606F-4AC0-AB6C-A05C5C33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03C2-C70C-459E-B060-5F11781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394-699E-43CF-9697-D13300A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F5E2-E90E-4B05-87BB-354BCA70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355-E305-463E-AEA7-18550C5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C67-8493-4F81-9AB0-72803E6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4A9-BD62-49CA-AB2D-327425B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22A-7510-4EA7-BAC5-AC888D0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12E-F9F7-4643-9AC1-98947CF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FC9-FB32-4533-BA37-DA34C0F8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55B-46E1-4BFB-8149-CE613682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EC2-3746-448D-804E-4457551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FB4-99C7-434B-A21B-02BF1D65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DE4-5385-4670-B87A-EC919D0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738-3399-488E-950B-28C8C7D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6A1-590C-4B82-AF10-973D48C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EA5-4646-48E5-8FBD-C1E2E19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301-6BE6-4E50-9A44-3A36A808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A9B-2C96-4285-9A49-DBDE699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206-AE65-45DC-A3BC-07CFD665E3E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AE3A-9F53-442A-8983-A548B56A0F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689040" y="0"/>
            <a:ext cx="7772400" cy="1444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385740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4643280" y="14288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по англий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ка 4 «Б» класса Кузьмина И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357120" y="1357200"/>
            <a:ext cx="4137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33440" y="285840"/>
            <a:ext cx="3352680" cy="1500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iplodocus was a long-necked, whip-tailed giant, measuring about 90 feet (27 m) long with a 26 foot (8 m) long neck and a 45 foot (14 m) long tail, but its head was less than 2 feet long. It was among the longest land animals 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143240" y="1000080"/>
            <a:ext cx="42674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311040" y="274680"/>
            <a:ext cx="3151440" cy="1425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25764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 am a T-Rex. T-Rex means terrible lizard. I am big and strong. I walk on two legs and I have two short arms. I have very sharp teeth and claw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4429080" y="714240"/>
            <a:ext cx="3895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237960" y="139680"/>
            <a:ext cx="3224520" cy="109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kylosaurus was a huge armored dinosaur, measuring about 25-35 feet (7.5-10.7 m) long, 6 feet (1.8 m) wide and 4 feet (1.2 m) tall; it weighed roughly 3-4 tons.  Its entire top side was heavily protected from carnivores with thick, oval plates embedded (fused) in its leathery ski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4143240" y="1357200"/>
            <a:ext cx="4508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3290760" cy="1468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noclonius was a large, early ceratopsian with a huge head that was held close to the ground. Its skull was 6 feet (1.8) long from beak to frill. It had a small frill on its head with a single nose horn that pointed upwards and two smaller horns over the ey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6160" y="1073160"/>
            <a:ext cx="42354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7:24:59Z</dcterms:created>
  <dc:creator>федоров</dc:creator>
  <dc:description/>
  <dc:language>en-US</dc:language>
  <cp:lastModifiedBy>Валуев Джигурда</cp:lastModifiedBy>
  <dcterms:modified xsi:type="dcterms:W3CDTF">2016-04-10T06:02:36Z</dcterms:modified>
  <cp:revision>23</cp:revision>
  <dc:subject/>
  <dc:title>What dinosaurs happen?</dc:title>
</cp:coreProperties>
</file>