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D75-A021-4E3E-969F-E830DC07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2D9-5FA9-4124-B702-5CEC829C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811-CD20-4375-B700-38910062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25A-1BF1-4BDE-B7AB-5A98BFAF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82BA-8867-45DA-9FC3-9684FF5C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0DE9-6D83-4C94-B086-7439E501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9220-B704-4816-9D33-84CCBC4D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F239-CA14-40D4-937F-7CE5381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01DC-452D-4B7C-9C7F-16CD3AA5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EA6-B079-4CCB-85D1-286D070B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4457-ED1D-4995-BF6F-0AA46BF1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8ED-933B-4792-A4B6-F61FA9A7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550A-B75B-4540-9955-0C314EFD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3293-79D0-48F3-9558-59616C6F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D997-501A-4D99-86E0-05BE9C5D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1404-B3EE-4734-910B-AF648E2D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198D-D183-4F40-818B-7422A20A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233-6C6B-4664-B9E1-BA7C7118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38B-3DEB-4E7A-B52E-43BBE45D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570-CCFA-4F3F-BCD0-C33A6A3F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FDB-48B5-4C86-A216-4BC684FF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047-2230-4742-ACE8-0629C27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334-FAF8-4F44-9D66-9B6EB55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356-2A05-413D-A2AF-C3763EA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56F-3AD2-488A-9B97-4E0D1F8EEF2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4CAF-3C35-476E-B21F-BB6FF66F4D7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Lucida Sans Unicode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Console"/>
              </a:rPr>
              <a:t>КИТАЙСКОЕ ГОСУДАРСТВО В СРЕДНИЕ ВЕКА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АНЯТ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024360" cy="288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024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ЕМЛЕВЛАДЕН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колько видов землевладения было в Китае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Какая земля считалась государственной собственностью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Каково было положение крестьян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Дом Китайского император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48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итай и соседние государств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55640" y="836640"/>
            <a:ext cx="3771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Заполните хронологическую таблицу: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8360" y="1268280"/>
          <a:ext cx="7704000" cy="6026400"/>
        </p:xfrm>
        <a:graphic>
          <a:graphicData uri="http://schemas.openxmlformats.org/drawingml/2006/table">
            <a:tbl>
              <a:tblPr/>
              <a:tblGrid>
                <a:gridCol w="1701720"/>
                <a:gridCol w="600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1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6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9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6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8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8-907 г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60-1270 г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60-1270 г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71-1368 г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68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68-1644 г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ВЕЛИКАЯ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КИТАЙСКАЯ СТЕН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т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166920" cy="338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33116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Распространение религи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Буддизм (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IV-V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веках получил широкое распространение в Китае. Проник в Китай из Индии. Проповедовал, что люди должны терпеливо преодолевать трудности жизни, что наградой за это будет рай в загробной жизни. Главными проповедниками и распространителями религии были буддийские храмы. Имея значительные земельные наделы, в Китае буддийские храмы превратились в крупные феодальные хозяйства)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Даосизм (В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веке стал распространяться в Китае. Основатель Чжан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Лин, используя различные легенды, проповедовал среди народа поклонение Небу и духам отдельных исторических личностей. В основе даосизма – поиск вечного счастья и соблюдение заповедей через осмысление поступков, действий персонажей древнекитайских легенд )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Иероглифы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932120"/>
            <a:ext cx="7993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3097440" cy="1923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035600" y="2990880"/>
            <a:ext cx="3849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2664000" cy="2736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24735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Опрос домашнего задания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Решите кроссворд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«Хронологическое уравнение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«История в лицах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Разгадай!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Титул императора в Японии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Крупные феодалы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Подчиненные военные люди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Обедневшие самураи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Один из городов Японии, где прошли восстания в 1428 году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34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Военно-феодальный правитель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10160" y="1828800"/>
          <a:ext cx="3771720" cy="5175360"/>
        </p:xfrm>
        <a:graphic>
          <a:graphicData uri="http://schemas.openxmlformats.org/drawingml/2006/table">
            <a:tbl>
              <a:tblPr/>
              <a:tblGrid>
                <a:gridCol w="893880"/>
                <a:gridCol w="372960"/>
                <a:gridCol w="372960"/>
                <a:gridCol w="371520"/>
                <a:gridCol w="353880"/>
                <a:gridCol w="373320"/>
                <a:gridCol w="390240"/>
                <a:gridCol w="322560"/>
                <a:gridCol w="3204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Реши!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од усиления политической власти сегунов + дата смерти Минамото - время правления династии Токугава =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Расскажи!»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да Нобунаг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оётоми Хидэёс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окугав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Знакомство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с новой темой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. Китайское государство в средние века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. Распространение религи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Китай в древност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901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Китай в Средние ве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76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«Выясни»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зовите территорию Китая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ие реки протекают в Китае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ие города возникли на территории Китая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6:03:07Z</dcterms:created>
  <dc:creator>Admin</dc:creator>
  <dc:description/>
  <dc:language>en-US</dc:language>
  <cp:lastModifiedBy>Admin</cp:lastModifiedBy>
  <dcterms:modified xsi:type="dcterms:W3CDTF">2010-02-09T14:48:48Z</dcterms:modified>
  <cp:revision>5</cp:revision>
  <dc:subject/>
  <dc:title>Тема урока:</dc:title>
</cp:coreProperties>
</file>