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AAD2-D781-40EF-A8F4-AA67BBC19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37F9-9E0A-43A0-9DB3-05569790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EA03-D5FC-4042-B6A1-AC9446104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EC26-35CC-44B7-AD20-C4B2302F1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48CC-5434-4924-BFE2-E12A966E2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CE90-0F17-45C1-91CA-89B49EE5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AE1E-15D7-4F65-9158-05808802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B4A2-04FB-4B51-BC99-EABDBAE1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A96F-B773-4A46-AB03-3F267BA4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A4B6-75DD-4555-8CFE-7F53F5E1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7AB8-69A9-4673-B8E5-CF8C1897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4683-F2D7-4DFE-B315-7874E6BE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78E9-647D-4E77-910F-91E42794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D501-56E7-4394-8A3D-461E94B7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0E96-D364-4F7C-B4B7-7CC00D48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FCBC-3FED-46A0-AEF4-E900E0F35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54BF-3514-405F-90A5-9273068C1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F99C-1FC0-4D28-9799-BEE3808B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1839-3956-408D-B295-67979486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02C3-00C5-404B-BADD-D7A26925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C7B8-CF43-41EC-918D-AC34CA66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1F98-F4AB-4452-9B00-778479C6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AD0C-F875-442D-A07C-C124AA65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24FF-4800-49EF-A4D7-37BBD4A9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AE93-4181-4ED5-A55B-552949E06DED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DBD1-E54D-4A4F-85A4-1CFC50EF90F9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Lucida Sans Unicode"/>
              </a:rPr>
              <a:t>Тема урока: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Console"/>
              </a:rPr>
              <a:t>КИТАЙСКОЕ ГОСУДАРСТВО В СРЕДНИЕ ВЕКА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ЗАНЯТИЯ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3024360" cy="2880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932360" y="2060640"/>
            <a:ext cx="30243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ЗЕМЛЕВЛАДЕНИЯ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Сколько видов землевладения было в Китае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Какая земля считалась государственной собственностью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Каково было положение крестьян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Дом Китайского императора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488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итай и соседние государства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55640" y="836640"/>
            <a:ext cx="37717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Заполните хронологическую таблицу: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68360" y="1268280"/>
          <a:ext cx="7704000" cy="6026400"/>
        </p:xfrm>
        <a:graphic>
          <a:graphicData uri="http://schemas.openxmlformats.org/drawingml/2006/table">
            <a:tbl>
              <a:tblPr/>
              <a:tblGrid>
                <a:gridCol w="1701720"/>
                <a:gridCol w="6002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11 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16 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89 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16 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18 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18-907 г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60-1270 г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60-1270 г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271-1368 г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68 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68-1644 г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ВЕЛИКАЯ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КИТАЙСКАЯ СТЕНА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Что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3166920" cy="3384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716360" y="1989000"/>
            <a:ext cx="331164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Распространение религии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Буддизм (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IV-V</a:t>
            </a: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 веках получил широкое распространение в Китае. Проник в Китай из Индии. Проповедовал, что люди должны терпеливо преодолевать трудности жизни, что наградой за это будет рай в загробной жизни. Главными проповедниками и распространителями религии были буддийские храмы. Имея значительные земельные наделы, в Китае буддийские храмы превратились в крупные феодальные хозяйства).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Даосизм (В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 веке стал распространяться в Китае. Основатель Чжан 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Лин, используя различные легенды, проповедовал среди народа поклонение Небу и духам отдельных исторических личностей. В основе даосизма – поиск вечного счастья и соблюдение заповедей через осмысление поступков, действий персонажей древнекитайских легенд ).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Иероглифы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11280" y="1932120"/>
            <a:ext cx="799308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3097440" cy="19238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035600" y="2990880"/>
            <a:ext cx="38494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476360" y="836640"/>
            <a:ext cx="2664000" cy="27367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932360" y="1700280"/>
            <a:ext cx="3672000" cy="2376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1547640" y="4076640"/>
            <a:ext cx="247356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Опрос домашнего задания: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.  Решите кроссворд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. «Хронологическое уравнение»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. «История в лицах»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«Разгадай!»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34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Титул императора в Японии.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34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Крупные феодалы.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34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Подчиненные военные люди.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34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Обедневшие самураи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34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Один из городов Японии, где прошли восстания в 1428 году.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34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Военно-феодальный правитель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610160" y="1828800"/>
          <a:ext cx="3771720" cy="5175360"/>
        </p:xfrm>
        <a:graphic>
          <a:graphicData uri="http://schemas.openxmlformats.org/drawingml/2006/table">
            <a:tbl>
              <a:tblPr/>
              <a:tblGrid>
                <a:gridCol w="893880"/>
                <a:gridCol w="372960"/>
                <a:gridCol w="372960"/>
                <a:gridCol w="371520"/>
                <a:gridCol w="353880"/>
                <a:gridCol w="373320"/>
                <a:gridCol w="390240"/>
                <a:gridCol w="322560"/>
                <a:gridCol w="3204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«Реши!»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Год усиления политической власти сегунов + дата смерти Минамото - время правления династии Токугава =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«Расскажи!»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да Нобунага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Тоётоми Хидэёси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Токугава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Знакомство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с новой темой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План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. Китайское государство в средние века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2. Распространение религии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Китай в древности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749016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Китай в Средние века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769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«Выясни»: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Назовите территорию Китая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акие реки протекают в Китае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акие города возникли на территории Китая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06:03:07Z</dcterms:created>
  <dc:creator>Admin</dc:creator>
  <dc:description/>
  <dc:language>en-US</dc:language>
  <cp:lastModifiedBy>Admin</cp:lastModifiedBy>
  <dcterms:modified xsi:type="dcterms:W3CDTF">2010-02-09T14:48:48Z</dcterms:modified>
  <cp:revision>5</cp:revision>
  <dc:subject/>
  <dc:title>Тема урока:</dc:title>
</cp:coreProperties>
</file>