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E45-2F26-4DB9-BF8C-38AC913D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C3F-E611-4673-B0A2-7EF2551E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855-D404-4426-AAD1-02C4AEBC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214-A593-4E3D-BB3D-2190C114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F70-3D6E-48FE-9FA7-6487B40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A2C-81B8-4AFB-8E13-55BA32AD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9BD-BC89-4487-B827-CCA177C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FD9-D54E-4BAD-B537-92A7249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5D1-8B86-4AF3-B2A2-C308636F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ACC-1089-4386-80D4-5D10DC2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8DD-73CC-4416-845B-FB2AC2E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B4A-8E65-4A10-B0A9-6AEAB48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EFC-5852-4B8C-93AB-47FA4796A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АРАЛЛЕЛОГРАМ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ВОЙСТВА ПАРАЛЛЕЛО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695320" cy="1886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3314880" cy="176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84796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3962520" y="4648320"/>
            <a:ext cx="3295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араллелограмм 3"/>
          <p:cNvSpPr/>
          <p:nvPr/>
        </p:nvSpPr>
        <p:spPr>
          <a:xfrm>
            <a:off x="2008080" y="1995480"/>
            <a:ext cx="4572000" cy="2571840"/>
          </a:xfrm>
          <a:prstGeom prst="parallelogram">
            <a:avLst>
              <a:gd name="adj" fmla="val 25003"/>
            </a:avLst>
          </a:prstGeom>
          <a:solidFill>
            <a:srgbClr val="a3a3e0"/>
          </a:solidFill>
          <a:ln w="2844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4"/>
          <p:cNvSpPr/>
          <p:nvPr/>
        </p:nvSpPr>
        <p:spPr>
          <a:xfrm>
            <a:off x="1857240" y="428760"/>
            <a:ext cx="642960" cy="64296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000160" y="428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428840" y="42861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214308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6572160" y="1500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6000840" y="42148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3500280" y="1496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6357960" y="2928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714240" y="5143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ериметр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7"/>
          <p:cNvSpPr/>
          <p:nvPr/>
        </p:nvSpPr>
        <p:spPr>
          <a:xfrm>
            <a:off x="1071720" y="428760"/>
            <a:ext cx="642960" cy="633240"/>
          </a:xfrm>
          <a:prstGeom prst="ellipse">
            <a:avLst/>
          </a:prstGeom>
          <a:solidFill>
            <a:srgbClr val="a3a3e0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214280" y="5000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уга 19"/>
          <p:cNvSpPr/>
          <p:nvPr/>
        </p:nvSpPr>
        <p:spPr>
          <a:xfrm>
            <a:off x="1785960" y="4214880"/>
            <a:ext cx="571320" cy="642960"/>
          </a:xfrm>
          <a:custGeom>
            <a:avLst/>
            <a:gdLst>
              <a:gd name="textAreaLeft" fmla="*/ 324360 w 571320"/>
              <a:gd name="textAreaRight" fmla="*/ 571680 w 571320"/>
              <a:gd name="textAreaTop" fmla="*/ 2880 h 642960"/>
              <a:gd name="textAreaBottom" fmla="*/ 336960 h 642960"/>
            </a:gdLst>
            <a:ahLst/>
            <a:rect l="textAreaLeft" t="textAreaTop" r="textAreaRight" b="textAreaBottom"/>
            <a:pathLst>
              <a:path stroke="0" w="571500" h="642937">
                <a:moveTo>
                  <a:pt x="324406" y="2955"/>
                </a:moveTo>
                <a:lnTo>
                  <a:pt x="324406" y="2955"/>
                </a:lnTo>
                <a:arcTo wR="285750" hR="321469" stAng="-4984813" swAng="5170996"/>
                <a:lnTo>
                  <a:pt x="285750" y="321469"/>
                </a:lnTo>
                <a:close/>
              </a:path>
              <a:path fill="none" w="571500" h="642937">
                <a:moveTo>
                  <a:pt x="324406" y="2955"/>
                </a:moveTo>
                <a:lnTo>
                  <a:pt x="324406" y="2955"/>
                </a:lnTo>
                <a:arcTo wR="285750" hR="321469" stAng="-4984813" swAng="5170996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571840" y="39290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714240" y="578628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все углы параллелограмм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3071880" y="2858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3143160" y="46432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1500120" y="29289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1428840" y="5143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 = (7 + 4) </a:t>
            </a:r>
            <a:r>
              <a:rPr b="1" lang="ru-RU" sz="2800" spc="-1" strike="noStrike">
                <a:solidFill>
                  <a:srgbClr val="000000"/>
                </a:solidFill>
                <a:latin typeface="Sylfaen"/>
              </a:rPr>
              <a:t>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= 22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103"/>
          <p:cNvGrpSpPr/>
          <p:nvPr/>
        </p:nvGrpSpPr>
        <p:grpSpPr>
          <a:xfrm>
            <a:off x="-1663200" y="5357880"/>
            <a:ext cx="6228000" cy="520560"/>
            <a:chOff x="-1663200" y="5357880"/>
            <a:chExt cx="6228000" cy="520560"/>
          </a:xfrm>
        </p:grpSpPr>
        <p:sp>
          <p:nvSpPr>
            <p:cNvPr id="296" name="Прямоугольник 28"/>
            <p:cNvSpPr/>
            <p:nvPr/>
          </p:nvSpPr>
          <p:spPr>
            <a:xfrm>
              <a:off x="-1663200" y="5357880"/>
              <a:ext cx="62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Р = 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Object 38" descr=""/>
            <p:cNvPicPr/>
            <p:nvPr/>
          </p:nvPicPr>
          <p:blipFill>
            <a:blip r:embed="rId1"/>
            <a:stretch/>
          </p:blipFill>
          <p:spPr>
            <a:xfrm>
              <a:off x="1811520" y="5480640"/>
              <a:ext cx="35712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Object 39" descr=""/>
            <p:cNvPicPr/>
            <p:nvPr/>
          </p:nvPicPr>
          <p:blipFill>
            <a:blip r:embed="rId2"/>
            <a:stretch/>
          </p:blipFill>
          <p:spPr>
            <a:xfrm>
              <a:off x="2692440" y="5488920"/>
              <a:ext cx="35712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Группа 103"/>
          <p:cNvGrpSpPr/>
          <p:nvPr/>
        </p:nvGrpSpPr>
        <p:grpSpPr>
          <a:xfrm>
            <a:off x="-2096640" y="5857920"/>
            <a:ext cx="8026920" cy="520560"/>
            <a:chOff x="-2096640" y="5857920"/>
            <a:chExt cx="8026920" cy="520560"/>
          </a:xfrm>
        </p:grpSpPr>
        <p:sp>
          <p:nvSpPr>
            <p:cNvPr id="300" name="Прямоугольник 32"/>
            <p:cNvSpPr/>
            <p:nvPr/>
          </p:nvSpPr>
          <p:spPr>
            <a:xfrm>
              <a:off x="-2096640" y="5857920"/>
              <a:ext cx="80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 =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K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= 110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Object 4" descr=""/>
            <p:cNvPicPr/>
            <p:nvPr/>
          </p:nvPicPr>
          <p:blipFill>
            <a:blip r:embed="rId3"/>
            <a:stretch/>
          </p:blipFill>
          <p:spPr>
            <a:xfrm>
              <a:off x="1311480" y="5980680"/>
              <a:ext cx="357120" cy="2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5" descr=""/>
            <p:cNvPicPr/>
            <p:nvPr/>
          </p:nvPicPr>
          <p:blipFill>
            <a:blip r:embed="rId4"/>
            <a:stretch/>
          </p:blipFill>
          <p:spPr>
            <a:xfrm>
              <a:off x="2180520" y="5988960"/>
              <a:ext cx="357120" cy="2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Дуга 35"/>
          <p:cNvSpPr/>
          <p:nvPr/>
        </p:nvSpPr>
        <p:spPr>
          <a:xfrm rot="10282200">
            <a:off x="6187680" y="1682640"/>
            <a:ext cx="571680" cy="642960"/>
          </a:xfrm>
          <a:custGeom>
            <a:avLst/>
            <a:gdLst>
              <a:gd name="textAreaLeft" fmla="*/ 327960 w 571680"/>
              <a:gd name="textAreaRight" fmla="*/ 572040 w 571680"/>
              <a:gd name="textAreaTop" fmla="*/ 3240 h 642960"/>
              <a:gd name="textAreaBottom" fmla="*/ 362880 h 642960"/>
            </a:gdLst>
            <a:ahLst/>
            <a:rect l="textAreaLeft" t="textAreaTop" r="textAreaRight" b="textAreaBottom"/>
            <a:pathLst>
              <a:path stroke="0" w="571500" h="642938">
                <a:moveTo>
                  <a:pt x="327868" y="3511"/>
                </a:moveTo>
                <a:lnTo>
                  <a:pt x="327868" y="3511"/>
                </a:lnTo>
                <a:arcTo wR="285750" hR="321469" stAng="-4947258" swAng="5447574"/>
                <a:lnTo>
                  <a:pt x="285750" y="321469"/>
                </a:lnTo>
                <a:close/>
              </a:path>
              <a:path fill="none" w="571500" h="642938">
                <a:moveTo>
                  <a:pt x="327868" y="3511"/>
                </a:moveTo>
                <a:lnTo>
                  <a:pt x="327868" y="3511"/>
                </a:lnTo>
                <a:arcTo wR="285750" hR="321469" stAng="-4947258" swAng="5447574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6"/>
          <p:cNvSpPr/>
          <p:nvPr/>
        </p:nvSpPr>
        <p:spPr>
          <a:xfrm>
            <a:off x="5572080" y="2143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7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9"/>
          <p:cNvSpPr/>
          <p:nvPr/>
        </p:nvSpPr>
        <p:spPr>
          <a:xfrm>
            <a:off x="2786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0"/>
          <p:cNvSpPr/>
          <p:nvPr/>
        </p:nvSpPr>
        <p:spPr>
          <a:xfrm>
            <a:off x="4857840" y="37861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11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Дуга 41"/>
          <p:cNvSpPr/>
          <p:nvPr/>
        </p:nvSpPr>
        <p:spPr>
          <a:xfrm rot="16200000">
            <a:off x="5679360" y="4250520"/>
            <a:ext cx="571680" cy="642960"/>
          </a:xfrm>
          <a:custGeom>
            <a:avLst/>
            <a:gdLst>
              <a:gd name="textAreaLeft" fmla="*/ 313200 w 571680"/>
              <a:gd name="textAreaRight" fmla="*/ 572040 w 571680"/>
              <a:gd name="textAreaTop" fmla="*/ 1440 h 642960"/>
              <a:gd name="textAreaBottom" fmla="*/ 340200 h 642960"/>
            </a:gdLst>
            <a:ahLst/>
            <a:rect l="textAreaLeft" t="textAreaTop" r="textAreaRight" b="textAreaBottom"/>
            <a:pathLst>
              <a:path stroke="0" w="571500" h="642937">
                <a:moveTo>
                  <a:pt x="313036" y="1469"/>
                </a:moveTo>
                <a:lnTo>
                  <a:pt x="313036" y="1469"/>
                </a:lnTo>
                <a:arcTo wR="285750" hR="321469" stAng="-5107575" swAng="5332210"/>
                <a:lnTo>
                  <a:pt x="285750" y="321469"/>
                </a:lnTo>
                <a:close/>
              </a:path>
              <a:path fill="none" w="571500" h="642937">
                <a:moveTo>
                  <a:pt x="313036" y="1469"/>
                </a:moveTo>
                <a:lnTo>
                  <a:pt x="313036" y="1469"/>
                </a:lnTo>
                <a:arcTo wR="285750" hR="321469" stAng="-5107575" swAng="5332210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Дуга 42"/>
          <p:cNvSpPr/>
          <p:nvPr/>
        </p:nvSpPr>
        <p:spPr>
          <a:xfrm rot="16200000">
            <a:off x="5500440" y="4143240"/>
            <a:ext cx="928800" cy="928440"/>
          </a:xfrm>
          <a:custGeom>
            <a:avLst/>
            <a:gdLst>
              <a:gd name="textAreaLeft" fmla="*/ 522720 w 928800"/>
              <a:gd name="textAreaRight" fmla="*/ 929160 w 928800"/>
              <a:gd name="textAreaTop" fmla="*/ 3600 h 928440"/>
              <a:gd name="textAreaBottom" fmla="*/ 526680 h 928440"/>
            </a:gdLst>
            <a:ahLst/>
            <a:rect l="textAreaLeft" t="textAreaTop" r="textAreaRight" b="textAreaBottom"/>
            <a:pathLst>
              <a:path stroke="0" w="928688" h="928687">
                <a:moveTo>
                  <a:pt x="522796" y="3694"/>
                </a:moveTo>
                <a:lnTo>
                  <a:pt x="522796" y="3694"/>
                </a:lnTo>
                <a:arcTo wR="464344" hR="464344" stAng="-4966102" swAng="5429412"/>
                <a:lnTo>
                  <a:pt x="464344" y="464344"/>
                </a:lnTo>
                <a:close/>
              </a:path>
              <a:path fill="none" w="928688" h="928687">
                <a:moveTo>
                  <a:pt x="522796" y="3694"/>
                </a:moveTo>
                <a:lnTo>
                  <a:pt x="522796" y="3694"/>
                </a:lnTo>
                <a:arcTo wR="464344" hR="464344" stAng="-4966102" swAng="5429412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43"/>
          <p:cNvSpPr/>
          <p:nvPr/>
        </p:nvSpPr>
        <p:spPr>
          <a:xfrm>
            <a:off x="2238480" y="3000240"/>
            <a:ext cx="28548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44"/>
          <p:cNvSpPr/>
          <p:nvPr/>
        </p:nvSpPr>
        <p:spPr>
          <a:xfrm>
            <a:off x="6143760" y="3071880"/>
            <a:ext cx="28548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45"/>
          <p:cNvGrpSpPr/>
          <p:nvPr/>
        </p:nvGrpSpPr>
        <p:grpSpPr>
          <a:xfrm>
            <a:off x="4214160" y="1857240"/>
            <a:ext cx="214200" cy="285840"/>
            <a:chOff x="4214160" y="1857240"/>
            <a:chExt cx="214200" cy="285840"/>
          </a:xfrm>
        </p:grpSpPr>
        <p:sp>
          <p:nvSpPr>
            <p:cNvPr id="312" name="Прямая соединительная линия 46"/>
            <p:cNvSpPr/>
            <p:nvPr/>
          </p:nvSpPr>
          <p:spPr>
            <a:xfrm>
              <a:off x="428544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47"/>
            <p:cNvSpPr/>
            <p:nvPr/>
          </p:nvSpPr>
          <p:spPr>
            <a:xfrm>
              <a:off x="4214160" y="185724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Группа 48"/>
          <p:cNvGrpSpPr/>
          <p:nvPr/>
        </p:nvGrpSpPr>
        <p:grpSpPr>
          <a:xfrm>
            <a:off x="4071240" y="4429080"/>
            <a:ext cx="214200" cy="285840"/>
            <a:chOff x="4071240" y="4429080"/>
            <a:chExt cx="214200" cy="285840"/>
          </a:xfrm>
        </p:grpSpPr>
        <p:sp>
          <p:nvSpPr>
            <p:cNvPr id="315" name="Прямая соединительная линия 49"/>
            <p:cNvSpPr/>
            <p:nvPr/>
          </p:nvSpPr>
          <p:spPr>
            <a:xfrm>
              <a:off x="414252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50"/>
            <p:cNvSpPr/>
            <p:nvPr/>
          </p:nvSpPr>
          <p:spPr>
            <a:xfrm>
              <a:off x="4071240" y="442908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Дуга 37"/>
          <p:cNvSpPr/>
          <p:nvPr/>
        </p:nvSpPr>
        <p:spPr>
          <a:xfrm rot="5400000">
            <a:off x="2321640" y="1678680"/>
            <a:ext cx="571320" cy="642960"/>
          </a:xfrm>
          <a:custGeom>
            <a:avLst/>
            <a:gdLst>
              <a:gd name="textAreaLeft" fmla="*/ 286560 w 571320"/>
              <a:gd name="textAreaRight" fmla="*/ 571680 w 571320"/>
              <a:gd name="textAreaTop" fmla="*/ 0 h 642960"/>
              <a:gd name="textAreaBottom" fmla="*/ 335160 h 642960"/>
            </a:gdLst>
            <a:ahLst/>
            <a:rect l="textAreaLeft" t="textAreaTop" r="textAreaRight" b="textAreaBottom"/>
            <a:pathLst>
              <a:path stroke="0" w="571500" h="642938">
                <a:moveTo>
                  <a:pt x="286489" y="1"/>
                </a:moveTo>
                <a:lnTo>
                  <a:pt x="286489" y="1"/>
                </a:lnTo>
                <a:arcTo wR="285750" hR="321469" stAng="-5392097" swAng="5558047"/>
                <a:lnTo>
                  <a:pt x="285750" y="321469"/>
                </a:lnTo>
                <a:close/>
              </a:path>
              <a:path fill="none" w="571500" h="642938">
                <a:moveTo>
                  <a:pt x="286489" y="1"/>
                </a:moveTo>
                <a:lnTo>
                  <a:pt x="286489" y="1"/>
                </a:lnTo>
                <a:arcTo wR="285750" hR="321469" stAng="-5392097" swAng="5558047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Дуга 38"/>
          <p:cNvSpPr/>
          <p:nvPr/>
        </p:nvSpPr>
        <p:spPr>
          <a:xfrm rot="5400000">
            <a:off x="2143080" y="1500120"/>
            <a:ext cx="928800" cy="928800"/>
          </a:xfrm>
          <a:custGeom>
            <a:avLst/>
            <a:gdLst>
              <a:gd name="textAreaLeft" fmla="*/ 504000 w 928800"/>
              <a:gd name="textAreaRight" fmla="*/ 929160 w 928800"/>
              <a:gd name="textAreaTop" fmla="*/ 1440 h 928800"/>
              <a:gd name="textAreaBottom" fmla="*/ 507960 h 928800"/>
            </a:gdLst>
            <a:ahLst/>
            <a:rect l="textAreaLeft" t="textAreaTop" r="textAreaRight" b="textAreaBottom"/>
            <a:pathLst>
              <a:path stroke="0" w="928687" h="928688">
                <a:moveTo>
                  <a:pt x="503815" y="1681"/>
                </a:moveTo>
                <a:lnTo>
                  <a:pt x="503815" y="1681"/>
                </a:lnTo>
                <a:arcTo wR="464344" hR="464344" stAng="-5107418" swAng="5428974"/>
                <a:lnTo>
                  <a:pt x="464344" y="464344"/>
                </a:lnTo>
                <a:close/>
              </a:path>
              <a:path fill="none" w="928687" h="928688">
                <a:moveTo>
                  <a:pt x="503815" y="1681"/>
                </a:moveTo>
                <a:lnTo>
                  <a:pt x="503815" y="1681"/>
                </a:lnTo>
                <a:arcTo wR="464344" hR="464344" stAng="-5107418" swAng="5428974"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айдите углы параллелограм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если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=6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B=4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305080" cy="1600200"/>
          </a:xfrm>
          <a:prstGeom prst="rect">
            <a:avLst/>
          </a:prstGeom>
          <a:ln w="0">
            <a:noFill/>
          </a:ln>
        </p:spPr>
      </p:pic>
      <p:sp>
        <p:nvSpPr>
          <p:cNvPr id="321" name="Заголовок 1"/>
          <p:cNvSpPr/>
          <p:nvPr/>
        </p:nvSpPr>
        <p:spPr>
          <a:xfrm>
            <a:off x="533520" y="38098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Хватит ли 40 см проволоки, чтобы изготовить из неё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со сторонами  14 см и 8 с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858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18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ллелограммом называют четырехугольник, у которого каждые две противолежащие стороны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98116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809880" y="289548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определению параллел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llCD,  BCl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74600 h 1192320"/>
              <a:gd name="textAreaBottom" fmla="*/ 1017720 h 1192320"/>
            </a:gdLst>
            <a:ahLst/>
            <a:rect l="textAreaLeft" t="textAreaTop" r="textAreaRight" b="textAreaBottom"/>
            <a:pathLst>
              <a:path w="1071563" h="1192212">
                <a:moveTo>
                  <a:pt x="32921" y="390372"/>
                </a:moveTo>
                <a:lnTo>
                  <a:pt x="32921" y="390372"/>
                </a:lnTo>
                <a:arcTo wR="535782" hR="596106" stAng="-9464947" swAng="4040834"/>
                <a:lnTo>
                  <a:pt x="535782" y="596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81800 h 1241280"/>
              <a:gd name="textAreaBottom" fmla="*/ 1059480 h 1241280"/>
            </a:gdLst>
            <a:ahLst/>
            <a:rect l="textAreaLeft" t="textAreaTop" r="textAreaRight" b="textAreaBottom"/>
            <a:pathLst>
              <a:path w="1114425" h="1241425">
                <a:moveTo>
                  <a:pt x="60931" y="338482"/>
                </a:moveTo>
                <a:lnTo>
                  <a:pt x="60931" y="338482"/>
                </a:lnTo>
                <a:arcTo wR="557213" hR="620713" stAng="-9022411" swAng="3978218"/>
                <a:lnTo>
                  <a:pt x="557213" y="62071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>
              <a:gd name="textAreaLeft" fmla="*/ 183600 w 1254240"/>
              <a:gd name="textAreaRight" fmla="*/ 1070640 w 1254240"/>
              <a:gd name="textAreaTop" fmla="*/ 174960 h 1195200"/>
              <a:gd name="textAreaBottom" fmla="*/ 1020240 h 1195200"/>
            </a:gdLst>
            <a:ahLst/>
            <a:rect l="textAreaLeft" t="textAreaTop" r="textAreaRight" b="textAreaBottom"/>
            <a:pathLst>
              <a:path w="1254125" h="1195387">
                <a:moveTo>
                  <a:pt x="73511" y="316893"/>
                </a:moveTo>
                <a:lnTo>
                  <a:pt x="73511" y="316893"/>
                </a:lnTo>
                <a:arcTo wR="627063" hR="597694" stAng="-9186158" swAng="2205938"/>
                <a:lnTo>
                  <a:pt x="627063" y="597694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>
              <a:gd name="textAreaLeft" fmla="*/ 173520 w 1185840"/>
              <a:gd name="textAreaRight" fmla="*/ 1012320 w 1185840"/>
              <a:gd name="textAreaTop" fmla="*/ 154800 h 1058760"/>
              <a:gd name="textAreaBottom" fmla="*/ 903960 h 1058760"/>
            </a:gdLst>
            <a:ahLst/>
            <a:rect l="textAreaLeft" t="textAreaTop" r="textAreaRight" b="textAreaBottom"/>
            <a:pathLst>
              <a:path w="1185862" h="1058863">
                <a:moveTo>
                  <a:pt x="53060" y="310521"/>
                </a:moveTo>
                <a:lnTo>
                  <a:pt x="53060" y="310521"/>
                </a:lnTo>
                <a:arcTo wR="592931" hR="529432" stAng="-9475683" swAng="2461018"/>
                <a:lnTo>
                  <a:pt x="592931" y="529432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>
              <a:gd name="textAreaLeft" fmla="*/ 183960 w 1257120"/>
              <a:gd name="textAreaRight" fmla="*/ 1073160 w 1257120"/>
              <a:gd name="textAreaTop" fmla="*/ 171720 h 1172880"/>
              <a:gd name="textAreaBottom" fmla="*/ 1001160 h 1172880"/>
            </a:gdLst>
            <a:ahLst/>
            <a:rect l="textAreaLeft" t="textAreaTop" r="textAreaRight" b="textAreaBottom"/>
            <a:pathLst>
              <a:path w="1257300" h="1173162">
                <a:moveTo>
                  <a:pt x="23705" y="427021"/>
                </a:moveTo>
                <a:lnTo>
                  <a:pt x="23705" y="427021"/>
                </a:lnTo>
                <a:arcTo wR="628650" hR="586581" stAng="-9913452" swAng="4419786"/>
                <a:lnTo>
                  <a:pt x="628650" y="58658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161640 h 1105200"/>
              <a:gd name="textAreaBottom" fmla="*/ 943560 h 1105200"/>
            </a:gdLst>
            <a:ahLst/>
            <a:rect l="textAreaLeft" t="textAreaTop" r="textAreaRight" b="textAreaBottom"/>
            <a:pathLst>
              <a:path w="1368425" h="1104900">
                <a:moveTo>
                  <a:pt x="18509" y="424822"/>
                </a:moveTo>
                <a:lnTo>
                  <a:pt x="18509" y="424822"/>
                </a:lnTo>
                <a:arcTo wR="684213" hR="552450" stAng="-10148821" swAng="4605731"/>
                <a:lnTo>
                  <a:pt x="684213" y="552450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00120" y="21420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72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75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стороны параллелограмма 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657600" y="13712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араллелограмм 3"/>
          <p:cNvSpPr/>
          <p:nvPr/>
        </p:nvSpPr>
        <p:spPr>
          <a:xfrm>
            <a:off x="838080" y="2133720"/>
            <a:ext cx="2362320" cy="137160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609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26668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312408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76212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одержимое 2"/>
          <p:cNvSpPr/>
          <p:nvPr/>
        </p:nvSpPr>
        <p:spPr>
          <a:xfrm>
            <a:off x="3657600" y="28195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оведем диагональ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809880" y="358128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ассмотри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1"/>
          <p:cNvSpPr/>
          <p:nvPr/>
        </p:nvSpPr>
        <p:spPr>
          <a:xfrm flipV="1">
            <a:off x="838080" y="2133720"/>
            <a:ext cx="2362320" cy="1371600"/>
          </a:xfrm>
          <a:prstGeom prst="line">
            <a:avLst/>
          </a:prstGeom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6"/>
          <p:cNvSpPr/>
          <p:nvPr/>
        </p:nvSpPr>
        <p:spPr>
          <a:xfrm>
            <a:off x="2870280" y="2349360"/>
            <a:ext cx="268200" cy="185760"/>
          </a:xfrm>
          <a:custGeom>
            <a:avLst/>
            <a:gdLst/>
            <a:ahLst/>
            <a:rect l="l" t="t" r="r" b="b"/>
            <a:pathLst>
              <a:path w="268146" h="185195">
                <a:moveTo>
                  <a:pt x="0" y="0"/>
                </a:moveTo>
                <a:cubicBezTo>
                  <a:pt x="84881" y="62696"/>
                  <a:pt x="169762" y="125393"/>
                  <a:pt x="208344" y="150471"/>
                </a:cubicBezTo>
                <a:cubicBezTo>
                  <a:pt x="246926" y="175549"/>
                  <a:pt x="221848" y="148542"/>
                  <a:pt x="231493" y="150471"/>
                </a:cubicBezTo>
                <a:cubicBezTo>
                  <a:pt x="241138" y="152400"/>
                  <a:pt x="264288" y="156258"/>
                  <a:pt x="266217" y="162045"/>
                </a:cubicBezTo>
                <a:cubicBezTo>
                  <a:pt x="268146" y="167832"/>
                  <a:pt x="255607" y="176513"/>
                  <a:pt x="243068" y="185195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7"/>
          <p:cNvSpPr/>
          <p:nvPr/>
        </p:nvSpPr>
        <p:spPr>
          <a:xfrm>
            <a:off x="2778120" y="2408400"/>
            <a:ext cx="351000" cy="236520"/>
          </a:xfrm>
          <a:custGeom>
            <a:avLst/>
            <a:gdLst/>
            <a:ahLst/>
            <a:rect l="l" t="t" r="r" b="b"/>
            <a:pathLst>
              <a:path w="351099" h="237281">
                <a:moveTo>
                  <a:pt x="0" y="0"/>
                </a:moveTo>
                <a:cubicBezTo>
                  <a:pt x="125392" y="89703"/>
                  <a:pt x="250785" y="179407"/>
                  <a:pt x="300942" y="208344"/>
                </a:cubicBezTo>
                <a:cubicBezTo>
                  <a:pt x="351099" y="237281"/>
                  <a:pt x="326020" y="205450"/>
                  <a:pt x="300942" y="173620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8"/>
          <p:cNvSpPr/>
          <p:nvPr/>
        </p:nvSpPr>
        <p:spPr>
          <a:xfrm>
            <a:off x="960480" y="3159000"/>
            <a:ext cx="264960" cy="150840"/>
          </a:xfrm>
          <a:custGeom>
            <a:avLst/>
            <a:gdLst/>
            <a:ahLst/>
            <a:rect l="l" t="t" r="r" b="b"/>
            <a:pathLst>
              <a:path w="264288" h="150470">
                <a:moveTo>
                  <a:pt x="0" y="0"/>
                </a:moveTo>
                <a:cubicBezTo>
                  <a:pt x="99349" y="52086"/>
                  <a:pt x="198698" y="104172"/>
                  <a:pt x="231493" y="127321"/>
                </a:cubicBezTo>
                <a:cubicBezTo>
                  <a:pt x="264288" y="150470"/>
                  <a:pt x="198698" y="142754"/>
                  <a:pt x="196769" y="138896"/>
                </a:cubicBezTo>
                <a:cubicBezTo>
                  <a:pt x="194840" y="135038"/>
                  <a:pt x="214132" y="113818"/>
                  <a:pt x="219919" y="104172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9"/>
          <p:cNvSpPr/>
          <p:nvPr/>
        </p:nvSpPr>
        <p:spPr>
          <a:xfrm>
            <a:off x="949320" y="3021120"/>
            <a:ext cx="324000" cy="220680"/>
          </a:xfrm>
          <a:custGeom>
            <a:avLst/>
            <a:gdLst/>
            <a:ahLst/>
            <a:rect l="l" t="t" r="r" b="b"/>
            <a:pathLst>
              <a:path w="324091" h="219919">
                <a:moveTo>
                  <a:pt x="0" y="0"/>
                </a:moveTo>
                <a:lnTo>
                  <a:pt x="324091" y="219919"/>
                </a:lnTo>
                <a:lnTo>
                  <a:pt x="324091" y="219919"/>
                </a:ln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0"/>
          <p:cNvSpPr/>
          <p:nvPr/>
        </p:nvSpPr>
        <p:spPr>
          <a:xfrm flipV="1" rot="10800000">
            <a:off x="990720" y="2894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1"/>
          <p:cNvSpPr/>
          <p:nvPr/>
        </p:nvSpPr>
        <p:spPr>
          <a:xfrm>
            <a:off x="2743200" y="2514600"/>
            <a:ext cx="2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25"/>
          <p:cNvSpPr/>
          <p:nvPr/>
        </p:nvSpPr>
        <p:spPr>
          <a:xfrm>
            <a:off x="2581200" y="2130480"/>
            <a:ext cx="177840" cy="282600"/>
          </a:xfrm>
          <a:custGeom>
            <a:avLst/>
            <a:gdLst/>
            <a:ahLst/>
            <a:rect l="l" t="t" r="r" b="b"/>
            <a:pathLst>
              <a:path w="177479" h="283579">
                <a:moveTo>
                  <a:pt x="0" y="0"/>
                </a:moveTo>
                <a:cubicBezTo>
                  <a:pt x="50157" y="81023"/>
                  <a:pt x="123463" y="202557"/>
                  <a:pt x="150471" y="243068"/>
                </a:cubicBezTo>
                <a:cubicBezTo>
                  <a:pt x="177479" y="283579"/>
                  <a:pt x="169762" y="263323"/>
                  <a:pt x="162046" y="243068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27"/>
          <p:cNvSpPr/>
          <p:nvPr/>
        </p:nvSpPr>
        <p:spPr>
          <a:xfrm>
            <a:off x="1273320" y="3252960"/>
            <a:ext cx="36360" cy="320400"/>
          </a:xfrm>
          <a:custGeom>
            <a:avLst/>
            <a:gdLst/>
            <a:ahLst/>
            <a:rect l="l" t="t" r="r" b="b"/>
            <a:pathLst>
              <a:path w="36653" h="320232">
                <a:moveTo>
                  <a:pt x="0" y="0"/>
                </a:moveTo>
                <a:cubicBezTo>
                  <a:pt x="16397" y="117676"/>
                  <a:pt x="32795" y="235352"/>
                  <a:pt x="34724" y="277792"/>
                </a:cubicBezTo>
                <a:cubicBezTo>
                  <a:pt x="36653" y="320232"/>
                  <a:pt x="24114" y="287437"/>
                  <a:pt x="11575" y="254643"/>
                </a:cubicBezTo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 flipV="1" rot="10800000">
            <a:off x="1371600" y="3123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"/>
          <p:cNvSpPr/>
          <p:nvPr/>
        </p:nvSpPr>
        <p:spPr>
          <a:xfrm flipV="1" rot="10800000">
            <a:off x="2286000" y="2132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1"/>
          <p:cNvSpPr/>
          <p:nvPr/>
        </p:nvSpPr>
        <p:spPr>
          <a:xfrm>
            <a:off x="914400" y="266688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3"/>
          <p:cNvSpPr/>
          <p:nvPr/>
        </p:nvSpPr>
        <p:spPr>
          <a:xfrm>
            <a:off x="2895480" y="29718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5"/>
          <p:cNvSpPr/>
          <p:nvPr/>
        </p:nvSpPr>
        <p:spPr>
          <a:xfrm>
            <a:off x="914400" y="2743200"/>
            <a:ext cx="228600" cy="763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6"/>
          <p:cNvSpPr/>
          <p:nvPr/>
        </p:nvSpPr>
        <p:spPr>
          <a:xfrm>
            <a:off x="2895480" y="3048120"/>
            <a:ext cx="228600" cy="759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37"/>
          <p:cNvSpPr/>
          <p:nvPr/>
        </p:nvSpPr>
        <p:spPr>
          <a:xfrm flipH="1">
            <a:off x="1904760" y="1981080"/>
            <a:ext cx="75960" cy="30492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39"/>
          <p:cNvSpPr/>
          <p:nvPr/>
        </p:nvSpPr>
        <p:spPr>
          <a:xfrm flipH="1">
            <a:off x="1904760" y="3276720"/>
            <a:ext cx="75960" cy="304560"/>
          </a:xfrm>
          <a:prstGeom prst="line">
            <a:avLst/>
          </a:prstGeom>
          <a:ln w="158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914400" y="38862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-общая стор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держимое 2"/>
          <p:cNvSpPr/>
          <p:nvPr/>
        </p:nvSpPr>
        <p:spPr>
          <a:xfrm>
            <a:off x="914400" y="4191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1=˪2 –накрест лежащие при ВС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914400" y="449568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˪3=˪4 –накрест лежащие при АВ||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838080" y="4876920"/>
            <a:ext cx="7620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второму признаку равенства треуголь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914400" y="5638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=CD, BC=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0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иволежащие углы параллелограмма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162864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886200" y="1600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33520" y="32004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лятся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94336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4419720" y="45720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=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8640" y="456840"/>
            <a:ext cx="5443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ение параллелогр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1"/>
          <p:cNvSpPr/>
          <p:nvPr/>
        </p:nvSpPr>
        <p:spPr>
          <a:xfrm rot="8677200">
            <a:off x="1061640" y="186156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4"/>
          <p:cNvSpPr/>
          <p:nvPr/>
        </p:nvSpPr>
        <p:spPr>
          <a:xfrm>
            <a:off x="1714680" y="1571760"/>
            <a:ext cx="1714320" cy="39290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3929040" y="1571760"/>
            <a:ext cx="1857240" cy="42861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4286160"/>
              <a:gd name="textAreaBottom" fmla="*/ 4286520 h 4286160"/>
            </a:gdLst>
            <a:ahLst/>
            <a:rect l="textAreaLeft" t="textAreaTop" r="textAreaRight" b="textAreaBottom"/>
            <a:pathLst>
              <a:path w="1584" h="3736">
                <a:moveTo>
                  <a:pt x="0" y="0"/>
                </a:moveTo>
                <a:lnTo>
                  <a:pt x="1584" y="3736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22" descr=""/>
          <p:cNvPicPr/>
          <p:nvPr/>
        </p:nvPicPr>
        <p:blipFill>
          <a:blip r:embed="rId2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124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128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Freeform 21"/>
          <p:cNvSpPr/>
          <p:nvPr/>
        </p:nvSpPr>
        <p:spPr>
          <a:xfrm rot="4675200">
            <a:off x="1870200" y="62280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132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136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Group 22" descr=""/>
          <p:cNvPicPr/>
          <p:nvPr/>
        </p:nvPicPr>
        <p:blipFill>
          <a:blip r:embed="rId4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141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145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34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351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38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39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41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149"/>
          <p:cNvSpPr/>
          <p:nvPr/>
        </p:nvSpPr>
        <p:spPr>
          <a:xfrm>
            <a:off x="4643280" y="1643040"/>
            <a:ext cx="222480" cy="160992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46"/>
          <p:cNvSpPr/>
          <p:nvPr/>
        </p:nvSpPr>
        <p:spPr>
          <a:xfrm>
            <a:off x="2455920" y="1670040"/>
            <a:ext cx="193680" cy="16668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32"/>
          <p:cNvSpPr/>
          <p:nvPr/>
        </p:nvSpPr>
        <p:spPr>
          <a:xfrm flipV="1">
            <a:off x="2646360" y="3300480"/>
            <a:ext cx="2300400" cy="396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1"/>
          <p:cNvSpPr/>
          <p:nvPr/>
        </p:nvSpPr>
        <p:spPr>
          <a:xfrm flipV="1">
            <a:off x="2482920" y="1615680"/>
            <a:ext cx="2089080" cy="270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уга 51"/>
          <p:cNvSpPr/>
          <p:nvPr/>
        </p:nvSpPr>
        <p:spPr>
          <a:xfrm rot="11689200">
            <a:off x="2464560" y="1847160"/>
            <a:ext cx="1838520" cy="1795320"/>
          </a:xfrm>
          <a:custGeom>
            <a:avLst/>
            <a:gdLst>
              <a:gd name="textAreaLeft" fmla="*/ 700920 w 1838520"/>
              <a:gd name="textAreaRight" fmla="*/ 1756080 w 1838520"/>
              <a:gd name="textAreaTop" fmla="*/ 0 h 1795320"/>
              <a:gd name="textAreaBottom" fmla="*/ 525240 h 1795320"/>
            </a:gdLst>
            <a:ahLst/>
            <a:rect l="textAreaLeft" t="textAreaTop" r="textAreaRight" b="textAreaBottom"/>
            <a:pathLst>
              <a:path stroke="0" w="1838325" h="1795463">
                <a:moveTo>
                  <a:pt x="700910" y="25675"/>
                </a:moveTo>
                <a:lnTo>
                  <a:pt x="700910" y="25675"/>
                </a:lnTo>
                <a:arcTo wR="919163" hR="897732" stAng="-6243060" swAng="4803517"/>
                <a:lnTo>
                  <a:pt x="919163" y="897732"/>
                </a:lnTo>
                <a:close/>
              </a:path>
              <a:path fill="none" w="1838325" h="1795463">
                <a:moveTo>
                  <a:pt x="700910" y="25675"/>
                </a:moveTo>
                <a:lnTo>
                  <a:pt x="700910" y="25675"/>
                </a:lnTo>
                <a:arcTo wR="919163" hR="897732" stAng="-6243060" swAng="4803517"/>
              </a:path>
            </a:pathLst>
          </a:custGeom>
          <a:noFill/>
          <a:ln w="1908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Дуга 90"/>
          <p:cNvSpPr/>
          <p:nvPr/>
        </p:nvSpPr>
        <p:spPr>
          <a:xfrm rot="4570800">
            <a:off x="3215160" y="1911960"/>
            <a:ext cx="1906560" cy="1727280"/>
          </a:xfrm>
          <a:custGeom>
            <a:avLst/>
            <a:gdLst>
              <a:gd name="textAreaLeft" fmla="*/ 1083240 w 1906560"/>
              <a:gd name="textAreaRight" fmla="*/ 1906920 w 1906560"/>
              <a:gd name="textAreaTop" fmla="*/ 7920 h 1727280"/>
              <a:gd name="textAreaBottom" fmla="*/ 863640 h 1727280"/>
            </a:gdLst>
            <a:ahLst/>
            <a:rect l="textAreaLeft" t="textAreaTop" r="textAreaRight" b="textAreaBottom"/>
            <a:pathLst>
              <a:path stroke="0" w="1906588" h="1727200">
                <a:moveTo>
                  <a:pt x="1083207" y="8057"/>
                </a:moveTo>
                <a:lnTo>
                  <a:pt x="1083207" y="8057"/>
                </a:lnTo>
                <a:arcTo wR="953294" hR="863600" stAng="-4881941" swAng="4881948"/>
                <a:lnTo>
                  <a:pt x="953294" y="863600"/>
                </a:lnTo>
                <a:close/>
              </a:path>
              <a:path fill="none" w="1906588" h="1727200">
                <a:moveTo>
                  <a:pt x="1083207" y="8057"/>
                </a:moveTo>
                <a:lnTo>
                  <a:pt x="1083207" y="8057"/>
                </a:lnTo>
                <a:arcTo wR="953294" hR="863600" stAng="-4881941" swAng="4881948"/>
              </a:path>
            </a:pathLst>
          </a:custGeom>
          <a:noFill/>
          <a:ln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уга 30"/>
          <p:cNvSpPr/>
          <p:nvPr/>
        </p:nvSpPr>
        <p:spPr>
          <a:xfrm rot="195600">
            <a:off x="2995560" y="1351080"/>
            <a:ext cx="1863720" cy="1641240"/>
          </a:xfrm>
          <a:custGeom>
            <a:avLst/>
            <a:gdLst>
              <a:gd name="textAreaLeft" fmla="*/ 1038600 w 1863720"/>
              <a:gd name="textAreaRight" fmla="*/ 1864080 w 1863720"/>
              <a:gd name="textAreaTop" fmla="*/ 5040 h 1641240"/>
              <a:gd name="textAreaBottom" fmla="*/ 820800 h 1641240"/>
            </a:gdLst>
            <a:ahLst/>
            <a:rect l="textAreaLeft" t="textAreaTop" r="textAreaRight" b="textAreaBottom"/>
            <a:pathLst>
              <a:path stroke="0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  <a:lnTo>
                  <a:pt x="931863" y="820738"/>
                </a:lnTo>
                <a:close/>
              </a:path>
              <a:path fill="none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</a:path>
            </a:pathLst>
          </a:custGeom>
          <a:noFill/>
          <a:ln w="1908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уга 91"/>
          <p:cNvSpPr/>
          <p:nvPr/>
        </p:nvSpPr>
        <p:spPr>
          <a:xfrm rot="15984600">
            <a:off x="2230920" y="1259640"/>
            <a:ext cx="1982880" cy="1727280"/>
          </a:xfrm>
          <a:custGeom>
            <a:avLst/>
            <a:gdLst>
              <a:gd name="textAreaLeft" fmla="*/ 893160 w 1982880"/>
              <a:gd name="textAreaRight" fmla="*/ 1951200 w 1982880"/>
              <a:gd name="textAreaTop" fmla="*/ 0 h 1727280"/>
              <a:gd name="textAreaBottom" fmla="*/ 646920 h 1727280"/>
            </a:gdLst>
            <a:ahLst/>
            <a:rect l="textAreaLeft" t="textAreaTop" r="textAreaRight" b="textAreaBottom"/>
            <a:pathLst>
              <a:path stroke="0" w="1982787" h="1727200">
                <a:moveTo>
                  <a:pt x="893112" y="4254"/>
                </a:moveTo>
                <a:lnTo>
                  <a:pt x="893112" y="4254"/>
                </a:lnTo>
                <a:arcTo wR="991394" hR="863600" stAng="-5791469" swAng="5027715"/>
                <a:lnTo>
                  <a:pt x="991394" y="863600"/>
                </a:lnTo>
                <a:close/>
              </a:path>
              <a:path fill="none" w="1982787" h="1727200">
                <a:moveTo>
                  <a:pt x="893112" y="4254"/>
                </a:moveTo>
                <a:lnTo>
                  <a:pt x="893112" y="4254"/>
                </a:lnTo>
                <a:arcTo wR="991394" hR="863600" stAng="-5791469" swAng="5027715"/>
              </a:path>
            </a:pathLst>
          </a:custGeom>
          <a:noFill/>
          <a:ln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5"/>
          <p:cNvSpPr/>
          <p:nvPr/>
        </p:nvSpPr>
        <p:spPr>
          <a:xfrm flipH="1">
            <a:off x="2071800" y="1000080"/>
            <a:ext cx="3286080" cy="2857680"/>
          </a:xfrm>
          <a:prstGeom prst="line">
            <a:avLst/>
          </a:prstGeom>
          <a:ln w="1908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2"/>
          <p:cNvSpPr/>
          <p:nvPr/>
        </p:nvSpPr>
        <p:spPr>
          <a:xfrm>
            <a:off x="2000160" y="1357200"/>
            <a:ext cx="34290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9"/>
          <p:cNvSpPr/>
          <p:nvPr/>
        </p:nvSpPr>
        <p:spPr>
          <a:xfrm>
            <a:off x="3571920" y="2357280"/>
            <a:ext cx="214200" cy="214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9"/>
          <p:cNvGrpSpPr/>
          <p:nvPr/>
        </p:nvGrpSpPr>
        <p:grpSpPr>
          <a:xfrm>
            <a:off x="2332440" y="-439200"/>
            <a:ext cx="2611440" cy="5844960"/>
            <a:chOff x="2332440" y="-439200"/>
            <a:chExt cx="2611440" cy="5844960"/>
          </a:xfrm>
        </p:grpSpPr>
        <p:grpSp>
          <p:nvGrpSpPr>
            <p:cNvPr id="164" name="Group 50"/>
            <p:cNvGrpSpPr/>
            <p:nvPr/>
          </p:nvGrpSpPr>
          <p:grpSpPr>
            <a:xfrm>
              <a:off x="3664080" y="-439200"/>
              <a:ext cx="1279800" cy="2906640"/>
              <a:chOff x="3664080" y="-439200"/>
              <a:chExt cx="1279800" cy="2906640"/>
            </a:xfrm>
          </p:grpSpPr>
          <p:sp>
            <p:nvSpPr>
              <p:cNvPr id="165" name="Freeform 51"/>
              <p:cNvSpPr/>
              <p:nvPr/>
            </p:nvSpPr>
            <p:spPr>
              <a:xfrm rot="18000">
                <a:off x="3740760" y="-435960"/>
                <a:ext cx="1189800" cy="2761920"/>
              </a:xfrm>
              <a:custGeom>
                <a:avLst/>
                <a:gdLst>
                  <a:gd name="textAreaLeft" fmla="*/ 0 w 1189800"/>
                  <a:gd name="textAreaRight" fmla="*/ 1190160 w 1189800"/>
                  <a:gd name="textAreaTop" fmla="*/ 0 h 2761920"/>
                  <a:gd name="textAreaBottom" fmla="*/ 2762280 h 27619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52"/>
              <p:cNvSpPr/>
              <p:nvPr/>
            </p:nvSpPr>
            <p:spPr>
              <a:xfrm rot="18000">
                <a:off x="4641480" y="1811520"/>
                <a:ext cx="300600" cy="53784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53"/>
              <p:cNvSpPr/>
              <p:nvPr/>
            </p:nvSpPr>
            <p:spPr>
              <a:xfrm rot="18000">
                <a:off x="4820400" y="2132280"/>
                <a:ext cx="116280" cy="2037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54"/>
              <p:cNvGrpSpPr/>
              <p:nvPr/>
            </p:nvGrpSpPr>
            <p:grpSpPr>
              <a:xfrm>
                <a:off x="3664080" y="-419760"/>
                <a:ext cx="1220040" cy="2887200"/>
                <a:chOff x="3664080" y="-419760"/>
                <a:chExt cx="1220040" cy="2887200"/>
              </a:xfrm>
            </p:grpSpPr>
            <p:sp>
              <p:nvSpPr>
                <p:cNvPr id="169" name="Freeform 55"/>
                <p:cNvSpPr/>
                <p:nvPr/>
              </p:nvSpPr>
              <p:spPr>
                <a:xfrm rot="18000">
                  <a:off x="3837240" y="-416880"/>
                  <a:ext cx="1040400" cy="2307240"/>
                </a:xfrm>
                <a:custGeom>
                  <a:avLst/>
                  <a:gdLst>
                    <a:gd name="textAreaLeft" fmla="*/ 0 w 1040400"/>
                    <a:gd name="textAreaRight" fmla="*/ 1040760 w 1040400"/>
                    <a:gd name="textAreaTop" fmla="*/ 0 h 2307240"/>
                    <a:gd name="textAreaBottom" fmla="*/ 2307600 h 23072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Group 56"/>
                <p:cNvGrpSpPr/>
                <p:nvPr/>
              </p:nvGrpSpPr>
              <p:grpSpPr>
                <a:xfrm>
                  <a:off x="3664080" y="-221760"/>
                  <a:ext cx="550080" cy="2689200"/>
                  <a:chOff x="3664080" y="-221760"/>
                  <a:chExt cx="550080" cy="2689200"/>
                </a:xfrm>
              </p:grpSpPr>
              <p:sp>
                <p:nvSpPr>
                  <p:cNvPr id="171" name="Freeform 57"/>
                  <p:cNvSpPr/>
                  <p:nvPr/>
                </p:nvSpPr>
                <p:spPr>
                  <a:xfrm rot="18000">
                    <a:off x="3670920" y="-157680"/>
                    <a:ext cx="335520" cy="2624400"/>
                  </a:xfrm>
                  <a:custGeom>
                    <a:avLst/>
                    <a:gdLst>
                      <a:gd name="textAreaLeft" fmla="*/ 0 w 335520"/>
                      <a:gd name="textAreaRight" fmla="*/ 335520 w 335520"/>
                      <a:gd name="textAreaTop" fmla="*/ 0 h 2624400"/>
                      <a:gd name="textAreaBottom" fmla="*/ 2624760 h 26244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58"/>
                  <p:cNvSpPr/>
                  <p:nvPr/>
                </p:nvSpPr>
                <p:spPr>
                  <a:xfrm rot="18000">
                    <a:off x="3811320" y="-220320"/>
                    <a:ext cx="401760" cy="383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3" name="Group 59"/>
            <p:cNvGrpSpPr/>
            <p:nvPr/>
          </p:nvGrpSpPr>
          <p:grpSpPr>
            <a:xfrm>
              <a:off x="2332440" y="2487960"/>
              <a:ext cx="1305000" cy="2917800"/>
              <a:chOff x="2332440" y="2487960"/>
              <a:chExt cx="1305000" cy="2917800"/>
            </a:xfrm>
          </p:grpSpPr>
          <p:sp>
            <p:nvSpPr>
              <p:cNvPr id="174" name="Freeform 60"/>
              <p:cNvSpPr/>
              <p:nvPr/>
            </p:nvSpPr>
            <p:spPr>
              <a:xfrm rot="10759800">
                <a:off x="2365920" y="2634120"/>
                <a:ext cx="1185840" cy="2764440"/>
              </a:xfrm>
              <a:custGeom>
                <a:avLst/>
                <a:gdLst>
                  <a:gd name="textAreaLeft" fmla="*/ 0 w 1185840"/>
                  <a:gd name="textAreaRight" fmla="*/ 1186200 w 118584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1"/>
              <p:cNvSpPr/>
              <p:nvPr/>
            </p:nvSpPr>
            <p:spPr>
              <a:xfrm rot="10759800">
                <a:off x="2335320" y="2617920"/>
                <a:ext cx="299160" cy="5371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62"/>
              <p:cNvSpPr/>
              <p:nvPr/>
            </p:nvSpPr>
            <p:spPr>
              <a:xfrm rot="10759800">
                <a:off x="2339280" y="263304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63"/>
              <p:cNvGrpSpPr/>
              <p:nvPr/>
            </p:nvGrpSpPr>
            <p:grpSpPr>
              <a:xfrm>
                <a:off x="2414520" y="2487960"/>
                <a:ext cx="1222920" cy="2901600"/>
                <a:chOff x="2414520" y="2487960"/>
                <a:chExt cx="1222920" cy="2901600"/>
              </a:xfrm>
            </p:grpSpPr>
            <p:sp>
              <p:nvSpPr>
                <p:cNvPr id="178" name="Freeform 64"/>
                <p:cNvSpPr/>
                <p:nvPr/>
              </p:nvSpPr>
              <p:spPr>
                <a:xfrm rot="10759800">
                  <a:off x="2427840" y="3073680"/>
                  <a:ext cx="1035720" cy="2309760"/>
                </a:xfrm>
                <a:custGeom>
                  <a:avLst/>
                  <a:gdLst>
                    <a:gd name="textAreaLeft" fmla="*/ 0 w 1035720"/>
                    <a:gd name="textAreaRight" fmla="*/ 1036080 w 103572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65"/>
                <p:cNvGrpSpPr/>
                <p:nvPr/>
              </p:nvGrpSpPr>
              <p:grpSpPr>
                <a:xfrm>
                  <a:off x="3099600" y="2487960"/>
                  <a:ext cx="537840" cy="2695680"/>
                  <a:chOff x="3099600" y="2487960"/>
                  <a:chExt cx="537840" cy="2695680"/>
                </a:xfrm>
              </p:grpSpPr>
              <p:sp>
                <p:nvSpPr>
                  <p:cNvPr id="180" name="Freeform 66"/>
                  <p:cNvSpPr/>
                  <p:nvPr/>
                </p:nvSpPr>
                <p:spPr>
                  <a:xfrm rot="10759800">
                    <a:off x="3288240" y="2489760"/>
                    <a:ext cx="333720" cy="2625120"/>
                  </a:xfrm>
                  <a:custGeom>
                    <a:avLst/>
                    <a:gdLst>
                      <a:gd name="textAreaLeft" fmla="*/ 0 w 333720"/>
                      <a:gd name="textAreaRight" fmla="*/ 334080 w 33372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Oval 67"/>
                  <p:cNvSpPr/>
                  <p:nvPr/>
                </p:nvSpPr>
                <p:spPr>
                  <a:xfrm rot="10759800">
                    <a:off x="3101400" y="479700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2" name="Group 49"/>
          <p:cNvGrpSpPr/>
          <p:nvPr/>
        </p:nvGrpSpPr>
        <p:grpSpPr>
          <a:xfrm>
            <a:off x="2444040" y="-665640"/>
            <a:ext cx="2497680" cy="6250320"/>
            <a:chOff x="2444040" y="-665640"/>
            <a:chExt cx="2497680" cy="6250320"/>
          </a:xfrm>
        </p:grpSpPr>
        <p:grpSp>
          <p:nvGrpSpPr>
            <p:cNvPr id="183" name="Group 50"/>
            <p:cNvGrpSpPr/>
            <p:nvPr/>
          </p:nvGrpSpPr>
          <p:grpSpPr>
            <a:xfrm>
              <a:off x="2444040" y="2481120"/>
              <a:ext cx="1776600" cy="3103560"/>
              <a:chOff x="2444040" y="2481120"/>
              <a:chExt cx="1776600" cy="3103560"/>
            </a:xfrm>
          </p:grpSpPr>
          <p:sp>
            <p:nvSpPr>
              <p:cNvPr id="184" name="Freeform 51"/>
              <p:cNvSpPr/>
              <p:nvPr/>
            </p:nvSpPr>
            <p:spPr>
              <a:xfrm rot="10077000">
                <a:off x="2745000" y="2723760"/>
                <a:ext cx="1185120" cy="2767320"/>
              </a:xfrm>
              <a:custGeom>
                <a:avLst/>
                <a:gdLst>
                  <a:gd name="textAreaLeft" fmla="*/ 0 w 1185120"/>
                  <a:gd name="textAreaRight" fmla="*/ 1185480 w 118512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2"/>
              <p:cNvSpPr/>
              <p:nvPr/>
            </p:nvSpPr>
            <p:spPr>
              <a:xfrm rot="10077000">
                <a:off x="2496960" y="2821320"/>
                <a:ext cx="298800" cy="54072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3"/>
              <p:cNvSpPr/>
              <p:nvPr/>
            </p:nvSpPr>
            <p:spPr>
              <a:xfrm rot="10077000">
                <a:off x="2472840" y="2857680"/>
                <a:ext cx="115920" cy="202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54"/>
              <p:cNvGrpSpPr/>
              <p:nvPr/>
            </p:nvGrpSpPr>
            <p:grpSpPr>
              <a:xfrm>
                <a:off x="2621160" y="2481120"/>
                <a:ext cx="1599480" cy="3078000"/>
                <a:chOff x="2621160" y="2481120"/>
                <a:chExt cx="1599480" cy="3078000"/>
              </a:xfrm>
            </p:grpSpPr>
            <p:sp>
              <p:nvSpPr>
                <p:cNvPr id="188" name="Freeform 55"/>
                <p:cNvSpPr/>
                <p:nvPr/>
              </p:nvSpPr>
              <p:spPr>
                <a:xfrm rot="10077000">
                  <a:off x="2850480" y="3164400"/>
                  <a:ext cx="1035360" cy="2311920"/>
                </a:xfrm>
                <a:custGeom>
                  <a:avLst/>
                  <a:gdLst>
                    <a:gd name="textAreaLeft" fmla="*/ 0 w 1035360"/>
                    <a:gd name="textAreaRight" fmla="*/ 1035720 w 1035360"/>
                    <a:gd name="textAreaTop" fmla="*/ 0 h 2311920"/>
                    <a:gd name="textAreaBottom" fmla="*/ 2312280 h 231192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56"/>
                <p:cNvGrpSpPr/>
                <p:nvPr/>
              </p:nvGrpSpPr>
              <p:grpSpPr>
                <a:xfrm>
                  <a:off x="3346920" y="2481120"/>
                  <a:ext cx="873720" cy="2744640"/>
                  <a:chOff x="3346920" y="2481120"/>
                  <a:chExt cx="873720" cy="2744640"/>
                </a:xfrm>
              </p:grpSpPr>
              <p:sp>
                <p:nvSpPr>
                  <p:cNvPr id="190" name="Freeform 57"/>
                  <p:cNvSpPr/>
                  <p:nvPr/>
                </p:nvSpPr>
                <p:spPr>
                  <a:xfrm rot="10077000">
                    <a:off x="3617280" y="2486520"/>
                    <a:ext cx="332640" cy="2629080"/>
                  </a:xfrm>
                  <a:custGeom>
                    <a:avLst/>
                    <a:gdLst>
                      <a:gd name="textAreaLeft" fmla="*/ 0 w 332640"/>
                      <a:gd name="textAreaRight" fmla="*/ 333000 w 332640"/>
                      <a:gd name="textAreaTop" fmla="*/ 0 h 2629080"/>
                      <a:gd name="textAreaBottom" fmla="*/ 2629440 h 26290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Oval 58"/>
                  <p:cNvSpPr/>
                  <p:nvPr/>
                </p:nvSpPr>
                <p:spPr>
                  <a:xfrm rot="10077000">
                    <a:off x="3667680" y="4803840"/>
                    <a:ext cx="398880" cy="3844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Group 59"/>
            <p:cNvGrpSpPr/>
            <p:nvPr/>
          </p:nvGrpSpPr>
          <p:grpSpPr>
            <a:xfrm>
              <a:off x="3132000" y="-665640"/>
              <a:ext cx="1809720" cy="3112920"/>
              <a:chOff x="3132000" y="-665640"/>
              <a:chExt cx="1809720" cy="3112920"/>
            </a:xfrm>
          </p:grpSpPr>
          <p:sp>
            <p:nvSpPr>
              <p:cNvPr id="193" name="Freeform 60"/>
              <p:cNvSpPr/>
              <p:nvPr/>
            </p:nvSpPr>
            <p:spPr>
              <a:xfrm rot="20818800">
                <a:off x="3436560" y="-567000"/>
                <a:ext cx="1186560" cy="2764440"/>
              </a:xfrm>
              <a:custGeom>
                <a:avLst/>
                <a:gdLst>
                  <a:gd name="textAreaLeft" fmla="*/ 0 w 1186560"/>
                  <a:gd name="textAreaRight" fmla="*/ 1186920 w 118656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1"/>
              <p:cNvSpPr/>
              <p:nvPr/>
            </p:nvSpPr>
            <p:spPr>
              <a:xfrm rot="20818800">
                <a:off x="4585320" y="1548720"/>
                <a:ext cx="299520" cy="5371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2"/>
              <p:cNvSpPr/>
              <p:nvPr/>
            </p:nvSpPr>
            <p:spPr>
              <a:xfrm rot="20818800">
                <a:off x="4795920" y="184428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63"/>
              <p:cNvGrpSpPr/>
              <p:nvPr/>
            </p:nvGrpSpPr>
            <p:grpSpPr>
              <a:xfrm>
                <a:off x="3132000" y="-637200"/>
                <a:ext cx="1630440" cy="3084480"/>
                <a:chOff x="3132000" y="-637200"/>
                <a:chExt cx="1630440" cy="3084480"/>
              </a:xfrm>
            </p:grpSpPr>
            <p:sp>
              <p:nvSpPr>
                <p:cNvPr id="197" name="Freeform 64"/>
                <p:cNvSpPr/>
                <p:nvPr/>
              </p:nvSpPr>
              <p:spPr>
                <a:xfrm rot="20818800">
                  <a:off x="3479040" y="-549720"/>
                  <a:ext cx="1036440" cy="2309760"/>
                </a:xfrm>
                <a:custGeom>
                  <a:avLst/>
                  <a:gdLst>
                    <a:gd name="textAreaLeft" fmla="*/ 0 w 1036440"/>
                    <a:gd name="textAreaRight" fmla="*/ 1036800 w 103644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65"/>
                <p:cNvGrpSpPr/>
                <p:nvPr/>
              </p:nvGrpSpPr>
              <p:grpSpPr>
                <a:xfrm>
                  <a:off x="3132000" y="-294120"/>
                  <a:ext cx="916920" cy="2741400"/>
                  <a:chOff x="3132000" y="-294120"/>
                  <a:chExt cx="916920" cy="2741400"/>
                </a:xfrm>
              </p:grpSpPr>
              <p:sp>
                <p:nvSpPr>
                  <p:cNvPr id="199" name="Freeform 66"/>
                  <p:cNvSpPr/>
                  <p:nvPr/>
                </p:nvSpPr>
                <p:spPr>
                  <a:xfrm rot="20818800">
                    <a:off x="3423240" y="-181800"/>
                    <a:ext cx="334080" cy="262512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Oval 67"/>
                  <p:cNvSpPr/>
                  <p:nvPr/>
                </p:nvSpPr>
                <p:spPr>
                  <a:xfrm rot="20818800">
                    <a:off x="3286080" y="-25344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01" name="Group 11"/>
          <p:cNvGrpSpPr/>
          <p:nvPr/>
        </p:nvGrpSpPr>
        <p:grpSpPr>
          <a:xfrm>
            <a:off x="282240" y="1077840"/>
            <a:ext cx="6793200" cy="2807280"/>
            <a:chOff x="282240" y="1077840"/>
            <a:chExt cx="6793200" cy="2807280"/>
          </a:xfrm>
        </p:grpSpPr>
        <p:grpSp>
          <p:nvGrpSpPr>
            <p:cNvPr id="202" name="Group 12"/>
            <p:cNvGrpSpPr/>
            <p:nvPr/>
          </p:nvGrpSpPr>
          <p:grpSpPr>
            <a:xfrm>
              <a:off x="3704400" y="2008080"/>
              <a:ext cx="3371040" cy="1877040"/>
              <a:chOff x="3704400" y="2008080"/>
              <a:chExt cx="3371040" cy="1877040"/>
            </a:xfrm>
          </p:grpSpPr>
          <p:sp>
            <p:nvSpPr>
              <p:cNvPr id="203" name="Freeform 13"/>
              <p:cNvSpPr/>
              <p:nvPr/>
            </p:nvSpPr>
            <p:spPr>
              <a:xfrm rot="4853400">
                <a:off x="4790160" y="1432080"/>
                <a:ext cx="1358640" cy="3035160"/>
              </a:xfrm>
              <a:custGeom>
                <a:avLst/>
                <a:gdLst>
                  <a:gd name="textAreaLeft" fmla="*/ 0 w 1358640"/>
                  <a:gd name="textAreaRight" fmla="*/ 1359000 w 1358640"/>
                  <a:gd name="textAreaTop" fmla="*/ 0 h 3035160"/>
                  <a:gd name="textAreaBottom" fmla="*/ 3035520 h 3035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rot="4853400">
                <a:off x="4151520" y="3374280"/>
                <a:ext cx="342720" cy="58968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589680"/>
                  <a:gd name="textAreaBottom" fmla="*/ 589680 h 58968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rot="4853400">
                <a:off x="4107960" y="3680640"/>
                <a:ext cx="131040" cy="22392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6"/>
              <p:cNvGrpSpPr/>
              <p:nvPr/>
            </p:nvGrpSpPr>
            <p:grpSpPr>
              <a:xfrm>
                <a:off x="3704400" y="2008080"/>
                <a:ext cx="3349080" cy="1715040"/>
                <a:chOff x="3704400" y="2008080"/>
                <a:chExt cx="3349080" cy="1715040"/>
              </a:xfrm>
            </p:grpSpPr>
            <p:sp>
              <p:nvSpPr>
                <p:cNvPr id="207" name="Freeform 17"/>
                <p:cNvSpPr/>
                <p:nvPr/>
              </p:nvSpPr>
              <p:spPr>
                <a:xfrm rot="4851000">
                  <a:off x="5109120" y="1662840"/>
                  <a:ext cx="1191240" cy="2540160"/>
                </a:xfrm>
                <a:custGeom>
                  <a:avLst/>
                  <a:gdLst>
                    <a:gd name="textAreaLeft" fmla="*/ 0 w 1191240"/>
                    <a:gd name="textAreaRight" fmla="*/ 1191240 w 1191240"/>
                    <a:gd name="textAreaTop" fmla="*/ 0 h 2540160"/>
                    <a:gd name="textAreaBottom" fmla="*/ 2540520 h 25401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16164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8"/>
                <p:cNvGrpSpPr/>
                <p:nvPr/>
              </p:nvGrpSpPr>
              <p:grpSpPr>
                <a:xfrm>
                  <a:off x="3704400" y="2008080"/>
                  <a:ext cx="3019320" cy="836280"/>
                  <a:chOff x="3704400" y="2008080"/>
                  <a:chExt cx="3019320" cy="836280"/>
                </a:xfrm>
              </p:grpSpPr>
              <p:sp>
                <p:nvSpPr>
                  <p:cNvPr id="209" name="Freeform 19"/>
                  <p:cNvSpPr/>
                  <p:nvPr/>
                </p:nvSpPr>
                <p:spPr>
                  <a:xfrm rot="4853400">
                    <a:off x="4966200" y="983880"/>
                    <a:ext cx="384840" cy="2884320"/>
                  </a:xfrm>
                  <a:custGeom>
                    <a:avLst/>
                    <a:gdLst>
                      <a:gd name="textAreaLeft" fmla="*/ 0 w 384840"/>
                      <a:gd name="textAreaRight" fmla="*/ 385200 w 384840"/>
                      <a:gd name="textAreaTop" fmla="*/ 0 h 2884320"/>
                      <a:gd name="textAreaBottom" fmla="*/ 2884680 h 28843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20"/>
                  <p:cNvSpPr/>
                  <p:nvPr/>
                </p:nvSpPr>
                <p:spPr>
                  <a:xfrm rot="4853400">
                    <a:off x="6248160" y="2197080"/>
                    <a:ext cx="461160" cy="4219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1" name="Group 21"/>
            <p:cNvGrpSpPr/>
            <p:nvPr/>
          </p:nvGrpSpPr>
          <p:grpSpPr>
            <a:xfrm>
              <a:off x="282240" y="1077840"/>
              <a:ext cx="3386160" cy="1915200"/>
              <a:chOff x="282240" y="1077840"/>
              <a:chExt cx="3386160" cy="1915200"/>
            </a:xfrm>
          </p:grpSpPr>
          <p:sp>
            <p:nvSpPr>
              <p:cNvPr id="212" name="Freeform 22"/>
              <p:cNvSpPr/>
              <p:nvPr/>
            </p:nvSpPr>
            <p:spPr>
              <a:xfrm rot="15595200">
                <a:off x="1215000" y="516960"/>
                <a:ext cx="1354320" cy="3030480"/>
              </a:xfrm>
              <a:custGeom>
                <a:avLst/>
                <a:gdLst>
                  <a:gd name="textAreaLeft" fmla="*/ 0 w 1354320"/>
                  <a:gd name="textAreaRight" fmla="*/ 1354680 w 135432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3"/>
              <p:cNvSpPr/>
              <p:nvPr/>
            </p:nvSpPr>
            <p:spPr>
              <a:xfrm rot="15595200">
                <a:off x="2854440" y="1002960"/>
                <a:ext cx="341640" cy="58896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4"/>
              <p:cNvSpPr/>
              <p:nvPr/>
            </p:nvSpPr>
            <p:spPr>
              <a:xfrm rot="15595200">
                <a:off x="3107880" y="1059480"/>
                <a:ext cx="130680" cy="2239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25"/>
              <p:cNvGrpSpPr/>
              <p:nvPr/>
            </p:nvGrpSpPr>
            <p:grpSpPr>
              <a:xfrm>
                <a:off x="311040" y="1251720"/>
                <a:ext cx="3357360" cy="1741320"/>
                <a:chOff x="311040" y="1251720"/>
                <a:chExt cx="3357360" cy="1741320"/>
              </a:xfrm>
            </p:grpSpPr>
            <p:sp>
              <p:nvSpPr>
                <p:cNvPr id="216" name="Freeform 26"/>
                <p:cNvSpPr/>
                <p:nvPr/>
              </p:nvSpPr>
              <p:spPr>
                <a:xfrm rot="15595200">
                  <a:off x="1069560" y="789120"/>
                  <a:ext cx="1182600" cy="2531880"/>
                </a:xfrm>
                <a:custGeom>
                  <a:avLst/>
                  <a:gdLst>
                    <a:gd name="textAreaLeft" fmla="*/ 0 w 1182600"/>
                    <a:gd name="textAreaRight" fmla="*/ 1182960 w 11826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27"/>
                <p:cNvGrpSpPr/>
                <p:nvPr/>
              </p:nvGrpSpPr>
              <p:grpSpPr>
                <a:xfrm>
                  <a:off x="658080" y="2113920"/>
                  <a:ext cx="3010320" cy="879120"/>
                  <a:chOff x="658080" y="2113920"/>
                  <a:chExt cx="3010320" cy="879120"/>
                </a:xfrm>
              </p:grpSpPr>
              <p:sp>
                <p:nvSpPr>
                  <p:cNvPr id="218" name="Freeform 28"/>
                  <p:cNvSpPr/>
                  <p:nvPr/>
                </p:nvSpPr>
                <p:spPr>
                  <a:xfrm rot="15595200">
                    <a:off x="2027520" y="1114560"/>
                    <a:ext cx="381240" cy="2877840"/>
                  </a:xfrm>
                  <a:custGeom>
                    <a:avLst/>
                    <a:gdLst>
                      <a:gd name="textAreaLeft" fmla="*/ 0 w 381240"/>
                      <a:gd name="textAreaRight" fmla="*/ 381600 w 38124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Oval 29"/>
                  <p:cNvSpPr/>
                  <p:nvPr/>
                </p:nvSpPr>
                <p:spPr>
                  <a:xfrm rot="15595200">
                    <a:off x="677160" y="238212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0" name="Group 11"/>
          <p:cNvGrpSpPr/>
          <p:nvPr/>
        </p:nvGrpSpPr>
        <p:grpSpPr>
          <a:xfrm>
            <a:off x="159480" y="1107720"/>
            <a:ext cx="7011360" cy="2614680"/>
            <a:chOff x="159480" y="1107720"/>
            <a:chExt cx="7011360" cy="2614680"/>
          </a:xfrm>
        </p:grpSpPr>
        <p:grpSp>
          <p:nvGrpSpPr>
            <p:cNvPr id="221" name="Group 12"/>
            <p:cNvGrpSpPr/>
            <p:nvPr/>
          </p:nvGrpSpPr>
          <p:grpSpPr>
            <a:xfrm>
              <a:off x="159480" y="1203840"/>
              <a:ext cx="3492000" cy="2518560"/>
              <a:chOff x="159480" y="1203840"/>
              <a:chExt cx="3492000" cy="2518560"/>
            </a:xfrm>
          </p:grpSpPr>
          <p:sp>
            <p:nvSpPr>
              <p:cNvPr id="222" name="Freeform 13"/>
              <p:cNvSpPr/>
              <p:nvPr/>
            </p:nvSpPr>
            <p:spPr>
              <a:xfrm rot="14700600">
                <a:off x="1143000" y="955440"/>
                <a:ext cx="1348920" cy="3030480"/>
              </a:xfrm>
              <a:custGeom>
                <a:avLst/>
                <a:gdLst>
                  <a:gd name="textAreaLeft" fmla="*/ 0 w 1348920"/>
                  <a:gd name="textAreaRight" fmla="*/ 1349280 w 134892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 rot="14700600">
                <a:off x="2522880" y="1196280"/>
                <a:ext cx="340560" cy="588960"/>
              </a:xfrm>
              <a:custGeom>
                <a:avLst/>
                <a:gdLst>
                  <a:gd name="textAreaLeft" fmla="*/ 0 w 340560"/>
                  <a:gd name="textAreaRight" fmla="*/ 340920 w 34056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 rot="14700600">
                <a:off x="2767320" y="119808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6"/>
              <p:cNvGrpSpPr/>
              <p:nvPr/>
            </p:nvGrpSpPr>
            <p:grpSpPr>
              <a:xfrm>
                <a:off x="205200" y="1486800"/>
                <a:ext cx="3446280" cy="2183760"/>
                <a:chOff x="205200" y="1486800"/>
                <a:chExt cx="3446280" cy="2183760"/>
              </a:xfrm>
            </p:grpSpPr>
            <p:sp>
              <p:nvSpPr>
                <p:cNvPr id="226" name="Freeform 17"/>
                <p:cNvSpPr/>
                <p:nvPr/>
              </p:nvSpPr>
              <p:spPr>
                <a:xfrm rot="14697000">
                  <a:off x="1012680" y="1288440"/>
                  <a:ext cx="1173240" cy="2530080"/>
                </a:xfrm>
                <a:custGeom>
                  <a:avLst/>
                  <a:gdLst>
                    <a:gd name="textAreaLeft" fmla="*/ 0 w 1173240"/>
                    <a:gd name="textAreaRight" fmla="*/ 1173600 w 1173240"/>
                    <a:gd name="textAreaTop" fmla="*/ 0 h 2530080"/>
                    <a:gd name="textAreaBottom" fmla="*/ 2530440 h 25300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16164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18"/>
                <p:cNvGrpSpPr/>
                <p:nvPr/>
              </p:nvGrpSpPr>
              <p:grpSpPr>
                <a:xfrm>
                  <a:off x="724320" y="2112840"/>
                  <a:ext cx="2927160" cy="1557720"/>
                  <a:chOff x="724320" y="2112840"/>
                  <a:chExt cx="2927160" cy="1557720"/>
                </a:xfrm>
              </p:grpSpPr>
              <p:sp>
                <p:nvSpPr>
                  <p:cNvPr id="228" name="Freeform 19"/>
                  <p:cNvSpPr/>
                  <p:nvPr/>
                </p:nvSpPr>
                <p:spPr>
                  <a:xfrm rot="14700600">
                    <a:off x="2079000" y="1453320"/>
                    <a:ext cx="378000" cy="2876400"/>
                  </a:xfrm>
                  <a:custGeom>
                    <a:avLst/>
                    <a:gdLst>
                      <a:gd name="textAreaLeft" fmla="*/ 0 w 378000"/>
                      <a:gd name="textAreaRight" fmla="*/ 378360 w 378000"/>
                      <a:gd name="textAreaTop" fmla="*/ 0 h 2876400"/>
                      <a:gd name="textAreaBottom" fmla="*/ 2876400 h 28764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20"/>
                  <p:cNvSpPr/>
                  <p:nvPr/>
                </p:nvSpPr>
                <p:spPr>
                  <a:xfrm rot="14700600">
                    <a:off x="784080" y="3058920"/>
                    <a:ext cx="453240" cy="4208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0" name="Group 21"/>
            <p:cNvGrpSpPr/>
            <p:nvPr/>
          </p:nvGrpSpPr>
          <p:grpSpPr>
            <a:xfrm>
              <a:off x="3680640" y="1107720"/>
              <a:ext cx="3490200" cy="2569680"/>
              <a:chOff x="3680640" y="1107720"/>
              <a:chExt cx="3490200" cy="2569680"/>
            </a:xfrm>
          </p:grpSpPr>
          <p:sp>
            <p:nvSpPr>
              <p:cNvPr id="231" name="Freeform 22"/>
              <p:cNvSpPr/>
              <p:nvPr/>
            </p:nvSpPr>
            <p:spPr>
              <a:xfrm rot="3841800">
                <a:off x="4836600" y="863640"/>
                <a:ext cx="1351800" cy="3030480"/>
              </a:xfrm>
              <a:custGeom>
                <a:avLst/>
                <a:gdLst>
                  <a:gd name="textAreaLeft" fmla="*/ 0 w 1351800"/>
                  <a:gd name="textAreaRight" fmla="*/ 1352160 w 135180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3"/>
              <p:cNvSpPr/>
              <p:nvPr/>
            </p:nvSpPr>
            <p:spPr>
              <a:xfrm rot="3841800">
                <a:off x="4453200" y="3100320"/>
                <a:ext cx="341280" cy="5889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4"/>
              <p:cNvSpPr/>
              <p:nvPr/>
            </p:nvSpPr>
            <p:spPr>
              <a:xfrm rot="3841800">
                <a:off x="4450680" y="344412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Group 25"/>
              <p:cNvGrpSpPr/>
              <p:nvPr/>
            </p:nvGrpSpPr>
            <p:grpSpPr>
              <a:xfrm>
                <a:off x="3680640" y="1166400"/>
                <a:ext cx="3445200" cy="2211840"/>
                <a:chOff x="3680640" y="1166400"/>
                <a:chExt cx="3445200" cy="2211840"/>
              </a:xfrm>
            </p:grpSpPr>
            <p:sp>
              <p:nvSpPr>
                <p:cNvPr id="235" name="Freeform 26"/>
                <p:cNvSpPr/>
                <p:nvPr/>
              </p:nvSpPr>
              <p:spPr>
                <a:xfrm rot="3841800">
                  <a:off x="5138640" y="1026720"/>
                  <a:ext cx="1180800" cy="253188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27"/>
                <p:cNvGrpSpPr/>
                <p:nvPr/>
              </p:nvGrpSpPr>
              <p:grpSpPr>
                <a:xfrm>
                  <a:off x="3680640" y="1166400"/>
                  <a:ext cx="2917800" cy="1602360"/>
                  <a:chOff x="3680640" y="1166400"/>
                  <a:chExt cx="2917800" cy="1602360"/>
                </a:xfrm>
              </p:grpSpPr>
              <p:sp>
                <p:nvSpPr>
                  <p:cNvPr id="237" name="Freeform 28"/>
                  <p:cNvSpPr/>
                  <p:nvPr/>
                </p:nvSpPr>
                <p:spPr>
                  <a:xfrm rot="3841800">
                    <a:off x="4867200" y="528480"/>
                    <a:ext cx="380520" cy="287784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Oval 29"/>
                  <p:cNvSpPr/>
                  <p:nvPr/>
                </p:nvSpPr>
                <p:spPr>
                  <a:xfrm rot="3841800">
                    <a:off x="6080760" y="1359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9" name="Овал 112"/>
          <p:cNvSpPr/>
          <p:nvPr/>
        </p:nvSpPr>
        <p:spPr>
          <a:xfrm>
            <a:off x="2598840" y="327168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13"/>
          <p:cNvSpPr/>
          <p:nvPr/>
        </p:nvSpPr>
        <p:spPr>
          <a:xfrm>
            <a:off x="2384280" y="1585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4"/>
          <p:cNvSpPr/>
          <p:nvPr/>
        </p:nvSpPr>
        <p:spPr>
          <a:xfrm>
            <a:off x="4572000" y="154476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15"/>
          <p:cNvSpPr/>
          <p:nvPr/>
        </p:nvSpPr>
        <p:spPr>
          <a:xfrm>
            <a:off x="4800600" y="3187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3962520" y="457200"/>
            <a:ext cx="5443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роение параллелогра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56"/>
          <p:cNvSpPr/>
          <p:nvPr/>
        </p:nvSpPr>
        <p:spPr>
          <a:xfrm flipH="1">
            <a:off x="3101760" y="2030400"/>
            <a:ext cx="21420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58"/>
          <p:cNvSpPr/>
          <p:nvPr/>
        </p:nvSpPr>
        <p:spPr>
          <a:xfrm flipH="1">
            <a:off x="4030560" y="264312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60"/>
          <p:cNvSpPr/>
          <p:nvPr/>
        </p:nvSpPr>
        <p:spPr>
          <a:xfrm>
            <a:off x="3000240" y="284328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1"/>
          <p:cNvSpPr/>
          <p:nvPr/>
        </p:nvSpPr>
        <p:spPr>
          <a:xfrm>
            <a:off x="4071960" y="192888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62"/>
          <p:cNvSpPr/>
          <p:nvPr/>
        </p:nvSpPr>
        <p:spPr>
          <a:xfrm>
            <a:off x="4000680" y="1973160"/>
            <a:ext cx="2854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63"/>
          <p:cNvSpPr/>
          <p:nvPr/>
        </p:nvSpPr>
        <p:spPr>
          <a:xfrm>
            <a:off x="3071880" y="278604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4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48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5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5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сотой параллелограмма называют перпендикуляр, опущенный из любой точки прямой, содержащей сторону параллелограмма, на прямую, содержащую противолежащ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араллелограмм 3"/>
          <p:cNvSpPr/>
          <p:nvPr/>
        </p:nvSpPr>
        <p:spPr>
          <a:xfrm>
            <a:off x="1447920" y="2438280"/>
            <a:ext cx="2743200" cy="1752840"/>
          </a:xfrm>
          <a:prstGeom prst="parallelogram">
            <a:avLst>
              <a:gd name="adj" fmla="val 24997"/>
            </a:avLst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9144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7"/>
          <p:cNvSpPr/>
          <p:nvPr/>
        </p:nvSpPr>
        <p:spPr>
          <a:xfrm>
            <a:off x="106668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42670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365760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"/>
          <p:cNvSpPr/>
          <p:nvPr/>
        </p:nvSpPr>
        <p:spPr>
          <a:xfrm>
            <a:off x="1905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175248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2"/>
          <p:cNvSpPr/>
          <p:nvPr/>
        </p:nvSpPr>
        <p:spPr>
          <a:xfrm>
            <a:off x="1447920" y="4191120"/>
            <a:ext cx="487656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4"/>
          <p:cNvSpPr/>
          <p:nvPr/>
        </p:nvSpPr>
        <p:spPr>
          <a:xfrm>
            <a:off x="4191120" y="2438280"/>
            <a:ext cx="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419112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 flipH="1" flipV="1">
            <a:off x="1599840" y="3504960"/>
            <a:ext cx="213372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7"/>
          <p:cNvSpPr/>
          <p:nvPr/>
        </p:nvSpPr>
        <p:spPr>
          <a:xfrm>
            <a:off x="14479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3"/>
          <p:cNvSpPr/>
          <p:nvPr/>
        </p:nvSpPr>
        <p:spPr>
          <a:xfrm>
            <a:off x="1905120" y="2514600"/>
            <a:ext cx="2133360" cy="6094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426708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4343400" y="46483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K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та к стор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28"/>
          <p:cNvSpPr/>
          <p:nvPr/>
        </p:nvSpPr>
        <p:spPr>
          <a:xfrm flipH="1">
            <a:off x="3276360" y="3962520"/>
            <a:ext cx="533160" cy="198108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0"/>
          <p:cNvSpPr/>
          <p:nvPr/>
        </p:nvSpPr>
        <p:spPr>
          <a:xfrm>
            <a:off x="1447920" y="4191120"/>
            <a:ext cx="2133360" cy="685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3657600" y="48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6-08-01T05:15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