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C1D-925F-4924-969C-37E49D1A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210-8508-46F3-A49C-1845DEE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AC7-69B0-4B75-A240-A7F0B8E7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081-EA84-45AB-AA95-367560AB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8AF-2467-461A-8A4C-50D5A0E8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164-97DF-48E5-BC9A-2E4760A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AD4-395D-4B45-B162-1C89883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153-9B39-4060-9C32-0683A6E8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59B-AB54-4CD4-B36E-2D29EF7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A18-6F65-4583-BAF0-19ABB3A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256-13EF-4AC3-9706-95ED660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7E3-5FFF-4687-B00F-3F2EDB1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53A-6E52-4078-ADA2-E090768B4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639720" y="-212760"/>
            <a:ext cx="8291520" cy="4156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8" descr="http://webznanie.net/wp-content/uploads/2010/10/enterprise_business.jpg"/>
          <p:cNvPicPr/>
          <p:nvPr/>
        </p:nvPicPr>
        <p:blipFill>
          <a:blip r:embed="rId3"/>
          <a:srcRect l="5882" t="7578" r="5882" b="16706"/>
          <a:stretch/>
        </p:blipFill>
        <p:spPr>
          <a:xfrm>
            <a:off x="539640" y="364500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755640" y="2781360"/>
            <a:ext cx="3384720" cy="2951280"/>
          </a:xfrm>
          <a:prstGeom prst="rect">
            <a:avLst/>
          </a:prstGeom>
          <a:solidFill>
            <a:srgbClr val="c0c0c0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должна содержать существенные условия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вал 4" descr=""/>
          <p:cNvPicPr/>
          <p:nvPr/>
        </p:nvPicPr>
        <p:blipFill>
          <a:blip r:embed="rId2"/>
          <a:stretch/>
        </p:blipFill>
        <p:spPr>
          <a:xfrm>
            <a:off x="1785960" y="298440"/>
            <a:ext cx="2255760" cy="1262160"/>
          </a:xfrm>
          <a:prstGeom prst="rect">
            <a:avLst/>
          </a:prstGeom>
          <a:ln w="0">
            <a:noFill/>
          </a:ln>
        </p:spPr>
      </p:pic>
      <p:pic>
        <p:nvPicPr>
          <p:cNvPr id="89" name="Овал 5" descr=""/>
          <p:cNvPicPr/>
          <p:nvPr/>
        </p:nvPicPr>
        <p:blipFill>
          <a:blip r:embed="rId3"/>
          <a:stretch/>
        </p:blipFill>
        <p:spPr>
          <a:xfrm>
            <a:off x="4956120" y="231840"/>
            <a:ext cx="2249640" cy="12556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5219640" y="2205000"/>
            <a:ext cx="3384720" cy="2016000"/>
          </a:xfrm>
          <a:prstGeom prst="rect">
            <a:avLst/>
          </a:prstGeom>
          <a:solidFill>
            <a:srgbClr val="c0c0c0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должен быть полным и безоговороч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Выгнутая влево стрелка 7"/>
          <p:cNvSpPr/>
          <p:nvPr/>
        </p:nvSpPr>
        <p:spPr>
          <a:xfrm rot="1072800">
            <a:off x="611280" y="652320"/>
            <a:ext cx="1301760" cy="2071800"/>
          </a:xfrm>
          <a:custGeom>
            <a:avLst/>
            <a:gdLst>
              <a:gd name="textAreaLeft" fmla="*/ 174240 w 1301760"/>
              <a:gd name="textAreaRight" fmla="*/ 1127520 w 1301760"/>
              <a:gd name="textAreaTop" fmla="*/ 395640 h 2071800"/>
              <a:gd name="textAreaBottom" fmla="*/ 151344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55" stAng="-5400000" swAng="-5400000"/>
                <a:lnTo>
                  <a:pt x="0" y="11649"/>
                </a:lnTo>
                <a:arcTo wR="21600" hR="8255" stAng="10800000" swAng="-3252505"/>
                <a:lnTo>
                  <a:pt x="15862" y="21303"/>
                </a:lnTo>
                <a:lnTo>
                  <a:pt x="21600" y="18207"/>
                </a:lnTo>
                <a:lnTo>
                  <a:pt x="15862" y="14517"/>
                </a:lnTo>
                <a:lnTo>
                  <a:pt x="15862" y="16213"/>
                </a:lnTo>
                <a:arcTo wR="21600" hR="8255" stAng="7547495" swAng="2977115"/>
                <a:lnTo>
                  <a:pt x="461" y="9952"/>
                </a:lnTo>
                <a:arcTo wR="21600" hR="8255" stAng="-10524610" swAng="5124610"/>
                <a:close/>
              </a:path>
              <a:path fill="darkenLess" w="21600" h="21600">
                <a:moveTo>
                  <a:pt x="21600" y="0"/>
                </a:moveTo>
                <a:arcTo wR="21600" hR="8255" stAng="-5400000" swAng="-5400000"/>
                <a:lnTo>
                  <a:pt x="0" y="8255"/>
                </a:lnTo>
                <a:arcTo wR="21600" hR="8255" stAng="10800000" swAng="-275390"/>
                <a:lnTo>
                  <a:pt x="461" y="9952"/>
                </a:lnTo>
                <a:arcTo wR="21600" hR="8255" stAng="-10524610" swAng="5124610"/>
                <a:close/>
              </a:path>
            </a:pathLst>
          </a:cu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Выгнутая вправо стрелка 8"/>
          <p:cNvSpPr/>
          <p:nvPr/>
        </p:nvSpPr>
        <p:spPr>
          <a:xfrm rot="20145600">
            <a:off x="7132680" y="612720"/>
            <a:ext cx="1217520" cy="1851120"/>
          </a:xfrm>
          <a:custGeom>
            <a:avLst/>
            <a:gdLst>
              <a:gd name="textAreaLeft" fmla="*/ 163080 w 1217520"/>
              <a:gd name="textAreaRight" fmla="*/ 1054440 w 1217520"/>
              <a:gd name="textAreaTop" fmla="*/ 348480 h 1851120"/>
              <a:gd name="textAreaBottom" fmla="*/ 1350360 h 18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36" stAng="-5400000" swAng="5400000"/>
                <a:lnTo>
                  <a:pt x="21600" y="11688"/>
                </a:lnTo>
                <a:arcTo wR="21600" hR="8136" stAng="0" swAng="3334200"/>
                <a:lnTo>
                  <a:pt x="5400" y="21342"/>
                </a:lnTo>
                <a:lnTo>
                  <a:pt x="0" y="18048"/>
                </a:lnTo>
                <a:lnTo>
                  <a:pt x="5400" y="14238"/>
                </a:lnTo>
                <a:lnTo>
                  <a:pt x="5400" y="16014"/>
                </a:lnTo>
                <a:arcTo wR="21600" hR="8136" stAng="3334200" swAng="-3045238"/>
                <a:lnTo>
                  <a:pt x="21079" y="9912"/>
                </a:lnTo>
                <a:arcTo wR="21600" hR="8136" stAng="-288962" swAng="-5111038"/>
                <a:close/>
              </a:path>
              <a:path fill="darkenLess" w="21600" h="21600">
                <a:moveTo>
                  <a:pt x="0" y="0"/>
                </a:moveTo>
                <a:arcTo wR="21600" hR="8136" stAng="-5400000" swAng="5400000"/>
                <a:lnTo>
                  <a:pt x="21600" y="11688"/>
                </a:lnTo>
                <a:arcTo wR="21600" hR="8136" stAng="0" swAng="-288962"/>
                <a:lnTo>
                  <a:pt x="21079" y="9912"/>
                </a:lnTo>
                <a:arcTo wR="21600" hR="8136" stAng="-288962" swAng="-5111038"/>
                <a:close/>
              </a:path>
            </a:pathLst>
          </a:custGeom>
          <a:solidFill>
            <a:srgbClr val="ffcc99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с двумя вырезанными противолежащими углами 2"/>
          <p:cNvSpPr/>
          <p:nvPr/>
        </p:nvSpPr>
        <p:spPr>
          <a:xfrm>
            <a:off x="324000" y="333360"/>
            <a:ext cx="3095640" cy="3311640"/>
          </a:xfrm>
          <a:prstGeom prst="pie">
            <a:avLst/>
          </a:prstGeom>
          <a:solidFill>
            <a:srgbClr val="ff0066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говор может быть заключен в любой фор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карточка 4"/>
          <p:cNvSpPr/>
          <p:nvPr/>
        </p:nvSpPr>
        <p:spPr>
          <a:xfrm>
            <a:off x="3995640" y="476280"/>
            <a:ext cx="4248360" cy="5761080"/>
          </a:xfrm>
          <a:prstGeom prst="flowChartPunchedCard">
            <a:avLst/>
          </a:prstGeom>
          <a:solidFill>
            <a:srgbClr val="ff99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составление одного документа, путем обмена документами посредством почтовой, телеграфной, телетайпной, телефонной, электронной или иной 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http://usimpex.ru/.files/usedcars/comission/comission3.jpg"/>
          <p:cNvPicPr/>
          <p:nvPr/>
        </p:nvPicPr>
        <p:blipFill>
          <a:blip r:embed="rId2"/>
          <a:stretch/>
        </p:blipFill>
        <p:spPr>
          <a:xfrm>
            <a:off x="146160" y="3213000"/>
            <a:ext cx="33890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8" name="Блок-схема: магнитный диск 3"/>
          <p:cNvSpPr/>
          <p:nvPr/>
        </p:nvSpPr>
        <p:spPr>
          <a:xfrm>
            <a:off x="5724360" y="333360"/>
            <a:ext cx="3095640" cy="3095640"/>
          </a:xfrm>
          <a:prstGeom prst="flowChartMagneticDisk">
            <a:avLst/>
          </a:prstGeom>
          <a:solidFill>
            <a:srgbClr val="008000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Место заключения догов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Блок-схема: данные 4"/>
          <p:cNvSpPr/>
          <p:nvPr/>
        </p:nvSpPr>
        <p:spPr>
          <a:xfrm>
            <a:off x="250920" y="1341360"/>
            <a:ext cx="5616360" cy="5148360"/>
          </a:xfrm>
          <a:prstGeom prst="flowChartInputOutput">
            <a:avLst/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  <a:ea typeface="Arial"/>
              </a:rPr>
              <a:t>договор признается заключенным в месте жительства гражданина или месте нахождения юридического лица, направившего офе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06" descr="http://www.retailexperts.ru/userfiles/images/salerise300web.jpg"/>
          <p:cNvPicPr/>
          <p:nvPr/>
        </p:nvPicPr>
        <p:blipFill>
          <a:blip r:embed="rId2"/>
          <a:stretch/>
        </p:blipFill>
        <p:spPr>
          <a:xfrm>
            <a:off x="250920" y="404640"/>
            <a:ext cx="4146480" cy="3240360"/>
          </a:xfrm>
          <a:prstGeom prst="rect">
            <a:avLst/>
          </a:prstGeom>
          <a:ln w="0">
            <a:noFill/>
          </a:ln>
        </p:spPr>
      </p:pic>
      <p:sp>
        <p:nvSpPr>
          <p:cNvPr id="102" name="Трапеция 3"/>
          <p:cNvSpPr/>
          <p:nvPr/>
        </p:nvSpPr>
        <p:spPr>
          <a:xfrm>
            <a:off x="179280" y="3789360"/>
            <a:ext cx="6300720" cy="2303640"/>
          </a:xfrm>
          <a:prstGeom prst="pie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возможны по соглашению сторон, если иное не предусмотрено ГК РФ, другими законами или догов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4356000" y="260280"/>
            <a:ext cx="4464000" cy="2376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Изменение и расторжение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нутый угол 2"/>
          <p:cNvSpPr/>
          <p:nvPr/>
        </p:nvSpPr>
        <p:spPr>
          <a:xfrm>
            <a:off x="250920" y="4797360"/>
            <a:ext cx="3529080" cy="1656000"/>
          </a:xfrm>
          <a:prstGeom prst="foldedCorner">
            <a:avLst>
              <a:gd name="adj" fmla="val 16666"/>
            </a:avLst>
          </a:prstGeom>
          <a:solidFill>
            <a:srgbClr val="ff99ff"/>
          </a:solidFill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обязательства сторон сохраняются в изменен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Загнутый угол 3"/>
          <p:cNvSpPr/>
          <p:nvPr/>
        </p:nvSpPr>
        <p:spPr>
          <a:xfrm>
            <a:off x="5867280" y="3357720"/>
            <a:ext cx="2952720" cy="1511280"/>
          </a:xfrm>
          <a:prstGeom prst="foldedCorner">
            <a:avLst>
              <a:gd name="adj" fmla="val 16666"/>
            </a:avLst>
          </a:prstGeom>
          <a:solidFill>
            <a:srgbClr val="66cc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бязательства сторон прекраща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Багетная рамка 4"/>
          <p:cNvSpPr/>
          <p:nvPr/>
        </p:nvSpPr>
        <p:spPr>
          <a:xfrm>
            <a:off x="324000" y="333360"/>
            <a:ext cx="3600360" cy="1727280"/>
          </a:xfrm>
          <a:prstGeom prst="bevel">
            <a:avLst>
              <a:gd name="adj" fmla="val 12500"/>
            </a:avLst>
          </a:prstGeom>
          <a:solidFill>
            <a:srgbClr val="660033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изменении до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Багетная рамка 5"/>
          <p:cNvSpPr/>
          <p:nvPr/>
        </p:nvSpPr>
        <p:spPr>
          <a:xfrm>
            <a:off x="5292720" y="333360"/>
            <a:ext cx="3527280" cy="172728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расторжении дого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6"/>
          <p:cNvSpPr/>
          <p:nvPr/>
        </p:nvSpPr>
        <p:spPr>
          <a:xfrm>
            <a:off x="1476360" y="2133720"/>
            <a:ext cx="574560" cy="24476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660033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низ 7"/>
          <p:cNvSpPr/>
          <p:nvPr/>
        </p:nvSpPr>
        <p:spPr>
          <a:xfrm>
            <a:off x="6732720" y="2133720"/>
            <a:ext cx="503280" cy="11509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0066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24" descr="http://www.gk-nbt.ru/yurist/yurist-7.jpg"/>
          <p:cNvPicPr/>
          <p:nvPr/>
        </p:nvPicPr>
        <p:blipFill>
          <a:blip r:embed="rId2"/>
          <a:stretch/>
        </p:blipFill>
        <p:spPr>
          <a:xfrm>
            <a:off x="2195640" y="2247840"/>
            <a:ext cx="3456000" cy="2405160"/>
          </a:xfrm>
          <a:prstGeom prst="rect">
            <a:avLst/>
          </a:prstGeom>
          <a:ln w="507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2"/>
          <p:cNvSpPr/>
          <p:nvPr/>
        </p:nvSpPr>
        <p:spPr>
          <a:xfrm>
            <a:off x="1258920" y="476280"/>
            <a:ext cx="6697800" cy="3024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Нормативный документ, регулирующий договорные отно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073160" y="3024360"/>
            <a:ext cx="2889360" cy="3181320"/>
          </a:xfrm>
          <a:prstGeom prst="rect">
            <a:avLst/>
          </a:prstGeom>
          <a:ln w="0">
            <a:noFill/>
          </a:ln>
        </p:spPr>
      </p:pic>
      <p:pic>
        <p:nvPicPr>
          <p:cNvPr id="47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3943440" y="3736800"/>
            <a:ext cx="304776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2"/>
          <p:cNvSpPr/>
          <p:nvPr/>
        </p:nvSpPr>
        <p:spPr>
          <a:xfrm>
            <a:off x="539640" y="260280"/>
            <a:ext cx="3745080" cy="1368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933c"/>
                </a:solidFill>
                <a:latin typeface="Arial"/>
                <a:ea typeface="Arial"/>
              </a:rPr>
              <a:t>Догово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1042920" y="2276640"/>
            <a:ext cx="7129440" cy="2714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соглашение двух или нескольких лиц об установлении, изменении или прекращении гражданских прав и обяза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Выгнутая вправо стрелка 10"/>
          <p:cNvSpPr/>
          <p:nvPr/>
        </p:nvSpPr>
        <p:spPr>
          <a:xfrm rot="19578000">
            <a:off x="4908240" y="139320"/>
            <a:ext cx="1306440" cy="2649600"/>
          </a:xfrm>
          <a:custGeom>
            <a:avLst/>
            <a:gdLst>
              <a:gd name="textAreaLeft" fmla="*/ 174960 w 1306440"/>
              <a:gd name="textAreaRight" fmla="*/ 1131480 w 1306440"/>
              <a:gd name="textAreaTop" fmla="*/ 470520 h 2649600"/>
              <a:gd name="textAreaBottom" fmla="*/ 1963440 h 26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72" stAng="-5400000" swAng="5400000"/>
                <a:lnTo>
                  <a:pt x="21600" y="12169"/>
                </a:lnTo>
                <a:arcTo wR="21600" hR="7672" stAng="0" swAng="3238996"/>
                <a:lnTo>
                  <a:pt x="5400" y="21356"/>
                </a:lnTo>
                <a:lnTo>
                  <a:pt x="0" y="17592"/>
                </a:lnTo>
                <a:lnTo>
                  <a:pt x="5400" y="13339"/>
                </a:lnTo>
                <a:lnTo>
                  <a:pt x="5400" y="15099"/>
                </a:lnTo>
                <a:arcTo wR="21600" hR="7672" stAng="3238996" swAng="-2866166"/>
                <a:lnTo>
                  <a:pt x="20651" y="9920"/>
                </a:lnTo>
                <a:arcTo wR="21600" hR="7672" stAng="-372830" swAng="-5027170"/>
                <a:close/>
              </a:path>
              <a:path fill="darkenLess" w="21600" h="21600">
                <a:moveTo>
                  <a:pt x="0" y="0"/>
                </a:moveTo>
                <a:arcTo wR="21600" hR="7672" stAng="-5400000" swAng="5400000"/>
                <a:lnTo>
                  <a:pt x="21600" y="12169"/>
                </a:lnTo>
                <a:arcTo wR="21600" hR="7672" stAng="0" swAng="-372830"/>
                <a:lnTo>
                  <a:pt x="20651" y="9920"/>
                </a:lnTo>
                <a:arcTo wR="21600" hR="7672" stAng="-372830" swAng="-5027170"/>
                <a:close/>
              </a:path>
            </a:pathLst>
          </a:custGeom>
          <a:solidFill>
            <a:srgbClr val="006600"/>
          </a:solidFill>
          <a:ln w="7632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Блок-схема: альтернативный процесс 2"/>
          <p:cNvSpPr/>
          <p:nvPr/>
        </p:nvSpPr>
        <p:spPr>
          <a:xfrm>
            <a:off x="1258920" y="189000"/>
            <a:ext cx="6337440" cy="129528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Arial"/>
                <a:ea typeface="Arial"/>
              </a:rPr>
              <a:t>Участники договор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Блок-схема: альтернативный процесс 3"/>
          <p:cNvSpPr/>
          <p:nvPr/>
        </p:nvSpPr>
        <p:spPr>
          <a:xfrm>
            <a:off x="539640" y="1773360"/>
            <a:ext cx="2808360" cy="1150920"/>
          </a:xfrm>
          <a:prstGeom prst="flowChartAlternateProcess">
            <a:avLst/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Физические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Блок-схема: альтернативный процесс 4"/>
          <p:cNvSpPr/>
          <p:nvPr/>
        </p:nvSpPr>
        <p:spPr>
          <a:xfrm>
            <a:off x="5003640" y="1844640"/>
            <a:ext cx="3097440" cy="1152720"/>
          </a:xfrm>
          <a:prstGeom prst="flowChartAlternateProcess">
            <a:avLst/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Юридические ли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Шестиугольник 5" descr=""/>
          <p:cNvPicPr/>
          <p:nvPr/>
        </p:nvPicPr>
        <p:blipFill>
          <a:blip r:embed="rId2"/>
          <a:stretch/>
        </p:blipFill>
        <p:spPr>
          <a:xfrm>
            <a:off x="920880" y="3382920"/>
            <a:ext cx="5211720" cy="2573280"/>
          </a:xfrm>
          <a:prstGeom prst="rect">
            <a:avLst/>
          </a:prstGeom>
          <a:ln w="0">
            <a:noFill/>
          </a:ln>
        </p:spPr>
      </p:pic>
      <p:cxnSp>
        <p:nvCxnSpPr>
          <p:cNvPr id="57" name="Прямая со стрелкой 7"/>
          <p:cNvCxnSpPr/>
          <p:nvPr/>
        </p:nvCxnSpPr>
        <p:spPr>
          <a:xfrm flipH="1">
            <a:off x="3347640" y="1483920"/>
            <a:ext cx="720000" cy="577080"/>
          </a:xfrm>
          <a:prstGeom prst="straightConnector1">
            <a:avLst/>
          </a:prstGeom>
          <a:ln w="63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4284360" y="1484280"/>
            <a:ext cx="648360" cy="650160"/>
          </a:xfrm>
          <a:prstGeom prst="straightConnector1">
            <a:avLst/>
          </a:prstGeom>
          <a:ln w="6336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4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0" name="Блок-схема: внутренняя память 2"/>
          <p:cNvSpPr/>
          <p:nvPr/>
        </p:nvSpPr>
        <p:spPr>
          <a:xfrm>
            <a:off x="3419640" y="333360"/>
            <a:ext cx="5545080" cy="2556000"/>
          </a:xfrm>
          <a:prstGeom prst="flowChartInternalStorage">
            <a:avLst/>
          </a:prstGeom>
          <a:solidFill>
            <a:srgbClr val="ffcccc"/>
          </a:solidFill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Условия договора определяются по усмотрению стор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9" descr="http://foto-dnevnik.ru/wp-content/uploads/2012/03/79-6.jpg"/>
          <p:cNvPicPr/>
          <p:nvPr/>
        </p:nvPicPr>
        <p:blipFill>
          <a:blip r:embed="rId2"/>
          <a:stretch/>
        </p:blipFill>
        <p:spPr>
          <a:xfrm>
            <a:off x="365040" y="285840"/>
            <a:ext cx="2859120" cy="2970000"/>
          </a:xfrm>
          <a:prstGeom prst="rect">
            <a:avLst/>
          </a:prstGeom>
          <a:ln w="0">
            <a:noFill/>
          </a:ln>
        </p:spPr>
      </p:pic>
      <p:sp>
        <p:nvSpPr>
          <p:cNvPr id="62" name="Блок-схема: альтернативный процесс 5"/>
          <p:cNvSpPr/>
          <p:nvPr/>
        </p:nvSpPr>
        <p:spPr>
          <a:xfrm>
            <a:off x="539640" y="3716280"/>
            <a:ext cx="4176720" cy="2737080"/>
          </a:xfrm>
          <a:prstGeom prst="flowChartAlternateProcess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Договор должен соответствовать обязательным для сторон правилам, установленным законом и иными правовыми акт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084720" y="3357720"/>
            <a:ext cx="1800360" cy="1942920"/>
          </a:xfrm>
          <a:prstGeom prst="rect">
            <a:avLst/>
          </a:prstGeom>
          <a:solidFill>
            <a:srgbClr val="c00000"/>
          </a:solidFill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7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3059280" y="404640"/>
            <a:ext cx="2736720" cy="1368720"/>
          </a:xfrm>
          <a:prstGeom prst="rect">
            <a:avLst/>
          </a:prstGeom>
          <a:solidFill>
            <a:srgbClr val="002060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788000" y="2565360"/>
            <a:ext cx="3600360" cy="1368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безвозмезд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755640" y="1989000"/>
            <a:ext cx="3529080" cy="1368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озмезд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Без имени-3.png"/>
          <p:cNvPicPr/>
          <p:nvPr/>
        </p:nvPicPr>
        <p:blipFill>
          <a:blip r:embed="rId2"/>
          <a:stretch/>
        </p:blipFill>
        <p:spPr>
          <a:xfrm>
            <a:off x="468360" y="3500280"/>
            <a:ext cx="3741840" cy="2718000"/>
          </a:xfrm>
          <a:prstGeom prst="rect">
            <a:avLst/>
          </a:prstGeom>
          <a:ln w="0">
            <a:noFill/>
          </a:ln>
        </p:spPr>
      </p:pic>
      <p:sp>
        <p:nvSpPr>
          <p:cNvPr id="69" name="Выгнутая вправо стрелка 6"/>
          <p:cNvSpPr/>
          <p:nvPr/>
        </p:nvSpPr>
        <p:spPr>
          <a:xfrm rot="20553600">
            <a:off x="5866920" y="13410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Выгнутая влево стрелка 8"/>
          <p:cNvSpPr/>
          <p:nvPr/>
        </p:nvSpPr>
        <p:spPr>
          <a:xfrm rot="1474200">
            <a:off x="1982520" y="933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3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2" name="Блок-схема: документ 2"/>
          <p:cNvSpPr/>
          <p:nvPr/>
        </p:nvSpPr>
        <p:spPr>
          <a:xfrm>
            <a:off x="1042920" y="404640"/>
            <a:ext cx="7705800" cy="2880000"/>
          </a:xfrm>
          <a:prstGeom prst="flowChartDocument">
            <a:avLst/>
          </a:prstGeom>
          <a:solidFill>
            <a:srgbClr val="cc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Договор вступает в силу и становится обязательным для сторон с момента его заклю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45" descr="http://www.adhard.ru/datas/users/1-istock_000004637317xsmall-1.jpg"/>
          <p:cNvPicPr/>
          <p:nvPr/>
        </p:nvPicPr>
        <p:blipFill>
          <a:blip r:embed="rId2"/>
          <a:stretch/>
        </p:blipFill>
        <p:spPr>
          <a:xfrm>
            <a:off x="395280" y="3429000"/>
            <a:ext cx="43480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5" name="Блок-схема: подготовка 1"/>
          <p:cNvSpPr/>
          <p:nvPr/>
        </p:nvSpPr>
        <p:spPr>
          <a:xfrm>
            <a:off x="468360" y="2852640"/>
            <a:ext cx="6696000" cy="3708360"/>
          </a:xfrm>
          <a:prstGeom prst="flowChartPreparation">
            <a:avLst/>
          </a:prstGeom>
          <a:solidFill>
            <a:srgbClr val="ffff99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Договор считается заключенным, если между сторонами, в требуемой в подлежащих случаях форме, достигнуто соглашение по всем существенным условиям догов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Блок-схема: решение 3" descr=""/>
          <p:cNvPicPr/>
          <p:nvPr/>
        </p:nvPicPr>
        <p:blipFill>
          <a:blip r:embed="rId2"/>
          <a:stretch/>
        </p:blipFill>
        <p:spPr>
          <a:xfrm>
            <a:off x="3645000" y="-347760"/>
            <a:ext cx="5230800" cy="371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partner"/>
          <p:cNvPicPr/>
          <p:nvPr/>
        </p:nvPicPr>
        <p:blipFill>
          <a:blip r:embed="rId3"/>
          <a:stretch/>
        </p:blipFill>
        <p:spPr>
          <a:xfrm>
            <a:off x="622440" y="139680"/>
            <a:ext cx="31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9" name="Выноска со стрелкой вниз 2"/>
          <p:cNvSpPr/>
          <p:nvPr/>
        </p:nvSpPr>
        <p:spPr>
          <a:xfrm>
            <a:off x="468360" y="260280"/>
            <a:ext cx="8136000" cy="2737080"/>
          </a:xfrm>
          <a:prstGeom prst="downArrowCallout">
            <a:avLst>
              <a:gd name="adj1" fmla="val -5824"/>
              <a:gd name="adj2" fmla="val 17629"/>
              <a:gd name="adj3" fmla="val 25000"/>
              <a:gd name="adj4" fmla="val 64977"/>
            </a:avLst>
          </a:prstGeom>
          <a:solidFill>
            <a:srgbClr val="cc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Договор заключается посредством направления оферты одной из сторон и ее акцепта  другой сторо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4365720"/>
            <a:ext cx="4608360" cy="2232000"/>
          </a:xfrm>
          <a:prstGeom prst="rect">
            <a:avLst/>
          </a:prstGeom>
          <a:solidFill>
            <a:srgbClr val="ff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Предложение, адресованное одному или нескольким конкретным лицам, которое  выражает намерение лица заключить догово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вал 5" descr=""/>
          <p:cNvPicPr/>
          <p:nvPr/>
        </p:nvPicPr>
        <p:blipFill>
          <a:blip r:embed="rId2"/>
          <a:stretch/>
        </p:blipFill>
        <p:spPr>
          <a:xfrm>
            <a:off x="1279440" y="2176560"/>
            <a:ext cx="22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2" name="Овал 6" descr=""/>
          <p:cNvPicPr/>
          <p:nvPr/>
        </p:nvPicPr>
        <p:blipFill>
          <a:blip r:embed="rId3"/>
          <a:stretch/>
        </p:blipFill>
        <p:spPr>
          <a:xfrm>
            <a:off x="5815080" y="1957320"/>
            <a:ext cx="2255760" cy="1262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5219640" y="3860640"/>
            <a:ext cx="3529080" cy="129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твет лица, которому адресована оферта, о ее принят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войная стрелка вверх/вниз 8"/>
          <p:cNvSpPr/>
          <p:nvPr/>
        </p:nvSpPr>
        <p:spPr>
          <a:xfrm>
            <a:off x="2700360" y="3068640"/>
            <a:ext cx="484200" cy="121608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cc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Двойная стрелка вверх/вниз 9"/>
          <p:cNvSpPr/>
          <p:nvPr/>
        </p:nvSpPr>
        <p:spPr>
          <a:xfrm>
            <a:off x="6156360" y="2924280"/>
            <a:ext cx="431640" cy="93636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cc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3:49:55Z</dcterms:created>
  <dc:creator>Lenovo</dc:creator>
  <dc:description/>
  <dc:language>en-US</dc:language>
  <cp:lastModifiedBy>Lenovo</cp:lastModifiedBy>
  <dcterms:modified xsi:type="dcterms:W3CDTF">2016-09-22T13:50:21Z</dcterms:modified>
  <cp:revision>1</cp:revision>
  <dc:subject/>
  <dc:title>Понятие и условия договора  </dc:title>
</cp:coreProperties>
</file>