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7CC-C836-4527-B377-0D70C690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8C8-66DB-4BE1-A36A-01B7EF90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E7B-921F-412E-84B5-752281BC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812-B438-4B4B-8E52-F19FF1C0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4CD3-FE82-4867-8932-344D21EF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5A58-F547-4DE2-AC8A-E57311C0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A9D1-2623-4C8A-8190-D42BE727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B2FD-AA56-4BAA-ACC7-B73EC9BB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3395-CB34-4131-A8BD-3A2E72C2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9D05-3284-4330-9D77-926989AA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6F82-CDBE-48CE-85D4-5834B08A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5B8-8E78-4B17-9DE7-B907C3FA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F7D5-58C3-49F5-B8DE-F28C9C86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55BB-6D54-443D-B6C2-9CD3C5A5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5620-4017-4E4A-88A0-BD6E8F84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F80C-0849-4AFA-B822-A4644BE5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1A33-5D54-4ED5-8BB9-A8D4172C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6EA-75A8-487F-8FB9-81F93251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652-959A-44E6-9765-61E8D5C0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EE7-7248-420B-954F-5BE9784A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055-0E26-4D5B-8ADC-89F5838D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AD0-D859-4857-B7C4-E26CEFE1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F6A-E4DA-4E21-9750-11079B06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1287-4249-4CEC-9FE4-E721B717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0000"/>
            </a:gs>
            <a:gs pos="100000">
              <a:srgbClr val="ffb8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41E6-3800-405E-B9E3-0E896BD1770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0000"/>
            </a:gs>
            <a:gs pos="100000">
              <a:srgbClr val="ffb8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E333-A72C-457A-83C7-D10B77AA0B1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99"/>
                </a:solidFill>
                <a:latin typeface="Garamond"/>
              </a:rPr>
              <a:t>Предметно-развивающая среда </a:t>
            </a:r>
            <a:br>
              <a:rPr sz="4500"/>
            </a:br>
            <a:r>
              <a:rPr b="1" lang="ru-RU" sz="4500" spc="-1" strike="noStrike">
                <a:solidFill>
                  <a:srgbClr val="ffff99"/>
                </a:solidFill>
                <a:latin typeface="Garamond"/>
              </a:rPr>
              <a:t>в физкультурном зале</a:t>
            </a:r>
            <a:br>
              <a:rPr sz="4500"/>
            </a:br>
            <a:br>
              <a:rPr sz="4500"/>
            </a:br>
            <a:r>
              <a:rPr b="1" lang="ru-RU" sz="2500" spc="-1" strike="noStrike">
                <a:solidFill>
                  <a:srgbClr val="ffff99"/>
                </a:solidFill>
                <a:latin typeface="Garamond"/>
              </a:rPr>
              <a:t>Крайнова Наталья Юрьевна</a:t>
            </a:r>
            <a:br>
              <a:rPr sz="2500"/>
            </a:br>
            <a:r>
              <a:rPr b="1" lang="ru-RU" sz="2500" spc="-1" strike="noStrike">
                <a:solidFill>
                  <a:srgbClr val="ffff99"/>
                </a:solidFill>
                <a:latin typeface="Garamond"/>
              </a:rPr>
              <a:t>- инструктор по физической культуре</a:t>
            </a:r>
            <a:br>
              <a:rPr sz="4500"/>
            </a:b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 advTm="1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99"/>
                </a:solidFill>
                <a:latin typeface="Garamond"/>
              </a:rPr>
              <a:t>Цели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4470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спитание здорового ребенка совместными усилиями детского сада и семь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витие физических качеств каждого ребенка и воспитание созидательного отношения к своему здоровь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витие индивидуальных возможностей и способностей  дете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Garamond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рмирование у детей целостного понимания здорового образа жизн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влечение родителей в физкультурно-оздоровительную работ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предметно-развивающей среды как в физ. зале , так и в групп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06"/>
          <p:cNvPicPr/>
          <p:nvPr/>
        </p:nvPicPr>
        <p:blipFill>
          <a:blip r:embed="rId1"/>
          <a:stretch/>
        </p:blipFill>
        <p:spPr>
          <a:xfrm>
            <a:off x="1258920" y="189000"/>
            <a:ext cx="6192720" cy="316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06"/>
          <p:cNvPicPr/>
          <p:nvPr/>
        </p:nvPicPr>
        <p:blipFill>
          <a:blip r:embed="rId2"/>
          <a:stretch/>
        </p:blipFill>
        <p:spPr>
          <a:xfrm>
            <a:off x="4067280" y="3525840"/>
            <a:ext cx="4860720" cy="3147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06"/>
          <p:cNvPicPr/>
          <p:nvPr/>
        </p:nvPicPr>
        <p:blipFill>
          <a:blip r:embed="rId3"/>
          <a:stretch/>
        </p:blipFill>
        <p:spPr>
          <a:xfrm>
            <a:off x="179280" y="3500280"/>
            <a:ext cx="3529080" cy="3152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SAM_1697"/>
          <p:cNvPicPr/>
          <p:nvPr/>
        </p:nvPicPr>
        <p:blipFill>
          <a:blip r:embed="rId1"/>
          <a:stretch/>
        </p:blipFill>
        <p:spPr>
          <a:xfrm>
            <a:off x="270000" y="20484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776760" cy="3213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304920" y="3754440"/>
            <a:ext cx="4572000" cy="2889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24000" y="260280"/>
            <a:ext cx="4032000" cy="3036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4032000" cy="3040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643280" y="3500280"/>
            <a:ext cx="4178520" cy="3083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4"/>
          <a:stretch/>
        </p:blipFill>
        <p:spPr>
          <a:xfrm>
            <a:off x="4572000" y="260280"/>
            <a:ext cx="4248000" cy="2957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SAM_1702"/>
          <p:cNvPicPr/>
          <p:nvPr/>
        </p:nvPicPr>
        <p:blipFill>
          <a:blip r:embed="rId1"/>
          <a:stretch/>
        </p:blipFill>
        <p:spPr>
          <a:xfrm>
            <a:off x="250920" y="14760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643280" y="147600"/>
            <a:ext cx="4249800" cy="3187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163440" y="3645000"/>
            <a:ext cx="4014720" cy="301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4344840" y="3751200"/>
            <a:ext cx="4572000" cy="2797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18:04Z</dcterms:created>
  <dc:creator>User</dc:creator>
  <dc:description/>
  <dc:language>en-US</dc:language>
  <cp:lastModifiedBy>Admin</cp:lastModifiedBy>
  <dcterms:modified xsi:type="dcterms:W3CDTF">2016-09-22T07:00:50Z</dcterms:modified>
  <cp:revision>7</cp:revision>
  <dc:subject/>
  <dc:title>Слайд 1</dc:title>
</cp:coreProperties>
</file>