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2975-04EC-4CD5-BFA9-56317EF7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174A-82A6-441E-A83A-0FE9B714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575-8490-44EE-B32A-14275F6B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FF8B-4805-4632-BAA3-8351A639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DDE1-CACE-44C2-AC68-21CE8DED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ACD8-78FA-469D-8AF6-03E08CE5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1BDF-3E04-4688-A96B-7023EA11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4B68-2D90-4B3A-95D7-2428E91E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9B76-9741-46A2-92EA-D3A0037A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C51B-96CC-4498-B680-C307671D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9C55-FA67-4994-9DE5-1C017309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E4F-ED80-470E-A622-F94AC1BB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D8EE-DEBE-4D61-8591-3B3A51B1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311E-93BE-4A7B-9747-71C7A4AB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9AB7-8E8F-4675-9792-13FE8783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3BD4-9725-4400-BF9B-0A15E241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A906-C4E9-4A69-B3A2-6B9C7ACE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A2B-9A12-4F4B-BEEC-8AEA5BE7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2EC-0F25-4695-A942-69667AB1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EDD-9C81-4546-B091-CA5231EE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A1A0-E407-4EC9-A20F-F06B0C9D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CB16-9ACD-4651-B0B9-742C47A1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652-E906-4524-BF29-90D31DD9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1B1-B0DF-4558-9653-5937DA2F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0000"/>
            </a:gs>
            <a:gs pos="100000">
              <a:srgbClr val="ffb84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475E-4E62-4169-9A00-11CA3FC3643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0000"/>
            </a:gs>
            <a:gs pos="100000">
              <a:srgbClr val="ffb84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E819-BCEA-4318-98FA-E0661F31F8C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99"/>
                </a:solidFill>
                <a:latin typeface="Garamond"/>
              </a:rPr>
              <a:t>Предметно-развивающая среда </a:t>
            </a:r>
            <a:br>
              <a:rPr sz="4500"/>
            </a:br>
            <a:r>
              <a:rPr b="1" lang="ru-RU" sz="4500" spc="-1" strike="noStrike">
                <a:solidFill>
                  <a:srgbClr val="ffff99"/>
                </a:solidFill>
                <a:latin typeface="Garamond"/>
              </a:rPr>
              <a:t>в физкультурном зале</a:t>
            </a:r>
            <a:br>
              <a:rPr sz="4500"/>
            </a:br>
            <a:br>
              <a:rPr sz="4500"/>
            </a:br>
            <a:r>
              <a:rPr b="1" lang="ru-RU" sz="2500" spc="-1" strike="noStrike">
                <a:solidFill>
                  <a:srgbClr val="ffff99"/>
                </a:solidFill>
                <a:latin typeface="Garamond"/>
              </a:rPr>
              <a:t>Крайнова Наталья Юрьевна</a:t>
            </a:r>
            <a:br>
              <a:rPr sz="2500"/>
            </a:br>
            <a:r>
              <a:rPr b="1" lang="ru-RU" sz="2500" spc="-1" strike="noStrike">
                <a:solidFill>
                  <a:srgbClr val="ffff99"/>
                </a:solidFill>
                <a:latin typeface="Garamond"/>
              </a:rPr>
              <a:t>- инструктор по физической культуре</a:t>
            </a:r>
            <a:br>
              <a:rPr sz="4500"/>
            </a:b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 advTm="1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99"/>
                </a:solidFill>
                <a:latin typeface="Garamond"/>
              </a:rPr>
              <a:t>Цели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44704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спитание здорового ребенка совместными усилиями детского сада и семь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витие физических качеств каждого ребенка и воспитание созидательного отношения к своему здоровью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витие индивидуальных возможностей и способностей  дете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Garamond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ормирование у детей целостного понимания здорового образа жизн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влечение родителей в физкультурно-оздоровительную работ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ние предметно-развивающей среды как в физ. зале , так и в группа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1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06"/>
          <p:cNvPicPr/>
          <p:nvPr/>
        </p:nvPicPr>
        <p:blipFill>
          <a:blip r:embed="rId1"/>
          <a:stretch/>
        </p:blipFill>
        <p:spPr>
          <a:xfrm>
            <a:off x="1258920" y="189000"/>
            <a:ext cx="6192720" cy="316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06"/>
          <p:cNvPicPr/>
          <p:nvPr/>
        </p:nvPicPr>
        <p:blipFill>
          <a:blip r:embed="rId2"/>
          <a:stretch/>
        </p:blipFill>
        <p:spPr>
          <a:xfrm>
            <a:off x="4067280" y="3525840"/>
            <a:ext cx="4860720" cy="3147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06"/>
          <p:cNvPicPr/>
          <p:nvPr/>
        </p:nvPicPr>
        <p:blipFill>
          <a:blip r:embed="rId3"/>
          <a:stretch/>
        </p:blipFill>
        <p:spPr>
          <a:xfrm>
            <a:off x="179280" y="3500280"/>
            <a:ext cx="3529080" cy="3152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SAM_1697"/>
          <p:cNvPicPr/>
          <p:nvPr/>
        </p:nvPicPr>
        <p:blipFill>
          <a:blip r:embed="rId1"/>
          <a:stretch/>
        </p:blipFill>
        <p:spPr>
          <a:xfrm>
            <a:off x="270000" y="20484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776760" cy="3213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304920" y="3754440"/>
            <a:ext cx="4572000" cy="2889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24000" y="260280"/>
            <a:ext cx="4032000" cy="3036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4032000" cy="3040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643280" y="3500280"/>
            <a:ext cx="4178520" cy="3083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4"/>
          <a:stretch/>
        </p:blipFill>
        <p:spPr>
          <a:xfrm>
            <a:off x="4572000" y="260280"/>
            <a:ext cx="4248000" cy="2957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SAM_1702"/>
          <p:cNvPicPr/>
          <p:nvPr/>
        </p:nvPicPr>
        <p:blipFill>
          <a:blip r:embed="rId1"/>
          <a:stretch/>
        </p:blipFill>
        <p:spPr>
          <a:xfrm>
            <a:off x="250920" y="147600"/>
            <a:ext cx="4248000" cy="3187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4643280" y="147600"/>
            <a:ext cx="4249800" cy="3187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163440" y="3645000"/>
            <a:ext cx="4014720" cy="301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4"/>
          <a:stretch/>
        </p:blipFill>
        <p:spPr>
          <a:xfrm>
            <a:off x="4344840" y="3751200"/>
            <a:ext cx="4572000" cy="2797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18:04Z</dcterms:created>
  <dc:creator>User</dc:creator>
  <dc:description/>
  <dc:language>en-US</dc:language>
  <cp:lastModifiedBy>Admin</cp:lastModifiedBy>
  <dcterms:modified xsi:type="dcterms:W3CDTF">2016-09-22T07:00:50Z</dcterms:modified>
  <cp:revision>7</cp:revision>
  <dc:subject/>
  <dc:title>Слайд 1</dc:title>
</cp:coreProperties>
</file>