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943-D165-4136-8932-32C0286F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45A-3538-4E99-B74E-46F95032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B21-72EF-4756-B88C-5DCF0C25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53B-510C-40CE-BF00-A457D354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AAA-48BA-458B-8B1D-065F85E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81B-9187-40A9-9864-120C1A50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C19-1763-428B-A392-FB24B5F4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E8A-BDE8-4CEE-AAF3-8AFFE7C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AAA-D39D-4DC8-A044-B44B2E55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CBF-AA49-440F-AAC6-FD5A1EF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772-5B5A-4A68-98C3-8428B31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994-9221-46C6-98D4-055B6BF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0DB-D197-47DC-A49B-4F5D9148BB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73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663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Все рядком лежат – 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Не развесть межой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Поглядеть: солдат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Где свой, где чужой?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Белый был – красным стал: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ровь обагрил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расным был – белый стал: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Смерть победил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М.Цветаева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48" name="Picture 9" descr="карик"/>
          <p:cNvPicPr/>
          <p:nvPr/>
        </p:nvPicPr>
        <p:blipFill>
          <a:blip r:embed="rId1"/>
          <a:stretch/>
        </p:blipFill>
        <p:spPr>
          <a:xfrm>
            <a:off x="6372360" y="404640"/>
            <a:ext cx="2232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76360" y="62028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1844640"/>
            <a:ext cx="784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 цвета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ской войны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55640" y="620640"/>
            <a:ext cx="1800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732720" y="620640"/>
            <a:ext cx="18000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851280" y="620640"/>
            <a:ext cx="1800360" cy="57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158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Berlin Sans FB Demi"/>
              </a:rPr>
              <a:t>Расскажите о движении </a:t>
            </a:r>
            <a:br>
              <a:rPr sz="4000"/>
            </a:br>
            <a:r>
              <a:rPr b="1" lang="ru-RU" sz="4000" spc="-1" strike="noStrike" u="sng">
                <a:solidFill>
                  <a:srgbClr val="ff0000"/>
                </a:solidFill>
                <a:uFillTx/>
                <a:latin typeface="Berlin Sans FB Demi"/>
              </a:rPr>
              <a:t>по плану: </a:t>
            </a:r>
            <a:endParaRPr b="0" lang="en-US" sz="40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основные цели и идеи движения 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социальная опора движения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лидеры и  командиры движения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74" name="Picture 5" descr="Плакат Белые"/>
          <p:cNvPicPr/>
          <p:nvPr/>
        </p:nvPicPr>
        <p:blipFill>
          <a:blip r:embed="rId1"/>
          <a:stretch/>
        </p:blipFill>
        <p:spPr>
          <a:xfrm>
            <a:off x="4572000" y="3716280"/>
            <a:ext cx="382284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карикатура"/>
          <p:cNvPicPr/>
          <p:nvPr/>
        </p:nvPicPr>
        <p:blipFill>
          <a:blip r:embed="rId2"/>
          <a:stretch/>
        </p:blipFill>
        <p:spPr>
          <a:xfrm>
            <a:off x="611280" y="378936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77" name="Picture 4" descr="Ленин"/>
          <p:cNvPicPr/>
          <p:nvPr/>
        </p:nvPicPr>
        <p:blipFill>
          <a:blip r:embed="rId1"/>
          <a:stretch/>
        </p:blipFill>
        <p:spPr>
          <a:xfrm>
            <a:off x="684360" y="1125360"/>
            <a:ext cx="3671640" cy="4104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pic>
        <p:nvPicPr>
          <p:cNvPr id="78" name="Picture 5" descr="Рисунок9"/>
          <p:cNvPicPr/>
          <p:nvPr/>
        </p:nvPicPr>
        <p:blipFill>
          <a:blip r:embed="rId2"/>
          <a:stretch/>
        </p:blipFill>
        <p:spPr>
          <a:xfrm>
            <a:off x="5292720" y="1197000"/>
            <a:ext cx="3427560" cy="40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826920" y="5229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адимир Ильич Ле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64000" y="5300640"/>
            <a:ext cx="33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в Давидович Троц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900000" y="404640"/>
            <a:ext cx="7477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 здравствует мировая революция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395280" y="5661000"/>
            <a:ext cx="41054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рть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ому капиталу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148360" y="558972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 хижинам -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йна дворцам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5" name="Picture 8" descr="фрун2"/>
          <p:cNvPicPr/>
          <p:nvPr/>
        </p:nvPicPr>
        <p:blipFill>
          <a:blip r:embed="rId1"/>
          <a:stretch/>
        </p:blipFill>
        <p:spPr>
          <a:xfrm>
            <a:off x="468360" y="549360"/>
            <a:ext cx="208764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тух"/>
          <p:cNvPicPr/>
          <p:nvPr/>
        </p:nvPicPr>
        <p:blipFill>
          <a:blip r:embed="rId2"/>
          <a:stretch/>
        </p:blipFill>
        <p:spPr>
          <a:xfrm>
            <a:off x="6732720" y="3573360"/>
            <a:ext cx="1954080" cy="2376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image077"/>
          <p:cNvPicPr/>
          <p:nvPr/>
        </p:nvPicPr>
        <p:blipFill>
          <a:blip r:embed="rId3"/>
          <a:stretch/>
        </p:blipFill>
        <p:spPr>
          <a:xfrm>
            <a:off x="468360" y="3573360"/>
            <a:ext cx="208764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чапа"/>
          <p:cNvPicPr/>
          <p:nvPr/>
        </p:nvPicPr>
        <p:blipFill>
          <a:blip r:embed="rId4"/>
          <a:stretch/>
        </p:blipFill>
        <p:spPr>
          <a:xfrm>
            <a:off x="3708360" y="3645000"/>
            <a:ext cx="2087640" cy="2376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90" name="WordArt 13"/>
          <p:cNvSpPr txBox="1"/>
          <p:nvPr/>
        </p:nvSpPr>
        <p:spPr>
          <a:xfrm>
            <a:off x="2627280" y="1197000"/>
            <a:ext cx="38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циалистическое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ечество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пасности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46836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унзе М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39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нный С.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635280" y="609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паев В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659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хачевский М.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8" descr="bluher_1"/>
          <p:cNvPicPr/>
          <p:nvPr/>
        </p:nvPicPr>
        <p:blipFill>
          <a:blip r:embed="rId5"/>
          <a:stretch/>
        </p:blipFill>
        <p:spPr>
          <a:xfrm>
            <a:off x="6659640" y="476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6948360" y="306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юхер В.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8" name="Picture 4" descr="kol1"/>
          <p:cNvPicPr/>
          <p:nvPr/>
        </p:nvPicPr>
        <p:blipFill>
          <a:blip r:embed="rId1"/>
          <a:stretch/>
        </p:blipFill>
        <p:spPr>
          <a:xfrm>
            <a:off x="468360" y="333360"/>
            <a:ext cx="193356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wrangel"/>
          <p:cNvPicPr/>
          <p:nvPr/>
        </p:nvPicPr>
        <p:blipFill>
          <a:blip r:embed="rId2"/>
          <a:stretch/>
        </p:blipFill>
        <p:spPr>
          <a:xfrm>
            <a:off x="468360" y="350028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ден2"/>
          <p:cNvPicPr/>
          <p:nvPr/>
        </p:nvPicPr>
        <p:blipFill>
          <a:blip r:embed="rId3"/>
          <a:stretch/>
        </p:blipFill>
        <p:spPr>
          <a:xfrm>
            <a:off x="3851280" y="2133720"/>
            <a:ext cx="1870200" cy="273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uedenitsch"/>
          <p:cNvPicPr/>
          <p:nvPr/>
        </p:nvPicPr>
        <p:blipFill>
          <a:blip r:embed="rId4"/>
          <a:stretch/>
        </p:blipFill>
        <p:spPr>
          <a:xfrm>
            <a:off x="6804000" y="54936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kornilov1916"/>
          <p:cNvPicPr/>
          <p:nvPr/>
        </p:nvPicPr>
        <p:blipFill>
          <a:blip r:embed="rId5"/>
          <a:stretch/>
        </p:blipFill>
        <p:spPr>
          <a:xfrm>
            <a:off x="6804000" y="3573360"/>
            <a:ext cx="1944720" cy="2519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468360" y="299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В.Колч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2436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И.Деник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3964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.Н.Вранг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732720" y="306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Н.Юден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948360" y="6093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.Г.Корни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2916360" y="5516640"/>
            <a:ext cx="35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рем за Родину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2700360" y="692280"/>
            <a:ext cx="3895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учше смерть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гибель России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11" name="Picture 4" descr="Рисунок5"/>
          <p:cNvPicPr/>
          <p:nvPr/>
        </p:nvPicPr>
        <p:blipFill>
          <a:blip r:embed="rId1"/>
          <a:srcRect l="6075" t="0" r="12090" b="9379"/>
          <a:stretch/>
        </p:blipFill>
        <p:spPr>
          <a:xfrm>
            <a:off x="755640" y="3573360"/>
            <a:ext cx="1944720" cy="23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2" name="Picture 6" descr=""/>
          <p:cNvPicPr/>
          <p:nvPr/>
        </p:nvPicPr>
        <p:blipFill>
          <a:blip r:embed="rId2"/>
          <a:srcRect l="0" t="0" r="3572" b="1719"/>
          <a:stretch/>
        </p:blipFill>
        <p:spPr>
          <a:xfrm>
            <a:off x="5364000" y="3716280"/>
            <a:ext cx="3095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rcRect l="1981" t="0" r="0" b="0"/>
          <a:stretch/>
        </p:blipFill>
        <p:spPr>
          <a:xfrm>
            <a:off x="539640" y="549360"/>
            <a:ext cx="3541680" cy="2419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468360" y="299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тийские матросы, 191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292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тощенные от голода дети, 19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4"/>
          <a:srcRect l="3213" t="0" r="0" b="1465"/>
          <a:stretch/>
        </p:blipFill>
        <p:spPr>
          <a:xfrm>
            <a:off x="6804000" y="404640"/>
            <a:ext cx="1911240" cy="2664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2"/>
          <p:cNvSpPr txBox="1"/>
          <p:nvPr/>
        </p:nvSpPr>
        <p:spPr>
          <a:xfrm>
            <a:off x="2987640" y="4149720"/>
            <a:ext cx="223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т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мунистов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13"/>
          <p:cNvSpPr txBox="1"/>
          <p:nvPr/>
        </p:nvSpPr>
        <p:spPr>
          <a:xfrm>
            <a:off x="3492360" y="2924280"/>
            <a:ext cx="325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одовласт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4"/>
          <p:cNvSpPr txBox="1"/>
          <p:nvPr/>
        </p:nvSpPr>
        <p:spPr>
          <a:xfrm>
            <a:off x="4211640" y="907920"/>
            <a:ext cx="2449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ив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развёрстк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093080" y="3213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Ант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826920" y="609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тор Мах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оследствия Гражданской войны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гибель большего числа людей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потеря национальной элиты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разрушение хозяйства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разрушение государственности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и традиционных ценностей 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ерно +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еверно -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Белые провозгласили равные избирательные права для всего населения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Лидерами большевиков были Колчак, Деникин, Корнилов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Большевики провели национализацию земли, фабрик и заводов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«Зеленые» поддерживали программу большевиков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Одной из причин поражения белого движения было отсутствие единого лидера и программы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500040"/>
            <a:ext cx="3603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Bookman Old Style"/>
              </a:rPr>
              <a:t>Ответы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+ 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4840" y="642600"/>
            <a:ext cx="528624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Оценки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«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5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без ошибок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«4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одна ошибка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«3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две ошибки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«2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три-пять ошибок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Правила написания синквейна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перво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записывается одно слово – существительное. Это и есть тема синквейн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второ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- два прилагательных, раскрывающих тему синквейн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третье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- три глагола, описывающих действия, относящиеся к теме синквейн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четверто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- целая фраза (предложение), состоящее из нескольких слов, с помощью которых высказывается свое отношение к данной теме -  крылатое выражение, цитата или составленная учеником фразу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Последняя строчка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– это слово-резюме, которое дает новую интерпретацию темы, позволяет выразить личное отношение. 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893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Выберите причины Гражданской войны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1) Изменение характера политической власти в стране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2) Введение всеобщей воинской повинности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3) Отказ большевиков от идеи однородного социалистического правительства и  принципов парламентаризм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4) Отмена выкупных платежей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5) Недемократические меры большевиков (диктатура, репрессии, деятельность чрезвычайных органов)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6) Заключение Брестского мир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7) Экономическая политика советской власти в деревне (установление продовольственной диктатуры, организация продотрядов, комбедов и т.д.)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8) Созыв Учредительного собрания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Составить 5 «тонких» вопросов по теме «Гражданская война»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Составить 5 «толстых» вопросов по теме «Гражданская война»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Написать эссе по теме «Уроки Гражданской войны»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8:38:31Z</dcterms:created>
  <dc:creator>VolnovaEE</dc:creator>
  <dc:description/>
  <dc:language>en-US</dc:language>
  <cp:lastModifiedBy>1</cp:lastModifiedBy>
  <dcterms:modified xsi:type="dcterms:W3CDTF">2011-11-15T11:10:49Z</dcterms:modified>
  <cp:revision>91</cp:revision>
  <dc:subject/>
  <dc:title>Презентация PowerPoint</dc:title>
</cp:coreProperties>
</file>