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F8D-69FC-4F54-8066-EF2E4616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940-C2A4-4665-A479-E98ADAAC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4DC-D656-42CB-9AD3-114E18F0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74F-9B0E-43AE-B99B-3A34E2B5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E32-D310-4D4B-B6D1-7A25E549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5B3-94CA-4CBA-BA18-39E2AAA7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D05-C2F8-425F-908F-3B8386EB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ABD-922A-4AD3-B298-894BC001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290-FD5E-43D1-B27E-AA8BDE88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38B-7AEC-4DAA-908E-F65D064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2A4-E7F4-46FD-999B-B54AC318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610-653F-46C1-BCD2-708FB48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5F1F-6F62-4DCA-B757-DD0556027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731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663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Все рядком лежат –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Не развесть межой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Поглядеть: солдат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Где свой, где чужой?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Белый был – красным стал: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ровь обагрил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Красным был – белый стал: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Смерть победил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М.Цветаева</a:t>
            </a:r>
            <a:r>
              <a:rPr b="0" i="1" lang="ru-RU" sz="3200" spc="-1" strike="noStrike">
                <a:solidFill>
                  <a:srgbClr val="8000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48" name="Picture 9" descr="карик"/>
          <p:cNvPicPr/>
          <p:nvPr/>
        </p:nvPicPr>
        <p:blipFill>
          <a:blip r:embed="rId1"/>
          <a:stretch/>
        </p:blipFill>
        <p:spPr>
          <a:xfrm>
            <a:off x="6372360" y="404640"/>
            <a:ext cx="2232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76360" y="62028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1844640"/>
            <a:ext cx="7848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 цвета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ской войны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55640" y="620640"/>
            <a:ext cx="1800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732720" y="620640"/>
            <a:ext cx="18000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851280" y="620640"/>
            <a:ext cx="1800360" cy="57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158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Berlin Sans FB Demi"/>
              </a:rPr>
              <a:t>Расскажите о движении 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Berlin Sans FB Demi"/>
              </a:rPr>
              <a:t>по плану: </a:t>
            </a:r>
            <a:endParaRPr b="0" lang="en-US" sz="40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основные цели и идеи движения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социальная опора движения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лидеры и  командиры движения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74" name="Picture 5" descr="Плакат Белые"/>
          <p:cNvPicPr/>
          <p:nvPr/>
        </p:nvPicPr>
        <p:blipFill>
          <a:blip r:embed="rId1"/>
          <a:stretch/>
        </p:blipFill>
        <p:spPr>
          <a:xfrm>
            <a:off x="4572000" y="3716280"/>
            <a:ext cx="382284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арикатура"/>
          <p:cNvPicPr/>
          <p:nvPr/>
        </p:nvPicPr>
        <p:blipFill>
          <a:blip r:embed="rId2"/>
          <a:stretch/>
        </p:blipFill>
        <p:spPr>
          <a:xfrm>
            <a:off x="611280" y="3789360"/>
            <a:ext cx="3673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77" name="Picture 4" descr="Ленин"/>
          <p:cNvPicPr/>
          <p:nvPr/>
        </p:nvPicPr>
        <p:blipFill>
          <a:blip r:embed="rId1"/>
          <a:stretch/>
        </p:blipFill>
        <p:spPr>
          <a:xfrm>
            <a:off x="684360" y="1125360"/>
            <a:ext cx="3671640" cy="4104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78" name="Picture 5" descr="Рисунок9"/>
          <p:cNvPicPr/>
          <p:nvPr/>
        </p:nvPicPr>
        <p:blipFill>
          <a:blip r:embed="rId2"/>
          <a:stretch/>
        </p:blipFill>
        <p:spPr>
          <a:xfrm>
            <a:off x="5292720" y="1197000"/>
            <a:ext cx="3427560" cy="40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826920" y="5229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адимир Ильич Ле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64000" y="5300640"/>
            <a:ext cx="33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в Давидович Троц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900000" y="404640"/>
            <a:ext cx="7477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 здравствует мировая революция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395280" y="5661000"/>
            <a:ext cx="41054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рть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ому капиталу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148360" y="558972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 хижинам -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на дворцам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5" name="Picture 8" descr="фрун2"/>
          <p:cNvPicPr/>
          <p:nvPr/>
        </p:nvPicPr>
        <p:blipFill>
          <a:blip r:embed="rId1"/>
          <a:stretch/>
        </p:blipFill>
        <p:spPr>
          <a:xfrm>
            <a:off x="468360" y="549360"/>
            <a:ext cx="208764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тух"/>
          <p:cNvPicPr/>
          <p:nvPr/>
        </p:nvPicPr>
        <p:blipFill>
          <a:blip r:embed="rId2"/>
          <a:stretch/>
        </p:blipFill>
        <p:spPr>
          <a:xfrm>
            <a:off x="6732720" y="3573360"/>
            <a:ext cx="1954080" cy="2376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age077"/>
          <p:cNvPicPr/>
          <p:nvPr/>
        </p:nvPicPr>
        <p:blipFill>
          <a:blip r:embed="rId3"/>
          <a:stretch/>
        </p:blipFill>
        <p:spPr>
          <a:xfrm>
            <a:off x="468360" y="3573360"/>
            <a:ext cx="208764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чапа"/>
          <p:cNvPicPr/>
          <p:nvPr/>
        </p:nvPicPr>
        <p:blipFill>
          <a:blip r:embed="rId4"/>
          <a:stretch/>
        </p:blipFill>
        <p:spPr>
          <a:xfrm>
            <a:off x="3708360" y="3645000"/>
            <a:ext cx="2087640" cy="237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0" name="WordArt 13"/>
          <p:cNvSpPr txBox="1"/>
          <p:nvPr/>
        </p:nvSpPr>
        <p:spPr>
          <a:xfrm>
            <a:off x="2627280" y="1197000"/>
            <a:ext cx="38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циалистическое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ечество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пасности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46836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унзе М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39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нный С.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635280" y="609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апаев В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659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хачевский М.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8" descr="bluher_1"/>
          <p:cNvPicPr/>
          <p:nvPr/>
        </p:nvPicPr>
        <p:blipFill>
          <a:blip r:embed="rId5"/>
          <a:stretch/>
        </p:blipFill>
        <p:spPr>
          <a:xfrm>
            <a:off x="6659640" y="476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6948360" y="306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юхер В.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8" name="Picture 4" descr="kol1"/>
          <p:cNvPicPr/>
          <p:nvPr/>
        </p:nvPicPr>
        <p:blipFill>
          <a:blip r:embed="rId1"/>
          <a:stretch/>
        </p:blipFill>
        <p:spPr>
          <a:xfrm>
            <a:off x="468360" y="333360"/>
            <a:ext cx="193356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wrangel"/>
          <p:cNvPicPr/>
          <p:nvPr/>
        </p:nvPicPr>
        <p:blipFill>
          <a:blip r:embed="rId2"/>
          <a:stretch/>
        </p:blipFill>
        <p:spPr>
          <a:xfrm>
            <a:off x="468360" y="350028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ден2"/>
          <p:cNvPicPr/>
          <p:nvPr/>
        </p:nvPicPr>
        <p:blipFill>
          <a:blip r:embed="rId3"/>
          <a:stretch/>
        </p:blipFill>
        <p:spPr>
          <a:xfrm>
            <a:off x="3851280" y="2133720"/>
            <a:ext cx="1870200" cy="27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uedenitsch"/>
          <p:cNvPicPr/>
          <p:nvPr/>
        </p:nvPicPr>
        <p:blipFill>
          <a:blip r:embed="rId4"/>
          <a:stretch/>
        </p:blipFill>
        <p:spPr>
          <a:xfrm>
            <a:off x="6804000" y="54936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ornilov1916"/>
          <p:cNvPicPr/>
          <p:nvPr/>
        </p:nvPicPr>
        <p:blipFill>
          <a:blip r:embed="rId5"/>
          <a:stretch/>
        </p:blipFill>
        <p:spPr>
          <a:xfrm>
            <a:off x="6804000" y="3573360"/>
            <a:ext cx="1944720" cy="2519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468360" y="299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В.Колч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2436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И.Деник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3964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Н.Вранг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732720" y="306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Н.Юден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948360" y="6093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.Г.Корнил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2916360" y="5516640"/>
            <a:ext cx="35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рем за Родину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2700360" y="692280"/>
            <a:ext cx="3895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чше смерть,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гибель России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111" name="Picture 4" descr="Рисунок5"/>
          <p:cNvPicPr/>
          <p:nvPr/>
        </p:nvPicPr>
        <p:blipFill>
          <a:blip r:embed="rId1"/>
          <a:srcRect l="6075" t="0" r="12090" b="9379"/>
          <a:stretch/>
        </p:blipFill>
        <p:spPr>
          <a:xfrm>
            <a:off x="755640" y="3573360"/>
            <a:ext cx="1944720" cy="23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2" name="Picture 6" descr=""/>
          <p:cNvPicPr/>
          <p:nvPr/>
        </p:nvPicPr>
        <p:blipFill>
          <a:blip r:embed="rId2"/>
          <a:srcRect l="0" t="0" r="3572" b="1719"/>
          <a:stretch/>
        </p:blipFill>
        <p:spPr>
          <a:xfrm>
            <a:off x="5364000" y="3716280"/>
            <a:ext cx="3095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3"/>
          <a:srcRect l="1981" t="0" r="0" b="0"/>
          <a:stretch/>
        </p:blipFill>
        <p:spPr>
          <a:xfrm>
            <a:off x="539640" y="549360"/>
            <a:ext cx="3541680" cy="2419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468360" y="299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тийские матросы, 19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292720" y="5950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тощенные от голода дети, 19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4"/>
          <a:srcRect l="3213" t="0" r="0" b="1465"/>
          <a:stretch/>
        </p:blipFill>
        <p:spPr>
          <a:xfrm>
            <a:off x="6804000" y="404640"/>
            <a:ext cx="1911240" cy="2664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2"/>
          <p:cNvSpPr txBox="1"/>
          <p:nvPr/>
        </p:nvSpPr>
        <p:spPr>
          <a:xfrm>
            <a:off x="2987640" y="4149720"/>
            <a:ext cx="223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т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мунистов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13"/>
          <p:cNvSpPr txBox="1"/>
          <p:nvPr/>
        </p:nvSpPr>
        <p:spPr>
          <a:xfrm>
            <a:off x="3492360" y="2924280"/>
            <a:ext cx="325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овласт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4"/>
          <p:cNvSpPr txBox="1"/>
          <p:nvPr/>
        </p:nvSpPr>
        <p:spPr>
          <a:xfrm>
            <a:off x="4211640" y="907920"/>
            <a:ext cx="2449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и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развёрстк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093080" y="3213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Ант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826920" y="609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тор Мах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Последствия Гражданской войны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гибель большего числа людей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потеря национальной элиты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разрушение хозяйства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разрушение государственности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и традиционных ценностей 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Верно +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Неверно -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Белые провозгласили равные избирательные права для всего населения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Лидерами большевиков были Колчак, Деникин, Корнилов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Большевики провели национализацию земли, фабрик и заводов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«Зеленые» поддерживали программу большевиков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601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Одной из причин поражения белого движения было отсутствие единого лидера и программы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500040"/>
            <a:ext cx="3603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Bookman Old Style"/>
              </a:rPr>
              <a:t>Ответы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+ 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-528120" algn="ctr">
              <a:spcBef>
                <a:spcPts val="134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  <a:p>
            <a:pPr marL="5281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4840" y="642600"/>
            <a:ext cx="528624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Оценки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«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5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без ошибок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«4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одна ошибка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«3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две ошибки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«2»</a:t>
            </a:r>
            <a:r>
              <a:rPr b="1" lang="ru-RU" sz="3200" spc="-1" strike="noStrike">
                <a:solidFill>
                  <a:srgbClr val="800000"/>
                </a:solidFill>
                <a:latin typeface="Bookman Old Style"/>
              </a:rPr>
              <a:t> - три-пять ошибок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Правила написания синквейна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перво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записывается одно слово – существительное. Это и есть тема синквейн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второ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- два прилагательных, раскрывающих тему синквейн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третье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- три глагола, описывающих действия, относящиеся к теме синквейн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На </a:t>
            </a: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четвертой строчке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- целая фраза (предложение), состоящее из нескольких слов, с помощью которых высказывается свое отношение к данной теме -  крылатое выражение, цитата или составленная учеником фразу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Magneto"/>
              </a:rPr>
              <a:t>Последняя строчка</a:t>
            </a:r>
            <a:r>
              <a:rPr b="0" lang="ru-RU" sz="2400" spc="-1" strike="noStrike">
                <a:solidFill>
                  <a:srgbClr val="800000"/>
                </a:solidFill>
                <a:latin typeface="Magneto"/>
              </a:rPr>
              <a:t> – это слово-резюме, которое дает новую интерпретацию темы, позволяет выразить личное отношение. 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893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Выберите причины Гражданской войны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1) Изменение характера политической власти в стране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2) Введение всеобщей воинской повинности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3) Отказ большевиков от идеи однородного социалистического правительства и  принципов парламентаризм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4) Отмена выкупных платежей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5) Недемократические меры большевиков (диктатура, репрессии, деятельность чрезвычайных органов)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6) Заключение Брестского мира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7) Экономическая политика советской власти в деревне (установление продовольственной диктатуры, организация продотрядов, комбедов и т.д.)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Bookman Old Style"/>
              </a:rPr>
              <a:t>8) Созыв Учредительного собрания.</a:t>
            </a:r>
            <a:endParaRPr b="0" lang="en-US" sz="24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Составить 5 «тонких» вопросов по теме «Гражданская война»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Составить 5 «толстых» вопросов по теме «Гражданская война»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514440" indent="-514440">
              <a:spcBef>
                <a:spcPts val="799"/>
              </a:spcBef>
              <a:buClr>
                <a:srgbClr val="8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Bookman Old Style"/>
              </a:rPr>
              <a:t>Написать эссе по теме «Уроки Гражданской войны»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Bookman Old Style"/>
              </a:rPr>
              <a:t>Соотнесите период войны с его характеристикой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1811160"/>
                <a:gridCol w="3240360"/>
                <a:gridCol w="31780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кт. 1917 – весна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ые действия носят локальный харак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есна – лето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Открытое вооруженное столкновение между большевиками и их против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Лето-осень 1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ведение продовольственной диктатуры большевиков, недовольство кулаков и середня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Декабрь 1918- июнь 1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Период усиления красного и белого террора, победы белого 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Июль 1919 – осень 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Военное поражение белых, переход крестьянства на сторону крас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Кон. 1920 – 1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Bookman Old Style"/>
                        </a:rPr>
                        <a:t>«Малая Гражданская во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8:38:31Z</dcterms:created>
  <dc:creator>VolnovaEE</dc:creator>
  <dc:description/>
  <dc:language>en-US</dc:language>
  <cp:lastModifiedBy>1</cp:lastModifiedBy>
  <dcterms:modified xsi:type="dcterms:W3CDTF">2011-11-15T11:10:49Z</dcterms:modified>
  <cp:revision>91</cp:revision>
  <dc:subject/>
  <dc:title>Презентация PowerPoint</dc:title>
</cp:coreProperties>
</file>