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283-5F4D-482A-AF31-4A86F8FD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554-D79C-4926-8601-267A7CB2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9E1-E006-4E4E-B1DA-8D981B17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C7C-F9B6-4C19-91B8-9EB99028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23D-0AF3-4683-8F2A-F754B70C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38E-7C18-4E22-B662-589B4D67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016-0519-4396-9C21-A5FE49D1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744-D5BA-49F6-BCA7-D5C8DB75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F59-964B-4B8F-BB60-990F416A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446-FACF-4771-8E90-4DAA4C2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EC7-40BE-43DC-979F-75273DF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4FF-49BC-4452-B256-C806268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2C89-CE04-49B9-AA3A-6E23CC5AD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белоснежка"/>
          <p:cNvPicPr/>
          <p:nvPr/>
        </p:nvPicPr>
        <p:blipFill>
          <a:blip r:embed="rId1"/>
          <a:stretch/>
        </p:blipFill>
        <p:spPr>
          <a:xfrm>
            <a:off x="1476360" y="190440"/>
            <a:ext cx="6191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cd76c604d2e"/>
          <p:cNvPicPr/>
          <p:nvPr/>
        </p:nvPicPr>
        <p:blipFill>
          <a:blip r:embed="rId1"/>
          <a:stretch/>
        </p:blipFill>
        <p:spPr>
          <a:xfrm>
            <a:off x="61128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гра"/>
          <p:cNvPicPr/>
          <p:nvPr/>
        </p:nvPicPr>
        <p:blipFill>
          <a:blip r:embed="rId1"/>
          <a:stretch/>
        </p:blipFill>
        <p:spPr>
          <a:xfrm>
            <a:off x="250920" y="-819000"/>
            <a:ext cx="8604000" cy="76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нок3"/>
          <p:cNvPicPr/>
          <p:nvPr/>
        </p:nvPicPr>
        <p:blipFill>
          <a:blip r:embed="rId1"/>
          <a:stretch/>
        </p:blipFill>
        <p:spPr>
          <a:xfrm>
            <a:off x="826920" y="260280"/>
            <a:ext cx="7632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4317840" cy="554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5278320" y="2421000"/>
            <a:ext cx="30816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1258920" y="0"/>
            <a:ext cx="6624720" cy="575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556000" y="551664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ТРЕ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080"/>
          <p:cNvPicPr/>
          <p:nvPr/>
        </p:nvPicPr>
        <p:blipFill>
          <a:blip r:embed="rId1"/>
          <a:stretch/>
        </p:blipFill>
        <p:spPr>
          <a:xfrm>
            <a:off x="2050920" y="160200"/>
            <a:ext cx="5284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g090"/>
          <p:cNvPicPr/>
          <p:nvPr/>
        </p:nvPicPr>
        <p:blipFill>
          <a:blip r:embed="rId1"/>
          <a:stretch/>
        </p:blipFill>
        <p:spPr>
          <a:xfrm>
            <a:off x="2075040" y="228600"/>
            <a:ext cx="4992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086"/>
          <p:cNvPicPr/>
          <p:nvPr/>
        </p:nvPicPr>
        <p:blipFill>
          <a:blip r:embed="rId1"/>
          <a:stretch/>
        </p:blipFill>
        <p:spPr>
          <a:xfrm>
            <a:off x="1947960" y="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мажор минор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Загадка Весело - грустно_0001.wmv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3170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_63d51_6ab525fd_XL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8:20:41Z</dcterms:created>
  <dc:creator>User</dc:creator>
  <dc:description/>
  <dc:language>en-US</dc:language>
  <cp:lastModifiedBy>пользователь</cp:lastModifiedBy>
  <dcterms:modified xsi:type="dcterms:W3CDTF">2016-09-22T16:05:33Z</dcterms:modified>
  <cp:revision>8</cp:revision>
  <dc:subject/>
  <dc:title>Слайд 1</dc:title>
</cp:coreProperties>
</file>