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566-309C-422B-A8EC-07758D9C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95E-FF72-4542-AD5F-46C34BA3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EA1-1DF9-45C8-B297-20707095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150-DFDB-49EA-928B-FC6D4401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1D7C-B91F-4903-B056-5B8F73D4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AEF3-CC1C-4721-BCED-E7B68172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33A5-FB03-4669-BC3E-6F72E6C5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1B68-7B81-422A-94C7-6B72B82B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C6A4-D74E-4718-B4E0-F6C6E804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E1B3-4FF0-415E-A01C-141D9605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F38B-A96C-493B-9CEA-D23D8EF4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C65-5067-46AB-B31E-947EC0D2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22EC-63FF-44B1-999A-0AEAFDCB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7436-82C7-437C-9E47-8AC54DF6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6A48-DD52-4ED9-B29B-9BFAC401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14D2-E756-40CD-A194-EF3FA41C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89C1-CAEA-4526-8F4D-9820F815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B13-02F6-49FE-89E2-A889B4E3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934-D095-4424-B28F-E3319172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8B01-314E-46C8-AB1A-78A12DB0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552-F9FA-4172-96F6-1FB8FE27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077-2D0E-438E-8376-555A9CD5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A5D-7195-4F33-8ED5-7C509A6B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A85-62B0-4F44-A1FD-4C4A9AE6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E96C-0F23-4093-AA82-24C985F0BED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98AD-9376-4CF6-8C5B-BCB967F367D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848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Правописание частицы «НЕ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с именами существительным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пишите, раскрывая скобки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На (не)счастье себе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тень (не)доумения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(не)погода задержала, а дела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с (не)терпением ожидал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(не) годы, а болезнь состарил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говорить (не)правду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завидует (не)друг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тяжелая (не)вол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37"/>
          <p:cNvPicPr/>
          <p:nvPr/>
        </p:nvPicPr>
        <p:blipFill>
          <a:blip r:embed="rId1"/>
          <a:stretch/>
        </p:blipFill>
        <p:spPr>
          <a:xfrm>
            <a:off x="5954760" y="2637000"/>
            <a:ext cx="2362320" cy="37447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687096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роверь себ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На несчастье себе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тень недоумения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не погода задержала, а дела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с нетерпением ожидал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не годы, а болезнь состарил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говорить неправду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завидует недруг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тяжелая невол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одолжите пословицу, запишите её, обозначьте изучаемую орфограмму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Ученье свет, а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Сей в (не)настье, а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Охота пуще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(Не)работа сушит, а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Жизнь прожить - 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Ученье свет, а неученье  - тьм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Сей в ненастье, а убирай в вёдр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Охота пуще нево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Не работа сушит, а забо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Жизнь прожить -  не поле перей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йди четвертое лишне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не правда, а ложь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не друг, а враг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не дом, а хижина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не счастье, а горе.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еши тест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3772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А1 </a:t>
            </a:r>
            <a:r>
              <a:rPr b="0" i="1" lang="ru-RU" sz="2000" spc="-1" strike="noStrike" u="sng">
                <a:solidFill>
                  <a:srgbClr val="703dff"/>
                </a:solidFill>
                <a:uFillTx/>
                <a:latin typeface="Comic Sans MS"/>
              </a:rPr>
              <a:t>Имя существительное пишется с НЕ раздельно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1)(</a:t>
            </a: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НЕ) видимкою луна освещает снег летуч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2) Передо мной был (не)враг, а дру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3) (Не)известности уже не был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4) Мы остановились в (не)доуме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5)С годами у него появилась (не)решитель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09800" y="1125360"/>
            <a:ext cx="37717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А2 </a:t>
            </a:r>
            <a:r>
              <a:rPr b="0" i="1" lang="ru-RU" sz="2000" spc="-1" strike="noStrike" u="sng">
                <a:solidFill>
                  <a:srgbClr val="703dff"/>
                </a:solidFill>
                <a:uFillTx/>
                <a:latin typeface="Comic Sans MS"/>
              </a:rPr>
              <a:t>НЕ пишется слитно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1) Это (не)правда, а откровенная лож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2) (Не)правду я не потерпл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3) Это надо считать (не)удачей, а случайность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4) Царевна (Не)смеяна – героиня многих сказо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5) (Не)терпение, а раздражительность мешали разговору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еши тест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А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3 </a:t>
            </a:r>
            <a:r>
              <a:rPr b="0" i="1" lang="ru-RU" sz="2000" spc="-1" strike="noStrike" u="sng">
                <a:solidFill>
                  <a:srgbClr val="703dff"/>
                </a:solidFill>
                <a:uFillTx/>
                <a:latin typeface="Comic Sans MS"/>
              </a:rPr>
              <a:t>Имя существительное пишется с НЕ раздельно</a:t>
            </a:r>
            <a:r>
              <a:rPr b="0" lang="ru-RU" sz="2000" spc="-1" strike="noStrike" u="sng">
                <a:solidFill>
                  <a:srgbClr val="703dff"/>
                </a:solidFill>
                <a:uFillTx/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1) Удивила (не)зависимость и резк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2) Появилась (не)решительность, а какая- застенчив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3) С (не)ряхой мало кто общаетс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4) (Не)счастье, а горе постигло н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5) Человек – творец счастья и (не)счасть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А4 </a:t>
            </a:r>
            <a:r>
              <a:rPr b="0" i="1" lang="ru-RU" sz="2000" spc="-1" strike="noStrike" u="sng">
                <a:solidFill>
                  <a:srgbClr val="703dff"/>
                </a:solidFill>
                <a:uFillTx/>
                <a:latin typeface="Comic Sans MS"/>
              </a:rPr>
              <a:t>Слово с НЕ пишется слитн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1) Вовремя письмо (не) отправил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2) Не все (не)настье, проглянет и красное солнышк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3) Кто рано сеет, тот семян (не) теря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4) Мне сегодня (не)здоровитс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5) (Не)нависть – плохой советчи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89"/>
          <p:cNvPicPr/>
          <p:nvPr/>
        </p:nvPicPr>
        <p:blipFill>
          <a:blip r:embed="rId1"/>
          <a:stretch/>
        </p:blipFill>
        <p:spPr>
          <a:xfrm>
            <a:off x="808200" y="1700280"/>
            <a:ext cx="4403520" cy="4724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92"/>
          <p:cNvPicPr/>
          <p:nvPr/>
        </p:nvPicPr>
        <p:blipFill>
          <a:blip r:embed="rId2"/>
          <a:stretch/>
        </p:blipFill>
        <p:spPr>
          <a:xfrm>
            <a:off x="5508720" y="1125360"/>
            <a:ext cx="287964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Organization Chart 20"/>
          <p:cNvGrpSpPr/>
          <p:nvPr/>
        </p:nvGrpSpPr>
        <p:grpSpPr>
          <a:xfrm>
            <a:off x="539640" y="549360"/>
            <a:ext cx="8208720" cy="4894920"/>
            <a:chOff x="539640" y="549360"/>
            <a:chExt cx="8208720" cy="4894920"/>
          </a:xfrm>
        </p:grpSpPr>
        <p:cxnSp>
          <p:nvCxnSpPr>
            <p:cNvPr id="153" name="_s1028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590440" y="1559520"/>
              <a:ext cx="979920" cy="2873520"/>
            </a:xfrm>
            <a:prstGeom prst="bentConnector3">
              <a:avLst>
                <a:gd name="adj1" fmla="val 2080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_s1029"/>
            <p:cNvCxnSpPr>
              <a:stCxn id="157" idx="0"/>
              <a:endCxn id="155" idx="1"/>
            </p:cNvCxnSpPr>
            <p:nvPr/>
          </p:nvCxnSpPr>
          <p:spPr>
            <a:xfrm flipV="1">
              <a:off x="4644000" y="2506680"/>
              <a:ext cx="1440" cy="979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55" idx="0"/>
            </p:cNvCxnSpPr>
            <p:nvPr/>
          </p:nvCxnSpPr>
          <p:spPr>
            <a:xfrm flipH="1" flipV="1" rot="5400000">
              <a:off x="2717280" y="1559520"/>
              <a:ext cx="979920" cy="2873880"/>
            </a:xfrm>
            <a:prstGeom prst="bentConnector3">
              <a:avLst>
                <a:gd name="adj1" fmla="val 208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" name="_s1031"/>
            <p:cNvSpPr/>
            <p:nvPr/>
          </p:nvSpPr>
          <p:spPr>
            <a:xfrm>
              <a:off x="3412440" y="549360"/>
              <a:ext cx="2462400" cy="1957680"/>
            </a:xfrm>
            <a:prstGeom prst="bevel">
              <a:avLst>
                <a:gd name="adj" fmla="val 12500"/>
              </a:avLst>
            </a:prstGeom>
            <a:solidFill>
              <a:srgbClr val="b0b0c4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Comic Sans MS"/>
                </a:rPr>
                <a:t>Правописание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Comic Sans MS"/>
                </a:rPr>
                <a:t>«НЕ»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omic Sans MS"/>
                </a:rPr>
                <a:t>с именами существительным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_s1032"/>
            <p:cNvSpPr/>
            <p:nvPr/>
          </p:nvSpPr>
          <p:spPr>
            <a:xfrm>
              <a:off x="539640" y="3486600"/>
              <a:ext cx="2462400" cy="195768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Comic Sans MS"/>
                </a:rPr>
                <a:t>Ненависть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Comic Sans MS"/>
                </a:rPr>
                <a:t>ненастье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_s1033"/>
            <p:cNvSpPr/>
            <p:nvPr/>
          </p:nvSpPr>
          <p:spPr>
            <a:xfrm>
              <a:off x="3412440" y="3486600"/>
              <a:ext cx="2462400" cy="195768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Comic Sans MS"/>
                </a:rPr>
                <a:t>несчастье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(горе)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неправда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(ложь)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6285960" y="3486600"/>
              <a:ext cx="2462400" cy="195768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Comic Sans MS"/>
                </a:rPr>
                <a:t>Не счастье, а горе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Comic Sans MS"/>
                </a:rPr>
                <a:t>Не правда, а ложь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3098880" y="1117440"/>
            <a:ext cx="224460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652760" y="2075040"/>
            <a:ext cx="6054480" cy="54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4970520" y="2895480"/>
            <a:ext cx="224640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3098880" y="4005360"/>
            <a:ext cx="1977840" cy="7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4357800" y="1643040"/>
            <a:ext cx="144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2673360" y="2482920"/>
            <a:ext cx="144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5991120" y="2482920"/>
            <a:ext cx="1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5905440" y="3440160"/>
            <a:ext cx="180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4460760" y="3710160"/>
            <a:ext cx="253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4460760" y="3713040"/>
            <a:ext cx="180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7020000" y="3716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3013200" y="981000"/>
            <a:ext cx="2638440" cy="676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«НЕ» с именами существительным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539640" y="2075040"/>
            <a:ext cx="7201080" cy="54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Определите, употребляется ли существительное без «НЕ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539640" y="2852640"/>
            <a:ext cx="345600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ЕСЛ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не употребляется - СЛИТН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4970520" y="2895480"/>
            <a:ext cx="2770200" cy="5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ЕСЛ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употребляетс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1835280" y="3994200"/>
            <a:ext cx="3313080" cy="81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ЕСТЬ Л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отивопоставлени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  «А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5429160" y="4000680"/>
            <a:ext cx="2959200" cy="785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ЕСЛИ НЕТ, замени синонимом без «НЕ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25"/>
          <p:cNvSpPr/>
          <p:nvPr/>
        </p:nvSpPr>
        <p:spPr>
          <a:xfrm>
            <a:off x="3949560" y="4809960"/>
            <a:ext cx="1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26"/>
          <p:cNvSpPr/>
          <p:nvPr/>
        </p:nvSpPr>
        <p:spPr>
          <a:xfrm>
            <a:off x="6332400" y="4809960"/>
            <a:ext cx="1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Oval 27"/>
          <p:cNvSpPr/>
          <p:nvPr/>
        </p:nvSpPr>
        <p:spPr>
          <a:xfrm>
            <a:off x="2843280" y="5227560"/>
            <a:ext cx="2343240" cy="946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Oval 28"/>
          <p:cNvSpPr/>
          <p:nvPr/>
        </p:nvSpPr>
        <p:spPr>
          <a:xfrm>
            <a:off x="5226120" y="5227560"/>
            <a:ext cx="2343240" cy="946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3351240" y="5392800"/>
            <a:ext cx="1363680" cy="608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иш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раздельн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5572080" y="5429160"/>
            <a:ext cx="1660680" cy="5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иш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литн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68706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мените синонимом или близким по значению словосочетание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8920" y="2492280"/>
            <a:ext cx="76960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Горе –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Ложь –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Враг –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Рассеянность –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Сомнение –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РОВЕРИМ СЕБ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Горе – несчасть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Ложь – неправд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Враг – недру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Рассеянность – невним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Сомнение – недовер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ставьте и запишите предложения, в которых эти существительные с «НЕ» следует писать раздельно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Не счастье, а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Не правда, а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Не друг, а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Не доверие, а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ИМ СЕБ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Не счастье, а горе сблизило люд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Не правда, а ложь наносит непоправимый вред дружб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Не друг, а враг не скажет правд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Не доверие, а сомнение закралось в сердц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19trainspotter"/>
          <p:cNvPicPr/>
          <p:nvPr/>
        </p:nvPicPr>
        <p:blipFill>
          <a:blip r:embed="rId1"/>
          <a:stretch/>
        </p:blipFill>
        <p:spPr>
          <a:xfrm rot="559800">
            <a:off x="2952720" y="439560"/>
            <a:ext cx="3060720" cy="30974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Недоумени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Нелепость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Неразберих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Незабудк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7192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Ненасть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Нерях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Недотеп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Невежа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Несмея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36"/>
          <p:cNvPicPr/>
          <p:nvPr/>
        </p:nvPicPr>
        <p:blipFill>
          <a:blip r:embed="rId1"/>
          <a:stretch/>
        </p:blipFill>
        <p:spPr>
          <a:xfrm>
            <a:off x="4421160" y="2349360"/>
            <a:ext cx="4102200" cy="4146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1042920" y="965880"/>
            <a:ext cx="6265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mic Sans MS"/>
              </a:rPr>
              <a:t>Невежа – </a:t>
            </a:r>
            <a:r>
              <a:rPr b="1" i="1" lang="ru-RU" sz="4800" spc="-1" strike="noStrike">
                <a:solidFill>
                  <a:srgbClr val="703dff"/>
                </a:solidFill>
                <a:latin typeface="Comic Sans MS"/>
              </a:rPr>
              <a:t>грубый,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dff"/>
                </a:solidFill>
                <a:latin typeface="Comic Sans MS"/>
              </a:rPr>
              <a:t>невоспитанный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mic Sans MS"/>
              </a:rPr>
              <a:t>Невежда –</a:t>
            </a:r>
            <a:r>
              <a:rPr b="1" i="1" lang="ru-RU" sz="4800" spc="-1" strike="noStrike">
                <a:solidFill>
                  <a:srgbClr val="703dff"/>
                </a:solidFill>
                <a:latin typeface="Comic Sans MS"/>
              </a:rPr>
              <a:t>малообразованный, малосведущий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1:28:28Z</dcterms:created>
  <dc:creator>Пользователь</dc:creator>
  <dc:description/>
  <dc:language>en-US</dc:language>
  <cp:lastModifiedBy>Надежда</cp:lastModifiedBy>
  <dcterms:modified xsi:type="dcterms:W3CDTF">2016-09-23T06:28:50Z</dcterms:modified>
  <cp:revision>11</cp:revision>
  <dc:subject/>
  <dc:title>Запишите слова, вставляя пропущенные буквы. Устно объясните правописание.</dc:title>
</cp:coreProperties>
</file>