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733-EB2F-4322-ADC5-47EA2BCC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644-2359-46D0-8A57-DC1F4DBB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EC1-153F-434D-91CC-53D886E2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ED3-0623-49D4-BACC-6D28AFC8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32A-A40A-4A56-AEC2-CEEB2497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DD9-3224-42CF-BB3B-9139BAE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75D-D0E5-44BC-892F-4DC9C398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31A-BC66-4887-848F-748F28F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EBB-2008-413C-A29F-60838A3E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091-E188-4C77-B80E-CC5750A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4D7-4552-41D2-B28C-7C69C117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1B5-EB8F-4385-A16F-C0012E3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4F05-121D-4AEA-B731-E1353D84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631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кировка пластиковой посу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384800" cy="2689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16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мер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4360" y="836640"/>
            <a:ext cx="4608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 маркировка означает, что посуда произведена на основе особой пластиковой массы – полипропилена и может применяться как тара для разогрева пищи в микроволновках. Он отличается большей упругостью, устойчивостью к повышенным температурам и заморозке, отлично удерживает тепло и не склонен к растрескиванию и оплавлению (выдерживает более 100 градусов). Обычное применение – как емкость для холодных и горячи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Довольно безопасен, но при определенных условиях может выделять формальдеги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мер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27280" y="836640"/>
            <a:ext cx="4537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маркируется полистирол. Это означает, что такую посуду запрещено использовать для разогрева пищи в микроволновых печах, постольку поскольку это мягкий и хрупкий материал не выдерживает повышенных температур и может оплавиться выше 70 градусов. Также  стоит быть осторожными и с горячими напитками. Посуда, носящая такие обозначения, может быть применена только как тара для холодных проду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ет выделять стирол, поэтому одноразовая посуда и называется одноразов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171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PS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стирол Используется при изготовлении плит теплоизоляции зданий, пищевых упаковок, столовых приборов и чашек, коробок CD и прочих упаковок (пищевой плёнки и пеноматериалов), игрушек, посуды, ручек и так дале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8360" y="1197000"/>
            <a:ext cx="4038480" cy="5184720"/>
            <a:chOff x="468360" y="1197000"/>
            <a:chExt cx="4038480" cy="51847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68360" y="1197000"/>
              <a:ext cx="40384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68360" y="1197000"/>
              <a:ext cx="4038480" cy="518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2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мер 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OTHER или 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е. К этой группе относится любой другой пластик, который не может быть включен в предыдущие группы. поликарбонат не является токсичным для окружающей сре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75160" cy="4005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вляющее число производителей честно ставят маркиров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маркировки нет, то пластик однозначно опасен для здоровь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2219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ьтернатива пластиковой посуд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836640"/>
            <a:ext cx="3276360" cy="3672000"/>
            <a:chOff x="250920" y="836640"/>
            <a:chExt cx="3276360" cy="3672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50920" y="836640"/>
              <a:ext cx="327636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250920" y="836640"/>
              <a:ext cx="3276360" cy="36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место пластиковой посуды, ради своего здоровья, используйте посуду из бумаги. Она экологически безопасна и её применение безвредно для Вашего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63640" y="4065480"/>
            <a:ext cx="2952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мните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пищевой пластик, из которого сделана пластиковая посуда, произведенный с соблюдением всех правил и технологии совершенно безоп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ыбирая такую посуду, в первую очередь обратите внимание на маркировку. Для пищевого пластика это изображение вилки и бок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3830760" cy="4292640"/>
            <a:chOff x="0" y="0"/>
            <a:chExt cx="3830760" cy="42926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3076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0" y="0"/>
              <a:ext cx="3830760" cy="42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3097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ки вилка и бокал в квадратной окантовк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052640"/>
            <a:ext cx="42447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ие нанесенные обозначения на одноразовую посуду говорят о том, что она может быть использована при непосредственном контакте с пищей и напитками. Это полностью пригодная тара: безопасная и не наносящая вред организму. Однако если подобные знаки перечеркнуты прямой линией, то это, наоборот, свидетельствует об осторожности в применении посуды, поскольку ее контакт с пищевыми продуктами строго запрещ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угольник в виде стрелок (3 круговые стрелки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27280" y="1125360"/>
            <a:ext cx="4716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е знаки ставятся на посуде, произведенной из материалов вторичной переработки. Идущие друг за другом стрелы – это обозначения замкнутого цикла: изготовление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/утилизация. Цифры внутри треугольника говорят о типе переработанного матери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19 – пласт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-39 – бумага и карт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-49 – метал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-59 – древес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-69 – ткани и тексти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-79 – сте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ды пластмасс и их маркиров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7 видов маркировок.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4360" y="1413000"/>
            <a:ext cx="4608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личаются они только цифрами, каждая из которых соответствует определенному полимеру, из которого этот пластик и сделан. Под этими треугольниками могут содержаться дополнительные буквенные обознач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 запомнить, что обозначают эти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1268280"/>
            <a:ext cx="4038480" cy="5185080"/>
            <a:chOff x="457200" y="1268280"/>
            <a:chExt cx="4038480" cy="5185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57200" y="1268280"/>
              <a:ext cx="4038480" cy="51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457200" y="1268280"/>
              <a:ext cx="4038480" cy="518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356000" y="1267920"/>
            <a:ext cx="4464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ET или P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терефталат. Используется для изготовления упаковок (бутылок, коробок, банок и т.п.) для розлива прохладительных напитков, соков, воды. Также этот материал можно встретить в упаковках для разного рода порошков, сыпучих пищевых продуктов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дходит ТОЛЬКО для однократного применения. При повтором применении могут выделяться фтала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03280" y="1655640"/>
            <a:ext cx="4033800" cy="4465800"/>
            <a:chOff x="503280" y="1655640"/>
            <a:chExt cx="4033800" cy="4465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03280" y="1655640"/>
              <a:ext cx="4033800" cy="44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503280" y="1655640"/>
              <a:ext cx="4033800" cy="446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мер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HDPE (ПНД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этилен высокой плотности низкого давления. Используется для изготовления изделий контактирующих с пищевыми продуктами, для изготовления игруш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читается относительно безопасным, хотя из него может выделяться формальдеги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мер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56000" y="1125000"/>
            <a:ext cx="4788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PVC или ПВ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винилхлорид. Используется для труб, трубок, садовой мебели, в напольных покрытиях, для оконных профилей, жалюзи, бутылок моющих средств и клеенки. Материал является потенциально опасными для пищевого использования, поскольку может содержать диоксины, бисфенол А, ртуть, кадм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щен для пищевого применения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мер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LDPE (ПВ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 низкой плотности высокого давления. Используется в производстве полиэтиленовых пакетов, гнущихся пластиковых упаковок и для изготовления изделий, допущенных для упаковки и укупорки лекарственных средст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сительно безопасен для пищевого применения, в редких случаях может выделять формальдеги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557360"/>
            <a:ext cx="4608720" cy="4896000"/>
            <a:chOff x="179280" y="1557360"/>
            <a:chExt cx="4608720" cy="48960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79280" y="1557360"/>
              <a:ext cx="460872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179280" y="1557360"/>
              <a:ext cx="460872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5:26:42Z</dcterms:created>
  <dc:creator>User</dc:creator>
  <dc:description/>
  <dc:language>en-US</dc:language>
  <cp:lastModifiedBy>User</cp:lastModifiedBy>
  <dcterms:modified xsi:type="dcterms:W3CDTF">2013-11-27T17:01:32Z</dcterms:modified>
  <cp:revision>2</cp:revision>
  <dc:subject/>
  <dc:title>Маркировка пластиковой посуды </dc:title>
</cp:coreProperties>
</file>