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BAE39-C357-4440-BD63-3E039A8FB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BF498-EC1F-4B93-A5D6-D8208ABB8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B7382-E810-43F4-9609-ACAA44BE8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276AA-7080-4499-A24E-CEEF98ECC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02E1F-9F8F-463A-BF5B-A457DDB82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91112-B950-47A6-9072-691D5116F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E30DC-E61C-4693-BD27-716395ACA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CDAF4-1180-48CC-A814-7EFF498B6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A3800-F39D-4049-8CA4-827DF56EF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D35CD-1601-4F31-96DF-B0126F149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1CDCA-EAEE-4003-BB1C-CFE7660F9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51422-9742-4C02-A32C-19BB94714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F0D6B-B575-486B-823B-6A51B99A69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26920" y="404280"/>
            <a:ext cx="7631280" cy="23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Маркировка пластиковой посуды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572000" y="2421000"/>
            <a:ext cx="4384800" cy="26892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11280" y="2565360"/>
            <a:ext cx="316872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060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Номер 5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457200" y="1600200"/>
            <a:ext cx="4040280" cy="4525920"/>
            <a:chOff x="457200" y="1600200"/>
            <a:chExt cx="4040280" cy="4525920"/>
          </a:xfrm>
        </p:grpSpPr>
        <p:pic>
          <p:nvPicPr>
            <p:cNvPr id="87" name="" descr=""/>
            <p:cNvPicPr/>
            <p:nvPr/>
          </p:nvPicPr>
          <p:blipFill>
            <a:blip r:embed="rId1"/>
            <a:stretch/>
          </p:blipFill>
          <p:spPr>
            <a:xfrm>
              <a:off x="457200" y="1600200"/>
              <a:ext cx="4040280" cy="452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"/>
            <p:cNvSpPr txBox="1"/>
            <p:nvPr/>
          </p:nvSpPr>
          <p:spPr>
            <a:xfrm>
              <a:off x="457200" y="1600200"/>
              <a:ext cx="4040280" cy="4525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80000"/>
                </a:lnSpc>
                <a:spcBef>
                  <a:spcPts val="24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284360" y="836640"/>
            <a:ext cx="460836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Эта маркировка означает, что посуда произведена на основе особой пластиковой массы – полипропилена и может применяться как тара для разогрева пищи в микроволновках. Он отличается большей упругостью, устойчивостью к повышенным температурам и заморозке, отлично удерживает тепло и не склонен к растрескиванию и оплавлению (выдерживает более 100 градусов). Обычное применение – как емкость для холодных и горячих продукт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Безопасность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 Довольно безопасен, но при определенных условиях может выделять формальдегид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060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Номер 6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457200" y="1600200"/>
            <a:ext cx="4040280" cy="4525920"/>
            <a:chOff x="457200" y="1600200"/>
            <a:chExt cx="4040280" cy="4525920"/>
          </a:xfrm>
        </p:grpSpPr>
        <p:pic>
          <p:nvPicPr>
            <p:cNvPr id="92" name="" descr=""/>
            <p:cNvPicPr/>
            <p:nvPr/>
          </p:nvPicPr>
          <p:blipFill>
            <a:blip r:embed="rId1"/>
            <a:stretch/>
          </p:blipFill>
          <p:spPr>
            <a:xfrm>
              <a:off x="457200" y="1600200"/>
              <a:ext cx="4040280" cy="452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 txBox="1"/>
            <p:nvPr/>
          </p:nvSpPr>
          <p:spPr>
            <a:xfrm>
              <a:off x="457200" y="1600200"/>
              <a:ext cx="4040280" cy="4525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80000"/>
                </a:lnSpc>
                <a:spcBef>
                  <a:spcPts val="4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427280" y="836640"/>
            <a:ext cx="453708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ак маркируется полистирол. Это означает, что такую посуду запрещено использовать для разогрева пищи в микроволновых печах, постольку поскольку это мягкий и хрупкий материал не выдерживает повышенных температур и может оплавиться выше 70 градусов. Также  стоит быть осторожными и с горячими напитками. Посуда, носящая такие обозначения, может быть применена только как тара для холодных продукт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Безопасность. 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ожет выделять стирол, поэтому одноразовая посуда и называется одноразовой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648320" y="620640"/>
            <a:ext cx="417168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PS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листирол Используется при изготовлении плит теплоизоляции зданий, пищевых упаковок, столовых приборов и чашек, коробок CD и прочих упаковок (пищевой плёнки и пеноматериалов), игрушек, посуды, ручек и так далее.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68360" y="1197000"/>
            <a:ext cx="4038480" cy="5184720"/>
            <a:chOff x="468360" y="1197000"/>
            <a:chExt cx="4038480" cy="518472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468360" y="1197000"/>
              <a:ext cx="4038480" cy="518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 txBox="1"/>
            <p:nvPr/>
          </p:nvSpPr>
          <p:spPr>
            <a:xfrm>
              <a:off x="468360" y="1197000"/>
              <a:ext cx="4038480" cy="5184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5268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Номер 7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646160" y="1600200"/>
            <a:ext cx="4040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. OTHER или 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очие. К этой группе относится любой другой пластик, который не может быть включен в предыдущие группы. поликарбонат не является токсичным для окружающей среды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457200" y="1600200"/>
            <a:ext cx="4040280" cy="4525920"/>
            <a:chOff x="457200" y="1600200"/>
            <a:chExt cx="4040280" cy="452592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457200" y="1600200"/>
              <a:ext cx="4040280" cy="452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 txBox="1"/>
            <p:nvPr/>
          </p:nvSpPr>
          <p:spPr>
            <a:xfrm>
              <a:off x="457200" y="1600200"/>
              <a:ext cx="4040280" cy="4525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624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575160" cy="400536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46160" y="1600200"/>
            <a:ext cx="4040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давляющее число производителей честно ставят маркировк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Если маркировки нет, то пластик однозначно опасен для здоровья.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2195640" y="3789360"/>
            <a:ext cx="2219040" cy="25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Альтернатива пластиковой посуде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250920" y="836640"/>
            <a:ext cx="3276360" cy="3672000"/>
            <a:chOff x="250920" y="836640"/>
            <a:chExt cx="3276360" cy="3672000"/>
          </a:xfrm>
        </p:grpSpPr>
        <p:pic>
          <p:nvPicPr>
            <p:cNvPr id="111" name="" descr=""/>
            <p:cNvPicPr/>
            <p:nvPr/>
          </p:nvPicPr>
          <p:blipFill>
            <a:blip r:embed="rId1"/>
            <a:stretch/>
          </p:blipFill>
          <p:spPr>
            <a:xfrm>
              <a:off x="250920" y="836640"/>
              <a:ext cx="3276360" cy="367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 txBox="1"/>
            <p:nvPr/>
          </p:nvSpPr>
          <p:spPr>
            <a:xfrm>
              <a:off x="250920" y="836640"/>
              <a:ext cx="3276360" cy="3672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90000"/>
                </a:lnSpc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646160" y="1600200"/>
            <a:ext cx="4040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место пластиковой посуды, ради своего здоровья, используйте посуду из бумаги. Она экологически безопасна и её применение безвредно для Вашего организм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763640" y="4065480"/>
            <a:ext cx="2952720" cy="27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648320" y="1197000"/>
            <a:ext cx="403848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Помните,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пищевой пластик, из которого сделана пластиковая посуда, произведенный с соблюдением всех правил и технологии совершенно безопасе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Выбирая такую посуду, в первую очередь обратите внимание на маркировку. Для пищевого пластика это изображение вилки и бокал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0" y="0"/>
            <a:ext cx="3830760" cy="4292640"/>
            <a:chOff x="0" y="0"/>
            <a:chExt cx="3830760" cy="4292640"/>
          </a:xfrm>
        </p:grpSpPr>
        <p:pic>
          <p:nvPicPr>
            <p:cNvPr id="47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3830760" cy="429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 txBox="1"/>
            <p:nvPr/>
          </p:nvSpPr>
          <p:spPr>
            <a:xfrm>
              <a:off x="0" y="0"/>
              <a:ext cx="3830760" cy="4292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1763640" y="3573360"/>
            <a:ext cx="3097440" cy="30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Значки вилка и бокал в квадратной окантовке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457200" y="1600200"/>
            <a:ext cx="4040280" cy="4525920"/>
            <a:chOff x="457200" y="1600200"/>
            <a:chExt cx="4040280" cy="4525920"/>
          </a:xfrm>
        </p:grpSpPr>
        <p:pic>
          <p:nvPicPr>
            <p:cNvPr id="52" name="" descr=""/>
            <p:cNvPicPr/>
            <p:nvPr/>
          </p:nvPicPr>
          <p:blipFill>
            <a:blip r:embed="rId1"/>
            <a:stretch/>
          </p:blipFill>
          <p:spPr>
            <a:xfrm>
              <a:off x="457200" y="1600200"/>
              <a:ext cx="4040280" cy="452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 txBox="1"/>
            <p:nvPr/>
          </p:nvSpPr>
          <p:spPr>
            <a:xfrm>
              <a:off x="457200" y="1600200"/>
              <a:ext cx="4040280" cy="4525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47960" y="1052640"/>
            <a:ext cx="424476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Такие нанесенные обозначения на одноразовую посуду говорят о том, что она может быть использована при непосредственном контакте с пищей и напитками. Это полностью пригодная тара: безопасная и не наносящая вред организму. Однако если подобные знаки перечеркнуты прямой линией, то это, наоборот, свидетельствует об осторожности в применении посуды, поскольку ее контакт с пищевыми продуктами строго запрещен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29152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Треугольник в виде стрелок (3 круговые стрелки)</a:t>
            </a: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457200" y="1600200"/>
            <a:ext cx="4040280" cy="4525920"/>
            <a:chOff x="457200" y="1600200"/>
            <a:chExt cx="4040280" cy="4525920"/>
          </a:xfrm>
        </p:grpSpPr>
        <p:pic>
          <p:nvPicPr>
            <p:cNvPr id="57" name="" descr=""/>
            <p:cNvPicPr/>
            <p:nvPr/>
          </p:nvPicPr>
          <p:blipFill>
            <a:blip r:embed="rId1"/>
            <a:stretch/>
          </p:blipFill>
          <p:spPr>
            <a:xfrm>
              <a:off x="457200" y="1600200"/>
              <a:ext cx="4040280" cy="452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 txBox="1"/>
            <p:nvPr/>
          </p:nvSpPr>
          <p:spPr>
            <a:xfrm>
              <a:off x="457200" y="1600200"/>
              <a:ext cx="4040280" cy="4525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80000"/>
                </a:lnSpc>
                <a:spcBef>
                  <a:spcPts val="45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427280" y="1125360"/>
            <a:ext cx="471636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добные знаки ставятся на посуде, произведенной из материалов вторичной переработки. Идущие друг за другом стрелы – это обозначения замкнутого цикла: изготовление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спользование/утилизация. Цифры внутри треугольника говорят о типе переработанного материал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-19 – пластик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0-39 – бумага и картон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40-49 – металл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50-59 – древесин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60-69 – ткани и текстиль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70-79 – стекло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иды пластмасс и их маркировка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уществует 7 видов маркировок. 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284360" y="1413000"/>
            <a:ext cx="460836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тличаются они только цифрами, каждая из которых соответствует определенному полимеру, из которого этот пластик и сделан. Под этими треугольниками могут содержаться дополнительные буквенные обозначения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ажно запомнить, что обозначают эти циф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457200" y="1268280"/>
            <a:ext cx="4038480" cy="5185080"/>
            <a:chOff x="457200" y="1268280"/>
            <a:chExt cx="4038480" cy="5185080"/>
          </a:xfrm>
        </p:grpSpPr>
        <p:pic>
          <p:nvPicPr>
            <p:cNvPr id="63" name="" descr=""/>
            <p:cNvPicPr/>
            <p:nvPr/>
          </p:nvPicPr>
          <p:blipFill>
            <a:blip r:embed="rId1"/>
            <a:stretch/>
          </p:blipFill>
          <p:spPr>
            <a:xfrm>
              <a:off x="457200" y="1268280"/>
              <a:ext cx="4038480" cy="51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 txBox="1"/>
            <p:nvPr/>
          </p:nvSpPr>
          <p:spPr>
            <a:xfrm>
              <a:off x="457200" y="1268280"/>
              <a:ext cx="4038480" cy="5185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6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Номер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356000" y="1267920"/>
            <a:ext cx="446400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PET или PETE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—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лиэтилентерефталат. Используется для изготовления упаковок (бутылок, коробок, банок и т.п.) для розлива прохладительных напитков, соков, воды. Также этот материал можно встретить в упаковках для разного рода порошков, сыпучих пищевых продуктов и т.д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Безопасность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Подходит ТОЛЬКО для однократного применения. При повтором применении могут выделяться фталат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503280" y="1655640"/>
            <a:ext cx="4033800" cy="4465800"/>
            <a:chOff x="503280" y="1655640"/>
            <a:chExt cx="4033800" cy="4465800"/>
          </a:xfrm>
        </p:grpSpPr>
        <p:pic>
          <p:nvPicPr>
            <p:cNvPr id="68" name="" descr=""/>
            <p:cNvPicPr/>
            <p:nvPr/>
          </p:nvPicPr>
          <p:blipFill>
            <a:blip r:embed="rId1"/>
            <a:stretch/>
          </p:blipFill>
          <p:spPr>
            <a:xfrm>
              <a:off x="503280" y="1655640"/>
              <a:ext cx="4033800" cy="446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503280" y="1655640"/>
              <a:ext cx="4033800" cy="4465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41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Номер 2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457200" y="1600200"/>
            <a:ext cx="4040280" cy="4525920"/>
            <a:chOff x="457200" y="1600200"/>
            <a:chExt cx="4040280" cy="4525920"/>
          </a:xfrm>
        </p:grpSpPr>
        <p:pic>
          <p:nvPicPr>
            <p:cNvPr id="72" name="" descr=""/>
            <p:cNvPicPr/>
            <p:nvPr/>
          </p:nvPicPr>
          <p:blipFill>
            <a:blip r:embed="rId1"/>
            <a:stretch/>
          </p:blipFill>
          <p:spPr>
            <a:xfrm>
              <a:off x="457200" y="1600200"/>
              <a:ext cx="4040280" cy="452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"/>
            <p:cNvSpPr txBox="1"/>
            <p:nvPr/>
          </p:nvSpPr>
          <p:spPr>
            <a:xfrm>
              <a:off x="457200" y="1600200"/>
              <a:ext cx="4040280" cy="4525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648320" y="981000"/>
            <a:ext cx="403848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. HDPE (ПНД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—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лиэтилен высокой плотности низкого давления. Используется для изготовления изделий контактирующих с пищевыми продуктами, для изготовления игрушек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Безопасность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Считается относительно безопасным, хотя из него может выделяться формальдегид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34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Номер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356000" y="1125000"/>
            <a:ext cx="47880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PVC или ПВХ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—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ливинилхлорид. Используется для труб, трубок, садовой мебели, в напольных покрытиях, для оконных профилей, жалюзи, бутылок моющих средств и клеенки. Материал является потенциально опасными для пищевого использования, поскольку может содержать диоксины, бисфенол А, ртуть, кадмий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Безопасность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прещен для пищевого применения. 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457200" y="1600200"/>
            <a:ext cx="4040280" cy="4525920"/>
            <a:chOff x="457200" y="1600200"/>
            <a:chExt cx="4040280" cy="4525920"/>
          </a:xfrm>
        </p:grpSpPr>
        <p:pic>
          <p:nvPicPr>
            <p:cNvPr id="78" name="" descr=""/>
            <p:cNvPicPr/>
            <p:nvPr/>
          </p:nvPicPr>
          <p:blipFill>
            <a:blip r:embed="rId1"/>
            <a:stretch/>
          </p:blipFill>
          <p:spPr>
            <a:xfrm>
              <a:off x="457200" y="1600200"/>
              <a:ext cx="4040280" cy="452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"/>
            <p:cNvSpPr txBox="1"/>
            <p:nvPr/>
          </p:nvSpPr>
          <p:spPr>
            <a:xfrm>
              <a:off x="457200" y="1600200"/>
              <a:ext cx="4040280" cy="4525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80000"/>
                </a:lnSpc>
                <a:spcBef>
                  <a:spcPts val="6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55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Номер 4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648320" y="981000"/>
            <a:ext cx="403848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LDPE (ПВД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—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лиэтилен низкой плотности высокого давления. Используется в производстве полиэтиленовых пакетов, гнущихся пластиковых упаковок и для изготовления изделий, допущенных для упаковки и укупорки лекарственных средств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Безопасность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тносительно безопасен для пищевого применения, в редких случаях может выделять формальдегид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179280" y="1557360"/>
            <a:ext cx="4608720" cy="4896000"/>
            <a:chOff x="179280" y="1557360"/>
            <a:chExt cx="4608720" cy="4896000"/>
          </a:xfrm>
        </p:grpSpPr>
        <p:pic>
          <p:nvPicPr>
            <p:cNvPr id="83" name="" descr=""/>
            <p:cNvPicPr/>
            <p:nvPr/>
          </p:nvPicPr>
          <p:blipFill>
            <a:blip r:embed="rId1"/>
            <a:stretch/>
          </p:blipFill>
          <p:spPr>
            <a:xfrm>
              <a:off x="179280" y="1557360"/>
              <a:ext cx="4608720" cy="489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"/>
            <p:cNvSpPr txBox="1"/>
            <p:nvPr/>
          </p:nvSpPr>
          <p:spPr>
            <a:xfrm>
              <a:off x="179280" y="1557360"/>
              <a:ext cx="4608720" cy="4896000"/>
            </a:xfrm>
            <a:prstGeom prst="rect">
              <a:avLst/>
            </a:prstGeom>
            <a:noFill/>
            <a:ln w="0">
              <a:noFill/>
            </a:ln>
          </p:spPr>
          <p:txBody>
            <a:bodyPr anchor="t">
              <a:norm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27T15:26:42Z</dcterms:created>
  <dc:creator>User</dc:creator>
  <dc:description/>
  <dc:language>en-US</dc:language>
  <cp:lastModifiedBy>User</cp:lastModifiedBy>
  <dcterms:modified xsi:type="dcterms:W3CDTF">2013-11-27T17:01:32Z</dcterms:modified>
  <cp:revision>2</cp:revision>
  <dc:subject/>
  <dc:title>Маркировка пластиковой посуды </dc:title>
</cp:coreProperties>
</file>