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2588-940B-43B7-957F-3ACE3806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07CB-F602-4119-B356-F230766E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403-1BF9-40AA-B5D0-D791C027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80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136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424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80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136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1AE-11D1-4D83-9DB4-105F0C79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236-EE3B-4CFB-930A-F972727A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6B4-ABB9-4937-AE7E-450B72E7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1F7-7C6C-4FAD-9CD0-A289261F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084-7BFF-4EA0-AF68-8A800507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E571-53F7-40E0-AB5D-060763C2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660D-A9EC-4AC0-B49D-8EC3E573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5F9-2A49-464A-80BF-9F66CF49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EC6-FDE5-4B22-9314-202E2BCB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5C41-1A30-4D7F-AA3F-B13166C46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"/>
          <p:cNvPicPr/>
          <p:nvPr/>
        </p:nvPicPr>
        <p:blipFill>
          <a:blip r:embed="rId1"/>
          <a:stretch/>
        </p:blipFill>
        <p:spPr>
          <a:xfrm>
            <a:off x="468360" y="3645000"/>
            <a:ext cx="2663640" cy="273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10920" y="475920"/>
            <a:ext cx="7848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Министерство образования Республики Мордов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Государственное бюджетное  учреждение профессионального образования Республики Мордов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«Рузаевский железнодорожно-промышленный технику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имени А.П. Байкузов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Открытое практическое занят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о математике и производственному обучению по профе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«Оператор электронного набора и верст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Тема: «Вычисление площадей плоских фигур по форму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Ньютона-Лейбница с применением технолог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электронного набора и верст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Авторы разработ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Лазарева Людмила Николаевн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преподаватель математик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Абаева Елена Федоровн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мастер производственного обучения по професси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«Оператор электронного набора и верст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Рузаевка,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831600"/>
            <a:ext cx="30243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диалоговом окне «Новая функция» необходимо задать функцию формул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Rectangle 4" descr=""/>
          <p:cNvPicPr/>
          <p:nvPr/>
        </p:nvPicPr>
        <p:blipFill>
          <a:blip r:embed="rId1"/>
          <a:srcRect l="0" t="0" r="55345" b="24610"/>
          <a:stretch/>
        </p:blipFill>
        <p:spPr>
          <a:xfrm>
            <a:off x="3564000" y="836640"/>
            <a:ext cx="4968720" cy="518472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1" descr=""/>
          <p:cNvPicPr/>
          <p:nvPr/>
        </p:nvPicPr>
        <p:blipFill>
          <a:blip r:embed="rId2"/>
          <a:stretch/>
        </p:blipFill>
        <p:spPr>
          <a:xfrm>
            <a:off x="682560" y="-55440"/>
            <a:ext cx="785196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ение графика функции в программе Живая Геомет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831600"/>
            <a:ext cx="26640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онтекстном меню выбрать команду «График функц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0" r="44276" b="29532"/>
          <a:stretch/>
        </p:blipFill>
        <p:spPr>
          <a:xfrm>
            <a:off x="2843280" y="765000"/>
            <a:ext cx="630072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тройка свойств линии граф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831600"/>
            <a:ext cx="20160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стройка свойств лин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нктир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нк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р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в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rcRect l="0" t="0" r="38741" b="10828"/>
          <a:stretch/>
        </p:blipFill>
        <p:spPr>
          <a:xfrm>
            <a:off x="2484360" y="692280"/>
            <a:ext cx="66596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волинейная трапеция в программе Живая Геометр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831600"/>
            <a:ext cx="24480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иволинейная трапеция  ограничена графиком непрерывной функ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ью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отрезками прямы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rcRect l="0" t="0" r="58112" b="29532"/>
          <a:stretch/>
        </p:blipFill>
        <p:spPr>
          <a:xfrm>
            <a:off x="2987640" y="765000"/>
            <a:ext cx="5450040" cy="532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900000" y="3068640"/>
                <a:ext cx="11527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кно программы Живая Геометр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26636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йти площадь фигуры, ограниченной осью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парабол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елы интегрирования можно найти из чертежа – это точки пересечения параболы с осью О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rcRect l="0" t="0" r="55345" b="19688"/>
          <a:stretch/>
        </p:blipFill>
        <p:spPr>
          <a:xfrm>
            <a:off x="3132000" y="692280"/>
            <a:ext cx="5810400" cy="58752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900000" y="2852640"/>
                <a:ext cx="13683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189000"/>
            <a:ext cx="8246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стольная издательская система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rosoft Publisher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5207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rcRect l="0" t="0" r="14766" b="34454"/>
          <a:stretch/>
        </p:blipFill>
        <p:spPr>
          <a:xfrm>
            <a:off x="826920" y="1413000"/>
            <a:ext cx="779472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Изображение 144"/>
          <p:cNvPicPr/>
          <p:nvPr/>
        </p:nvPicPr>
        <p:blipFill>
          <a:blip r:embed="rId1"/>
          <a:stretch/>
        </p:blipFill>
        <p:spPr>
          <a:xfrm>
            <a:off x="1030320" y="831960"/>
            <a:ext cx="708336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14240" y="831600"/>
            <a:ext cx="37864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ктическое занятие на тему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числение площадей плоских фигур по формуле Ньютона-Лейбница с применением технологий электронного набор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верст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Здесь что? Мысль роль мечты играл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Металл ей дал пустой релье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мысл — там, где змеи интегра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Меж цифр и букв, меж d и f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ам — власть, там творческие горны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ед волей числ мы все — раб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 солнца путь вершат, покорн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емым речам их ворожб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алерий  Брюс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1" descr=""/>
          <p:cNvPicPr/>
          <p:nvPr/>
        </p:nvPicPr>
        <p:blipFill>
          <a:blip r:embed="rId1"/>
          <a:stretch/>
        </p:blipFill>
        <p:spPr>
          <a:xfrm>
            <a:off x="4408560" y="1143000"/>
            <a:ext cx="4092480" cy="4643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4500720" y="765000"/>
            <a:ext cx="2036520" cy="279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"/>
          <p:cNvPicPr/>
          <p:nvPr/>
        </p:nvPicPr>
        <p:blipFill>
          <a:blip r:embed="rId3"/>
          <a:stretch/>
        </p:blipFill>
        <p:spPr>
          <a:xfrm>
            <a:off x="6516720" y="3284640"/>
            <a:ext cx="22320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ая функция называется первообразно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операция нахождения первообразно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твет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первообраз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 некотором промежутке, если для все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этого промежу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ация нахождения первообразной называется интегрирован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5"/>
              <p:cNvSpPr txBox="1"/>
              <p:nvPr/>
            </p:nvSpPr>
            <p:spPr>
              <a:xfrm>
                <a:off x="5076720" y="3789360"/>
                <a:ext cx="2016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0" name="Прямоугольник 1" descr=""/>
          <p:cNvPicPr/>
          <p:nvPr/>
        </p:nvPicPr>
        <p:blipFill>
          <a:blip r:embed="rId1"/>
          <a:stretch/>
        </p:blipFill>
        <p:spPr>
          <a:xfrm>
            <a:off x="682560" y="-79200"/>
            <a:ext cx="78519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йти первообразную степенной функции с показателе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любого действительног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ообразная ра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1187280" y="3500280"/>
                <a:ext cx="266400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8"/>
              <p:cNvSpPr txBox="1"/>
              <p:nvPr/>
            </p:nvSpPr>
            <p:spPr>
              <a:xfrm>
                <a:off x="1187280" y="1628640"/>
                <a:ext cx="18003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1187280" y="1628640"/>
                <a:ext cx="18003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1187280" y="1628640"/>
                <a:ext cx="18003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59" name="Прямоугольник 1" descr=""/>
          <p:cNvPicPr/>
          <p:nvPr/>
        </p:nvPicPr>
        <p:blipFill>
          <a:blip r:embed="rId1"/>
          <a:stretch/>
        </p:blipFill>
        <p:spPr>
          <a:xfrm>
            <a:off x="609480" y="-85680"/>
            <a:ext cx="78519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йти первообразную показательной функции с основание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ообразная ра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9"/>
              <p:cNvSpPr txBox="1"/>
              <p:nvPr/>
            </p:nvSpPr>
            <p:spPr>
              <a:xfrm>
                <a:off x="1258920" y="1773360"/>
                <a:ext cx="14414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11"/>
              <p:cNvSpPr txBox="1"/>
              <p:nvPr/>
            </p:nvSpPr>
            <p:spPr>
              <a:xfrm>
                <a:off x="4572000" y="3068640"/>
                <a:ext cx="1944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8" name="Прямоугольник 1" descr=""/>
          <p:cNvPicPr/>
          <p:nvPr/>
        </p:nvPicPr>
        <p:blipFill>
          <a:blip r:embed="rId1"/>
          <a:stretch/>
        </p:blipFill>
        <p:spPr>
          <a:xfrm>
            <a:off x="682560" y="-79200"/>
            <a:ext cx="77788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йти первообразную тригонометрической функции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ообразная ра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йти первообразную тригонометрической функции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ообразная ра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1"/>
              <p:cNvSpPr txBox="1"/>
              <p:nvPr/>
            </p:nvSpPr>
            <p:spPr>
              <a:xfrm>
                <a:off x="5867280" y="1268280"/>
                <a:ext cx="194472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3"/>
              <p:cNvSpPr txBox="1"/>
              <p:nvPr/>
            </p:nvSpPr>
            <p:spPr>
              <a:xfrm>
                <a:off x="4579920" y="2133720"/>
                <a:ext cx="223200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7"/>
              <p:cNvSpPr txBox="1"/>
              <p:nvPr/>
            </p:nvSpPr>
            <p:spPr>
              <a:xfrm>
                <a:off x="4546440" y="4941720"/>
                <a:ext cx="230508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9"/>
              <p:cNvSpPr txBox="1"/>
              <p:nvPr/>
            </p:nvSpPr>
            <p:spPr>
              <a:xfrm>
                <a:off x="5796000" y="3500280"/>
                <a:ext cx="18716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" name="Прямоугольник 1" descr=""/>
          <p:cNvPicPr/>
          <p:nvPr/>
        </p:nvPicPr>
        <p:blipFill>
          <a:blip r:embed="rId1"/>
          <a:stretch/>
        </p:blipFill>
        <p:spPr>
          <a:xfrm>
            <a:off x="682560" y="-66600"/>
            <a:ext cx="777888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13880" y="831600"/>
            <a:ext cx="38941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ая фигура называется криволинейной трапецие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волинейной трапецией называется фигура, ограниченная графиком непрерывной функц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резком ос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резками прямы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=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8" descr=""/>
          <p:cNvPicPr/>
          <p:nvPr/>
        </p:nvPicPr>
        <p:blipFill>
          <a:blip r:embed="rId1"/>
          <a:srcRect l="7613" t="20365" r="55829" b="5091"/>
          <a:stretch/>
        </p:blipFill>
        <p:spPr>
          <a:xfrm>
            <a:off x="4500720" y="907920"/>
            <a:ext cx="3816360" cy="453708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1" descr=""/>
          <p:cNvPicPr/>
          <p:nvPr/>
        </p:nvPicPr>
        <p:blipFill>
          <a:blip r:embed="rId2"/>
          <a:stretch/>
        </p:blipFill>
        <p:spPr>
          <a:xfrm>
            <a:off x="682560" y="-85680"/>
            <a:ext cx="78519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йти площадь криволинейной трапеци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щадь криволинейной трапеции можно вычислить по формуле Ньютона-Лейбниц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этой формуле разност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b)-F(a)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зывают интегралом от функц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a;b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1116000" y="2708280"/>
                <a:ext cx="626436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91" name="Прямоугольник 1" descr=""/>
          <p:cNvPicPr/>
          <p:nvPr/>
        </p:nvPicPr>
        <p:blipFill>
          <a:blip r:embed="rId1"/>
          <a:stretch/>
        </p:blipFill>
        <p:spPr>
          <a:xfrm>
            <a:off x="682560" y="-55440"/>
            <a:ext cx="77058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309564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задать систему координат и построить функцию в программе «Живая Геометрия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о выполнить следующие команды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рафики→Задать систему координ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рафики→Новая функ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Rectangle 4" descr=""/>
          <p:cNvPicPr/>
          <p:nvPr/>
        </p:nvPicPr>
        <p:blipFill>
          <a:blip r:embed="rId1"/>
          <a:srcRect l="0" t="0" r="27672" b="0"/>
          <a:stretch/>
        </p:blipFill>
        <p:spPr>
          <a:xfrm>
            <a:off x="3564000" y="765000"/>
            <a:ext cx="5294160" cy="540072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1" descr=""/>
          <p:cNvPicPr/>
          <p:nvPr/>
        </p:nvPicPr>
        <p:blipFill>
          <a:blip r:embed="rId2"/>
          <a:stretch/>
        </p:blipFill>
        <p:spPr>
          <a:xfrm>
            <a:off x="682560" y="-85680"/>
            <a:ext cx="813744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6T11:51:34Z</dcterms:created>
  <dc:creator>1</dc:creator>
  <dc:description>Шаблон оформления
Корпорация Майкрософт</dc:description>
  <dc:language>en-US</dc:language>
  <cp:lastModifiedBy>User</cp:lastModifiedBy>
  <dcterms:modified xsi:type="dcterms:W3CDTF">2016-09-23T17:17:12Z</dcterms:modified>
  <cp:revision>88</cp:revision>
  <dc:subject>Шаблон оформления</dc:subject>
  <dc:title>Презентация PowerPoint</dc:title>
</cp:coreProperties>
</file>