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2A5-2F90-4D96-990B-3A6FCF2D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11B-177F-41E4-BFBC-03ECE9EF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6B4-1B6D-4064-A235-08D1BBD0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80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360" y="83160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80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360" y="3606480"/>
            <a:ext cx="248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88D-7F42-4A15-BEFB-9B9BE89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924-7243-4A57-AC89-5EBEFC47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51D-F830-440E-990F-B2424D6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2D6-74BC-445D-87D9-13E41C57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719-2B6D-4F8E-BBCE-32C5449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-3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6C1-7BE9-4639-AC57-1BFA519E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A45-C625-46D3-9BB8-E0E6E57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0648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05B-A177-42C7-89A6-413E31D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831600"/>
            <a:ext cx="37648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606480"/>
            <a:ext cx="7715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250-1609-47E3-9925-B51BEBE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09F-E0BF-4654-9977-98374CA6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66364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7848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Министерство образования Республики Морд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Государственное бюджетное  учреждение профессионального образования Республики Морд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«Рузаевский железнодорожно-промышленный технику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имени А.П. Байкузо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ткрытое практическое заня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 математике и производственному обучению по профе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Оператор электронного набора и верст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Тема: «Вычисление площадей плоских фигур по форму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Ньютона-Лейбница с применением технолог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</a:rPr>
              <a:t>электронного набора и верст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Авторы разработ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Лазарева Людмила Николае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подаватель математи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Абаева Елена Федоро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астер производственного обучения по професс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«Оператор электронного набора и верс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Рузаевка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831600"/>
            <a:ext cx="30243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иалоговом окне «Новая функция» необходимо задать функцию форм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4" descr=""/>
          <p:cNvPicPr/>
          <p:nvPr/>
        </p:nvPicPr>
        <p:blipFill>
          <a:blip r:embed="rId1"/>
          <a:srcRect l="0" t="0" r="55345" b="24610"/>
          <a:stretch/>
        </p:blipFill>
        <p:spPr>
          <a:xfrm>
            <a:off x="3564000" y="836640"/>
            <a:ext cx="4968720" cy="51847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55440"/>
            <a:ext cx="78519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в программе Живая Геоме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831600"/>
            <a:ext cx="2664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текстном меню выбрать команду «График функ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44276" b="29532"/>
          <a:stretch/>
        </p:blipFill>
        <p:spPr>
          <a:xfrm>
            <a:off x="2843280" y="765000"/>
            <a:ext cx="630072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тройка свойств линии г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831600"/>
            <a:ext cx="2016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ройка свойств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нкти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н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0" t="0" r="38741" b="10828"/>
          <a:stretch/>
        </p:blipFill>
        <p:spPr>
          <a:xfrm>
            <a:off x="2484360" y="692280"/>
            <a:ext cx="6659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ая трапеция в программе Жив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831600"/>
            <a:ext cx="24480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волинейная трапеция  ограничена графиком непрерывной функ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езками прям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0" t="0" r="58112" b="29532"/>
          <a:stretch/>
        </p:blipFill>
        <p:spPr>
          <a:xfrm>
            <a:off x="2987640" y="765000"/>
            <a:ext cx="5450040" cy="532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00000" y="3068640"/>
                <a:ext cx="1152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кно программы Живая Геометр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26636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площадь фигуры, ограниченной ось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парабо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ы интегрирования можно найти из чертежа – это точки пересечения параболы с осью О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rcRect l="0" t="0" r="55345" b="19688"/>
          <a:stretch/>
        </p:blipFill>
        <p:spPr>
          <a:xfrm>
            <a:off x="3132000" y="692280"/>
            <a:ext cx="5810400" cy="5875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900000" y="2852640"/>
                <a:ext cx="13683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8900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тольная издательская систем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soft Publisher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5207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0" t="0" r="14766" b="34454"/>
          <a:stretch/>
        </p:blipFill>
        <p:spPr>
          <a:xfrm>
            <a:off x="826920" y="1413000"/>
            <a:ext cx="779472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Изображение 144"/>
          <p:cNvPicPr/>
          <p:nvPr/>
        </p:nvPicPr>
        <p:blipFill>
          <a:blip r:embed="rId1"/>
          <a:stretch/>
        </p:blipFill>
        <p:spPr>
          <a:xfrm>
            <a:off x="1030320" y="831960"/>
            <a:ext cx="70833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3786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ое занятие на тем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числение площадей плоских фигур по формуле Ньютона-Лейбница с применением технологий электронного наб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ерс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десь что? Мысль роль мечты играл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еталл ей дал пустой релье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мысл — там, где змеи интегр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Меж цифр и букв, меж d и f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ам — власть, там творческие горны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ед волей числ мы все — ра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 солнца путь вершат, покор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мым речам их ворож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рий  Брю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4408560" y="1143000"/>
            <a:ext cx="409248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2036520" cy="279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2232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я функция называется первообразн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операция нахождения первообразн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первообраз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некотором промежутке, если для все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этого промежу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я нахождения первообразной называется интегрир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5076720" y="3789360"/>
                <a:ext cx="2016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степенной функции с показател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любого действительн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187280" y="3500280"/>
                <a:ext cx="26640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187280" y="1628640"/>
                <a:ext cx="1800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-8568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показательной функции с основани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1258920" y="1773360"/>
                <a:ext cx="1441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1"/>
              <p:cNvSpPr txBox="1"/>
              <p:nvPr/>
            </p:nvSpPr>
            <p:spPr>
              <a:xfrm>
                <a:off x="4572000" y="3068640"/>
                <a:ext cx="194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79200"/>
            <a:ext cx="77788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тригонометрической функ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ервообразную тригонометрической функ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образная ра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1"/>
              <p:cNvSpPr txBox="1"/>
              <p:nvPr/>
            </p:nvSpPr>
            <p:spPr>
              <a:xfrm>
                <a:off x="5867280" y="1268280"/>
                <a:ext cx="194472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3"/>
              <p:cNvSpPr txBox="1"/>
              <p:nvPr/>
            </p:nvSpPr>
            <p:spPr>
              <a:xfrm>
                <a:off x="4579920" y="2133720"/>
                <a:ext cx="2232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7"/>
              <p:cNvSpPr txBox="1"/>
              <p:nvPr/>
            </p:nvSpPr>
            <p:spPr>
              <a:xfrm>
                <a:off x="4546440" y="4941720"/>
                <a:ext cx="23050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9"/>
              <p:cNvSpPr txBox="1"/>
              <p:nvPr/>
            </p:nvSpPr>
            <p:spPr>
              <a:xfrm>
                <a:off x="5796000" y="3500280"/>
                <a:ext cx="1871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77788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13880" y="831600"/>
            <a:ext cx="38941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фигура называется криволинейной трапеци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волинейной трапецией называется фигура, ограниченная графиком непрерывной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резком ос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резками прям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=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rcRect l="7613" t="20365" r="55829" b="5091"/>
          <a:stretch/>
        </p:blipFill>
        <p:spPr>
          <a:xfrm>
            <a:off x="4500720" y="907920"/>
            <a:ext cx="3816360" cy="4537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85680"/>
            <a:ext cx="78519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4240" y="831600"/>
            <a:ext cx="771552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йти площадь криволинейной трапец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щадь криволинейной трапеции можно вычислить по формуле Ньютона-Лейбниц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этой формуле разно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b)-F(a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зывают интегралом от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;b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116000" y="2708280"/>
                <a:ext cx="626436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91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55440"/>
            <a:ext cx="77058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30956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задать систему координат и построить функцию в программе «Живая Геометрия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выполнить следующие команды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фики→Задать систему коорди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фики→Новая фун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Rectangle 4" descr=""/>
          <p:cNvPicPr/>
          <p:nvPr/>
        </p:nvPicPr>
        <p:blipFill>
          <a:blip r:embed="rId1"/>
          <a:srcRect l="0" t="0" r="27672" b="0"/>
          <a:stretch/>
        </p:blipFill>
        <p:spPr>
          <a:xfrm>
            <a:off x="3564000" y="765000"/>
            <a:ext cx="5294160" cy="54007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-85680"/>
            <a:ext cx="81374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1:51:34Z</dcterms:created>
  <dc:creator>1</dc:creator>
  <dc:description>Шаблон оформления
Корпорация Майкрософт</dc:description>
  <dc:language>en-US</dc:language>
  <cp:lastModifiedBy>User</cp:lastModifiedBy>
  <dcterms:modified xsi:type="dcterms:W3CDTF">2016-09-23T17:17:12Z</dcterms:modified>
  <cp:revision>88</cp:revision>
  <dc:subject>Шаблон оформления</dc:subject>
  <dc:title>Презентация PowerPoint</dc:title>
</cp:coreProperties>
</file>