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12A8-A62C-47EA-BD5D-297CB91A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712C-DD47-4BF9-BE6D-82760DD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F63F-664D-4344-B5E7-31CE048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385A-FBC1-4675-B708-F3E95B0B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53F9-2FBE-4332-87CC-633B8B93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6727-17FC-4A6E-AAEB-4F1A8A63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AB0B-0DAC-4C04-8CFA-85BC466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DFCA-E819-40F4-84A9-8F6DADF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D5CE-22FB-40EC-9FBC-DF82E6E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FCF9-1450-4ACF-A3D6-076E7C0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C1FA-AA3A-4C7C-A08D-7FCCEB2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44CD-9977-4897-9678-0A9276E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5D74-245B-40B8-9958-13CC3824C2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08000" y="494172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умейко Алекс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удентка 1-го курса БГПОУ СПб Т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уппа №109 «Гостиничный сервис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сциплина «Иностранный язы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одаватель-Федянин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08000" y="114300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600"/>
                </a:solidFill>
                <a:latin typeface="Arial"/>
              </a:rPr>
              <a:t>Исчисляемые/неисчисляемые существитель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600"/>
                </a:solidFill>
                <a:latin typeface="Arial"/>
              </a:rPr>
              <a:t>Модальный глагол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288160" y="240516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78100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комство с правилом употребления модального глагола </a:t>
            </a: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shoul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нглийском язы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модального глагола </a:t>
            </a:r>
            <a:r>
              <a:rPr b="0" lang="ru-RU" sz="2000" spc="-1" strike="noStrike">
                <a:solidFill>
                  <a:srgbClr val="ff8600"/>
                </a:solidFill>
                <a:latin typeface="Arial"/>
              </a:rPr>
              <a:t>shoul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устной речи в вопросительных и отрицательных предлож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лексических навы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грамматических навы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337480" y="260280"/>
            <a:ext cx="50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одальный глагол </a:t>
            </a: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0" y="7509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льные глаголы существуют для того, чтобы выразить своё отношение к действ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обенности  модальных глаго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После модального глагола следует глагол в словарной форме (инфинитив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7000" y="371628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516920" y="3357720"/>
            <a:ext cx="3786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 + модальный гл.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509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Вам следует отдохну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315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86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8600"/>
                </a:solidFill>
                <a:latin typeface="Arial"/>
              </a:rPr>
              <a:t>Модальные глаголы не изменяются по временам:</a:t>
            </a:r>
            <a:br>
              <a:rPr sz="28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т формы буду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исоединяют к себе суффик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настоящем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меют форме прошедшего времени (Кроме глаголо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John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shoul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read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Джону следует больше читат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-6480" y="260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трицательных и вопросительных предложениях, а также кратких ответах, модальные глаголы заменяют вспомога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ицательное предлож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ildren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should not (shoul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n’t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eat many sw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етям не следует есть много сладк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600"/>
                </a:solidFill>
                <a:latin typeface="Arial"/>
              </a:rPr>
              <a:t>Вопросительное предложение:</a:t>
            </a:r>
            <a:br>
              <a:rPr sz="3600"/>
            </a:br>
            <a:endParaRPr b="0" lang="en-US" sz="2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Can you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ожете ли вы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Yes, I c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, 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Да, могу/ Нет, не мог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ow can you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к вы можете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ho can answer my ques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то может ответить на мой вопрос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1125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, рекоменд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дать совет или рекомендацию, используют глаго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at more veget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м следует есть больше овощ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ё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uld have eat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vitam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ам надо было есть больше витами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39640" y="190440"/>
            <a:ext cx="83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600"/>
                </a:solidFill>
                <a:latin typeface="Arial"/>
              </a:rPr>
              <a:t>Исчисляемые/неисчисляемые существи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907920"/>
          <a:ext cx="7920000" cy="337824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формы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, woman, child, fish, sheep, foot, tooth, mo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, women, children, fish, sheep, feet, teeth, m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, не имеющие формы единственного чи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ssors, glasses, jeans, trousers, clothes, police, peo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f7eae7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, не имеющие формы множественного чи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air, show, milk, tea, coffee, money, hair, news, inform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610c"/>
                      </a:solidFill>
                    </a:lnL>
                    <a:lnR w="5760">
                      <a:solidFill>
                        <a:srgbClr val="d2610c"/>
                      </a:solidFill>
                    </a:lnR>
                    <a:lnT w="5760">
                      <a:solidFill>
                        <a:srgbClr val="d2610c"/>
                      </a:solidFill>
                    </a:lnT>
                    <a:lnB w="5760">
                      <a:solidFill>
                        <a:srgbClr val="d2610c"/>
                      </a:solidFill>
                    </a:lnB>
                    <a:solidFill>
                      <a:srgbClr val="eed2cc"/>
                    </a:solidFill>
                  </a:tcPr>
                </a:tc>
              </a:tr>
            </a:tbl>
          </a:graphicData>
        </a:graphic>
      </p:graphicFrame>
      <p:sp>
        <p:nvSpPr>
          <p:cNvPr id="60" name="Прямая соединительная линия 4"/>
          <p:cNvSpPr/>
          <p:nvPr/>
        </p:nvSpPr>
        <p:spPr>
          <a:xfrm>
            <a:off x="3232080" y="2565360"/>
            <a:ext cx="2303640" cy="57636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6"/>
          <p:cNvSpPr/>
          <p:nvPr/>
        </p:nvSpPr>
        <p:spPr>
          <a:xfrm flipH="1">
            <a:off x="3200400" y="2565360"/>
            <a:ext cx="2016000" cy="57636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5724360" y="3500280"/>
            <a:ext cx="2303640" cy="64944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H="1">
            <a:off x="5866920" y="3500280"/>
            <a:ext cx="2233800" cy="649440"/>
          </a:xfrm>
          <a:prstGeom prst="line">
            <a:avLst/>
          </a:prstGeom>
          <a:ln w="28440">
            <a:solidFill>
              <a:srgbClr val="d261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600"/>
                </a:solidFill>
                <a:latin typeface="Arial"/>
              </a:rPr>
              <a:t>Список использованных печатных источников</a:t>
            </a:r>
            <a:r>
              <a:rPr b="1" lang="en-US" sz="3600" spc="-1" strike="noStrike">
                <a:solidFill>
                  <a:srgbClr val="ff8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Virginia Evans, Jenny Dooley.Enterprise Elementary 2 Coursebook. Express Publishing. 20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149 ст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 R.  Murphy. Grammar in Use. CAMBRIDGE University Press, 20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32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8T16:37:09Z</dcterms:created>
  <dc:creator>Александра</dc:creator>
  <dc:description/>
  <dc:language>en-US</dc:language>
  <cp:lastModifiedBy>Mara</cp:lastModifiedBy>
  <dcterms:modified xsi:type="dcterms:W3CDTF">2016-09-23T11:57:35Z</dcterms:modified>
  <cp:revision>6</cp:revision>
  <dc:subject/>
  <dc:title>Презентация PowerPoint</dc:title>
</cp:coreProperties>
</file>