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097-E85F-4C8B-AA6F-A72CE7A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59D-D123-4F7D-A113-B3CC3FF0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8BE-B7BC-46A7-806F-6340F206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C3E-1813-4702-B7A3-F8FBE25B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EC0-B552-4D10-AB87-EA0CE28D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5FB-8473-48BD-BAE0-F4ADCDB1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222-5226-42CC-AD8D-72789D55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866-B46D-4B08-A770-71BACE3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5A4-E770-44E5-929B-ECA1F703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7F7-0103-4FF2-89DE-E82F88E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847-1BAB-4CFA-BF90-A47A2707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5ED-01D1-4245-8AC0-98CA975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E11-77FC-4C9B-8835-F4F105703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87;&#1088;&#1077;&#1079;&#1077;&#1085;&#1090;&#1072;&#1094;&#1080;&#1103;4444.doc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cfa5"/>
            </a:gs>
            <a:gs pos="100000">
              <a:srgbClr val="a186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404640"/>
            <a:ext cx="85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менная штукатурк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1989000"/>
            <a:ext cx="3708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менные штукатурки имитируют облицовочный природный камень (гран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рамор, известняк, туф). Этими штукатурками отделывают поверхности из тяжелого, плотного бетона, кирпича. Эти штукатурки наносят на грунты из цементных растворов. Их обрабатывают в затвердевшем состоянии наковкой бучардами, зубилами, зубчат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460836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3924360" y="5300640"/>
            <a:ext cx="460836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4535280" cy="1366560"/>
          </a:xfrm>
          <a:prstGeom prst="rect">
            <a:avLst/>
          </a:prstGeom>
          <a:ln w="0">
            <a:noFill/>
          </a:ln>
        </p:spPr>
      </p:pic>
      <p:pic>
        <p:nvPicPr>
          <p:cNvPr id="46" name="10. Bad Stone.mp3" descr=""/>
          <p:cNvPicPr/>
          <p:nvPr/>
        </p:nvPicPr>
        <p:blipFill>
          <a:blip r:embed="rId6"/>
          <a:stretch/>
        </p:blipFill>
        <p:spPr>
          <a:xfrm>
            <a:off x="83883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258920" y="260280"/>
            <a:ext cx="6769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 тесаный песча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50920" y="2133720"/>
            <a:ext cx="86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получения этой фактуры с поверхности толстого слоя терразита скалывают зубилом верхний слой штукату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03280" y="3197160"/>
            <a:ext cx="61214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95280" y="189000"/>
            <a:ext cx="80661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  рваный  ка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162864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тобы получить эту фактуру, в свеженанесенный слой грунта втапливают в различных местах щебенку и забрасывают её терразитовым раствором, который затем обрабатывают циклей или щеткой. После обработки поверхности обметают ве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>
            <a:grayscl/>
          </a:blip>
          <a:srcRect l="55815" t="6874" r="12995" b="53796"/>
          <a:stretch/>
        </p:blipFill>
        <p:spPr>
          <a:xfrm>
            <a:off x="1908000" y="3213000"/>
            <a:ext cx="5185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40"/>
                            </p:stCondLst>
                            <p:childTnLst>
                              <p:par>
                                <p:cTn id="3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33b"/>
            </a:gs>
            <a:gs pos="50000">
              <a:srgbClr val="f6f97f"/>
            </a:gs>
            <a:gs pos="100000">
              <a:srgbClr val="7273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50920" y="260280"/>
            <a:ext cx="84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вестково-песчаная штукатур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9280" y="2266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Эти штукатурки применяют для отделки кирпичных стен. Их изготовляют из известкового теста с добавкой цемента, кварцевого песка и пигмента. Эти штукатурки обрабатывают в пластичном состоянии, предавая им гладкую или другую фак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>
            <a:grayscl/>
            <a:lum bright="18000"/>
          </a:blip>
          <a:srcRect l="55815" t="53052" r="24486" b="659"/>
          <a:stretch/>
        </p:blipFill>
        <p:spPr>
          <a:xfrm>
            <a:off x="2743200" y="3505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33b"/>
            </a:gs>
            <a:gs pos="50000">
              <a:srgbClr val="f6f97f"/>
            </a:gs>
            <a:gs pos="100000">
              <a:srgbClr val="7273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692360" y="189000"/>
            <a:ext cx="5192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ботка циклям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3">
            <a:grayscl/>
            <a:lum bright="12000"/>
          </a:blip>
          <a:srcRect l="0" t="18376" r="57319" b="51687"/>
          <a:stretch/>
        </p:blipFill>
        <p:spPr>
          <a:xfrm>
            <a:off x="533520" y="2900520"/>
            <a:ext cx="8089920" cy="32716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28600" y="2133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верхность разбивают на квадраты, делают насечки цик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33b"/>
            </a:gs>
            <a:gs pos="50000">
              <a:srgbClr val="f6f97f"/>
            </a:gs>
            <a:gs pos="100000">
              <a:srgbClr val="7273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908000" y="189000"/>
            <a:ext cx="51260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ка штампом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Эта отделка даёт возможность получить на штукатурке одинаковые повторяющиеся фигуры. По сырому раствору прикладывают штамп. Глубина рельефа рисунка не должна превышать 5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>
            <a:grayscl/>
            <a:lum bright="18000"/>
          </a:blip>
          <a:srcRect l="0" t="57843" r="60603" b="2787"/>
          <a:stretch/>
        </p:blipFill>
        <p:spPr>
          <a:xfrm>
            <a:off x="2916360" y="3357720"/>
            <a:ext cx="3528720" cy="179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414520" cy="224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6732720" y="4221000"/>
            <a:ext cx="2195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5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33b"/>
            </a:gs>
            <a:gs pos="50000">
              <a:srgbClr val="f6f97f"/>
            </a:gs>
            <a:gs pos="100000">
              <a:srgbClr val="7273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979640" y="189000"/>
            <a:ext cx="489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делка валик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79280" y="2205000"/>
            <a:ext cx="172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 сырую штукатурку прикладывают правило и делают полосы вал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>
            <a:grayscl/>
          </a:blip>
          <a:srcRect l="7973" t="17564" r="20266" b="12165"/>
          <a:stretch/>
        </p:blipFill>
        <p:spPr>
          <a:xfrm>
            <a:off x="2411280" y="1557360"/>
            <a:ext cx="5905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33b"/>
            </a:gs>
            <a:gs pos="50000">
              <a:srgbClr val="f6f97f"/>
            </a:gs>
            <a:gs pos="100000">
              <a:srgbClr val="7273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908000" y="0"/>
            <a:ext cx="5672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делка набрызго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1700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верхность под этот вид отделки выравнивают грунтом, а затем на ней бороздки. Набрызг через сетку выполняют так: раствор набрасывают кельмой с сокола через сетку. Проходя через неё раствор разрезается и распределяется по поверхности бугорками. Набрызг с веника выполняют так: в правую руку берут обрубленный веник, в левую – палку. Веник с раствором подносят к стене и ударяют о палку, стряхивая раствор. На поверхности образуется фактура «под шуб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>
            <a:grayscl/>
          </a:blip>
          <a:srcRect l="11493" t="34653" r="68814" b="41530"/>
          <a:stretch/>
        </p:blipFill>
        <p:spPr>
          <a:xfrm>
            <a:off x="324000" y="4365720"/>
            <a:ext cx="2592360" cy="237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rcRect l="24625" t="69242" r="55681" b="13410"/>
          <a:stretch/>
        </p:blipFill>
        <p:spPr>
          <a:xfrm>
            <a:off x="3124080" y="4419720"/>
            <a:ext cx="424980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>
            <a:grayscl/>
            <a:lum bright="18000"/>
          </a:blip>
          <a:srcRect l="0" t="67202" r="81946" b="6781"/>
          <a:stretch/>
        </p:blipFill>
        <p:spPr>
          <a:xfrm>
            <a:off x="7543800" y="4495680"/>
            <a:ext cx="1371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656520" y="259920"/>
            <a:ext cx="534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РИПТОГРАММА «ДЕКОРАТИВНЫЕ ШТУКАТУР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-324000" y="333360"/>
          <a:ext cx="8713800" cy="4664160"/>
        </p:xfrm>
        <a:graphic>
          <a:graphicData uri="http://schemas.openxmlformats.org/drawingml/2006/table">
            <a:tbl>
              <a:tblPr/>
              <a:tblGrid>
                <a:gridCol w="576360"/>
                <a:gridCol w="461880"/>
                <a:gridCol w="533520"/>
                <a:gridCol w="533520"/>
                <a:gridCol w="531720"/>
                <a:gridCol w="506520"/>
                <a:gridCol w="506160"/>
                <a:gridCol w="506520"/>
                <a:gridCol w="504720"/>
                <a:gridCol w="506520"/>
                <a:gridCol w="506520"/>
                <a:gridCol w="507960"/>
                <a:gridCol w="506520"/>
                <a:gridCol w="506160"/>
                <a:gridCol w="506520"/>
                <a:gridCol w="395280"/>
                <a:gridCol w="61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19"/>
          <p:cNvSpPr/>
          <p:nvPr/>
        </p:nvSpPr>
        <p:spPr>
          <a:xfrm>
            <a:off x="3710520" y="4503960"/>
            <a:ext cx="5688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инструмент для выполнения повторяющегося рису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штукатур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 – слой штукатурного нам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– инструмент для отделки известково-песчаной штукату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– металлический молоток с зубцами на торц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– декоративная штукату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 – вяжущее ве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 – вид фактуры каменной штукату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 – инструмент с тремя зубчиками на лез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стальная пластина с зубцами с одной стороны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0"/>
          <p:cNvSpPr/>
          <p:nvPr/>
        </p:nvSpPr>
        <p:spPr>
          <a:xfrm>
            <a:off x="324000" y="333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  Т     А   М   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1"/>
          <p:cNvSpPr/>
          <p:nvPr/>
        </p:nvSpPr>
        <p:spPr>
          <a:xfrm>
            <a:off x="2411280" y="83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  Б    Р   Ы   З   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2"/>
          <p:cNvSpPr/>
          <p:nvPr/>
        </p:nvSpPr>
        <p:spPr>
          <a:xfrm>
            <a:off x="1258920" y="141300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3"/>
          <p:cNvSpPr/>
          <p:nvPr/>
        </p:nvSpPr>
        <p:spPr>
          <a:xfrm>
            <a:off x="1332000" y="141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4"/>
          <p:cNvSpPr/>
          <p:nvPr/>
        </p:nvSpPr>
        <p:spPr>
          <a:xfrm>
            <a:off x="140328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  А    Л    И 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5"/>
          <p:cNvSpPr/>
          <p:nvPr/>
        </p:nvSpPr>
        <p:spPr>
          <a:xfrm>
            <a:off x="1835280" y="1916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   У    Ч    А   Р    Д 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6"/>
          <p:cNvSpPr/>
          <p:nvPr/>
        </p:nvSpPr>
        <p:spPr>
          <a:xfrm>
            <a:off x="2411280" y="2421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  Е    Р   Р   А    З    И   Т    О   В    А  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7"/>
          <p:cNvSpPr/>
          <p:nvPr/>
        </p:nvSpPr>
        <p:spPr>
          <a:xfrm>
            <a:off x="87948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8"/>
          <p:cNvSpPr/>
          <p:nvPr/>
        </p:nvSpPr>
        <p:spPr>
          <a:xfrm>
            <a:off x="1835280" y="29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    Е    М   Е   Н   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9"/>
          <p:cNvSpPr/>
          <p:nvPr/>
        </p:nvSpPr>
        <p:spPr>
          <a:xfrm>
            <a:off x="1332000" y="3429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   Т    Р    И   Х   О    В   К  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0"/>
          <p:cNvSpPr/>
          <p:nvPr/>
        </p:nvSpPr>
        <p:spPr>
          <a:xfrm>
            <a:off x="1258920" y="4005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  Р    О   Я    Н   К 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1"/>
          <p:cNvSpPr/>
          <p:nvPr/>
        </p:nvSpPr>
        <p:spPr>
          <a:xfrm>
            <a:off x="133200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    И    К    Л  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>
            <a:grayscl/>
            <a:lum bright="12000"/>
          </a:blip>
          <a:srcRect l="55816" t="41090" r="31056" b="33040"/>
          <a:stretch/>
        </p:blipFill>
        <p:spPr>
          <a:xfrm>
            <a:off x="457200" y="1371600"/>
            <a:ext cx="3220920" cy="243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>
            <a:grayscl/>
            <a:lum bright="12000"/>
          </a:blip>
          <a:srcRect l="72236" t="41122" r="19563" b="33027"/>
          <a:stretch/>
        </p:blipFill>
        <p:spPr>
          <a:xfrm>
            <a:off x="6019920" y="1523880"/>
            <a:ext cx="942840" cy="2514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4">
            <a:grayscl/>
            <a:lum bright="6000"/>
          </a:blip>
          <a:srcRect l="75515" t="23799" r="1504" b="63365"/>
          <a:stretch/>
        </p:blipFill>
        <p:spPr>
          <a:xfrm>
            <a:off x="2286000" y="4648320"/>
            <a:ext cx="350532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cfa5"/>
            </a:gs>
            <a:gs pos="100000">
              <a:srgbClr val="a186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324000" y="404640"/>
            <a:ext cx="8569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ды штукат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19320" y="533412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подав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лошина Г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3657600" y="3581280"/>
            <a:ext cx="3046320" cy="150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5715000" y="5334120"/>
            <a:ext cx="30463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297360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10. Bad Stone.mp3" descr=""/>
          <p:cNvPicPr/>
          <p:nvPr/>
        </p:nvPicPr>
        <p:blipFill>
          <a:blip r:embed="rId6"/>
          <a:stretch/>
        </p:blipFill>
        <p:spPr>
          <a:xfrm>
            <a:off x="83883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cfa5"/>
            </a:gs>
            <a:gs pos="100000">
              <a:srgbClr val="736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195640" y="260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Под шубу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284640"/>
            <a:ext cx="844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у отделку выполняют бучардой. Бучарду держат обеими руками и равномерными ударами насекают поверхность штукатурки, От удара зубья бучарды врезаются в поверхность, скалывают верхний слой раствора и часть зерен крошки, которые начинают искрится и блест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012000" y="491328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664000" cy="173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68360" y="4848120"/>
            <a:ext cx="247788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5940360" y="1413000"/>
            <a:ext cx="2808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cfa5"/>
            </a:gs>
            <a:gs pos="100000">
              <a:srgbClr val="736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771640" y="189000"/>
            <a:ext cx="338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в шашку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191628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верхность делят на клетки с помощью правила, После этого каждую обрабатывают троянкой во взаимно перпендикулярном направлении, но так, чтобы выполненная фактура не захватывала другие клетки. Также можно применять комбинированный способ: одну клетку насекают бучардой « по шубу», другую – троянкой в форме бороз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2124000" cy="130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843280" y="4365720"/>
            <a:ext cx="3166920" cy="158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6443640" y="5084640"/>
            <a:ext cx="2087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cfa5"/>
            </a:gs>
            <a:gs pos="100000">
              <a:srgbClr val="736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835280" y="0"/>
            <a:ext cx="5535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од рваный камень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177336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поверхность наносят слой штукатурного раствора толщиной 40 – 50мм, затем нанесенный раствор разбивают на камни, прорубают русты и начинают обработку. В затвердевшую штукатурку вбивают в различных местах, зубило и наносят молотком по его концу боковые удары, вырывая куски раствора: на поверхности штукатурки образуются значительные неровности (ск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>
            <a:grayscl/>
          </a:blip>
          <a:srcRect l="55815" t="6874" r="12995" b="53796"/>
          <a:stretch/>
        </p:blipFill>
        <p:spPr>
          <a:xfrm>
            <a:off x="539640" y="4076640"/>
            <a:ext cx="41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cfa5"/>
            </a:gs>
            <a:gs pos="100000">
              <a:srgbClr val="736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50920" y="404640"/>
            <a:ext cx="79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Штриховкой в полос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206064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верхность с помощью шнура делят на камни. Между камнями пробивают прямоугольные русты стальной линейкой по не затвердевшему раствору или зубилом по затвердевшему раствору. Затем отбивают линии, ограничивающие ленты, и линии, обозначающие рад штрихов. Сделав насечку штрихов, по всем камням пробивают русты. Линию рустов обрабатывают зубилом. Зубило держат под углом 60 – 70 градусов к поверхности, чтобы получились чистые и ровные ру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79640" y="4797360"/>
            <a:ext cx="4680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2f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 rot="20798400">
            <a:off x="1258920" y="620640"/>
            <a:ext cx="741672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284000"/>
                </a:gradFill>
                <a:latin typeface="Impact"/>
              </a:rPr>
              <a:t>Терразитовая штукату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284000"/>
              </a:gradFill>
              <a:latin typeface="Impact"/>
              <a:ea typeface="Impact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2421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Эти штукатурки применяют для отделки стен, колонн, цоколей и других частей капитальных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>
            <a:grayscl/>
            <a:lum bright="12000"/>
          </a:blip>
          <a:srcRect l="763" t="21039" r="70402" b="53626"/>
          <a:stretch/>
        </p:blipFill>
        <p:spPr>
          <a:xfrm>
            <a:off x="611280" y="3645000"/>
            <a:ext cx="5400720" cy="273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>
            <a:grayscl/>
            <a:lum bright="12000"/>
          </a:blip>
          <a:srcRect l="31144" t="19518" r="57596" b="51687"/>
          <a:stretch/>
        </p:blipFill>
        <p:spPr>
          <a:xfrm>
            <a:off x="6877080" y="3645000"/>
            <a:ext cx="1808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971640" y="476280"/>
            <a:ext cx="612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иклеванная поверхнос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50920" y="220500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 легком нажиме на циклю мраморная крошка и песок осыпаются, оставляя гнёзда большего или меньшего размера и тем самым образуя шероховатую поверхность. Фактура при циклевании терразитовой штукатурки зависит от величины зубьев цикли и крупности заполнителя. Цикля зубьями врезается в поверхность и снимает затертую плёнку; при этом обнажаются слюда и крошка. Циклевать нужно в од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>
            <a:grayscl/>
            <a:lum bright="12000"/>
          </a:blip>
          <a:srcRect l="80440" t="62504" r="6430" b="23709"/>
          <a:stretch/>
        </p:blipFill>
        <p:spPr>
          <a:xfrm>
            <a:off x="1763640" y="465300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>
            <a:grayscl/>
            <a:lum bright="12000"/>
          </a:blip>
          <a:srcRect l="70592" t="9598" r="0" b="80682"/>
          <a:stretch/>
        </p:blipFill>
        <p:spPr>
          <a:xfrm>
            <a:off x="0" y="5560920"/>
            <a:ext cx="489744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>
            <a:grayscl/>
            <a:lum bright="12000"/>
          </a:blip>
          <a:srcRect l="763" t="21039" r="70402" b="53626"/>
          <a:stretch/>
        </p:blipFill>
        <p:spPr>
          <a:xfrm>
            <a:off x="5076720" y="4795920"/>
            <a:ext cx="40672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476360" y="18900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 шуб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1557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Эту поверхность обрабатывают с помощью цикле и правила, сильно нажимают на циклю не рекомендуется; она должна двигаться плавно, без рывков. Цикля зубьями врезается в поверхность и снимает верхний слой, при этом обнажается слюда и крошка. Можно эту фактуру получить и более простым способом – механизированным нанесением цветной накрывки непосредственно на оштукатуриваемую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381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0:07:08Z</dcterms:created>
  <dc:creator>uch</dc:creator>
  <dc:description/>
  <dc:language>en-US</dc:language>
  <cp:lastModifiedBy>User</cp:lastModifiedBy>
  <dcterms:modified xsi:type="dcterms:W3CDTF">2016-09-23T10:20:45Z</dcterms:modified>
  <cp:revision>17</cp:revision>
  <dc:subject/>
  <dc:title>Слайд 1</dc:title>
</cp:coreProperties>
</file>