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C21-D85C-4B43-B6D1-009BCAF8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7CD-59D1-4CC1-B5C1-004ED0D2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B9996-07C9-4A66-8D20-7712251A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CA6C4-5237-476A-BC61-275573B4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51E6C-F1BF-4FAC-ABE0-8D2A9321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C32CB-3AE7-41FA-89A7-9CA0D3D3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35111-71A9-4811-A8DB-4FAF005E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8B02A-03E7-453F-B67F-8794800D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6942E-C06B-45A7-916D-A9533E11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72B31-BDC1-4687-A98D-C5C15525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28F6B-3EEE-4C46-84F8-482AAD68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ECE-7641-4AA5-8597-45D321CF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642-3C8A-4E45-9401-8A955417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2B18-B460-4529-B22A-85735653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8D1E-ECD9-4E77-85D8-EAA529B3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0978-2AF0-4BB3-9AD9-E6E680CD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D76A-4599-4A26-AFCB-CC65D67C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1690-7A37-4FF8-923B-0ADBCC5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5A77-7653-484A-B364-5E89A173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0AF8-8D1D-4A58-BEE9-4C81124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48B-8C7D-4A32-9D76-AB222F54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A55C-ADBF-4666-9FFA-5AB6BFE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B426-E626-4E0F-BF7B-1A8A2970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E534-4DD4-464F-BEF2-FD482CC8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20A5-DC84-4D10-ACF5-1F983352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834F-1542-4139-873E-82BC2990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BE18D-17E7-49DA-8655-878529B8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90D3D-EE22-4C8C-8D2A-9D3D8E55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CDDCD-121F-4880-A5E0-A00F96EA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E12B-09AC-4B11-9173-A37C7F90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92F7-04D4-4ECE-8C3A-83F37921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811-DCBF-4E2D-96E6-EFB383D5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7F11-22DA-4A0E-8674-D578EBE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35DD-7821-4876-B120-625D8B0E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6F175-1B3B-478B-96F3-BD60E65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B404-0257-4ED4-A021-436A9B50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A810B-E2B1-4236-B466-6C2B196A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ECEF4-B217-440F-BEED-1894BB95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5881E-F7DB-4703-AB8E-819637BB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46DD2-6F80-4199-8677-A8D8B24A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30A70-ECA8-4189-99AE-7764F02B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74A1F-DDB1-47D8-BF82-2C2EEB11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5C1-32ED-4BCA-AC57-4A9FE955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D30F0-DD01-4747-91E8-87546823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820C9-12E1-4737-9882-A159CDDE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D234C-73D8-45F0-8DD6-C7A9068A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8837-56E4-47CB-ABE1-383060AC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00AD0-681B-4900-B702-A6F91FF2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DA0CE-C277-42A6-A7C1-CC555724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13CB7-7C9C-4283-BC40-744F168A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893B3-79EB-46C4-8C21-EDF81061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06F01-9AC0-4E85-964B-7A0B5FBA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40E6E-76D1-4421-B38D-0AB89866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A2B-9445-4D69-8AD5-D56C41D4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99752-E1FB-410B-A9E8-E1E5BD91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E0896-9A95-4CE7-8DBF-E52CFEBE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48BA2-F8B2-4A27-97FA-4A1DE55E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87643-2D11-4235-B287-50DAE9F0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B8CE6-6C46-4FA0-ADB9-16317158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61374-99A3-400A-A928-88A9FA53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583AC-7241-4D69-8F50-5FD300EA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EAC1-58C0-4B23-83C3-BC009BDB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8E58E-DFF1-4B2A-8055-5A6D18F6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7DDAA-4FDE-42EF-BDD4-7354084F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F3E-D7A9-4840-A809-0FE56B6A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18A1-D0D0-4E45-A549-8F59FE21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ABB2-A616-4E4C-9610-DCEEFC4C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C9C4-3D74-4958-B9C3-D402FA92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CE099-CBC4-4CE3-AE9D-4B38F8BE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FD838-3753-4694-89E3-82406642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30546-EE1F-45CB-8D8F-0CEC8B02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D5152-B957-46F7-92E6-E70FEE21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4E385-9AC5-4082-BE99-198E0BAD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BBAF1-C8AA-408B-B2DD-45FE992C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99419-8043-44E9-A6CA-4120AF67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1F7-4C09-4DE0-8E60-37B4E7EC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8D8BC-DECD-4138-8335-0C3D52B0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95B25-6C13-422F-8FF6-E12F53E3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61529-D467-48AD-9515-74A754DF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4EAB0-0B6D-4D18-81BB-4C4E245A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130B2-C45B-48D1-9FED-F4E13C01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DD4AC-9541-49A2-ACD6-4DFAEF9E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0E78A-FADA-4DB3-BDA8-F6E99BD2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840DE-E008-46A1-A7A4-5F33C502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E1BB-770A-49E7-B1BF-BC57D339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EFDF-87ED-48E7-A791-AA5A85CD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1A7-65D6-4C95-91EE-31111E41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C0539-443F-4AA6-BB56-57EF4F91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9DB3C-14B9-41D7-90DF-DF3F5A38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33FBC-C995-43B9-9F78-64DE2E24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DC729-696D-432E-BAB4-03B3AB5C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4C4AE-E5BC-448E-B953-70BA81BD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A8572-FEAB-42FA-8822-C6E6653E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6EFB9-44E1-482C-BE96-423B50BC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8AF45-2270-4E8B-989A-62F8CDFF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B829C-B1AE-4156-AC30-16A537AF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9735D-8A28-4E93-86B9-28CD2278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CFA-1F6E-4CE4-BC83-A125A90D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D75B7-A612-4EE7-B6EC-AE50E9A5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BF0C8-9C96-4A79-A3A7-71E30FDE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895AF-8203-46E4-8F59-444AEA2E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042A3-D7A2-43C5-A3AE-7117DBE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6F8F4-E480-4D82-844B-2746597F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6023F-5660-4730-A95D-04729FC1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7293C-4352-4D34-A9E3-DDC651DB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58545-85A8-457F-ABB5-6704E637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D6163-587B-4A80-AFF2-C87C1BD7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E6B39-0504-4E4D-9BAE-A170BFD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1CE1-EE67-40F0-AADE-DA4DD237DB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049F-145E-4E45-83CF-B6BA21AE10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80B9-E7CF-4F70-AE8E-1F9A1B4C04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7F3B-5E98-4ABD-86A7-C4435BCA0A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684A-29DB-4366-9669-38EB6D1A2A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2766-1415-45E2-BC7F-9798C440BA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371C-5BD1-4816-9D6C-E4D6A03AD2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29F6-3A57-420B-AB25-53463C106D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71CA-7FC4-44BE-8015-E2FDD0B1617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g2.board.com.ua/a/2000785147/wm/1-shpaklevka-shtukaturka-sten-i-potolkov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g2.board.com.ua/a/2000785147/wm/1-shpaklevka-shtukaturka-sten-i-potolkov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9"/>
          <p:cNvSpPr txBox="1"/>
          <p:nvPr/>
        </p:nvSpPr>
        <p:spPr>
          <a:xfrm>
            <a:off x="1071720" y="928800"/>
            <a:ext cx="69627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Основные технологии 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ремонта и отделки 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жилых помещений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  <p:sp>
        <p:nvSpPr>
          <p:cNvPr id="400" name="WordArt 11"/>
          <p:cNvSpPr txBox="1"/>
          <p:nvPr/>
        </p:nvSpPr>
        <p:spPr>
          <a:xfrm>
            <a:off x="4932360" y="5373720"/>
            <a:ext cx="3600360" cy="1028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 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pic>
        <p:nvPicPr>
          <p:cNvPr id="401" name="Picture 3" descr="865208481"/>
          <p:cNvPicPr/>
          <p:nvPr/>
        </p:nvPicPr>
        <p:blipFill>
          <a:blip r:embed="rId1"/>
          <a:stretch/>
        </p:blipFill>
        <p:spPr>
          <a:xfrm>
            <a:off x="3357720" y="2571840"/>
            <a:ext cx="2463480" cy="182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2" name="Picture 6" descr="http://img2.board.com.ua/a/2000785147/wm/1-shpaklevka-shtukaturka-sten-i-potolkov.jpg">
            <a:hlinkClick r:id="rId2"/>
          </p:cNvPr>
          <p:cNvPicPr/>
          <p:nvPr/>
        </p:nvPicPr>
        <p:blipFill>
          <a:blip r:embed="rId3"/>
          <a:srcRect l="0" t="9348" r="0" b="0"/>
          <a:stretch/>
        </p:blipFill>
        <p:spPr>
          <a:xfrm>
            <a:off x="6643800" y="2500200"/>
            <a:ext cx="1795320" cy="15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3" name="Picture 8" descr="Рисунок1"/>
          <p:cNvPicPr/>
          <p:nvPr/>
        </p:nvPicPr>
        <p:blipFill>
          <a:blip r:embed="rId4"/>
          <a:stretch/>
        </p:blipFill>
        <p:spPr>
          <a:xfrm>
            <a:off x="4357800" y="4214880"/>
            <a:ext cx="225720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4" name="Picture 4" descr="Untitled-14 1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500040" y="2786040"/>
            <a:ext cx="2470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1" descr="L:\мама\Рисунок1.jpg"/>
          <p:cNvPicPr/>
          <p:nvPr/>
        </p:nvPicPr>
        <p:blipFill>
          <a:blip r:embed="rId1"/>
          <a:stretch/>
        </p:blipFill>
        <p:spPr>
          <a:xfrm>
            <a:off x="324000" y="981000"/>
            <a:ext cx="4435200" cy="569592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2"/>
          <p:cNvSpPr/>
          <p:nvPr/>
        </p:nvSpPr>
        <p:spPr>
          <a:xfrm>
            <a:off x="5364000" y="2637000"/>
            <a:ext cx="3313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Окончательная оклейка угла комн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4"/>
          <p:cNvSpPr/>
          <p:nvPr/>
        </p:nvSpPr>
        <p:spPr>
          <a:xfrm>
            <a:off x="468360" y="5084640"/>
            <a:ext cx="4032360" cy="360360"/>
          </a:xfrm>
          <a:custGeom>
            <a:avLst/>
            <a:gdLst>
              <a:gd name="textAreaLeft" fmla="*/ 0 w 4032360"/>
              <a:gd name="textAreaRight" fmla="*/ 4032360 w 4032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540" h="227">
                <a:moveTo>
                  <a:pt x="0" y="227"/>
                </a:move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5"/>
          <p:cNvSpPr/>
          <p:nvPr/>
        </p:nvSpPr>
        <p:spPr>
          <a:xfrm>
            <a:off x="434880" y="1125360"/>
            <a:ext cx="3992760" cy="327240"/>
          </a:xfrm>
          <a:custGeom>
            <a:avLst/>
            <a:gdLst>
              <a:gd name="textAreaLeft" fmla="*/ 0 w 3992760"/>
              <a:gd name="textAreaRight" fmla="*/ 3993120 w 399276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2515" h="206">
                <a:moveTo>
                  <a:pt x="0" y="0"/>
                </a:moveTo>
                <a:lnTo>
                  <a:pt x="792" y="206"/>
                </a:lnTo>
                <a:lnTo>
                  <a:pt x="2515" y="20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2556000" y="1413000"/>
            <a:ext cx="0" cy="3671640"/>
          </a:xfrm>
          <a:prstGeom prst="line">
            <a:avLst/>
          </a:prstGeom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7"/>
          <p:cNvSpPr/>
          <p:nvPr/>
        </p:nvSpPr>
        <p:spPr>
          <a:xfrm>
            <a:off x="826920" y="1197000"/>
            <a:ext cx="0" cy="4175280"/>
          </a:xfrm>
          <a:prstGeom prst="line">
            <a:avLst/>
          </a:prstGeom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10"/>
          <p:cNvSpPr txBox="1"/>
          <p:nvPr/>
        </p:nvSpPr>
        <p:spPr>
          <a:xfrm>
            <a:off x="1332000" y="115920"/>
            <a:ext cx="648180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Оклейка стен обоям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907920"/>
            <a:ext cx="5832720" cy="314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8" name="Rectangle 4"/>
          <p:cNvSpPr/>
          <p:nvPr/>
        </p:nvSpPr>
        <p:spPr>
          <a:xfrm>
            <a:off x="468360" y="449424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ык между кромкой обоев стены и потолочными плитами можно закрыть карнизами, которые изготавливаются из пенополистир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клеивают карнизы в последнюю очередь, после отделки стен и потол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5"/>
          <p:cNvSpPr txBox="1"/>
          <p:nvPr/>
        </p:nvSpPr>
        <p:spPr>
          <a:xfrm>
            <a:off x="1114560" y="189000"/>
            <a:ext cx="698652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Отделка стыка карнизо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" descr="Untitled-14 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85880" y="2214720"/>
            <a:ext cx="2531880" cy="314784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6"/>
          <p:cNvSpPr/>
          <p:nvPr/>
        </p:nvSpPr>
        <p:spPr>
          <a:xfrm>
            <a:off x="4211640" y="1268280"/>
            <a:ext cx="4537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облюдать осторожность при приготовлении клейстера. Не наклонять лицо близко к горячей воде при вливании в нее жидкой крахмальной 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прещается работать на приставной лестнице. При оклейке стен обоями нужно пользоваться лестницей-стремянкой, стулом,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сле завершения оклейки помещения обоями надо тщательно вымыть руки с мы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7"/>
          <p:cNvSpPr txBox="1"/>
          <p:nvPr/>
        </p:nvSpPr>
        <p:spPr>
          <a:xfrm>
            <a:off x="828720" y="115920"/>
            <a:ext cx="74883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а безопасности 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и оклейке стен обоями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2"/>
          <p:cNvSpPr txBox="1"/>
          <p:nvPr/>
        </p:nvSpPr>
        <p:spPr>
          <a:xfrm>
            <a:off x="1403280" y="331920"/>
            <a:ext cx="655344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Малярные работы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50920" y="149868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ярные работы - окрашивание различных поверхнос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79280" y="306864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 окраской поверхность рекомендуется огрунтовать. Неогрунтованные поверхности неодинаково впитывают краску, поэтому на отдельных участках ее будет больше или меньше, и окраска станет неравномерной — пятнами или поло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3"/>
          <p:cNvSpPr txBox="1"/>
          <p:nvPr/>
        </p:nvSpPr>
        <p:spPr>
          <a:xfrm>
            <a:off x="250920" y="189000"/>
            <a:ext cx="871380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Материалы для малярных работ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250920" y="907920"/>
            <a:ext cx="871380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Дисперсионные краск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си сухих пигментов, воды и клея. Отличаются экологической чистотой и отсутствием токсич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Масляные краск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си олифы с сухими пигментами. Эти краски применяют для работ внутри и снаружи помещения, окрашивая ими металл, дерево, штукатурку. Срок высыхания масляных красок составляет 24 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Эма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си сухих пигментов и лака. При длительном хранении эмали могут загустеть. Разбавляют их различными растворителями. Время высыхания эмали — от 1 до 24 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Олиф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ующий материал. Может  быть натуральной (из льняного или конопляного масла) или синтетиче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Ла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створы смол в различных растворителях, имеют разные названия и назначение, бывают светлые и цветные. Они высыхают за 24-48 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Arial"/>
              </a:rPr>
              <a:t>Растворит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ют для растворения и разбавления до рабочей густоты различных окрасочных составов, мытья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2"/>
          <p:cNvSpPr txBox="1"/>
          <p:nvPr/>
        </p:nvSpPr>
        <p:spPr>
          <a:xfrm>
            <a:off x="250920" y="331920"/>
            <a:ext cx="871380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Инструменты для малярных работ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1413000"/>
            <a:ext cx="5689440" cy="2054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"/>
          <p:cNvPicPr/>
          <p:nvPr/>
        </p:nvPicPr>
        <p:blipFill>
          <a:blip r:embed="rId2">
            <a:lum contrast="24000"/>
          </a:blip>
          <a:srcRect l="1992" t="1528" r="2684" b="912"/>
          <a:stretch/>
        </p:blipFill>
        <p:spPr>
          <a:xfrm>
            <a:off x="6732720" y="1413000"/>
            <a:ext cx="1979640" cy="27320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5"/>
          <p:cNvSpPr/>
          <p:nvPr/>
        </p:nvSpPr>
        <p:spPr>
          <a:xfrm>
            <a:off x="3119400" y="34264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9"/>
          <p:cNvSpPr/>
          <p:nvPr/>
        </p:nvSpPr>
        <p:spPr>
          <a:xfrm>
            <a:off x="1692360" y="3573360"/>
            <a:ext cx="288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и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— побелоч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— макловиц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— руч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— флейц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 — филеноч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— торц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0"/>
          <p:cNvSpPr/>
          <p:nvPr/>
        </p:nvSpPr>
        <p:spPr>
          <a:xfrm>
            <a:off x="5940360" y="450864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ал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малярных работ (а) и его составные части (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1857240" y="1428840"/>
            <a:ext cx="5381640" cy="200952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4"/>
          <p:cNvSpPr/>
          <p:nvPr/>
        </p:nvSpPr>
        <p:spPr>
          <a:xfrm>
            <a:off x="250920" y="3429000"/>
            <a:ext cx="8642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е штрихов при окраске играет существенную роль. Если стену окрашивают два раза, то первые штрихи ведут параллельно полу, а при окрашивании вторым слоем - вертикально от потолка к полу. При окрашивании потолка штрихи последнего слоя проводят параллельно световым лучам, падающим из о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большие поверхности окрашивают кистью, большие (стены, потолок) – вал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WordArt 5"/>
          <p:cNvSpPr txBox="1"/>
          <p:nvPr/>
        </p:nvSpPr>
        <p:spPr>
          <a:xfrm>
            <a:off x="250920" y="189000"/>
            <a:ext cx="871380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Направление штрихов при окраске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044720" y="1341360"/>
            <a:ext cx="6912000" cy="2597400"/>
          </a:xfrm>
          <a:prstGeom prst="rect">
            <a:avLst/>
          </a:prstGeom>
          <a:ln w="0">
            <a:noFill/>
          </a:ln>
        </p:spPr>
      </p:pic>
      <p:sp>
        <p:nvSpPr>
          <p:cNvPr id="468" name="WordArt 3"/>
          <p:cNvSpPr txBox="1"/>
          <p:nvPr/>
        </p:nvSpPr>
        <p:spPr>
          <a:xfrm>
            <a:off x="2050920" y="333360"/>
            <a:ext cx="496908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Отводка филенки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1477440" y="4005360"/>
            <a:ext cx="61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одка филенок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о линейке;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о трафаре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539640" y="4900680"/>
            <a:ext cx="820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ык двух красок разного цвета не всегда бывает ровным, поэтому место стыка закрашивают ровной полоской краски другого цвета —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ленко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иленку проводят (отводят) по линейке или трафар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WordArt 2"/>
          <p:cNvSpPr txBox="1"/>
          <p:nvPr/>
        </p:nvSpPr>
        <p:spPr>
          <a:xfrm>
            <a:off x="1835280" y="333360"/>
            <a:ext cx="547344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Нанесение рисунков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143080" y="1714680"/>
            <a:ext cx="4821120" cy="181116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4"/>
          <p:cNvSpPr/>
          <p:nvPr/>
        </p:nvSpPr>
        <p:spPr>
          <a:xfrm>
            <a:off x="611280" y="40323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несения рисунков применя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афаре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готовленные из плотной бумаги. Чтобы узоры не вываливались, между ними оставляют соединяющие мостики (полоски бумаги). Для каждого цвета делают свой трафа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3"/>
          <p:cNvSpPr txBox="1"/>
          <p:nvPr/>
        </p:nvSpPr>
        <p:spPr>
          <a:xfrm>
            <a:off x="755640" y="115920"/>
            <a:ext cx="777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а безопасной работы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79280" y="984240"/>
            <a:ext cx="885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ки и эмали должны храниться в специальном помещении вдали от отопительных приб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краске поверхностей проветривать поме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асаться загрязненными краской руками лица и предметов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ставлять в помещении испачканные краской тря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клонять лицо близко к емкости с кра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и работы тщательно вымыть руки с мы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5"/>
          <p:cNvSpPr txBox="1"/>
          <p:nvPr/>
        </p:nvSpPr>
        <p:spPr>
          <a:xfrm>
            <a:off x="2411280" y="333360"/>
            <a:ext cx="403236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a5644e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Содержание:</a:t>
            </a:r>
            <a:endParaRPr b="0" lang="en-US" sz="1800" spc="1" strike="noStrike">
              <a:ln w="19080">
                <a:solidFill>
                  <a:srgbClr val="a5644e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046160" y="1725480"/>
            <a:ext cx="698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ельные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лейка стен и потолков обо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ярные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1"/>
          <p:cNvSpPr/>
          <p:nvPr/>
        </p:nvSpPr>
        <p:spPr>
          <a:xfrm>
            <a:off x="179280" y="981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екты стен и потолков (трещины, отверстия) устраняют, используя  </a:t>
            </a:r>
            <a:r>
              <a:rPr b="1" lang="ru-RU" sz="1800" spc="-1" strike="noStrike" u="sng">
                <a:solidFill>
                  <a:srgbClr val="008000"/>
                </a:solidFill>
                <a:uFillTx/>
                <a:latin typeface="Arial"/>
              </a:rPr>
              <a:t>шпакле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2367000" y="45813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Ш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13"/>
          <p:cNvSpPr txBox="1"/>
          <p:nvPr/>
        </p:nvSpPr>
        <p:spPr>
          <a:xfrm>
            <a:off x="250920" y="260280"/>
            <a:ext cx="856908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e3b3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Устранение дефектов поверхности</a:t>
            </a:r>
            <a:endParaRPr b="0" lang="en-US" sz="1800" spc="1" strike="noStrike">
              <a:ln w="19080">
                <a:solidFill>
                  <a:srgbClr val="4e3b3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  <p:pic>
        <p:nvPicPr>
          <p:cNvPr id="410" name="Picture 4" descr="18331"/>
          <p:cNvPicPr/>
          <p:nvPr/>
        </p:nvPicPr>
        <p:blipFill>
          <a:blip r:embed="rId1"/>
          <a:stretch/>
        </p:blipFill>
        <p:spPr>
          <a:xfrm>
            <a:off x="3429000" y="1428840"/>
            <a:ext cx="1447920" cy="180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1" name="Text Box 11"/>
          <p:cNvSpPr/>
          <p:nvPr/>
        </p:nvSpPr>
        <p:spPr>
          <a:xfrm>
            <a:off x="68400" y="3429000"/>
            <a:ext cx="87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паклевка продается готовая к употреблению и сухая. Сухая разводится по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екты зачищают, обрабатывают грунтовкой глубокого проникновения для лучшего сцепления шпаклевки с поверхностью.  После высыхания грунтовки наносится шпаклев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http://img2.board.com.ua/a/2000785147/wm/1-shpaklevka-shtukaturka-sten-i-potolkov.jpg">
            <a:hlinkClick r:id="rId2"/>
          </p:cNvPr>
          <p:cNvPicPr/>
          <p:nvPr/>
        </p:nvPicPr>
        <p:blipFill>
          <a:blip r:embed="rId3"/>
          <a:srcRect l="0" t="9348" r="0" b="0"/>
          <a:stretch/>
        </p:blipFill>
        <p:spPr>
          <a:xfrm>
            <a:off x="5079960" y="5157720"/>
            <a:ext cx="1795680" cy="15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0" descr="Рисунок3"/>
          <p:cNvPicPr/>
          <p:nvPr/>
        </p:nvPicPr>
        <p:blipFill>
          <a:blip r:embed="rId1"/>
          <a:stretch/>
        </p:blipFill>
        <p:spPr>
          <a:xfrm>
            <a:off x="3357720" y="2571840"/>
            <a:ext cx="185400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4" name="Text Box 11"/>
          <p:cNvSpPr/>
          <p:nvPr/>
        </p:nvSpPr>
        <p:spPr>
          <a:xfrm>
            <a:off x="179280" y="836640"/>
            <a:ext cx="878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грунтовки стен используют специальные </a:t>
            </a: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грунтовочные смес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еред применением грунтовочная смесь разводится согласно указаниям инструкции. В качестве инструмента лучше использовать валик или щётку с широким флейцем. Предварительно поверхность, подлежащая грунтовке, очищается от пыли с помощью пылесоса, щётки, тряпки. Грунтовка должна проникнуть глубоко и во все поры поверхности, поэтому наносить грунтовку необходимо с особой тща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179280" y="5483160"/>
            <a:ext cx="878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нтовка стен под обои обязательна по технологии. Если стены сыпучие и старые, их грунтуют основательно, чтобы по максимуму укрепить слой. При надёжных стенах – слой грунтовки более тон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13"/>
          <p:cNvSpPr txBox="1"/>
          <p:nvPr/>
        </p:nvSpPr>
        <p:spPr>
          <a:xfrm>
            <a:off x="2843280" y="260280"/>
            <a:ext cx="33843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e3b3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Грунтовка</a:t>
            </a:r>
            <a:endParaRPr b="0" lang="en-US" sz="1800" spc="1" strike="noStrike">
              <a:ln w="19080">
                <a:solidFill>
                  <a:srgbClr val="4e3b3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19"/>
          <p:cNvSpPr txBox="1"/>
          <p:nvPr/>
        </p:nvSpPr>
        <p:spPr>
          <a:xfrm>
            <a:off x="1979640" y="189000"/>
            <a:ext cx="511344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Наклеивание обоев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  <p:sp>
        <p:nvSpPr>
          <p:cNvPr id="418" name="Прямоугольник 1"/>
          <p:cNvSpPr/>
          <p:nvPr/>
        </p:nvSpPr>
        <p:spPr>
          <a:xfrm>
            <a:off x="395280" y="981000"/>
            <a:ext cx="835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и нарезают полотнами, равными высоте стены, учитывая совмещение рису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тна укладывают стопкой на пол лицевой стороной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и на бумажной основе промазывают кле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и на флизелиновой основе наклеивают на промазанную клеем ст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мазанное клеем полотно выравнивают по вертикальной линии, прижимают к стене и приглаживают сухой тканью или шпателем сверху вниз, от середины к кр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обои выпускают без кромок, их наклеивают вст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3070800" y="4335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й для об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i?id=81744481-58-72&amp;n=21"/>
          <p:cNvPicPr/>
          <p:nvPr/>
        </p:nvPicPr>
        <p:blipFill>
          <a:blip r:embed="rId1"/>
          <a:stretch/>
        </p:blipFill>
        <p:spPr>
          <a:xfrm>
            <a:off x="3714840" y="5072040"/>
            <a:ext cx="1285920" cy="1495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21" name="Группа 5"/>
          <p:cNvGrpSpPr/>
          <p:nvPr/>
        </p:nvGrpSpPr>
        <p:grpSpPr>
          <a:xfrm>
            <a:off x="5187240" y="4054680"/>
            <a:ext cx="2184120" cy="2190600"/>
            <a:chOff x="5187240" y="4054680"/>
            <a:chExt cx="2184120" cy="2190600"/>
          </a:xfrm>
        </p:grpSpPr>
        <p:sp>
          <p:nvSpPr>
            <p:cNvPr id="422" name="Прямоугольник 3"/>
            <p:cNvSpPr/>
            <p:nvPr/>
          </p:nvSpPr>
          <p:spPr>
            <a:xfrm>
              <a:off x="5619600" y="4397400"/>
              <a:ext cx="1295640" cy="1503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5" descr="26482"/>
            <p:cNvPicPr/>
            <p:nvPr/>
          </p:nvPicPr>
          <p:blipFill>
            <a:blip r:embed="rId2"/>
            <a:stretch/>
          </p:blipFill>
          <p:spPr>
            <a:xfrm rot="2094600">
              <a:off x="5500440" y="4357440"/>
              <a:ext cx="1557360" cy="158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19"/>
          <p:cNvSpPr txBox="1"/>
          <p:nvPr/>
        </p:nvSpPr>
        <p:spPr>
          <a:xfrm>
            <a:off x="324000" y="189000"/>
            <a:ext cx="849600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Инструменты для обойных рабо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  <p:pic>
        <p:nvPicPr>
          <p:cNvPr id="425" name="Picture 20" descr="Untitled-15"/>
          <p:cNvPicPr/>
          <p:nvPr/>
        </p:nvPicPr>
        <p:blipFill>
          <a:blip r:embed="rId1"/>
          <a:stretch/>
        </p:blipFill>
        <p:spPr>
          <a:xfrm>
            <a:off x="1571760" y="1571760"/>
            <a:ext cx="540072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466200" y="5084640"/>
            <a:ext cx="780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ы оклейки стен обоя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- разрез стены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 — отделка в один колер; в — отделка в два кол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 — отдел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а колера с филенкой; д — отделка с бордюр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 — отделка с фризом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 — отделка с гобел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— филенка; 2 — бордюр;3 - фриз; 4 - гобе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571760" y="1571760"/>
            <a:ext cx="5500440" cy="2636640"/>
          </a:xfrm>
          <a:prstGeom prst="rect">
            <a:avLst/>
          </a:prstGeom>
          <a:ln w="0">
            <a:noFill/>
          </a:ln>
        </p:spPr>
      </p:pic>
      <p:sp>
        <p:nvSpPr>
          <p:cNvPr id="428" name="WordArt 7"/>
          <p:cNvSpPr txBox="1"/>
          <p:nvPr/>
        </p:nvSpPr>
        <p:spPr>
          <a:xfrm>
            <a:off x="539640" y="189000"/>
            <a:ext cx="806472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Технология обойных рабо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85880" y="1571760"/>
            <a:ext cx="3279600" cy="323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0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43280" y="1571760"/>
            <a:ext cx="3302280" cy="33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1" name="Text Box 6"/>
          <p:cNvSpPr/>
          <p:nvPr/>
        </p:nvSpPr>
        <p:spPr>
          <a:xfrm>
            <a:off x="1106640" y="565452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е сов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5223240" y="565452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авильное сов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9"/>
          <p:cNvSpPr txBox="1"/>
          <p:nvPr/>
        </p:nvSpPr>
        <p:spPr>
          <a:xfrm>
            <a:off x="1835280" y="260280"/>
            <a:ext cx="540072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Совмещение рисун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0" descr="L:\мама\Рисунок2.jpg"/>
          <p:cNvPicPr/>
          <p:nvPr/>
        </p:nvPicPr>
        <p:blipFill>
          <a:blip r:embed="rId1"/>
          <a:stretch/>
        </p:blipFill>
        <p:spPr>
          <a:xfrm>
            <a:off x="690480" y="1195560"/>
            <a:ext cx="3424320" cy="4019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219640" y="2666880"/>
            <a:ext cx="353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Оклейку ст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обоями начин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с угла комн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5"/>
          <p:cNvSpPr/>
          <p:nvPr/>
        </p:nvSpPr>
        <p:spPr>
          <a:xfrm>
            <a:off x="757080" y="5156280"/>
            <a:ext cx="4032360" cy="360360"/>
          </a:xfrm>
          <a:custGeom>
            <a:avLst/>
            <a:gdLst>
              <a:gd name="textAreaLeft" fmla="*/ 0 w 4032360"/>
              <a:gd name="textAreaRight" fmla="*/ 4032360 w 4032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540" h="227">
                <a:moveTo>
                  <a:pt x="0" y="227"/>
                </a:move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6"/>
          <p:cNvSpPr/>
          <p:nvPr/>
        </p:nvSpPr>
        <p:spPr>
          <a:xfrm>
            <a:off x="723960" y="1301760"/>
            <a:ext cx="3992400" cy="326880"/>
          </a:xfrm>
          <a:custGeom>
            <a:avLst/>
            <a:gdLst>
              <a:gd name="textAreaLeft" fmla="*/ 0 w 3992400"/>
              <a:gd name="textAreaRight" fmla="*/ 3992760 w 399240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2515" h="206">
                <a:moveTo>
                  <a:pt x="0" y="0"/>
                </a:moveTo>
                <a:lnTo>
                  <a:pt x="792" y="206"/>
                </a:lnTo>
                <a:lnTo>
                  <a:pt x="2515" y="20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2811600" y="1600200"/>
            <a:ext cx="0" cy="3600360"/>
          </a:xfrm>
          <a:prstGeom prst="line">
            <a:avLst/>
          </a:prstGeom>
          <a:ln w="5724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WordArt 9"/>
          <p:cNvSpPr txBox="1"/>
          <p:nvPr/>
        </p:nvSpPr>
        <p:spPr>
          <a:xfrm>
            <a:off x="1332000" y="115920"/>
            <a:ext cx="6481800" cy="5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Impact"/>
              </a:rPr>
              <a:t>Оклейка стен обоям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4:55:07Z</dcterms:created>
  <dc:creator>User</dc:creator>
  <dc:description/>
  <dc:language>en-US</dc:language>
  <cp:lastModifiedBy>User</cp:lastModifiedBy>
  <dcterms:modified xsi:type="dcterms:W3CDTF">2016-09-23T11:10:47Z</dcterms:modified>
  <cp:revision>29</cp:revision>
  <dc:subject/>
  <dc:title>Слайд 1</dc:title>
</cp:coreProperties>
</file>