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83C-06A8-420C-BAB2-DBA5552E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685-930B-4C86-87CD-2ADC0189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C3E-032E-4B27-AB7D-6FE25114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D99-C861-4762-B747-A2012713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1BD1-6E86-4952-89A2-3CDCC656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3206-4AFC-4483-B355-2E2AD80C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90EF-AAD1-4E2E-843F-C0F8D8BC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CB5C-D043-4EAE-BCFA-B623323C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862E-9424-4EC1-A1D3-D963BE72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FAFB-9D41-4709-A3E8-69E95DC0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BA9D-E992-4B61-A0A9-BACBA459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0B2-C875-410B-8461-6917FA77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4A78-0410-4ED7-87B8-D75030C9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FD4A-9BF4-4349-8FC4-92B5A6EB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477A-8139-4D15-8E0E-D9E4A73E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AAA1-1F59-45AD-9D58-151D08F0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DF74-4337-42E0-8715-908D126F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BF09-5AAC-4CE5-B06D-305D69B4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0984-B245-4E05-BE9B-57E834BF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F63-F5A5-477C-B9A2-D16D2C87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517-DA43-4B66-B666-2A456E10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3E5-112E-4DBA-AE3A-BD513911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E4B-6DBE-4096-82AA-FABDE9A1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DE4-BFBB-4C8E-85B3-FCEE459B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4E3F-725A-46D9-A80C-DD43215E75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650E-14D9-40A8-8B7B-3659258C3AB3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здоровительные технологии в образовательном процесс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доровье - еще не всё, но жизнь без здоровья – ничт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имер комплекса оздоровительных упражнений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(продолжение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.п. – сидя с опорой на спинку скамьи, руки опущены. «Раз-два» – поднять колено к груди, прижать руками, наклонив голову вперёд; «три-четыре» – И.п.; «пять-восемь» – то же, другой ногой. Дыхание произво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.п. – сидя, руки заведены за спинку скамейки. На четыре счета выпрямленными ногами выполняются различные круговые, крестообразные движ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жнения у вертикальной плоск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3436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жнения для развития стоп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25600" indent="-525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тянуть носок стопы медленно, но с усилием (на себя, от себя), совершая небольшие колебательные движения. В момент потягивания мышцы стопы усилием воли напрягаю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гибание и разгибание пальцев ног. Движение должно имитировать захват какого-либо предмета, при этом допускает небольшое движение всей стоп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ращательные движения стопой в одну и в другую стороны. Нога неподвижна и только вытянута стопа «рисует» в воздухе круги, то увеличивая, то уменьшая их диамет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907560"/>
            <a:ext cx="7704000" cy="302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аблюдайте за вашим телом, если хотите, чтобы ум работал правильн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не Декар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едупреждение и профилактика болезней зрения: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ичего не может быть страшнее, как потерять зрение: это невыразимая обида, она отнимает у человека девять десятых ми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.М. Горь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чины снижения зрения в у школьников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рвно-психическое напряжение (перенапряжени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граниченность активных движ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граниченность расстояний при работе глаз (25-30 см чаще 6-10 с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зкое увеличение зрительных нагруз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ики школьной мебели и д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сновные глазные болезн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лизорукость (миопия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- нарушение зрения, при котором люди, подверженные этому заболеванию, плохо видят отдаленные предме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льнозоркость (гипермитропия) 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тический недостаток глаза, при котором нарушена способность ясно видеть на близком расстоянии. Причиной данного нарушения зрения может служить относительная слабость преломляющего аппарата глаза, короткая передне-задняя ось глазного ябло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сновы нормального функционирования глаз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состоянии расслабления здоровый глаз будет правильно функционировать, подобно фотокамере, сокращая свою ось при рассматривании удаленных предметов и удлиняя при рассматривании близких предметов за счет изменения формы глазного ябло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доровьесберегающая задача учител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сширять зрительно-пространственную активность в режиме любого уро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иемы расширения зрительно-пространственной активности на уроке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демонстрирует в течение нескольких секунд 7-9 мелких изображений предметов, затем убирает их и просит детей воспроизвести увиденно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ле кратковременного показа учитель незаметно для учащихся меняет местами две картинки и просит сказать, что изменилось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ьзуя иллюстрации из различных детских журналов, найти как можно больше различий между двумя похожими картинк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запутанном лабиринте из нескольких линий найти оба конца одной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ЕДУПРЕЖДЕНИЕ И ПРОФИЛАКТИКА НАРУШЕНИЙ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САНКИ У ШКОЛЬНИКОВ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71280" y="2927520"/>
            <a:ext cx="7715160" cy="18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ичто так не истощает и не разрушает человека, как продолжительное физическое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ездейств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умажные офтальмотренажер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айди глазами две одинаковые пирамидки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осчитай, сколько во всех пирамидках колец красных, черных, зеленых и т.д.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колько у пирамидок колпачков красных, зеленых, желтых и т.д.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колько всего колец у всех пирамидок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колько всего колпачков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627200" y="2017800"/>
            <a:ext cx="2922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здоровительный эффект таких занятий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вается зрительно-моторная реакци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лучшается чувство локализации в пространстве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вается стереоскопическое зрение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вается различительно-цветовая функц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со «зрительным кругом» на уро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201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вильная осанка обеспечива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тимальную деятельность опорно-двигательного аппарат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ильное размещение внутренних орга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тимальное положение общего центра тяжести те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рмальное функционирование спинного мозга, его передних и задних нервных корешк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рмальное функционирование мышечной системы и всех внутренних орган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Нарушения осанки приводят к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абому физическому развитию как результат гиподинами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ышечной гипотрофии и ослабление связочно-суставного аппара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м позвоночн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анию мрачного настроения, развитию «комплекса неудачника» и т.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 спины во фронтальной плоск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039760" y="2017800"/>
            <a:ext cx="209880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5927760" y="2017800"/>
            <a:ext cx="2241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Шесть точек при фиксации правильной осанки у ровной поверхности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тылок, при этом голову следует держать так, чтобы внешний угол глаза и верхний край уха находились на линии параллельной пол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3800" indent="-523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ина, прислонившись к поверхности лопатка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3800" indent="-523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лечи (верхней частью рук)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3800" indent="-523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годиц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3800" indent="-523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кроножные мышц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3800" indent="-523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ятк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Характерные признаки неправильной осан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выдвинутая за продольную ось тела гол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сведенные вперед, напряженно поднятые плеч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выпяченный живо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есколько отставленный назад та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круглая спина и запавшая грудная клет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остав комплекса оздоровительных упражнений на уроке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на коррекцию положения тела, формирование осанк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на укрепление мышц туловищ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на потягивание и развитие гибкости позвоночника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на развитие подвижности сустав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ыхательные упражн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-3- упражнения для глаз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имер комплекса оздоровительных упражнени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.п. – сидя без опоры на спинку парты, руки опущены, спина выпрямлена. «Раз» – руки к плечам; «два» – руки вверх, поднять голову, посмотреть на пальцы рук, потянуться, глубокий вдох; «три» – руки к плечам, голову опустить, посмотреть перед собой; «четыре» – И.п., выдох. (4раза в медленном темп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.п. – сидя на краешке скамьи, руки на поясе, сохраняется правильная осанка как и в первом упражнении. «Раз» – отвести локти назад, наклонив голову назад, глубоко вздохнуть, шире развести плечи, лопатки свести; «два-три» – удерживать положение; «четыре» – локти вперед, наклонив голову вперёд, выдох. (2-3 раза в медленном темп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07:09:24Z</dcterms:created>
  <dc:creator>ШкляроваОльга Анатольевна</dc:creator>
  <dc:description/>
  <dc:language>en-US</dc:language>
  <cp:lastModifiedBy>home</cp:lastModifiedBy>
  <dcterms:modified xsi:type="dcterms:W3CDTF">2016-09-24T13:21:25Z</dcterms:modified>
  <cp:revision>6</cp:revision>
  <dc:subject/>
  <dc:title>Оздоровительные технологии в образовательном процессе</dc:title>
</cp:coreProperties>
</file>