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E46-56B3-46F5-9E8E-E09297EE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CF4-E9DC-4380-A6A9-C73092C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93D-A631-4E4E-A003-5583900A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46D-4D7A-4D90-BABB-A8CE68BC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F53E-FA7C-4221-9CDB-8E2D5677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A532-0F31-4ED8-A3C0-4228EB36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D0B-0BCF-4F8C-A4DD-EF3C8016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2996-6D04-4459-9DB2-9C17675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733-C688-4C1D-BC7B-DF0A8B3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C71A-C541-4198-BE8E-8752B1AF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8D0-F942-44BA-82AB-0F893E4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DD6-2136-4D3A-9392-A5C55E8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A65E-CA7D-43F7-9853-9040FED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18F5-3CD3-4BA6-8181-24955797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3D4D-EEE9-465E-8A74-C6731BAD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0D7D-03AC-4FE3-9218-032DDB9D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A74-42E7-4E9E-BEFE-FC80F3F4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96E-5407-4167-B295-D910500C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CDE-8E72-45F2-83C8-190603A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D65-6441-4D65-8B41-F521A558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59C-7B2C-4EED-9454-D9E18EE0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79A-BB7B-4521-825F-7C16327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3E1-C0F1-4223-8B45-CF09FCE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270-A323-416F-90A4-352786E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2CA-AC19-4EE5-B6F1-253C005EEA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1E0-38FC-415D-8608-0A0A25C42FB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здоровительные технологии в образовательном проце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оровье - еще не всё, но жизнь без здоровья – нич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комплекса оздоровительных упражнений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п. – сидя с опорой на спинку скамьи, руки опущены. «Раз-два» – поднять колено к груди, прижать руками, наклонив голову вперёд; «три-четыре» – И.п.; «пять-восемь» – то же, другой ногой. Дыхание произво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.п. – сидя, руки заведены за спинку скамейки. На четыре счета выпрямленными ногами выполняются различные круговые, крестообразные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я у вертикальной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343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я для развития стоп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януть носок стопы медленно, но с усилием (на себя, от себя), совершая небольшие колебательные движения. В момент потягивания мышцы стопы усилием воли напряга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гибание и разгибание пальцев ног. Движение должно имитировать захват какого-либо предмета, при этом допускает небольшое движение всей стоп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-525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ращательные движения стопой в одну и в другую стороны. Нога неподвижна и только вытянута стопа «рисует» в воздухе круги, то увеличивая, то уменьшая их диаме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704000" cy="302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блюдайте за вашим телом, если хотите, чтобы ум работал правильн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упреждение и профилактика болезней зрения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его не может быть страшнее, как потерять зрение: это невыразимая обида, она отнимает у человека девять десятых ми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М. Горь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чины снижения зрения в у школь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рвно-психическое напряжение (перенапряжени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сть активных дви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сть расстояний при работе глаз (25-30 см чаще 6-10 с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кое увеличение зрительных нагруз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ики школьной мебели и д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глазные болезн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лизорукость (миопия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нарушение зрения, при котором люди, подверженные этому заболеванию, плохо видят отдаленные предме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озоркость (гипермитропия)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ческий недостаток глаза, при котором нарушена способность ясно видеть на близком расстоянии. Причиной данного нарушения зрения может служить относительная слабость преломляющего аппарата глаза, короткая передне-задняя ось глазного ябл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ы нормального функционирования глаз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остоянии расслабления здоровый глаз будет правильно функционировать, подобно фотокамере, сокращая свою ось при рассматривании удаленных предметов и удлиняя при рассматривании близких предметов за счет изменения формы глазного ябло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сберегающая задача учите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сширять зрительно-пространственную активность в режиме любого уро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емы расширения зрительно-пространственной активности на уроке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демонстрирует в течение нескольких секунд 7-9 мелких изображений предметов, затем убирает их и просит детей воспроизвести увиденно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кратковременного показа учитель незаметно для учащихся меняет местами две картинки и просит сказать, что изменилос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уя иллюстрации из различных детских журналов, найти как можно больше различий между двумя похожими карти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путанном лабиринте из нескольких линий найти оба конца одной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УПРЕЖДЕНИЕ И ПРОФИЛАКТИКА НАРУШЕНИЙ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АНКИ У ШКОЛЬНИК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71280" y="2927520"/>
            <a:ext cx="771516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что так не истощает и не разрушает человека, как продолжительное физическо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действ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умажные офтальмотренаже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йди глазами две одинаковые пирамидк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считай, сколько во всех пирамидках колец красных, черных, зеленых и т.д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у пирамидок колпачков красных, зеленых, желтых и т.д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всего колец у всех пирамидок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колько всего колпачков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627200" y="2017800"/>
            <a:ext cx="292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здоровительный эффект таких занят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зрительно-моторная реакц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лучшается чувство локализации в пространств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стереоскопическое зрение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ется различительно-цветовая функ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со «зрительным кругом» на уро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0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ая осанка обеспечива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альную деятельность опорно-двигательного аппарат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ильное размещ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альное положение общего центра тяжести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ое функционирование спинного мозга, его передних и задних нервных кореш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ое функционирование мышечной системы и всех внутренни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рушения осанки приводят к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бому физическому развитию как результат гиподинам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ечной гипотрофии и ослабление связочно-суставного аппар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м позвоно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ю мрачного настроения, развитию «комплекса неудачника»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 спины во фронтальной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039760" y="2017800"/>
            <a:ext cx="20988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5927760" y="2017800"/>
            <a:ext cx="224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Шесть точек при фиксации правильной осанки у ровной поверхност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тылок, при этом голову следует держать так, чтобы внешний угол глаза и верхний край уха находились на линии параллельной пол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на, прислонившись к поверхности лопатка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ечи (верхней частью рук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годиц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кроножные мышц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3800" indent="-523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ят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Характерные признаки неправильной осан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ыдвинутая за продольную ось тела гол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сведенные вперед, напряженно поднятые пле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ыпяченный жив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сколько отставленный назад та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руглая спина и запавшая грудная клет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став комплекса оздоровительных упражнений на урок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коррекцию положения тела, формирование осан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укрепление мышц туловищ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потягивание и развитие гибкости позвоночник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на развитие подвижности сустав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ыхательные упражн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-3- упражнения для гла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имер комплекса оздоровительных упражнен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.п. – сидя без опоры на спинку парты, руки опущены, спина выпрямлена. «Раз» – руки к плечам; «два» – руки вверх, поднять голову, посмотреть на пальцы рук, потянуться, глубокий вдох; «три» – руки к плечам, голову опустить, посмотреть перед собой; «четыре» – И.п., выдох. (4раза в медленном темп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.п. – сидя на краешке скамьи, руки на поясе, сохраняется правильная осанка как и в первом упражнении. «Раз» – отвести локти назад, наклонив голову назад, глубоко вздохнуть, шире развести плечи, лопатки свести; «два-три» – удерживать положение; «четыре» – локти вперед, наклонив голову вперёд, выдох. (2-3 раза в медленном темп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07:09:24Z</dcterms:created>
  <dc:creator>ШкляроваОльга Анатольевна</dc:creator>
  <dc:description/>
  <dc:language>en-US</dc:language>
  <cp:lastModifiedBy>home</cp:lastModifiedBy>
  <dcterms:modified xsi:type="dcterms:W3CDTF">2016-09-24T13:21:25Z</dcterms:modified>
  <cp:revision>6</cp:revision>
  <dc:subject/>
  <dc:title>Оздоровительные технологии в образовательном процессе</dc:title>
</cp:coreProperties>
</file>