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2AF-6397-4BC7-8654-0CB39FD1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841-529B-4905-B874-DE821888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54F-B453-49B4-9C57-4DA73FAD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5BE-C656-4A00-A588-4ED38372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772-1D6E-4DF4-98FE-1BDA2123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E5B-4B81-46FA-88D4-3E9BC31F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E6D-D55F-4EE2-AFB8-BF6C37ED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73B-C3FB-43E8-8AC6-6493E5EA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B9A-DA29-4BD6-A95B-BE5D9EE4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1E3-DEEB-4B7F-9ABE-6E325AA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8D5-F1F8-4F18-BFCA-8DBF7269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4EA-9C85-46E8-9ADD-3EF49723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38D1-2FAD-406C-9EEC-BDDED6B86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boleem.net/stati-o-detjah/5878-interaktivnye-igry-dlja-detej.php" TargetMode="External"/><Relationship Id="rId2" Type="http://schemas.openxmlformats.org/officeDocument/2006/relationships/hyperlink" Target="http://www.neboleem.net/stati-o-detjah/5878-interaktivnye-igry-dlja-detej.php" TargetMode="External"/><Relationship Id="rId3" Type="http://schemas.openxmlformats.org/officeDocument/2006/relationships/hyperlink" Target="http://www.neboleem.net/stati-o-detjah/5878-interaktivnye-igry-dlja-detej.php" TargetMode="External"/><Relationship Id="rId4" Type="http://schemas.openxmlformats.org/officeDocument/2006/relationships/hyperlink" Target="http://www.neboleem.net/stati-o-detjah/5878-interaktivnye-igry-dlja-detej.php" TargetMode="External"/><Relationship Id="rId5" Type="http://schemas.openxmlformats.org/officeDocument/2006/relationships/hyperlink" Target="http://www.neboleem.net/stati-o-detjah/5878-interaktivnye-igry-dlja-detej.php" TargetMode="External"/><Relationship Id="rId6" Type="http://schemas.openxmlformats.org/officeDocument/2006/relationships/hyperlink" Target="http://www.neboleem.net/stati-o-detjah/5878-interaktivnye-igry-dlja-detej.php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ogozavr.r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Интерактивные игры </a:t>
            </a:r>
            <a:br>
              <a:rPr sz="3600"/>
            </a:b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 по формированию навыка чтения у детей с 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«Гимназия № 3 Центрального района Волгогр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МОУ гимназия №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40280" y="521820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учитель-логопед Кошкина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Конструктор картинок 2"/>
          <p:cNvPicPr/>
          <p:nvPr/>
        </p:nvPicPr>
        <p:blipFill>
          <a:blip r:embed="rId1"/>
          <a:stretch/>
        </p:blipFill>
        <p:spPr>
          <a:xfrm>
            <a:off x="304920" y="1219320"/>
            <a:ext cx="2590560" cy="162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Развивающие игры | Мерсибо"/>
          <p:cNvPicPr/>
          <p:nvPr/>
        </p:nvPicPr>
        <p:blipFill>
          <a:blip r:embed="rId2"/>
          <a:stretch/>
        </p:blipFill>
        <p:spPr>
          <a:xfrm>
            <a:off x="457200" y="304920"/>
            <a:ext cx="2905200" cy="102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52880" y="3338280"/>
            <a:ext cx="3810240" cy="301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Александровна Суслова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Александровна Суслова - эксперт Мерсибо, учитель-логопед высшей категории, автор методики и многих интерактивных игр Мерсибо, педагог с 20-летним стажем, ведущий специалист в области ИКТ в логопедии и постоянная ведущая вебинаров Мерсиб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86200" y="228600"/>
            <a:ext cx="227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3333" r="13335" b="0"/>
          <a:stretch/>
        </p:blipFill>
        <p:spPr>
          <a:xfrm>
            <a:off x="838080" y="1066680"/>
            <a:ext cx="5639040" cy="471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20315" t="0" r="4689" b="0"/>
          <a:stretch/>
        </p:blipFill>
        <p:spPr>
          <a:xfrm rot="4579200">
            <a:off x="5790960" y="3504960"/>
            <a:ext cx="2819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2500" t="12220" r="8335" b="6667"/>
          <a:stretch/>
        </p:blipFill>
        <p:spPr>
          <a:xfrm>
            <a:off x="1066680" y="45720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500" t="5554" r="3335" b="0"/>
          <a:stretch/>
        </p:blipFill>
        <p:spPr>
          <a:xfrm>
            <a:off x="533520" y="304920"/>
            <a:ext cx="830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0000" y="1097640"/>
            <a:ext cx="8874000" cy="502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68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ь игры на формирование навыка чтения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логически мыслить, анализировать и сопоставлять события тоже формируется в иг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ребования в любой иг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довести игру до конца, надо соблюдать правила,  действовать последовательно и логично. Иначе до победы не до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гры Мерси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ощряют стремление ребенка выполнить все действия и закончить игру с победо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столкнулся с трудностями в игре, не нужно за него отвечать. Вполне возможно, что он справиться сам, подумав. Но если он, действительно, не справляется, то надо вернуться к более простым иг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Как играть на Мерсиб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Развивающая игра «Сладкоежка»"/>
          <p:cNvPicPr/>
          <p:nvPr/>
        </p:nvPicPr>
        <p:blipFill>
          <a:blip r:embed="rId1"/>
          <a:stretch/>
        </p:blipFill>
        <p:spPr>
          <a:xfrm>
            <a:off x="762120" y="838080"/>
            <a:ext cx="4371840" cy="327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3640" y="4379760"/>
            <a:ext cx="801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ладкое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енок запомнил все буквы, то со Сладкоежкой можно отлично поигр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ставление слов из трех букв или из двух-трех сл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тройки помогут подобрать уровень игры, соответствующий знаниям ребенка на текущий мо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Развивающая игра «Караоке по-детски»"/>
          <p:cNvPicPr/>
          <p:nvPr/>
        </p:nvPicPr>
        <p:blipFill>
          <a:blip r:embed="rId1"/>
          <a:stretch/>
        </p:blipFill>
        <p:spPr>
          <a:xfrm>
            <a:off x="762120" y="304920"/>
            <a:ext cx="437184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35812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раоке по-дет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уже читает по слогам, то можно переходить к чтению предло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облегчить задачу, слоги в словах последовательно выделяются цв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каждого прочитанного предложения открываются цветные фрагмен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которых надо сложить целую карти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Развивающая игра «Загадки капитана»"/>
          <p:cNvPicPr/>
          <p:nvPr/>
        </p:nvPicPr>
        <p:blipFill>
          <a:blip r:embed="rId1"/>
          <a:stretch/>
        </p:blipFill>
        <p:spPr>
          <a:xfrm>
            <a:off x="380880" y="304920"/>
            <a:ext cx="4448160" cy="3333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35812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гадки ка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подходящее время знакомиться с буквами и слог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игре ребенок гораздо быстрее освоит азы чт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дь вместе с капитаном легко и просто запоминать и искать парные сл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астройках можно выбрать разную степень сложности иг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иентируемся на знания ребен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Развивающая игра «Маша ест кашу»"/>
          <p:cNvPicPr/>
          <p:nvPr/>
        </p:nvPicPr>
        <p:blipFill>
          <a:blip r:embed="rId2"/>
          <a:stretch/>
        </p:blipFill>
        <p:spPr>
          <a:xfrm>
            <a:off x="5334120" y="609480"/>
            <a:ext cx="3581280" cy="2684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876920" y="3429000"/>
            <a:ext cx="50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аша ест ка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 читать предложениям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чательная игра для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е уже могут прочи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а и собрать из них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градой станет  маленький муль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мотивам прочитан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у и, конеч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тные билетики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кровищниц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Развивающая игра «Какэточитать»"/>
          <p:cNvPicPr/>
          <p:nvPr/>
        </p:nvPicPr>
        <p:blipFill>
          <a:blip r:embed="rId1"/>
          <a:stretch/>
        </p:blipFill>
        <p:spPr>
          <a:xfrm>
            <a:off x="609480" y="1066680"/>
            <a:ext cx="3276720" cy="245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66120" y="3846600"/>
            <a:ext cx="437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эточи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случилось со слова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все слиплись в один ком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к этот надо прочитать, распут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лова раздел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, полезно, а глав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игра поможет ребе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ьнейшем грамотно пис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Развивающая игра «Незаконченная картина»"/>
          <p:cNvPicPr/>
          <p:nvPr/>
        </p:nvPicPr>
        <p:blipFill>
          <a:blip r:embed="rId2"/>
          <a:stretch/>
        </p:blipFill>
        <p:spPr>
          <a:xfrm>
            <a:off x="4800600" y="457200"/>
            <a:ext cx="3809880" cy="285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48320" y="384660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законченная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лый Художник рисует карт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разу их подписыв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каждый раз ему приход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оминать, какую букву вставить в сло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а ребенка – помо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нику выбрать верную  бук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оня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Интерактивная игра для де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из древнейших методов познания окружающего мира, приобретения жизненного опыта посредством искусственно созданных ситуа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является простейшим способом донесения нужной информации человеку. Интерактивная игра способствует самостоятельному поиску решений.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ика иг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1360" y="1219320"/>
            <a:ext cx="8474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ь описывает ситуацию, которая, по его мнен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соответствует данной возрастной групп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е, этапу в развитии и воспитании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младшей возраст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руппы роли в интерактивных играх для детейраспределяются самим преподавателем, в то время как дети старшей возрастной группы получают большую свободу дей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ходе моделирования ситуации дети получают возможность 1.Самостоятельнопроанализировать рол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пределить их в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оанализировать возможные варианты развития ситуации 4.Предугадать возможные исх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младшей возрастной групп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нтерактивная игра для детей предлагает четкий сценарий, на основе которого дети приобретут тот или иной опыт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Что развивает интерактивная игр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активная игра для детей позволяет развить в детях следующие качества и ум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и постановка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возможных путей достижения цели (прогнозировани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еделение и постановка задач (планирование), определение функции каждого участника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несение своей мыс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полученного и ожидаемого результата.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Функции интерактивной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активные игры для детей способству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ированию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биению комплексной цели/задачи на меньшие логические звень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ю наиболее эффективных реш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из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ю невербальных способов коммуникации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Развивающие интернет игры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й из разновидностей интерактивных игр для детей являются развивающие детски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тернет иг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представляют собой упрощенный вариант взаимодействия с окружающим ми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южет игры – смоделированная ситуация, в которой участник (игрок, ребенок) должен выбрать одну из ролей и справиться с поставленными цел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Роль интерактивных иг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ы для ПК, развивающие определенные навыки и умения, способствуют более легкой адаптации ребенка, быстрому усвоению нового материала. В отличие от настольных развивающих игр, интернет игры для детей поглощают их внимание анимацией, яркими образами, цепочкой последовательных действий и задач, предлагаемых ребенку для решения. Динамика игры способствует тренировке вниман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Компьютерн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ая игра – более новый метод усвоения материала. Нельзя утверждать, что без компьютерных игр ребенок не получит должного развития. Игра в любой форме должна присутствовать в процессе воспитания ребенка. Групповые интерактивные игры для детей способствуют не тольк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авильному развит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бе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го социализации в 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учению моделей поведения на реальных жизненных ситуаци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: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eboleem.n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ati-o-detja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5878-interaktivnye-igry-dlja-detej.ph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318320"/>
            <a:ext cx="8534160" cy="520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81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нет-сайты с логопедическими онлайн-иг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logozavr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solnet.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detiseti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teremoc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lohmatik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internetenok.naro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www.nachalk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http://mersibo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prezentacii.com/obschestvoznani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935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Адреса интерактивных компьютерны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0:00:43Z</dcterms:created>
  <dc:creator>lenovo</dc:creator>
  <dc:description/>
  <dc:language>en-US</dc:language>
  <cp:lastModifiedBy>lenovo</cp:lastModifiedBy>
  <dcterms:modified xsi:type="dcterms:W3CDTF">2016-09-25T11:54:5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