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D980-1149-41EB-892D-48714D1DD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29EC-19EC-401F-9309-D516276F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0F37-816E-4AB3-96E9-0F0BDA118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FA23-7BF5-46CC-A40D-B1FD69B2A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35F2-39B6-49DF-9F20-E120E626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0B25-DF48-4B1A-9780-698D9B67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4678-239A-4360-93AC-441E1265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B268-C425-4FF5-B61C-E140B73F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300D-2569-4CC8-9903-216F6A4D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D5C2-A0E2-4BD5-A681-37247549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56DA-4A40-4A3D-AD94-7CD1CCCD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7EA7-E0C6-4167-AFCE-394EB733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101A-B12D-44A4-8EC6-3201DF7E1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eboleem.net/stati-o-detjah/5878-interaktivnye-igry-dlja-detej.php" TargetMode="External"/><Relationship Id="rId2" Type="http://schemas.openxmlformats.org/officeDocument/2006/relationships/hyperlink" Target="http://www.neboleem.net/stati-o-detjah/5878-interaktivnye-igry-dlja-detej.php" TargetMode="External"/><Relationship Id="rId3" Type="http://schemas.openxmlformats.org/officeDocument/2006/relationships/hyperlink" Target="http://www.neboleem.net/stati-o-detjah/5878-interaktivnye-igry-dlja-detej.php" TargetMode="External"/><Relationship Id="rId4" Type="http://schemas.openxmlformats.org/officeDocument/2006/relationships/hyperlink" Target="http://www.neboleem.net/stati-o-detjah/5878-interaktivnye-igry-dlja-detej.php" TargetMode="External"/><Relationship Id="rId5" Type="http://schemas.openxmlformats.org/officeDocument/2006/relationships/hyperlink" Target="http://www.neboleem.net/stati-o-detjah/5878-interaktivnye-igry-dlja-detej.php" TargetMode="External"/><Relationship Id="rId6" Type="http://schemas.openxmlformats.org/officeDocument/2006/relationships/hyperlink" Target="http://www.neboleem.net/stati-o-detjah/5878-interaktivnye-igry-dlja-detej.php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neboleem.net/stati-o-detjah/5878-interaktivnye-igry-dlja-detej.php" TargetMode="External"/><Relationship Id="rId2" Type="http://schemas.openxmlformats.org/officeDocument/2006/relationships/hyperlink" Target="http://www.neboleem.net/stati-o-detjah/5878-interaktivnye-igry-dlja-detej.php" TargetMode="External"/><Relationship Id="rId3" Type="http://schemas.openxmlformats.org/officeDocument/2006/relationships/hyperlink" Target="http://www.neboleem.net/stati-o-detjah/5878-interaktivnye-igry-dlja-detej.php" TargetMode="External"/><Relationship Id="rId4" Type="http://schemas.openxmlformats.org/officeDocument/2006/relationships/hyperlink" Target="http://www.neboleem.net/stati-o-detjah/5878-interaktivnye-igry-dlja-detej.php" TargetMode="External"/><Relationship Id="rId5" Type="http://schemas.openxmlformats.org/officeDocument/2006/relationships/hyperlink" Target="http://www.neboleem.net/stati-o-detjah/5878-interaktivnye-igry-dlja-detej.php" TargetMode="External"/><Relationship Id="rId6" Type="http://schemas.openxmlformats.org/officeDocument/2006/relationships/hyperlink" Target="http://www.neboleem.net/stati-o-detjah/5878-interaktivnye-igry-dlja-detej.php" TargetMode="External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boleem.net/stati-o-detjah/5878-interaktivnye-igry-dlja-detej.php" TargetMode="External"/><Relationship Id="rId2" Type="http://schemas.openxmlformats.org/officeDocument/2006/relationships/hyperlink" Target="http://www.neboleem.net/stati-o-detjah/5878-interaktivnye-igry-dlja-detej.php" TargetMode="External"/><Relationship Id="rId3" Type="http://schemas.openxmlformats.org/officeDocument/2006/relationships/hyperlink" Target="http://www.neboleem.net/stati-o-detjah/5878-interaktivnye-igry-dlja-detej.php" TargetMode="External"/><Relationship Id="rId4" Type="http://schemas.openxmlformats.org/officeDocument/2006/relationships/hyperlink" Target="http://www.neboleem.net/stati-o-detjah/5878-interaktivnye-igry-dlja-detej.php" TargetMode="External"/><Relationship Id="rId5" Type="http://schemas.openxmlformats.org/officeDocument/2006/relationships/hyperlink" Target="http://www.neboleem.net/stati-o-detjah/5878-interaktivnye-igry-dlja-detej.php" TargetMode="External"/><Relationship Id="rId6" Type="http://schemas.openxmlformats.org/officeDocument/2006/relationships/hyperlink" Target="http://www.neboleem.net/stati-o-detjah/5878-interaktivnye-igry-dlja-detej.php" TargetMode="Externa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eboleem.net/stati-o-detjah/5878-interaktivnye-igry-dlja-detej.php" TargetMode="External"/><Relationship Id="rId2" Type="http://schemas.openxmlformats.org/officeDocument/2006/relationships/hyperlink" Target="http://www.neboleem.net/stati-o-detjah/5878-interaktivnye-igry-dlja-detej.php" TargetMode="External"/><Relationship Id="rId3" Type="http://schemas.openxmlformats.org/officeDocument/2006/relationships/hyperlink" Target="http://www.neboleem.net/stati-o-detjah/5878-interaktivnye-igry-dlja-detej.php" TargetMode="External"/><Relationship Id="rId4" Type="http://schemas.openxmlformats.org/officeDocument/2006/relationships/hyperlink" Target="http://www.neboleem.net/stati-o-detjah/5878-interaktivnye-igry-dlja-detej.php" TargetMode="External"/><Relationship Id="rId5" Type="http://schemas.openxmlformats.org/officeDocument/2006/relationships/hyperlink" Target="http://www.neboleem.net/stati-o-detjah/5878-interaktivnye-igry-dlja-detej.php" TargetMode="External"/><Relationship Id="rId6" Type="http://schemas.openxmlformats.org/officeDocument/2006/relationships/hyperlink" Target="http://www.neboleem.net/stati-o-detjah/5878-interaktivnye-igry-dlja-detej.php" TargetMode="Externa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eboleem.net/stati-o-detjah/5878-interaktivnye-igry-dlja-detej.php" TargetMode="External"/><Relationship Id="rId2" Type="http://schemas.openxmlformats.org/officeDocument/2006/relationships/hyperlink" Target="http://www.neboleem.net/stati-o-detjah/5878-interaktivnye-igry-dlja-detej.php" TargetMode="External"/><Relationship Id="rId3" Type="http://schemas.openxmlformats.org/officeDocument/2006/relationships/hyperlink" Target="http://www.neboleem.net/stati-o-detjah/5878-interaktivnye-igry-dlja-detej.php" TargetMode="External"/><Relationship Id="rId4" Type="http://schemas.openxmlformats.org/officeDocument/2006/relationships/hyperlink" Target="http://www.neboleem.net/stati-o-detjah/5878-interaktivnye-igry-dlja-detej.php" TargetMode="External"/><Relationship Id="rId5" Type="http://schemas.openxmlformats.org/officeDocument/2006/relationships/hyperlink" Target="http://www.neboleem.net/stati-o-detjah/5878-interaktivnye-igry-dlja-detej.php" TargetMode="External"/><Relationship Id="rId6" Type="http://schemas.openxmlformats.org/officeDocument/2006/relationships/hyperlink" Target="http://www.neboleem.net/stati-o-detjah/5878-interaktivnye-igry-dlja-detej.php" TargetMode="Externa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eboleem.net/stati-o-detjah/5878-interaktivnye-igry-dlja-detej.php" TargetMode="External"/><Relationship Id="rId2" Type="http://schemas.openxmlformats.org/officeDocument/2006/relationships/hyperlink" Target="http://www.neboleem.net/stati-o-detjah/5878-interaktivnye-igry-dlja-detej.php" TargetMode="External"/><Relationship Id="rId3" Type="http://schemas.openxmlformats.org/officeDocument/2006/relationships/hyperlink" Target="http://www.neboleem.net/stati-o-detjah/5878-interaktivnye-igry-dlja-detej.php" TargetMode="External"/><Relationship Id="rId4" Type="http://schemas.openxmlformats.org/officeDocument/2006/relationships/hyperlink" Target="http://www.neboleem.net/stati-o-detjah/5878-interaktivnye-igry-dlja-detej.php" TargetMode="External"/><Relationship Id="rId5" Type="http://schemas.openxmlformats.org/officeDocument/2006/relationships/hyperlink" Target="http://www.neboleem.net/stati-o-detjah/5878-interaktivnye-igry-dlja-detej.php" TargetMode="External"/><Relationship Id="rId6" Type="http://schemas.openxmlformats.org/officeDocument/2006/relationships/hyperlink" Target="http://www.neboleem.net/stati-o-detjah/5878-interaktivnye-igry-dlja-detej.php" TargetMode="Externa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neboleem.net/stati-o-detjah/5878-interaktivnye-igry-dlja-detej.php" TargetMode="External"/><Relationship Id="rId2" Type="http://schemas.openxmlformats.org/officeDocument/2006/relationships/hyperlink" Target="http://www.neboleem.net/stati-o-detjah/5878-interaktivnye-igry-dlja-detej.php" TargetMode="External"/><Relationship Id="rId3" Type="http://schemas.openxmlformats.org/officeDocument/2006/relationships/hyperlink" Target="http://www.neboleem.net/stati-o-detjah/5878-interaktivnye-igry-dlja-detej.php" TargetMode="External"/><Relationship Id="rId4" Type="http://schemas.openxmlformats.org/officeDocument/2006/relationships/hyperlink" Target="http://www.neboleem.net/stati-o-detjah/5878-interaktivnye-igry-dlja-detej.php" TargetMode="External"/><Relationship Id="rId5" Type="http://schemas.openxmlformats.org/officeDocument/2006/relationships/hyperlink" Target="http://www.neboleem.net/stati-o-detjah/5878-interaktivnye-igry-dlja-detej.php" TargetMode="External"/><Relationship Id="rId6" Type="http://schemas.openxmlformats.org/officeDocument/2006/relationships/hyperlink" Target="http://www.neboleem.net/stati-o-detjah/5878-interaktivnye-igry-dlja-detej.php" TargetMode="External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logozavr.ru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Интерактивные игры </a:t>
            </a:r>
            <a:br>
              <a:rPr sz="3600"/>
            </a:b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  по формированию навыка чтения у детей с ОВ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30592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Муниципальное общеобразовательное учре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«Гимназия № 3 Центрального района Волгогра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(МОУ гимназия №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40280" y="5218200"/>
            <a:ext cx="368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Подготов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учитель-логопед Кошкина С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Конструктор картинок 2"/>
          <p:cNvPicPr/>
          <p:nvPr/>
        </p:nvPicPr>
        <p:blipFill>
          <a:blip r:embed="rId1"/>
          <a:stretch/>
        </p:blipFill>
        <p:spPr>
          <a:xfrm>
            <a:off x="304920" y="1219320"/>
            <a:ext cx="2590560" cy="1623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Развивающие игры | Мерсибо"/>
          <p:cNvPicPr/>
          <p:nvPr/>
        </p:nvPicPr>
        <p:blipFill>
          <a:blip r:embed="rId2"/>
          <a:stretch/>
        </p:blipFill>
        <p:spPr>
          <a:xfrm>
            <a:off x="457200" y="304920"/>
            <a:ext cx="2905200" cy="1028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952880" y="3338280"/>
            <a:ext cx="3810240" cy="301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катерина Александровна Суслова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катерина Александровна Суслова - эксперт Мерсибо, учитель-логопед высшей категории, автор методики и многих интерактивных игр Мерсибо, педагог с 20-летним стажем, ведущий специалист в области ИКТ в логопедии и постоянная ведущая вебинаров Мерсиб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886200" y="228600"/>
            <a:ext cx="2273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3333" r="13335" b="0"/>
          <a:stretch/>
        </p:blipFill>
        <p:spPr>
          <a:xfrm>
            <a:off x="838080" y="1066680"/>
            <a:ext cx="5639040" cy="4716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20315" t="0" r="4689" b="0"/>
          <a:stretch/>
        </p:blipFill>
        <p:spPr>
          <a:xfrm rot="4579200">
            <a:off x="5790960" y="3504960"/>
            <a:ext cx="28191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12500" t="12220" r="8335" b="6667"/>
          <a:stretch/>
        </p:blipFill>
        <p:spPr>
          <a:xfrm>
            <a:off x="1066680" y="457200"/>
            <a:ext cx="7239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2500" t="5554" r="3335" b="0"/>
          <a:stretch/>
        </p:blipFill>
        <p:spPr>
          <a:xfrm>
            <a:off x="533520" y="304920"/>
            <a:ext cx="83055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70000" y="1097640"/>
            <a:ext cx="8874000" cy="502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268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Цель игры на формирование навыка чтения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ие логически мыслить, анализировать и сопоставлять события тоже формируется в игр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Требования в любой игр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довести игру до конца, надо соблюдать правила,  действовать последовательно и логично. Иначе до победы не дой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Игры Мерсиб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ощряют стремление ребенка выполнить все действия и закончить игру с победой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ребенок столкнулся с трудностями в игре, не нужно за него отвечать. Вполне возможно, что он справиться сам, подумав. Но если он, действительно, не справляется, то надо вернуться к более простым игр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Как играть на Мерсибо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Развивающая игра «Сладкоежка»"/>
          <p:cNvPicPr/>
          <p:nvPr/>
        </p:nvPicPr>
        <p:blipFill>
          <a:blip r:embed="rId1"/>
          <a:stretch/>
        </p:blipFill>
        <p:spPr>
          <a:xfrm>
            <a:off x="762120" y="838080"/>
            <a:ext cx="4371840" cy="3276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3640" y="4379760"/>
            <a:ext cx="8016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Сладкоеж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ребенок запомнил все буквы, то со Сладкоежкой можно отлично поигр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оставление слов из трех букв или из двух-трех слог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стройки помогут подобрать уровень игры, соответствующий знаниям ребенка на текущий мом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Развивающая игра «Караоке по-детски»"/>
          <p:cNvPicPr/>
          <p:nvPr/>
        </p:nvPicPr>
        <p:blipFill>
          <a:blip r:embed="rId1"/>
          <a:stretch/>
        </p:blipFill>
        <p:spPr>
          <a:xfrm>
            <a:off x="762120" y="304920"/>
            <a:ext cx="4371840" cy="3276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57200" y="3581280"/>
            <a:ext cx="815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Караоке по-дет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ребёнок уже читает по слогам, то можно переходить к чтению предлож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бы облегчить задачу, слоги в словах последовательно выделяются цве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ле каждого прочитанного предложения открываются цветные фрагмен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 которых надо сложить целую картин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Развивающая игра «Загадки капитана»"/>
          <p:cNvPicPr/>
          <p:nvPr/>
        </p:nvPicPr>
        <p:blipFill>
          <a:blip r:embed="rId1"/>
          <a:stretch/>
        </p:blipFill>
        <p:spPr>
          <a:xfrm>
            <a:off x="380880" y="304920"/>
            <a:ext cx="4448160" cy="3333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04920" y="3581280"/>
            <a:ext cx="4495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Загадки капит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е подходящее время знакомиться с буквами и слог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игре ребенок гораздо быстрее освоит азы чт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дь вместе с капитаном легко и просто запоминать и искать парные сл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настройках можно выбрать разную степень сложности иг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иентируемся на знания ребен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Развивающая игра «Маша ест кашу»"/>
          <p:cNvPicPr/>
          <p:nvPr/>
        </p:nvPicPr>
        <p:blipFill>
          <a:blip r:embed="rId2"/>
          <a:stretch/>
        </p:blipFill>
        <p:spPr>
          <a:xfrm>
            <a:off x="5334120" y="609480"/>
            <a:ext cx="3581280" cy="2684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876920" y="3429000"/>
            <a:ext cx="500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Маша ест каш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ра читать предложениями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мечательная игра для дет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торые уже могут прочит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ова и собрать из них пред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градой станет  маленький муль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мотивам прочитанн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у и, конеч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ветные билетики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кровищниц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Развивающая игра «Какэточитать»"/>
          <p:cNvPicPr/>
          <p:nvPr/>
        </p:nvPicPr>
        <p:blipFill>
          <a:blip r:embed="rId1"/>
          <a:stretch/>
        </p:blipFill>
        <p:spPr>
          <a:xfrm>
            <a:off x="609480" y="1066680"/>
            <a:ext cx="3276720" cy="245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66120" y="3846600"/>
            <a:ext cx="437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кэточит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случилось со словами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все слиплись в один ком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ок этот надо прочитать, распута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слова раздели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есно, полезно, а главно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а игра поможет ребен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альнейшем грамотно пис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Развивающая игра «Незаконченная картина»"/>
          <p:cNvPicPr/>
          <p:nvPr/>
        </p:nvPicPr>
        <p:blipFill>
          <a:blip r:embed="rId2"/>
          <a:stretch/>
        </p:blipFill>
        <p:spPr>
          <a:xfrm>
            <a:off x="4800600" y="457200"/>
            <a:ext cx="3809880" cy="2855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648320" y="3846600"/>
            <a:ext cx="434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Незаконченная кар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селый Художник рисует карти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сразу их подписыва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 каждый раз ему приходи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поминать, какую букву вставить в слов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ча ребенка – помоч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удожнику выбрать верную  бук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Понят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Интерактивная игра для дет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дин из древнейших методов познания окружающего мира, приобретения жизненного опыта посредством искусственно созданных ситуац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а является простейшим способом донесения нужной информации человеку. Интерактивная игра способствует самостоятельному поиску решений. 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чник: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neboleem.net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tati-o-detjah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5878-interaktivnye-igry-dlja-detej.ph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тодика игр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1360" y="1219320"/>
            <a:ext cx="84740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подаватель описывает ситуацию, которая, по его мнени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иболее соответствует данной возрастной групп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е, этапу в развитии и воспитании де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ля младшей возрастно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группы роли в интерактивных играх для детейраспределяются самим преподавателем, в то время как дети старшей возрастной группы получают большую свободу действ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ходе моделирования ситуации дети получают возможность 1.Самостоятельнопроанализировать рол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Распределить их в груп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Проанализировать возможные варианты развития ситуации 4.Предугадать возможные исх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младшей возрастной групп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нтерактивная игра для детей предлагает четкий сценарий, на основе которого дети приобретут тот или иной опыт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очник: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neboleem.net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tati-o-detjah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5878-interaktivnye-igry-dlja-detej.ph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Что развивает интерактивная игра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активная игра для детей позволяет развить в детях следующие качества и умен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ализ и постановка ц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ализ возможных путей достижения цели (прогнозирование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пределение и постановка задач (планирование), определение функции каждого участника процес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несение своей мыс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ализ полученного и ожидаемого результата.</a:t>
            </a: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чник: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neboleem.net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tati-o-detjah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5878-interaktivnye-igry-dlja-detej.ph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Функции интерактивной иг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терактивные игры для детей способствую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ированию зн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биению комплексной цели/задачи на меньшие логические звень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ению наиболее эффективных решен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циализац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ированию невербальных способов коммуникации.</a:t>
            </a:r>
            <a:br>
              <a:rPr sz="28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: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neboleem.net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tati-o-detjah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5878-interaktivnye-igry-dlja-detej.ph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Развивающие интернет игры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ой из разновидностей интерактивных игр для детей являются развивающие детские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нтернет иг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оторые представляют собой упрощенный вариант взаимодействия с окружающим мир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южет игры – смоделированная ситуация, в которой участник (игрок, ребенок) должен выбрать одну из ролей и справиться с поставленными целя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чник: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neboleem.net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tati-o-detjah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5878-interaktivnye-igry-dlja-detej.ph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Роль интерактивных иг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ы для ПК, развивающие определенные навыки и умения, способствуют более легкой адаптации ребенка, быстрому усвоению нового материала. В отличие от настольных развивающих игр, интернет игры для детей поглощают их внимание анимацией, яркими образами, цепочкой последовательных действий и задач, предлагаемых ребенку для решения. Динамика игры способствует тренировке внимания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чник: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neboleem.net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tati-o-detjah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5878-interaktivnye-igry-dlja-detej.ph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Компьютерная иг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ная игра – более новый метод усвоения материала. Нельзя утверждать, что без компьютерных игр ребенок не получит должного развития. Игра в любой форме должна присутствовать в процессе воспитания ребенка. Групповые интерактивные игры для детей способствуют не только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авильному развит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ебен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о 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его социализации в обществ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также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зучению моделей поведения на реальных жизненных ситуация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: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neboleem.net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tati-o-detjah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5878-interaktivnye-igry-dlja-detej.ph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318320"/>
            <a:ext cx="8534160" cy="520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81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тернет-сайты с логопедическими онлайн-игр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logozavr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www.solnet.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www.detiseti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www.teremoc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www.lohmatik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www.internetenok.narod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www.nachalka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http://mersibo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prezentacii.com/obschestvoznanie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9356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Адреса интерактивных компьютерных иг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3T10:00:43Z</dcterms:created>
  <dc:creator>lenovo</dc:creator>
  <dc:description/>
  <dc:language>en-US</dc:language>
  <cp:lastModifiedBy>lenovo</cp:lastModifiedBy>
  <dcterms:modified xsi:type="dcterms:W3CDTF">2016-09-25T11:54:5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