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8311-3F49-4A80-8DC1-C297C5B2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73C4-AC67-4C83-8811-4F4E8F3E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BF56-263B-41D4-8C2F-DB7043E6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AD93-D82F-4239-9E70-B9AC006A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E7C-6058-43D7-93E0-448892F2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9DF6-9406-4957-8566-3AB9E776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BAAA-0C33-4F7E-9213-1D1A50F5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EF85-9BD9-4EB9-BCBC-62A8FF49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B8B5-C6FE-44B1-87D8-60FC6BAF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9B14-B67F-44B3-A237-B290D636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3559-F7A0-4EC9-AD61-D6969B6C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C6DC-820E-41F3-9A74-0BE1F1BC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6689-B837-4F92-B364-DDAB087E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1EED-47D6-4C1C-887D-918FE95A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4592-4AF8-489E-8268-134DA74A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5E12-BFEF-4327-998D-ACD499AB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6733-9548-47B7-80FC-106E085C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5EA9-D411-4729-B7DD-43A0B96B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2BB-69D7-45C8-AA42-2A2BE2C6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5222-4B74-4681-8735-E4ABBCF3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C91-4F12-4CE5-BF4B-607949E1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A9E6-4318-4A60-B719-71A363A6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A4D-ABD9-4B7C-A17E-B9353DD5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EC24-B1D9-4E5E-AD27-5B60CE01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8"/>
          <p:cNvGraphicFramePr/>
          <p:nvPr/>
        </p:nvGraphicFramePr>
        <p:xfrm>
          <a:off x="0" y="-27000"/>
          <a:ext cx="9144000" cy="93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1440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867280" y="6443280"/>
            <a:ext cx="28958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428640" y="6446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DE42-1F2E-428A-8C08-0CC5F63AD63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4178160" y="595800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18"/>
          <p:cNvGraphicFramePr/>
          <p:nvPr/>
        </p:nvGraphicFramePr>
        <p:xfrm>
          <a:off x="0" y="-27000"/>
          <a:ext cx="9144000" cy="93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1440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E229-39E7-4752-A7A6-A34F427B5F0B}" type="slidenum">
              <a:rPr b="1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24000" y="141120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Black"/>
                <a:ea typeface="Courier New"/>
              </a:rPr>
              <a:t>Современные формы взаимодействия учителя – логопеда и родителей в рамках ФГОС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2448000" y="3933720"/>
            <a:ext cx="453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Давайте будем учиться вместе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 своими детьми»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Прямоугольник 1"/>
          <p:cNvSpPr/>
          <p:nvPr/>
        </p:nvSpPr>
        <p:spPr>
          <a:xfrm>
            <a:off x="2843280" y="5732640"/>
            <a:ext cx="3744720" cy="792000"/>
          </a:xfrm>
          <a:prstGeom prst="rect">
            <a:avLst/>
          </a:prstGeom>
          <a:solidFill>
            <a:srgbClr val="c7d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Носова Н.П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78920" y="907560"/>
            <a:ext cx="8425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 Narrow"/>
              </a:rPr>
              <a:t>      </a:t>
            </a:r>
            <a:r>
              <a:rPr b="0" lang="ru-RU" sz="1800" spc="-1" strike="noStrike">
                <a:solidFill>
                  <a:srgbClr val="1d528d"/>
                </a:solidFill>
                <a:latin typeface="Arial Narrow"/>
              </a:rPr>
              <a:t>Успешность  коррекционно-логопедического  воздействия во многом определяется тем , насколько правильно организуется преемственность в деятельности  логопеда и родителей. Ни одна система не может быть в полной мере эффективной, если в ней не задействована семья. ... </a:t>
            </a:r>
            <a:r>
              <a:rPr b="1" lang="ru-RU" sz="1800" spc="-1" strike="noStrike">
                <a:solidFill>
                  <a:srgbClr val="1d528d"/>
                </a:solidFill>
                <a:latin typeface="Arial Narrow"/>
              </a:rPr>
              <a:t>Родители - главные помощники логопеда</a:t>
            </a:r>
            <a:r>
              <a:rPr b="0" lang="ru-RU" sz="1800" spc="-1" strike="noStrike">
                <a:solidFill>
                  <a:srgbClr val="1d528d"/>
                </a:solidFill>
                <a:latin typeface="Arial Narrow"/>
              </a:rPr>
              <a:t>. Их осведомленность о содержании работы логопеда, о способах подачи и проверки учебного материала непосредственно влияет на успешность в учебной деятельности. </a:t>
            </a:r>
            <a:r>
              <a:rPr b="1" i="1" lang="ru-RU" sz="2800" spc="-1" strike="noStrike">
                <a:solidFill>
                  <a:srgbClr val="1d528d"/>
                </a:solidFill>
                <a:latin typeface="Arial Narrow"/>
              </a:rPr>
              <a:t>Цель: </a:t>
            </a:r>
            <a:r>
              <a:rPr b="0" lang="ru-RU" sz="2000" spc="-1" strike="noStrike">
                <a:solidFill>
                  <a:srgbClr val="ff0000"/>
                </a:solidFill>
                <a:latin typeface="Arial Narrow"/>
              </a:rPr>
              <a:t>Повышение уровня речевого развития детей дошкольного возраста посредством совместного творческого взаимодействия учителя-логопеда, родителей и ребенка. </a:t>
            </a:r>
            <a:endParaRPr b="0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Narrow"/>
              </a:rPr>
              <a:t>Изучение различных форм взаимодействия  родителей и учителя-логопеда как способа  повышения результативности коррекционной работы.</a:t>
            </a:r>
            <a:endParaRPr b="0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 Narrow"/>
              </a:rPr>
              <a:t>Задачи:</a:t>
            </a:r>
            <a:r>
              <a:rPr b="1" lang="ru-RU" sz="2000" spc="-1" strike="noStrike">
                <a:solidFill>
                  <a:srgbClr val="1d528d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Формировать партнерские отношения с родителями, объединить усилия для развития и коррекции речи детей. </a:t>
            </a:r>
            <a:endParaRPr b="0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Обогатить педагогические знания и умения родителей через совместную деятельность.</a:t>
            </a:r>
            <a:endParaRPr b="0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едставить наиболее интересные формы совместной творческой деятельности детей - родителей - логопеда.</a:t>
            </a:r>
            <a:endParaRPr b="0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39528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..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Родители - главные помощники логопеда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d528d"/>
                </a:solidFill>
                <a:latin typeface="Verdana"/>
              </a:rPr>
              <a:t>           </a:t>
            </a:r>
            <a:r>
              <a:rPr b="1" i="1" lang="en-US" sz="3200" spc="-1" strike="noStrike">
                <a:solidFill>
                  <a:srgbClr val="c00000"/>
                </a:solidFill>
                <a:latin typeface="Verdana"/>
              </a:rPr>
              <a:t>I</a:t>
            </a:r>
            <a:r>
              <a:rPr b="1" i="1" lang="ru-RU" sz="3200" spc="-1" strike="noStrike">
                <a:solidFill>
                  <a:srgbClr val="c00000"/>
                </a:solidFill>
                <a:latin typeface="Verdana"/>
              </a:rPr>
              <a:t> этап - подготовительный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120600" y="4191120"/>
            <a:ext cx="8723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c00000"/>
                </a:solidFill>
                <a:latin typeface="Verdana"/>
              </a:rPr>
              <a:t>II</a:t>
            </a:r>
            <a:r>
              <a:rPr b="1" i="1" lang="ru-RU" sz="3200" spc="-1" strike="noStrike">
                <a:solidFill>
                  <a:srgbClr val="c00000"/>
                </a:solidFill>
                <a:latin typeface="Verdana"/>
              </a:rPr>
              <a:t> этап – преобразовательный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Прямоугольник 1"/>
          <p:cNvSpPr/>
          <p:nvPr/>
        </p:nvSpPr>
        <p:spPr>
          <a:xfrm>
            <a:off x="615960" y="3141720"/>
            <a:ext cx="773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Беседы, консультации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Родительское собрание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584280" y="2235240"/>
            <a:ext cx="79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Диагностика детей и сбор амнестических данных о речевом развитии ребенка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582480" y="2828880"/>
            <a:ext cx="76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Анкетирование родителей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582480" y="2521080"/>
            <a:ext cx="758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оставление перспективного плана учителя-логопеда с семьей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6" name="Прямоугольник 1"/>
          <p:cNvSpPr/>
          <p:nvPr/>
        </p:nvSpPr>
        <p:spPr>
          <a:xfrm>
            <a:off x="615960" y="1052640"/>
            <a:ext cx="794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Цель: готовность к участию сотрудничества учителя-логопеда и родителей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576360" y="4754520"/>
            <a:ext cx="8164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Цель: совершенствование системы мероприятий, обеспечивающих качество работы .Трансляция родителям знаний о ребенке,об успехах и развитии ребенка, особенностях общения его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AutoShape 50"/>
          <p:cNvSpPr/>
          <p:nvPr/>
        </p:nvSpPr>
        <p:spPr>
          <a:xfrm>
            <a:off x="6183360" y="1236600"/>
            <a:ext cx="2898720" cy="1216080"/>
          </a:xfrm>
          <a:prstGeom prst="roundRect">
            <a:avLst>
              <a:gd name="adj" fmla="val 50000"/>
            </a:avLst>
          </a:prstGeom>
          <a:solidFill>
            <a:srgbClr val="1b9ad9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AutoShape 51"/>
          <p:cNvSpPr/>
          <p:nvPr/>
        </p:nvSpPr>
        <p:spPr>
          <a:xfrm>
            <a:off x="3203640" y="2492280"/>
            <a:ext cx="3060720" cy="1225800"/>
          </a:xfrm>
          <a:prstGeom prst="roundRect">
            <a:avLst>
              <a:gd name="adj" fmla="val 50000"/>
            </a:avLst>
          </a:prstGeom>
          <a:solidFill>
            <a:srgbClr val="1b9ad9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AutoShape 52"/>
          <p:cNvSpPr/>
          <p:nvPr/>
        </p:nvSpPr>
        <p:spPr>
          <a:xfrm>
            <a:off x="-6480" y="1306440"/>
            <a:ext cx="3210120" cy="1214640"/>
          </a:xfrm>
          <a:prstGeom prst="roundRect">
            <a:avLst>
              <a:gd name="adj" fmla="val 50000"/>
            </a:avLst>
          </a:prstGeom>
          <a:solidFill>
            <a:srgbClr val="1b9ad9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AutoShape 3"/>
          <p:cNvSpPr/>
          <p:nvPr/>
        </p:nvSpPr>
        <p:spPr>
          <a:xfrm rot="10800000">
            <a:off x="755640" y="2997000"/>
            <a:ext cx="1447920" cy="108108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 rot="10800000">
            <a:off x="3924360" y="3715920"/>
            <a:ext cx="1447920" cy="108108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 rot="10800000">
            <a:off x="7164360" y="2923920"/>
            <a:ext cx="1447920" cy="108108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5" name="TextBox 50"/>
          <p:cNvSpPr/>
          <p:nvPr/>
        </p:nvSpPr>
        <p:spPr>
          <a:xfrm>
            <a:off x="500040" y="1712880"/>
            <a:ext cx="22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оллективные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TextBox 51"/>
          <p:cNvSpPr/>
          <p:nvPr/>
        </p:nvSpPr>
        <p:spPr>
          <a:xfrm>
            <a:off x="3573360" y="285264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ндивидуальные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TextBox 52"/>
          <p:cNvSpPr/>
          <p:nvPr/>
        </p:nvSpPr>
        <p:spPr>
          <a:xfrm>
            <a:off x="6264360" y="155880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аглядно-информационные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Прямоугольник 1"/>
          <p:cNvSpPr/>
          <p:nvPr/>
        </p:nvSpPr>
        <p:spPr>
          <a:xfrm>
            <a:off x="155520" y="3227400"/>
            <a:ext cx="293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 Narrow"/>
              </a:rPr>
              <a:t>Родительские собрания,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 Narrow"/>
              </a:rPr>
              <a:t>Семинары-практикум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 Narrow"/>
              </a:rPr>
              <a:t>Открытые подгрупповые  и индивидуальные занят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 Narrow"/>
              </a:rPr>
              <a:t>Тестирования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 Narrow"/>
              </a:rPr>
              <a:t>Беседы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 Narrow"/>
              </a:rPr>
              <a:t>Изготовление пособий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 Narrow"/>
              </a:rPr>
              <a:t>своими рукам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3573360" y="4052880"/>
            <a:ext cx="308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3e6a"/>
                </a:solidFill>
                <a:latin typeface="Arial Narrow"/>
              </a:rPr>
              <a:t>Консультаци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Narrow"/>
              </a:rPr>
              <a:t>Практикум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Narrow"/>
              </a:rPr>
              <a:t>Консультаци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Narrow"/>
              </a:rPr>
              <a:t>Родительский  контрол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 Narrow"/>
              </a:rPr>
              <a:t>за выполнением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Narrow"/>
              </a:rPr>
              <a:t>логопедических заданий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 Narrow"/>
              </a:rPr>
              <a:t>в домашних условиях (тетрадь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6465960" y="3781440"/>
            <a:ext cx="278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 Narrow"/>
                <a:ea typeface="Times New Roman"/>
              </a:rPr>
              <a:t>Речевой уголок - Стенд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 Narrow"/>
                <a:ea typeface="Times New Roman"/>
              </a:rPr>
              <a:t>Папки-передвижк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 Narrow"/>
                <a:ea typeface="Times New Roman"/>
              </a:rPr>
              <a:t>Памятки, буклет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 Narrow"/>
                <a:ea typeface="Times New Roman"/>
              </a:rPr>
              <a:t>Выставки дидактичес-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 Narrow"/>
                <a:ea typeface="Times New Roman"/>
              </a:rPr>
              <a:t>ких игр,  пособий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 Narrow"/>
                <a:ea typeface="Times New Roman"/>
              </a:rPr>
              <a:t>-сайт ДОУ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TextBox 49"/>
          <p:cNvSpPr/>
          <p:nvPr/>
        </p:nvSpPr>
        <p:spPr>
          <a:xfrm>
            <a:off x="1258920" y="18900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формы работы с семьей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онсультирование родителей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153" name="Рисунок 12" descr="C:\Users\Home\Desktop\фото работа\P1040611.JPG"/>
          <p:cNvPicPr/>
          <p:nvPr/>
        </p:nvPicPr>
        <p:blipFill>
          <a:blip r:embed="rId1"/>
          <a:srcRect l="0" t="0" r="0" b="10434"/>
          <a:stretch/>
        </p:blipFill>
        <p:spPr>
          <a:xfrm>
            <a:off x="3851280" y="3141720"/>
            <a:ext cx="4753080" cy="33796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8" descr="C:\Users\Home\Desktop\фото работа\P1040608.JPG"/>
          <p:cNvPicPr/>
          <p:nvPr/>
        </p:nvPicPr>
        <p:blipFill>
          <a:blip r:embed="rId2"/>
          <a:stretch/>
        </p:blipFill>
        <p:spPr>
          <a:xfrm>
            <a:off x="527040" y="1197000"/>
            <a:ext cx="426420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каз совместных занятий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156" name="Рисунок 8" descr="C:\Users\Home\Desktop\фото работа\IMG_1285.JPG"/>
          <p:cNvPicPr/>
          <p:nvPr/>
        </p:nvPicPr>
        <p:blipFill>
          <a:blip r:embed="rId1"/>
          <a:stretch/>
        </p:blipFill>
        <p:spPr>
          <a:xfrm>
            <a:off x="4394160" y="3357720"/>
            <a:ext cx="4210200" cy="331308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1" descr="C:\Users\Home\Desktop\фото работа\IMG_9889.JPG"/>
          <p:cNvPicPr/>
          <p:nvPr/>
        </p:nvPicPr>
        <p:blipFill>
          <a:blip r:embed="rId2"/>
          <a:stretch/>
        </p:blipFill>
        <p:spPr>
          <a:xfrm>
            <a:off x="611280" y="1197000"/>
            <a:ext cx="428616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528d"/>
                </a:solidFill>
                <a:latin typeface="Arial Narrow"/>
              </a:rPr>
              <a:t>Совместные мероприятия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159" name="Рисунок 5" descr="C:\Users\Home\Desktop\фото работа\IMG_0459.JPG"/>
          <p:cNvPicPr/>
          <p:nvPr/>
        </p:nvPicPr>
        <p:blipFill>
          <a:blip r:embed="rId1"/>
          <a:stretch/>
        </p:blipFill>
        <p:spPr>
          <a:xfrm>
            <a:off x="179280" y="981000"/>
            <a:ext cx="4105440" cy="28083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6" descr="C:\Users\Home\Desktop\фото работа\IMG_1015.JPG"/>
          <p:cNvPicPr/>
          <p:nvPr/>
        </p:nvPicPr>
        <p:blipFill>
          <a:blip r:embed="rId2"/>
          <a:stretch/>
        </p:blipFill>
        <p:spPr>
          <a:xfrm>
            <a:off x="4427640" y="2060640"/>
            <a:ext cx="4208400" cy="309708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7" descr="C:\Users\Home\Desktop\фото работа\IMG_6850.JPG"/>
          <p:cNvPicPr/>
          <p:nvPr/>
        </p:nvPicPr>
        <p:blipFill>
          <a:blip r:embed="rId3"/>
          <a:stretch/>
        </p:blipFill>
        <p:spPr>
          <a:xfrm>
            <a:off x="179280" y="3933720"/>
            <a:ext cx="41054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3"/>
          <p:cNvSpPr/>
          <p:nvPr/>
        </p:nvSpPr>
        <p:spPr>
          <a:xfrm>
            <a:off x="1785960" y="3286080"/>
            <a:ext cx="5530680" cy="153828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528d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c00000"/>
                </a:solidFill>
                <a:latin typeface="Verdana"/>
              </a:rPr>
              <a:t>III</a:t>
            </a:r>
            <a:r>
              <a:rPr b="1" i="1" lang="ru-RU" sz="3200" spc="-1" strike="noStrike">
                <a:solidFill>
                  <a:srgbClr val="c00000"/>
                </a:solidFill>
                <a:latin typeface="Verdana"/>
              </a:rPr>
              <a:t> этап –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обобщающий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1143000" y="928800"/>
            <a:ext cx="6715080" cy="2286000"/>
          </a:xfrm>
          <a:prstGeom prst="roundRect">
            <a:avLst>
              <a:gd name="adj" fmla="val 50000"/>
            </a:avLst>
          </a:prstGeom>
          <a:solidFill>
            <a:srgbClr val="5695dc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Цель: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оценка эффективности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логопедической коррекционной работы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7143840" y="5156280"/>
            <a:ext cx="214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66" name="Group 13"/>
          <p:cNvGrpSpPr/>
          <p:nvPr/>
        </p:nvGrpSpPr>
        <p:grpSpPr>
          <a:xfrm>
            <a:off x="3348000" y="4292640"/>
            <a:ext cx="2569680" cy="2356920"/>
            <a:chOff x="3348000" y="4292640"/>
            <a:chExt cx="2569680" cy="2356920"/>
          </a:xfrm>
        </p:grpSpPr>
        <p:grpSp>
          <p:nvGrpSpPr>
            <p:cNvPr id="167" name="Group 14"/>
            <p:cNvGrpSpPr/>
            <p:nvPr/>
          </p:nvGrpSpPr>
          <p:grpSpPr>
            <a:xfrm>
              <a:off x="3432960" y="4363920"/>
              <a:ext cx="2269440" cy="2285640"/>
              <a:chOff x="3432960" y="4363920"/>
              <a:chExt cx="2269440" cy="2285640"/>
            </a:xfrm>
          </p:grpSpPr>
          <p:sp>
            <p:nvSpPr>
              <p:cNvPr id="168" name="Oval 15"/>
              <p:cNvSpPr/>
              <p:nvPr/>
            </p:nvSpPr>
            <p:spPr>
              <a:xfrm>
                <a:off x="3432960" y="4363920"/>
                <a:ext cx="2269440" cy="228564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f4f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 Narrow"/>
                  </a:rPr>
                  <a:t>Результаты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 Narrow"/>
                  </a:rPr>
                  <a:t>анкетировани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 Narrow"/>
                  </a:rPr>
                  <a:t>родителей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9" name="Freeform 16"/>
              <p:cNvSpPr/>
              <p:nvPr/>
            </p:nvSpPr>
            <p:spPr>
              <a:xfrm>
                <a:off x="3693240" y="4450680"/>
                <a:ext cx="1768680" cy="8596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70" name="Text Box 17"/>
            <p:cNvSpPr/>
            <p:nvPr/>
          </p:nvSpPr>
          <p:spPr>
            <a:xfrm>
              <a:off x="3348000" y="4292640"/>
              <a:ext cx="256968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71" name="TextBox 39"/>
          <p:cNvSpPr/>
          <p:nvPr/>
        </p:nvSpPr>
        <p:spPr>
          <a:xfrm>
            <a:off x="1785960" y="5500800"/>
            <a:ext cx="214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Oval 21"/>
          <p:cNvSpPr/>
          <p:nvPr/>
        </p:nvSpPr>
        <p:spPr>
          <a:xfrm>
            <a:off x="6443640" y="4365720"/>
            <a:ext cx="2316240" cy="2214360"/>
          </a:xfrm>
          <a:prstGeom prst="ellipse">
            <a:avLst/>
          </a:prstGeom>
          <a:gradFill rotWithShape="0">
            <a:gsLst>
              <a:gs pos="0">
                <a:srgbClr val="1b9ad9"/>
              </a:gs>
              <a:gs pos="100000">
                <a:srgbClr val="0e4f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езультаты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диагностики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ыпуск детей из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логопункт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73" name="Группа 23"/>
          <p:cNvGrpSpPr/>
          <p:nvPr/>
        </p:nvGrpSpPr>
        <p:grpSpPr>
          <a:xfrm>
            <a:off x="331920" y="4221000"/>
            <a:ext cx="2315880" cy="2583000"/>
            <a:chOff x="331920" y="4221000"/>
            <a:chExt cx="2315880" cy="2583000"/>
          </a:xfrm>
        </p:grpSpPr>
        <p:sp>
          <p:nvSpPr>
            <p:cNvPr id="174" name="Oval 21"/>
            <p:cNvSpPr/>
            <p:nvPr/>
          </p:nvSpPr>
          <p:spPr>
            <a:xfrm>
              <a:off x="331920" y="4221000"/>
              <a:ext cx="2315880" cy="2583000"/>
            </a:xfrm>
            <a:prstGeom prst="ellipse">
              <a:avLst/>
            </a:prstGeom>
            <a:gradFill rotWithShape="0">
              <a:gsLst>
                <a:gs pos="0">
                  <a:srgbClr val="1b9ad9"/>
                </a:gs>
                <a:gs pos="100000">
                  <a:srgbClr val="0e4f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Чтение стихов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детьм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на утренника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5" name="Freeform 22"/>
            <p:cNvSpPr/>
            <p:nvPr/>
          </p:nvSpPr>
          <p:spPr>
            <a:xfrm>
              <a:off x="496800" y="4312800"/>
              <a:ext cx="1917720" cy="9763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1b9a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3e6a"/>
                </a:solidFill>
                <a:latin typeface="Arial Narrow"/>
              </a:rPr>
              <a:t>Родительская поддержка – это процесс:</a:t>
            </a:r>
            <a:endParaRPr b="0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79280" y="2060640"/>
            <a:ext cx="519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 ходе которого родитель сосредотачивается на достоинствах ребенка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оторый помогает ребенку поверить в себя и в свои способности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оторый поддерживает ребенка при неудачах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transition>
    <p:circl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20:10:24Z</dcterms:created>
  <dc:creator>гимназия№2</dc:creator>
  <dc:description/>
  <dc:language>en-US</dc:language>
  <cp:lastModifiedBy>Home</cp:lastModifiedBy>
  <dcterms:modified xsi:type="dcterms:W3CDTF">2016-09-25T14:26:49Z</dcterms:modified>
  <cp:revision>302</cp:revision>
  <dc:subject/>
  <dc:title>Галкина Ирина Викторовна МДОУ «Детский сад №29 г.Вышний Волочёк</dc:title>
</cp:coreProperties>
</file>