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C1B-4CBD-429C-8FAF-F2F2F565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EAB-5B90-4631-ABF4-787BE3E3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8F5-AA87-4DA5-8996-D93B517B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5C0-763F-4AFA-B3C6-9A4DCB88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F3D-7E53-4DD0-B4C6-78BB2AF2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1C0D-1D84-4536-8DF6-41150D98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006D-C831-41E1-AB46-1E0D830B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F2A9-CCA9-4B99-B54E-0BA35242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D475-20EA-409B-9AB6-6BCA06D2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34F2-4AB2-4E76-888D-DD80BA49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DB6-E92F-4AAE-8AC6-BEB18C8A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A4B0-E13D-42D5-8642-3744352B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17B6-86A7-438C-8998-2995D5B7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DBF5-39A4-4728-A015-74E7E69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3554-4AF6-4035-B1B8-F0A55B53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1EE2-9FD3-4C64-BB13-C59712FE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68FE-EC6F-495B-835B-3CAD8815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B8F3-0C06-487F-B6D4-75CE1273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858-B3A1-4313-8EC9-6F84894B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106-FBA1-43BD-8AEB-521FDCB2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389-E5BD-4C75-88CB-43CCE8DD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027-4F3E-47B9-9001-7F4AB24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4B5-6AEB-4A75-BC44-54211B3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FCD-9806-4939-B389-2A781A12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8"/>
          <p:cNvGraphicFramePr/>
          <p:nvPr/>
        </p:nvGraphicFramePr>
        <p:xfrm>
          <a:off x="0" y="-27000"/>
          <a:ext cx="914400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144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867280" y="6443280"/>
            <a:ext cx="2895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DA9D-0DB1-473F-93DC-B23C9960366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4178160" y="595800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8"/>
          <p:cNvGraphicFramePr/>
          <p:nvPr/>
        </p:nvGraphicFramePr>
        <p:xfrm>
          <a:off x="0" y="-27000"/>
          <a:ext cx="914400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144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E2CC-8626-4AF7-9277-01226D58DC35}" type="slidenum">
              <a:rPr b="1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24000" y="14112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  <a:ea typeface="Courier New"/>
              </a:rPr>
              <a:t>Современные формы взаимодействия учителя – логопеда и родителей в рамках ФГОС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2448000" y="393372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авайте будем учиться вместе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 своими детьми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Прямоугольник 1"/>
          <p:cNvSpPr/>
          <p:nvPr/>
        </p:nvSpPr>
        <p:spPr>
          <a:xfrm>
            <a:off x="2843280" y="5732640"/>
            <a:ext cx="3744720" cy="792000"/>
          </a:xfrm>
          <a:prstGeom prst="rect">
            <a:avLst/>
          </a:prstGeom>
          <a:solidFill>
            <a:srgbClr val="c7d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Носова Н.П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78920" y="907560"/>
            <a:ext cx="8425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 Narrow"/>
              </a:rPr>
              <a:t>      </a:t>
            </a:r>
            <a:r>
              <a:rPr b="0" lang="ru-RU" sz="1800" spc="-1" strike="noStrike">
                <a:solidFill>
                  <a:srgbClr val="1d528d"/>
                </a:solidFill>
                <a:latin typeface="Arial Narrow"/>
              </a:rPr>
              <a:t>Успешность  коррекционно-логопедического  воздействия во многом определяется тем , насколько правильно организуется преемственность в деятельности  логопеда и родителей. Ни одна система не может быть в полной мере эффективной, если в ней не задействована семья. ... </a:t>
            </a: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Родители - главные помощники логопеда</a:t>
            </a:r>
            <a:r>
              <a:rPr b="0" lang="ru-RU" sz="1800" spc="-1" strike="noStrike">
                <a:solidFill>
                  <a:srgbClr val="1d528d"/>
                </a:solidFill>
                <a:latin typeface="Arial Narrow"/>
              </a:rPr>
              <a:t>. Их осведомленность о содержании работы логопеда, о способах подачи и проверки учебного материала непосредственно влияет на успешность в учебной деятельности. </a:t>
            </a:r>
            <a:r>
              <a:rPr b="1" i="1" lang="ru-RU" sz="2800" spc="-1" strike="noStrike">
                <a:solidFill>
                  <a:srgbClr val="1d528d"/>
                </a:solidFill>
                <a:latin typeface="Arial Narrow"/>
              </a:rPr>
              <a:t>Цель: </a:t>
            </a:r>
            <a:r>
              <a:rPr b="0" lang="ru-RU" sz="2000" spc="-1" strike="noStrike">
                <a:solidFill>
                  <a:srgbClr val="ff0000"/>
                </a:solidFill>
                <a:latin typeface="Arial Narrow"/>
              </a:rPr>
              <a:t>Повышение уровня речевого развития детей дошкольного возраста посредством совместного творческого взаимодействия учителя-логопеда, родителей и ребенка. 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Narrow"/>
              </a:rPr>
              <a:t>Изучение различных форм взаимодействия  родителей и учителя-логопеда как способа  повышения результативности коррекционной работы.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 Narrow"/>
              </a:rPr>
              <a:t>Задачи:</a:t>
            </a:r>
            <a:r>
              <a:rPr b="1" lang="ru-RU" sz="2000" spc="-1" strike="noStrike">
                <a:solidFill>
                  <a:srgbClr val="1d528d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ормировать партнерские отношения с родителями, объединить усилия для развития и коррекции речи детей. 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богатить педагогические знания и умения родителей через совместную деятельность.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едставить наиболее интересные формы совместной творческой деятельности детей - родителей - логопеда.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39528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..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одители - главные помощники логопед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d528d"/>
                </a:solidFill>
                <a:latin typeface="Verdana"/>
              </a:rPr>
              <a:t>           </a:t>
            </a:r>
            <a:r>
              <a:rPr b="1" i="1" lang="en-US" sz="3200" spc="-1" strike="noStrike">
                <a:solidFill>
                  <a:srgbClr val="c00000"/>
                </a:solidFill>
                <a:latin typeface="Verdana"/>
              </a:rPr>
              <a:t>I</a:t>
            </a: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 этап - подготовительный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20600" y="4191120"/>
            <a:ext cx="8723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Verdana"/>
              </a:rPr>
              <a:t>II</a:t>
            </a: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 этап – преобразовательный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615960" y="3141720"/>
            <a:ext cx="773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еседы, консультации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Родительское собрание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584280" y="2235240"/>
            <a:ext cx="79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иагностика детей и сбор амнестических данных о речевом развитии ребенка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582480" y="2828880"/>
            <a:ext cx="76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Анкетирование родителей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582480" y="2521080"/>
            <a:ext cx="75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оставление перспективного плана учителя-логопеда с семьей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615960" y="1052640"/>
            <a:ext cx="79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Цель: готовность к участию сотрудничества учителя-логопеда и родителей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76360" y="4754520"/>
            <a:ext cx="816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Цель: совершенствование системы мероприятий, обеспечивающих качество работы .Трансляция родителям знаний о ребенке,об успехах и развитии ребенка, особенностях общения его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50"/>
          <p:cNvSpPr/>
          <p:nvPr/>
        </p:nvSpPr>
        <p:spPr>
          <a:xfrm>
            <a:off x="6183360" y="1236600"/>
            <a:ext cx="2898720" cy="1216080"/>
          </a:xfrm>
          <a:prstGeom prst="roundRect">
            <a:avLst>
              <a:gd name="adj" fmla="val 50000"/>
            </a:avLst>
          </a:prstGeom>
          <a:solidFill>
            <a:srgbClr val="1b9ad9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51"/>
          <p:cNvSpPr/>
          <p:nvPr/>
        </p:nvSpPr>
        <p:spPr>
          <a:xfrm>
            <a:off x="3203640" y="2492280"/>
            <a:ext cx="3060720" cy="1225800"/>
          </a:xfrm>
          <a:prstGeom prst="roundRect">
            <a:avLst>
              <a:gd name="adj" fmla="val 50000"/>
            </a:avLst>
          </a:prstGeom>
          <a:solidFill>
            <a:srgbClr val="1b9ad9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52"/>
          <p:cNvSpPr/>
          <p:nvPr/>
        </p:nvSpPr>
        <p:spPr>
          <a:xfrm>
            <a:off x="-6480" y="1306440"/>
            <a:ext cx="3210120" cy="1214640"/>
          </a:xfrm>
          <a:prstGeom prst="roundRect">
            <a:avLst>
              <a:gd name="adj" fmla="val 50000"/>
            </a:avLst>
          </a:prstGeom>
          <a:solidFill>
            <a:srgbClr val="1b9ad9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 rot="10800000">
            <a:off x="755640" y="2997000"/>
            <a:ext cx="1447920" cy="108108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3924360" y="3715920"/>
            <a:ext cx="1447920" cy="108108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10800000">
            <a:off x="7164360" y="2923920"/>
            <a:ext cx="1447920" cy="108108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Box 50"/>
          <p:cNvSpPr/>
          <p:nvPr/>
        </p:nvSpPr>
        <p:spPr>
          <a:xfrm>
            <a:off x="500040" y="1712880"/>
            <a:ext cx="22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ллективные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Box 51"/>
          <p:cNvSpPr/>
          <p:nvPr/>
        </p:nvSpPr>
        <p:spPr>
          <a:xfrm>
            <a:off x="3573360" y="2852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ндивидуальные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Box 52"/>
          <p:cNvSpPr/>
          <p:nvPr/>
        </p:nvSpPr>
        <p:spPr>
          <a:xfrm>
            <a:off x="6264360" y="155880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аглядно-информационные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155520" y="3227400"/>
            <a:ext cx="293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Родительские собрания,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Семинары-практикум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Открытые подгрупповые  и индивидуальные занят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Тестирования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Беседы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Изготовление пособий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своими рука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3573360" y="4052880"/>
            <a:ext cx="308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3e6a"/>
                </a:solidFill>
                <a:latin typeface="Arial Narrow"/>
              </a:rPr>
              <a:t>Консультац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Практикум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Консультац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Родительский  контрол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за выполнением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логопедических задан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в домашних условиях (тетрадь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465960" y="378144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Речевой уголок - Стен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Папки-передвиж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Памятки, букл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Выставки дидактичес-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ких игр,  пособий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-сайт ДО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Box 49"/>
          <p:cNvSpPr/>
          <p:nvPr/>
        </p:nvSpPr>
        <p:spPr>
          <a:xfrm>
            <a:off x="1258920" y="189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формы работы с семье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сультирование родителей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53" name="Рисунок 12" descr="C:\Users\Home\Desktop\фото работа\P1040611.JPG"/>
          <p:cNvPicPr/>
          <p:nvPr/>
        </p:nvPicPr>
        <p:blipFill>
          <a:blip r:embed="rId1"/>
          <a:srcRect l="0" t="0" r="0" b="10434"/>
          <a:stretch/>
        </p:blipFill>
        <p:spPr>
          <a:xfrm>
            <a:off x="3851280" y="3141720"/>
            <a:ext cx="4753080" cy="33796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C:\Users\Home\Desktop\фото работа\P1040608.JPG"/>
          <p:cNvPicPr/>
          <p:nvPr/>
        </p:nvPicPr>
        <p:blipFill>
          <a:blip r:embed="rId2"/>
          <a:stretch/>
        </p:blipFill>
        <p:spPr>
          <a:xfrm>
            <a:off x="527040" y="1197000"/>
            <a:ext cx="42642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каз совместных занятий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56" name="Рисунок 8" descr="C:\Users\Home\Desktop\фото работа\IMG_1285.JPG"/>
          <p:cNvPicPr/>
          <p:nvPr/>
        </p:nvPicPr>
        <p:blipFill>
          <a:blip r:embed="rId1"/>
          <a:stretch/>
        </p:blipFill>
        <p:spPr>
          <a:xfrm>
            <a:off x="4394160" y="3357720"/>
            <a:ext cx="4210200" cy="33130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C:\Users\Home\Desktop\фото работа\IMG_9889.JPG"/>
          <p:cNvPicPr/>
          <p:nvPr/>
        </p:nvPicPr>
        <p:blipFill>
          <a:blip r:embed="rId2"/>
          <a:stretch/>
        </p:blipFill>
        <p:spPr>
          <a:xfrm>
            <a:off x="611280" y="1197000"/>
            <a:ext cx="42861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528d"/>
                </a:solidFill>
                <a:latin typeface="Arial Narrow"/>
              </a:rPr>
              <a:t>Совместные мероприятия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59" name="Рисунок 5" descr="C:\Users\Home\Desktop\фото работа\IMG_0459.JPG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808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C:\Users\Home\Desktop\фото работа\IMG_1015.JPG"/>
          <p:cNvPicPr/>
          <p:nvPr/>
        </p:nvPicPr>
        <p:blipFill>
          <a:blip r:embed="rId2"/>
          <a:stretch/>
        </p:blipFill>
        <p:spPr>
          <a:xfrm>
            <a:off x="4427640" y="2060640"/>
            <a:ext cx="4208400" cy="30970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C:\Users\Home\Desktop\фото работа\IMG_6850.JPG"/>
          <p:cNvPicPr/>
          <p:nvPr/>
        </p:nvPicPr>
        <p:blipFill>
          <a:blip r:embed="rId3"/>
          <a:stretch/>
        </p:blipFill>
        <p:spPr>
          <a:xfrm>
            <a:off x="179280" y="3933720"/>
            <a:ext cx="41054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3"/>
          <p:cNvSpPr/>
          <p:nvPr/>
        </p:nvSpPr>
        <p:spPr>
          <a:xfrm>
            <a:off x="1785960" y="3286080"/>
            <a:ext cx="5530680" cy="153828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528d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c00000"/>
                </a:solidFill>
                <a:latin typeface="Verdana"/>
              </a:rPr>
              <a:t>III</a:t>
            </a: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 этап –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общающий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143000" y="928800"/>
            <a:ext cx="6715080" cy="2286000"/>
          </a:xfrm>
          <a:prstGeom prst="roundRect">
            <a:avLst>
              <a:gd name="adj" fmla="val 50000"/>
            </a:avLst>
          </a:prstGeom>
          <a:solidFill>
            <a:srgbClr val="5695d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ценка эффективности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логопедической коррекционной работы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7143840" y="5156280"/>
            <a:ext cx="21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66" name="Group 13"/>
          <p:cNvGrpSpPr/>
          <p:nvPr/>
        </p:nvGrpSpPr>
        <p:grpSpPr>
          <a:xfrm>
            <a:off x="3348000" y="4292640"/>
            <a:ext cx="2569680" cy="2356920"/>
            <a:chOff x="3348000" y="4292640"/>
            <a:chExt cx="2569680" cy="2356920"/>
          </a:xfrm>
        </p:grpSpPr>
        <p:grpSp>
          <p:nvGrpSpPr>
            <p:cNvPr id="167" name="Group 14"/>
            <p:cNvGrpSpPr/>
            <p:nvPr/>
          </p:nvGrpSpPr>
          <p:grpSpPr>
            <a:xfrm>
              <a:off x="3432960" y="4363920"/>
              <a:ext cx="2269440" cy="2285640"/>
              <a:chOff x="3432960" y="4363920"/>
              <a:chExt cx="2269440" cy="2285640"/>
            </a:xfrm>
          </p:grpSpPr>
          <p:sp>
            <p:nvSpPr>
              <p:cNvPr id="168" name="Oval 15"/>
              <p:cNvSpPr/>
              <p:nvPr/>
            </p:nvSpPr>
            <p:spPr>
              <a:xfrm>
                <a:off x="3432960" y="4363920"/>
                <a:ext cx="2269440" cy="2285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 Narrow"/>
                  </a:rPr>
                  <a:t>Результат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 Narrow"/>
                  </a:rPr>
                  <a:t>анкетировани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 Narrow"/>
                  </a:rPr>
                  <a:t>родителе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3693240" y="4450680"/>
                <a:ext cx="1768680" cy="859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70" name="Text Box 17"/>
            <p:cNvSpPr/>
            <p:nvPr/>
          </p:nvSpPr>
          <p:spPr>
            <a:xfrm>
              <a:off x="3348000" y="4292640"/>
              <a:ext cx="256968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71" name="TextBox 39"/>
          <p:cNvSpPr/>
          <p:nvPr/>
        </p:nvSpPr>
        <p:spPr>
          <a:xfrm>
            <a:off x="1785960" y="5500800"/>
            <a:ext cx="214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Oval 21"/>
          <p:cNvSpPr/>
          <p:nvPr/>
        </p:nvSpPr>
        <p:spPr>
          <a:xfrm>
            <a:off x="6443640" y="4365720"/>
            <a:ext cx="2316240" cy="2214360"/>
          </a:xfrm>
          <a:prstGeom prst="ellipse">
            <a:avLst/>
          </a:prstGeom>
          <a:gradFill rotWithShape="0">
            <a:gsLst>
              <a:gs pos="0">
                <a:srgbClr val="1b9ad9"/>
              </a:gs>
              <a:gs pos="100000">
                <a:srgbClr val="0e4f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зультаты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иагностики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ыпуск детей 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огопункт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73" name="Группа 23"/>
          <p:cNvGrpSpPr/>
          <p:nvPr/>
        </p:nvGrpSpPr>
        <p:grpSpPr>
          <a:xfrm>
            <a:off x="331920" y="4221000"/>
            <a:ext cx="2315880" cy="2583000"/>
            <a:chOff x="331920" y="4221000"/>
            <a:chExt cx="2315880" cy="2583000"/>
          </a:xfrm>
        </p:grpSpPr>
        <p:sp>
          <p:nvSpPr>
            <p:cNvPr id="174" name="Oval 21"/>
            <p:cNvSpPr/>
            <p:nvPr/>
          </p:nvSpPr>
          <p:spPr>
            <a:xfrm>
              <a:off x="331920" y="4221000"/>
              <a:ext cx="2315880" cy="258300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e4f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Чтение стихов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детьм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на утренника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Freeform 22"/>
            <p:cNvSpPr/>
            <p:nvPr/>
          </p:nvSpPr>
          <p:spPr>
            <a:xfrm>
              <a:off x="496800" y="4312800"/>
              <a:ext cx="1917720" cy="9763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1b9a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3e6a"/>
                </a:solidFill>
                <a:latin typeface="Arial Narrow"/>
              </a:rPr>
              <a:t>Родительская поддержка – это процесс:</a:t>
            </a:r>
            <a:endParaRPr b="0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79280" y="2060640"/>
            <a:ext cx="51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ходе которого родитель сосредотачивается на достоинствах ребенка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торый помогает ребенку поверить в себя и в свои способности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торый поддерживает ребенка при неудачах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transition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20:10:24Z</dcterms:created>
  <dc:creator>гимназия№2</dc:creator>
  <dc:description/>
  <dc:language>en-US</dc:language>
  <cp:lastModifiedBy>Home</cp:lastModifiedBy>
  <dcterms:modified xsi:type="dcterms:W3CDTF">2016-09-25T14:26:49Z</dcterms:modified>
  <cp:revision>302</cp:revision>
  <dc:subject/>
  <dc:title>Галкина Ирина Викторовна МДОУ «Детский сад №29 г.Вышний Волочёк</dc:title>
</cp:coreProperties>
</file>