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EA9-6F41-4D0B-BA24-BAA66B12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8D7-11AB-4375-ACB9-E8C3688C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CCE-EA0C-42DA-83B9-9245D341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BE1-1569-40F8-A0FD-115F68F6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483-2906-4C97-9695-4CA632FF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ABF-C849-40C1-B18C-5C9D4948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B30-9A24-4BC7-A622-B502A12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2C4-0840-4271-87EE-18E8FD8E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065-217E-481F-89AA-ED4F374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F1F-4C00-42C2-B9F3-EAE3EB6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95C4-ADA4-48BF-809D-A25B547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DF0-FE9F-438C-B897-147DB91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8C29-1C42-414B-B3C7-213C34F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BF82-69DA-45CB-8159-B430A17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05C-55E2-44C0-B32C-1E461CE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966-5344-43ED-ACC8-FE189E4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CBE-1CE0-4F91-BDB8-F385370E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F2D2-1C81-44C8-BFEF-54F466F0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F317-E729-4E41-9AED-801FAB6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44FE-D0FE-4565-BA44-E46844C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139B-94E5-42BC-BF5B-A88F963D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DA91-5209-4CD2-8061-F27D28D5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5D7-8D38-4445-B35E-7A8B65C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F09B-A345-42DE-B93F-79BA177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C90D-B5F6-45AC-A91D-735C874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D6F3-1881-4749-B0F6-CB9AEF0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9167-DDDC-46B6-AD14-2EC60D5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EA96-225A-45DD-98C1-943D691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A17C-A8EB-4DEB-8603-2DC06509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6C5D-C8DB-4196-88E3-C5D28F33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08C3-47BD-4536-A6D1-E86F5B1B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8496-2112-4884-85EA-235E159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291F-EDF6-42E8-8E61-AEC26B39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A21-DC7D-4908-ABDA-690DED6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1841-675E-4E6C-8FB1-0966ED8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C1AF-9AE4-4EE3-A93C-D1718D6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1F3C-7078-44A4-AAE4-499776C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22F8-7795-4352-91B1-DDD1EE7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22F1-E317-4EE2-917C-B88A038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9616-25C2-41C6-B3C7-58D557D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20A3-CFA9-49C7-8D5A-EE86938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7476-67BB-4353-B1D8-0FC437E8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04B7-E756-4EA8-A058-564A0FEC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DC93-FBDF-4531-8B3D-32A01691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403-D19B-4E6C-BF00-ED99FCF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5487-A9FD-4436-A8FF-1D1818A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EDCB6-F75B-4928-9283-8586E71D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61A0-1CF8-4207-AE27-177C0CE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8AB9-A500-4EA5-B689-5D8E497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12E6-87D8-48D2-B969-1B2E3ECC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EADB-1585-4269-9771-217A0FE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4DC2-B3E7-4A02-A493-37E2F1D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55B8-9B8A-4881-8DB0-6879EDB6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EE832-E09A-4101-A7A4-C675E4A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95BF-B748-4100-8312-530C951A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523-1F64-496C-8E75-E34757F6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3C17-4ECB-4A4C-B003-805318A8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9B1-B9D6-4E14-AF92-B7AB2C9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6C0-6945-4C4F-91BA-212FD01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05F-8FD7-43F4-83CF-23CD68F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42D0-4076-4DA1-B936-E07862E21D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0B7-C796-4922-BFEC-C8F8B903640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3FA-0687-46D0-AABA-15B2A612FE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9B2-9CDF-4DC2-B608-1812BAFF5BF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201-57A5-4CD1-B822-4060BA599B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ф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бъект 2"/>
          <p:cNvSpPr/>
          <p:nvPr/>
        </p:nvSpPr>
        <p:spPr>
          <a:xfrm>
            <a:off x="324000" y="1268280"/>
            <a:ext cx="8362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дравствуйт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ветлана Станиславов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иш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 вам кот Матроскин. Как вы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аете? Я живу 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еп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охо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много гуляю.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ылась моя мечта о покуп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оровы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и я хожу на л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ить траву для своей Мурк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ающ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 много вкусного мо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арик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звес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ый бездельник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В т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чен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ня про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ает на речк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такж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 лесу. Мог бы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бегая там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об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ть грибы и ягоды. Что бы мы все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елали, от каждого должна быть польза, даже от Шарика. Кстати, у него повысилась лохматость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и я хотел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лать из моего друга ездовую соба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чтоб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ить молоко на базар. Но пока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не п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лу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 предпол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аю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 почтальон Печкин серьезно заболел. Послед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е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ремя не носит нам посылок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зат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ас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зывает небылицы. Будто бы он ез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 в Москву и заходил в школу 1460 познакоми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я с семиклассниками. Не верю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одному слову. У вас в школе все серьезные, образов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н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ые, как и я сам. Таким людя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нек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гда вести пустые разгов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да, написание некоторых слов в письме вызвало у меня сомнения. Изв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ите. Надеюсь, Ваши ученики с этим справ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тс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Передавай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им при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т и все новост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До 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ан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6 мая 2013 г.                                                                                      Кот Матрос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аше путешествие по разделам науки о языке продолжается. Желаю вам на этом пути терпения, смекалки, трудолюб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ни помогут вам сдел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овые открытия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спешно сдать экзаме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русскому язык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5" descr="C:\Users\Xenon\AppData\Local\Microsoft\Windows\Temporary Internet Files\Content.IE5\4W45Q0ZY\MC900437990[1].wmf"/>
          <p:cNvPicPr/>
          <p:nvPr/>
        </p:nvPicPr>
        <p:blipFill>
          <a:blip r:embed="rId2"/>
          <a:stretch/>
        </p:blipFill>
        <p:spPr>
          <a:xfrm>
            <a:off x="5219640" y="3141720"/>
            <a:ext cx="33242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общить сведения о разделах языкозн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крепить умен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различать звуки речи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узнавать фразеологизмы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определять части речи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выполнять пунктуационный разбор предложения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находить и объяснять орфограммы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нетик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ексик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разе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рфем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вообраз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рф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нтакси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нктуац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фограф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фоэп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им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аздник, сесть, ёж, шея, мясо, вьюг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данных слов найдите и запишите такие, в которы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букв больше, чем звуков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праз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н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ик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,     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э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т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звуков больше, чем букв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йош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,    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шэйа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все согласные звуки звонкие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в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йуга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) все согласные звуки глухие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э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т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]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о рисунку назовите фразеологический оборот и замените его синоним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Сесть в калошу (опозоритьс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Брать быка за рога (проявить решительнос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Ходить по струнке (быть послушным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Хватать звезды с неба (иметь особый талант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 Прятать голову в песок (бездействова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. Лезть в бутылку (конфликтова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кажите часть речи и обозначьте окончание в каждом слове (если оно есть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133720"/>
          <a:ext cx="2519640" cy="466380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Стоит) дор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кольцо мне) дор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на улице) тем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рисов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ь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ы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ла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бравш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снувш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и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торт) вку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бег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Половина рамки 6"/>
          <p:cNvSpPr/>
          <p:nvPr/>
        </p:nvSpPr>
        <p:spPr>
          <a:xfrm rot="2623800">
            <a:off x="2088720" y="2209320"/>
            <a:ext cx="171360" cy="176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ловина рамки 7"/>
          <p:cNvSpPr/>
          <p:nvPr/>
        </p:nvSpPr>
        <p:spPr>
          <a:xfrm rot="2623800">
            <a:off x="2327040" y="2819520"/>
            <a:ext cx="172800" cy="176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овина рамки 8"/>
          <p:cNvSpPr/>
          <p:nvPr/>
        </p:nvSpPr>
        <p:spPr>
          <a:xfrm rot="2623800">
            <a:off x="1342800" y="4892400"/>
            <a:ext cx="247680" cy="260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овина рамки 11"/>
          <p:cNvSpPr/>
          <p:nvPr/>
        </p:nvSpPr>
        <p:spPr>
          <a:xfrm rot="2623800">
            <a:off x="1240920" y="6181560"/>
            <a:ext cx="87480" cy="87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3"/>
          <p:cNvSpPr/>
          <p:nvPr/>
        </p:nvSpPr>
        <p:spPr>
          <a:xfrm>
            <a:off x="2720880" y="2533680"/>
            <a:ext cx="177840" cy="2509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1785960" y="3141720"/>
            <a:ext cx="144360" cy="2617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1103400" y="4076640"/>
            <a:ext cx="17280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103400" y="3736800"/>
            <a:ext cx="183960" cy="26388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7"/>
          <p:cNvSpPr/>
          <p:nvPr/>
        </p:nvSpPr>
        <p:spPr>
          <a:xfrm>
            <a:off x="896760" y="3429000"/>
            <a:ext cx="206640" cy="244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1166760" y="4411800"/>
            <a:ext cx="17316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>
            <a:off x="1573200" y="4627440"/>
            <a:ext cx="285840" cy="26208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0"/>
          <p:cNvSpPr/>
          <p:nvPr/>
        </p:nvSpPr>
        <p:spPr>
          <a:xfrm>
            <a:off x="1251000" y="5300640"/>
            <a:ext cx="17316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1"/>
          <p:cNvSpPr/>
          <p:nvPr/>
        </p:nvSpPr>
        <p:spPr>
          <a:xfrm>
            <a:off x="1000080" y="5589720"/>
            <a:ext cx="287280" cy="2156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2"/>
          <p:cNvSpPr/>
          <p:nvPr/>
        </p:nvSpPr>
        <p:spPr>
          <a:xfrm>
            <a:off x="2049480" y="5950080"/>
            <a:ext cx="171360" cy="1807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3132000" y="217476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атегория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ча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нфинитив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глагол в прошедшем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ите четвертое лишн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вследствие, насчет, (иметь) в виду,                             в продол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также, так как, однако,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разве, лишь, даже, чтобы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5796000" y="2708280"/>
            <a:ext cx="107964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"/>
          <p:cNvSpPr/>
          <p:nvPr/>
        </p:nvSpPr>
        <p:spPr>
          <a:xfrm>
            <a:off x="2124000" y="3789360"/>
            <a:ext cx="129564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7"/>
          <p:cNvSpPr/>
          <p:nvPr/>
        </p:nvSpPr>
        <p:spPr>
          <a:xfrm>
            <a:off x="4284720" y="4365720"/>
            <a:ext cx="12240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асставьте знаки препинания, графически объясните их постановку и начертите схему предлож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гласив родителей на урок русского языка мы постарались показать им свои знания полученные в течение трех лет обучения  хотели порадовать их  и нам это удалос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1741320" y="4149720"/>
            <a:ext cx="49068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8"/>
          <p:cNvSpPr/>
          <p:nvPr/>
        </p:nvSpPr>
        <p:spPr>
          <a:xfrm>
            <a:off x="7380360" y="5157720"/>
            <a:ext cx="61272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"/>
          <p:cNvSpPr/>
          <p:nvPr/>
        </p:nvSpPr>
        <p:spPr>
          <a:xfrm>
            <a:off x="2314440" y="4149720"/>
            <a:ext cx="3629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1"/>
          <p:cNvSpPr/>
          <p:nvPr/>
        </p:nvSpPr>
        <p:spPr>
          <a:xfrm>
            <a:off x="2314440" y="4076640"/>
            <a:ext cx="3629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2"/>
          <p:cNvSpPr/>
          <p:nvPr/>
        </p:nvSpPr>
        <p:spPr>
          <a:xfrm>
            <a:off x="2314440" y="5213520"/>
            <a:ext cx="33372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3"/>
          <p:cNvSpPr/>
          <p:nvPr/>
        </p:nvSpPr>
        <p:spPr>
          <a:xfrm>
            <a:off x="2314440" y="5141880"/>
            <a:ext cx="33372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501480" y="5732640"/>
            <a:ext cx="1424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501480" y="5661000"/>
            <a:ext cx="1424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30" descr=""/>
          <p:cNvPicPr/>
          <p:nvPr/>
        </p:nvPicPr>
        <p:blipFill>
          <a:blip r:embed="rId2"/>
          <a:stretch/>
        </p:blipFill>
        <p:spPr>
          <a:xfrm>
            <a:off x="1060560" y="321300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31" descr=""/>
          <p:cNvPicPr/>
          <p:nvPr/>
        </p:nvPicPr>
        <p:blipFill>
          <a:blip r:embed="rId3"/>
          <a:stretch/>
        </p:blipFill>
        <p:spPr>
          <a:xfrm>
            <a:off x="1262160" y="369396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32" descr=""/>
          <p:cNvPicPr/>
          <p:nvPr/>
        </p:nvPicPr>
        <p:blipFill>
          <a:blip r:embed="rId4"/>
          <a:stretch/>
        </p:blipFill>
        <p:spPr>
          <a:xfrm>
            <a:off x="1676520" y="4170240"/>
            <a:ext cx="1103040" cy="114012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33" descr=""/>
          <p:cNvPicPr/>
          <p:nvPr/>
        </p:nvPicPr>
        <p:blipFill>
          <a:blip r:embed="rId5"/>
          <a:stretch/>
        </p:blipFill>
        <p:spPr>
          <a:xfrm>
            <a:off x="5662440" y="4187880"/>
            <a:ext cx="1103400" cy="11462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35"/>
          <p:cNvSpPr/>
          <p:nvPr/>
        </p:nvSpPr>
        <p:spPr>
          <a:xfrm>
            <a:off x="900000" y="3645000"/>
            <a:ext cx="6786720" cy="0"/>
          </a:xfrm>
          <a:prstGeom prst="line">
            <a:avLst/>
          </a:prstGeom>
          <a:ln w="57240">
            <a:solidFill>
              <a:srgbClr val="b83d6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>
            <a:off x="438120" y="4149720"/>
            <a:ext cx="1038240" cy="0"/>
          </a:xfrm>
          <a:prstGeom prst="line">
            <a:avLst/>
          </a:prstGeom>
          <a:ln w="57240">
            <a:solidFill>
              <a:srgbClr val="b83d6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49"/>
          <p:cNvSpPr/>
          <p:nvPr/>
        </p:nvSpPr>
        <p:spPr>
          <a:xfrm>
            <a:off x="1844640" y="4581360"/>
            <a:ext cx="5391360" cy="136800"/>
          </a:xfrm>
          <a:prstGeom prst="pie">
            <a:avLst/>
          </a:prstGeom>
          <a:noFill/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51"/>
          <p:cNvSpPr/>
          <p:nvPr/>
        </p:nvSpPr>
        <p:spPr>
          <a:xfrm>
            <a:off x="428760" y="5102280"/>
            <a:ext cx="1726920" cy="147600"/>
          </a:xfrm>
          <a:prstGeom prst="pie">
            <a:avLst/>
          </a:prstGeom>
          <a:noFill/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4"/>
          <p:cNvSpPr/>
          <p:nvPr/>
        </p:nvSpPr>
        <p:spPr>
          <a:xfrm>
            <a:off x="3041640" y="569736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Умножение 55"/>
          <p:cNvGrpSpPr/>
          <p:nvPr/>
        </p:nvGrpSpPr>
        <p:grpSpPr>
          <a:xfrm>
            <a:off x="969840" y="4145040"/>
            <a:ext cx="304920" cy="255600"/>
            <a:chOff x="969840" y="4145040"/>
            <a:chExt cx="304920" cy="255600"/>
          </a:xfrm>
        </p:grpSpPr>
        <p:pic>
          <p:nvPicPr>
            <p:cNvPr id="272" name="Умножение 55" descr=""/>
            <p:cNvPicPr/>
            <p:nvPr/>
          </p:nvPicPr>
          <p:blipFill>
            <a:blip r:embed="rId6"/>
            <a:stretch/>
          </p:blipFill>
          <p:spPr>
            <a:xfrm>
              <a:off x="969840" y="4145040"/>
              <a:ext cx="3049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21"/>
            <p:cNvSpPr/>
            <p:nvPr/>
          </p:nvSpPr>
          <p:spPr>
            <a:xfrm>
              <a:off x="1025640" y="4176720"/>
              <a:ext cx="198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240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дравствуйте  Светлана Станиславовна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иш…т вам кот Матроскин. Как вы пожива…те? Я живу (не)плохо  много гуляю. (З,с)былась моя мечта о покупк…  коровы  и я хожу на луг к…сить траву для своей Мурки  дающ…й много вкусного моло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арик   извес…ный бездельник. (В)течени… дня проп…дает на речке  а так(же) в лесу. Мог бы  бегая там  соб…рать грибы и ягоды. Что(бы) мы все н… делали, от каждого должна быть польза,  даже от Шарика. Кстати, у него повысилась лохматость  и я хотел (з,с)делать из моего друга ездовую собаку, что(бы)  возить молоко на базар. Но пока (н…) чего не…получаетс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Я предпол…гаю  что почтальон Печкин серьезно заболел. Последн…е время не носит нам посылок, за(то)  ра(с,сс)казывает  (не)былицы. Будто(бы) он езд…л в Москву и заходил в школу 1460 познакомит…ся  с семиклассниками. Не верю н… одному слову. У вас в школе все серьезные, образова(н,нн)ые, как и я сам. Таким людям (н…)когда вести пустые разговоры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да, написание некоторых слов в письме вызвало у меня сомнения. Изв…ните. Надеюсь, Ваши ученики с этим справят…ся.  Передавайт…  им привет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т и все новости.  До…свидани…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6 мая 2013 г.                                                                                      Кот Матроскин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4T10:42:14Z</dcterms:created>
  <dc:creator>Xenon</dc:creator>
  <dc:description/>
  <dc:language>en-US</dc:language>
  <cp:lastModifiedBy>я</cp:lastModifiedBy>
  <dcterms:modified xsi:type="dcterms:W3CDTF">2016-09-25T09:06:30Z</dcterms:modified>
  <cp:revision>19</cp:revision>
  <dc:subject/>
  <dc:title>Путешествие по разделам науки о языке</dc:title>
</cp:coreProperties>
</file>