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C3D-DFE8-4331-9E68-D2C30360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EC8-509A-461A-A5FE-67B3AE28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CF7-6393-4FC5-B3FB-E8416090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4B8-141D-49F7-AB68-04AAB389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A2AD-6ED4-43CF-9AEC-AE9DEAB8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7BE6-A433-4499-8D77-FAEEDED0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F27C-9187-4537-B713-9449612A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A94-5190-49D7-B141-2C22E86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8707-D837-4CE7-B974-43635D7E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892-9EB5-40E7-9175-6574D51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C7C2-2FC6-43F8-A7AC-E0A816F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9FD-B597-4F22-BB24-C1E51003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C5C4-4CEF-4A5E-B527-3F88175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3B85-DDF6-48E6-A282-2843B71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53D6-A2D2-4591-9D14-44742C54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003D-4F4F-4592-9B5C-41D912B2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EC55-A50F-4236-BBE1-40649CD5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807E-A1A4-4143-A0C6-AD857CDC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E4A5C-8936-4098-8877-856600DF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31C2-0E13-45B3-9A18-4CFBD37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2F71-652A-4712-AEB4-477F2CA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6C8B-7ADA-4BE1-AF60-3F1B5D6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C31-761A-43B3-97A4-8A2D21AB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C5C4-45E4-46D6-A2E0-6EE325D5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2AE7-1C60-4DB7-8F03-BA322E5B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5C1C-B659-4685-9DDA-DB8648E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983D-2689-4D6C-BD9E-3B7B38A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39A7-DA53-48B9-BD9B-7C19D39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75A2-1B63-45CA-849E-2672A44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4D33-117A-4996-8541-1DAFDF86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FCB3-65C7-4CAC-BE7C-DBAE3538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01C1-5EF5-4E19-A4CB-E61DE2AA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92D7-6E8A-4692-8736-43BAE78D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774-BB58-4539-9717-F29B8CF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8533F-082B-4C1B-BC3D-8F41829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17FF-9B1B-4870-AA7A-6F53A1E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2283-BDA0-4684-B6B4-58E58AE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E6B1-E876-4B99-9CFD-470B7B8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E9F7-CC04-46D7-BB5C-E29F279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ED445-304A-42C3-B594-5A5B71F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DA58C-ECF9-4C70-AEF4-B4D4030F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DE0A-EB30-4985-93FC-C5A52FD8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C4FF-618F-441A-86BB-AB975410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EF22-EB7D-4D76-8B73-2A8CED26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8EF-B1DE-499F-B426-5DC5F3C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3216-46C2-4A89-8BEF-C801F969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95076-B14D-4C56-A2B2-CC621842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9354-E643-49D8-B67A-199E4BDD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D57A-CE39-4B6A-84C3-AF6A72FF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856A-2D6B-4F03-B1E8-6B1798A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6176-ACA1-4C94-9509-52A0909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FEDD-4751-42BF-9EAF-B96E6D1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DC62-CB41-4E9A-A5C9-20A7CD32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F0AA-9C01-4BA5-958D-321ABC71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1A0F-6203-4F9A-A8B0-E66146B8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B65-4D2F-4D97-A447-8CE28A3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05EBA-DBB8-4438-B762-2008B612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A84-3F63-4CC8-AA54-F01B3DA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2E4-FA84-41CA-816E-A109D66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2AA-BF63-4C13-A947-D316069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D4C1-EAC8-44E8-9973-18815A6A434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F21C-B135-498B-ACDF-286949825D9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6317-4BCD-4A7C-A237-51DF8939EF5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FC6-7946-4158-B4FB-A596ABB3EBBF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03C4-411E-4D24-893C-F5BFDC686C0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ф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бъект 2"/>
          <p:cNvSpPr/>
          <p:nvPr/>
        </p:nvSpPr>
        <p:spPr>
          <a:xfrm>
            <a:off x="324000" y="1268280"/>
            <a:ext cx="8362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дравствуйт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ветлана Станиславов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иш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 вам кот Матроскин. Как вы 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иваете? Я живу н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еп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охо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много гуляю.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ылась моя мечта о покуп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коровы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и я хожу на лу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к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ить траву для своей Мурки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дающ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й много вкусного мо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Шарик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звес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ый бездельник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В т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чени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дня проп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ает на речке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такж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в лесу. Мог бы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бегая там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об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ть грибы и ягоды. Что бы мы все 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делали, от каждого должна быть польза, даже от Шарика. Кстати, у него повысилась лохматость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и я хотел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елать из моего друга ездовую собаку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чтоб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в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ить молоко на базар. Но пока 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не п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лу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 предпол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аю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то почтальон Печкин серьезно заболел. Послед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е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ремя не носит нам посылок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зато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рас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зывает небылицы. Будто бы он езд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 в Москву и заходил в школу 1460 познакомит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я с семиклассниками. Не верю н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одному слову. У вас в школе все серьезные, образова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нн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ые, как и я сам. Таким людя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нек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гда вести пустые разгов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вда, написание некоторых слов в письме вызвало у меня сомнения. Изв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ите. Надеюсь, Ваши ученики с этим справ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тс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 Передавайт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им при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от и все новост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До с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ани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6 мая 2013 г.                                                                                      Кот Матрос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аше путешествие по разделам науки о языке продолжается. Желаю вам на этом пути терпения, смекалки, трудолюб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ни помогут вам сдела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овые открытия 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спешно сдать экзаме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о русскому язык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5" descr="C:\Users\Xenon\AppData\Local\Microsoft\Windows\Temporary Internet Files\Content.IE5\4W45Q0ZY\MC900437990[1].wmf"/>
          <p:cNvPicPr/>
          <p:nvPr/>
        </p:nvPicPr>
        <p:blipFill>
          <a:blip r:embed="rId2"/>
          <a:stretch/>
        </p:blipFill>
        <p:spPr>
          <a:xfrm>
            <a:off x="5219640" y="3141720"/>
            <a:ext cx="33242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общить сведения о разделах языкозн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крепить умени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различать звуки речи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узнавать фразеологизмы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определять части речи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выполнять пунктуационный разбор предложения;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c6c6c"/>
                </a:solidFill>
                <a:latin typeface="Trebuchet MS"/>
              </a:rPr>
              <a:t>находить и объяснять орфограммы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Calibri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нетик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ексик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разе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рфем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овообраз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рф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нтакси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нктуац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фограф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фоэп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имолог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аздник, сесть, ёж, шея, мясо, вьюг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данных слов найдите и запишите такие, в которы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букв больше, чем звуков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праз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н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ик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,     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э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т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 звуков больше, чем букв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йош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,    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шэйа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) все согласные звуки звонкие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в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йуга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]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) все согласные звуки глухие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[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эс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т</a:t>
            </a:r>
            <a:r>
              <a:rPr b="1" lang="en-US" sz="2600" spc="-1" strike="noStrike">
                <a:solidFill>
                  <a:srgbClr val="7030a0"/>
                </a:solidFill>
                <a:latin typeface="Trebuchet MS"/>
              </a:rPr>
              <a:t>’]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о рисунку назовите фразеологический оборот и замените его синоним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Сесть в калошу (опозоритьс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Брать быка за рога (проявить решительность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Ходить по струнке (быть послушным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Хватать звезды с неба (иметь особый талант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. Прятать голову в песок (бездействовать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6. Лезть в бутылку (конфликтовать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892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кажите часть речи и обозначьте окончание в каждом слове (если оно есть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9640" y="2133720"/>
          <a:ext cx="2519640" cy="466380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6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Стоит) дор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кольцо мне) дор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на улице) тем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рисов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ь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мы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ила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бравшие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снувш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и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торт) вку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бег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Половина рамки 6"/>
          <p:cNvSpPr/>
          <p:nvPr/>
        </p:nvSpPr>
        <p:spPr>
          <a:xfrm rot="2623800">
            <a:off x="2088720" y="2209320"/>
            <a:ext cx="171360" cy="1764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оловина рамки 7"/>
          <p:cNvSpPr/>
          <p:nvPr/>
        </p:nvSpPr>
        <p:spPr>
          <a:xfrm rot="2623800">
            <a:off x="2327040" y="2819520"/>
            <a:ext cx="172800" cy="176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овина рамки 8"/>
          <p:cNvSpPr/>
          <p:nvPr/>
        </p:nvSpPr>
        <p:spPr>
          <a:xfrm rot="2623800">
            <a:off x="1342800" y="4892400"/>
            <a:ext cx="247680" cy="2602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овина рамки 11"/>
          <p:cNvSpPr/>
          <p:nvPr/>
        </p:nvSpPr>
        <p:spPr>
          <a:xfrm rot="2623800">
            <a:off x="1240920" y="6181560"/>
            <a:ext cx="87480" cy="87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3"/>
          <p:cNvSpPr/>
          <p:nvPr/>
        </p:nvSpPr>
        <p:spPr>
          <a:xfrm>
            <a:off x="2720880" y="2533680"/>
            <a:ext cx="177840" cy="2509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1785960" y="3141720"/>
            <a:ext cx="144360" cy="2617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1103400" y="4076640"/>
            <a:ext cx="172800" cy="190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103400" y="3736800"/>
            <a:ext cx="183960" cy="26388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7"/>
          <p:cNvSpPr/>
          <p:nvPr/>
        </p:nvSpPr>
        <p:spPr>
          <a:xfrm>
            <a:off x="896760" y="3429000"/>
            <a:ext cx="206640" cy="244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8"/>
          <p:cNvSpPr/>
          <p:nvPr/>
        </p:nvSpPr>
        <p:spPr>
          <a:xfrm>
            <a:off x="1166760" y="4411800"/>
            <a:ext cx="173160" cy="190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>
            <a:off x="1573200" y="4627440"/>
            <a:ext cx="285840" cy="26208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0"/>
          <p:cNvSpPr/>
          <p:nvPr/>
        </p:nvSpPr>
        <p:spPr>
          <a:xfrm>
            <a:off x="1251000" y="5300640"/>
            <a:ext cx="173160" cy="1904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1"/>
          <p:cNvSpPr/>
          <p:nvPr/>
        </p:nvSpPr>
        <p:spPr>
          <a:xfrm>
            <a:off x="1000080" y="5589720"/>
            <a:ext cx="287280" cy="21564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2"/>
          <p:cNvSpPr/>
          <p:nvPr/>
        </p:nvSpPr>
        <p:spPr>
          <a:xfrm>
            <a:off x="2049480" y="5950080"/>
            <a:ext cx="171360" cy="180720"/>
          </a:xfrm>
          <a:prstGeom prst="rect">
            <a:avLst/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5"/>
          <p:cNvSpPr/>
          <p:nvPr/>
        </p:nvSpPr>
        <p:spPr>
          <a:xfrm>
            <a:off x="3132000" y="2174760"/>
            <a:ext cx="468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наре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ратк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атегория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раткое причас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нфинитив глаг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глагол в прошедшем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мя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кратк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дее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йдите четвертое лишне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вследствие, насчет, (иметь) в виду,                             в продол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 также, так как, однако,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) разве, лишь, даже, чтобы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ая соединительная линия 4"/>
          <p:cNvSpPr/>
          <p:nvPr/>
        </p:nvSpPr>
        <p:spPr>
          <a:xfrm>
            <a:off x="5796000" y="2708280"/>
            <a:ext cx="107964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"/>
          <p:cNvSpPr/>
          <p:nvPr/>
        </p:nvSpPr>
        <p:spPr>
          <a:xfrm>
            <a:off x="2124000" y="3789360"/>
            <a:ext cx="129564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7"/>
          <p:cNvSpPr/>
          <p:nvPr/>
        </p:nvSpPr>
        <p:spPr>
          <a:xfrm>
            <a:off x="4284720" y="4365720"/>
            <a:ext cx="122400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асставьте знаки препинания, графически объясните их постановку и начертите схему предлож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гласив родителей на урок русского языка мы постарались показать им свои знания полученные в течение трех лет обучения  хотели порадовать их  и нам это удалос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Прямая соединительная линия 4"/>
          <p:cNvSpPr/>
          <p:nvPr/>
        </p:nvSpPr>
        <p:spPr>
          <a:xfrm>
            <a:off x="1741320" y="4149720"/>
            <a:ext cx="49068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8"/>
          <p:cNvSpPr/>
          <p:nvPr/>
        </p:nvSpPr>
        <p:spPr>
          <a:xfrm>
            <a:off x="7380360" y="5157720"/>
            <a:ext cx="61272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9"/>
          <p:cNvSpPr/>
          <p:nvPr/>
        </p:nvSpPr>
        <p:spPr>
          <a:xfrm>
            <a:off x="2314440" y="4149720"/>
            <a:ext cx="3629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1"/>
          <p:cNvSpPr/>
          <p:nvPr/>
        </p:nvSpPr>
        <p:spPr>
          <a:xfrm>
            <a:off x="2314440" y="4076640"/>
            <a:ext cx="3629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2"/>
          <p:cNvSpPr/>
          <p:nvPr/>
        </p:nvSpPr>
        <p:spPr>
          <a:xfrm>
            <a:off x="2314440" y="5213520"/>
            <a:ext cx="333720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3"/>
          <p:cNvSpPr/>
          <p:nvPr/>
        </p:nvSpPr>
        <p:spPr>
          <a:xfrm>
            <a:off x="2314440" y="5141880"/>
            <a:ext cx="333720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501480" y="5732640"/>
            <a:ext cx="1424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501480" y="5661000"/>
            <a:ext cx="1424160" cy="0"/>
          </a:xfrm>
          <a:prstGeom prst="line">
            <a:avLst/>
          </a:prstGeom>
          <a:ln w="316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30" descr=""/>
          <p:cNvPicPr/>
          <p:nvPr/>
        </p:nvPicPr>
        <p:blipFill>
          <a:blip r:embed="rId2"/>
          <a:stretch/>
        </p:blipFill>
        <p:spPr>
          <a:xfrm>
            <a:off x="1060560" y="3213000"/>
            <a:ext cx="1103040" cy="1146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31" descr=""/>
          <p:cNvPicPr/>
          <p:nvPr/>
        </p:nvPicPr>
        <p:blipFill>
          <a:blip r:embed="rId3"/>
          <a:stretch/>
        </p:blipFill>
        <p:spPr>
          <a:xfrm>
            <a:off x="1262160" y="3693960"/>
            <a:ext cx="1103040" cy="11462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32" descr=""/>
          <p:cNvPicPr/>
          <p:nvPr/>
        </p:nvPicPr>
        <p:blipFill>
          <a:blip r:embed="rId4"/>
          <a:stretch/>
        </p:blipFill>
        <p:spPr>
          <a:xfrm>
            <a:off x="1676520" y="4170240"/>
            <a:ext cx="1103040" cy="114012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33" descr=""/>
          <p:cNvPicPr/>
          <p:nvPr/>
        </p:nvPicPr>
        <p:blipFill>
          <a:blip r:embed="rId5"/>
          <a:stretch/>
        </p:blipFill>
        <p:spPr>
          <a:xfrm>
            <a:off x="5662440" y="4187880"/>
            <a:ext cx="1103400" cy="11462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35"/>
          <p:cNvSpPr/>
          <p:nvPr/>
        </p:nvSpPr>
        <p:spPr>
          <a:xfrm>
            <a:off x="900000" y="3645000"/>
            <a:ext cx="6786720" cy="0"/>
          </a:xfrm>
          <a:prstGeom prst="line">
            <a:avLst/>
          </a:prstGeom>
          <a:ln w="57240">
            <a:solidFill>
              <a:srgbClr val="b83d6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>
            <a:off x="438120" y="4149720"/>
            <a:ext cx="1038240" cy="0"/>
          </a:xfrm>
          <a:prstGeom prst="line">
            <a:avLst/>
          </a:prstGeom>
          <a:ln w="57240">
            <a:solidFill>
              <a:srgbClr val="b83d6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49"/>
          <p:cNvSpPr/>
          <p:nvPr/>
        </p:nvSpPr>
        <p:spPr>
          <a:xfrm>
            <a:off x="1844640" y="4581360"/>
            <a:ext cx="5391360" cy="136800"/>
          </a:xfrm>
          <a:prstGeom prst="pie">
            <a:avLst/>
          </a:prstGeom>
          <a:noFill/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51"/>
          <p:cNvSpPr/>
          <p:nvPr/>
        </p:nvSpPr>
        <p:spPr>
          <a:xfrm>
            <a:off x="428760" y="5102280"/>
            <a:ext cx="1726920" cy="147600"/>
          </a:xfrm>
          <a:prstGeom prst="pie">
            <a:avLst/>
          </a:prstGeom>
          <a:noFill/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4"/>
          <p:cNvSpPr/>
          <p:nvPr/>
        </p:nvSpPr>
        <p:spPr>
          <a:xfrm>
            <a:off x="3041640" y="5697360"/>
            <a:ext cx="23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Умножение 55"/>
          <p:cNvGrpSpPr/>
          <p:nvPr/>
        </p:nvGrpSpPr>
        <p:grpSpPr>
          <a:xfrm>
            <a:off x="969840" y="4145040"/>
            <a:ext cx="304920" cy="255600"/>
            <a:chOff x="969840" y="4145040"/>
            <a:chExt cx="304920" cy="255600"/>
          </a:xfrm>
        </p:grpSpPr>
        <p:pic>
          <p:nvPicPr>
            <p:cNvPr id="272" name="Умножение 55" descr=""/>
            <p:cNvPicPr/>
            <p:nvPr/>
          </p:nvPicPr>
          <p:blipFill>
            <a:blip r:embed="rId6"/>
            <a:stretch/>
          </p:blipFill>
          <p:spPr>
            <a:xfrm>
              <a:off x="969840" y="4145040"/>
              <a:ext cx="3049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21"/>
            <p:cNvSpPr/>
            <p:nvPr/>
          </p:nvSpPr>
          <p:spPr>
            <a:xfrm>
              <a:off x="1025640" y="4176720"/>
              <a:ext cx="198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240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дравствуйте  Светлана Станиславовна!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иш…т вам кот Матроскин. Как вы пожива…те? Я живу (не)плохо  много гуляю. (З,с)былась моя мечта о покупк…  коровы  и я хожу на луг к…сить траву для своей Мурки  дающ…й много вкусного моло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Шарик   извес…ный бездельник. (В)течени… дня проп…дает на речке  а так(же) в лесу. Мог бы  бегая там  соб…рать грибы и ягоды. Что(бы) мы все н… делали, от каждого должна быть польза,  даже от Шарика. Кстати, у него повысилась лохматость  и я хотел (з,с)делать из моего друга ездовую собаку, что(бы)  возить молоко на базар. Но пока (н…) чего не…получаетс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Я предпол…гаю  что почтальон Печкин серьезно заболел. Последн…е время не носит нам посылок, за(то)  ра(с,сс)казывает  (не)былицы. Будто(бы) он езд…л в Москву и заходил в школу 1460 познакомит…ся  с семиклассниками. Не верю н… одному слову. У вас в школе все серьезные, образова(н,нн)ые, как и я сам. Таким людям (н…)когда вести пустые разговоры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равда, написание некоторых слов в письме вызвало у меня сомнения. Изв…ните. Надеюсь, Ваши ученики с этим справят…ся.  Передавайт…  им привет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т и все новости.  До…свидани…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6 мая 2013 г.                                                                                      Кот Матроскин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4T10:42:14Z</dcterms:created>
  <dc:creator>Xenon</dc:creator>
  <dc:description/>
  <dc:language>en-US</dc:language>
  <cp:lastModifiedBy>я</cp:lastModifiedBy>
  <dcterms:modified xsi:type="dcterms:W3CDTF">2016-09-25T09:06:30Z</dcterms:modified>
  <cp:revision>19</cp:revision>
  <dc:subject/>
  <dc:title>Путешествие по разделам науки о языке</dc:title>
</cp:coreProperties>
</file>