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2550-A32A-4885-8437-7CF3D0F799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4826-272D-4492-B84A-610FA6437F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4CE0-CB8C-4A50-AE1E-6720E612DF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AD86-1354-4320-A424-5E83A657BE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D61E-2044-4554-993D-B55886D7B3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5D5D-4775-4A50-B7F3-4187380456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078F-07BE-43CE-ABC1-AC356FEC69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E0EE-1CC2-4E8E-B00F-7794502BB6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FD85-EB58-426A-8FAA-B88988E4EE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C0C0-BADA-44B4-9B2C-AE5E889163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9A41-1DDC-4B27-97A6-D9436C5B83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2C23-9DE0-45AC-82E9-AC3FD99F9F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F531-3F34-4FD9-87D8-E77E7B310F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A828-700E-4482-B4C2-48A59EBE38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78F8-7D41-4103-B860-341ECBB833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B101-C255-4BB4-A207-0054C82AF0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86C-2C8B-4B75-A321-F364EF9C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1D2-F9B1-498E-A43E-BD8B355C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378-9BEE-4265-B9AE-5363FE2F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0F2-4365-413D-B186-3C204512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67B-A22B-41D9-9B7D-B73C1A66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390-20FB-40F6-A5BF-E6D10518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85E-DB37-475F-A4D1-AAB78891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EEC-2D7A-428B-9445-935A1678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2EB-997E-4331-975D-35D30D0E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743-562F-49E7-8D8B-95CF0DEB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E7F6-1556-4743-BB1D-7F6C83B9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EF2-7D52-41C6-91EE-39FCBD9E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722F-E24E-4FAD-A901-6A0233E856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olnet.ee/games/g5.html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0/39/61/39061095_31042175_Dlya_dneva_solnce_v_gaMAKE.gif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2203560" y="554040"/>
            <a:ext cx="498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"/>
              </a:rPr>
              <a:t>Найд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"/>
              </a:rPr>
              <a:t>солнышк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2195640" y="2862360"/>
            <a:ext cx="4147920" cy="4160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5508720" y="623736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оставитель:  воспитатель ГДО Евдокимова Н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олнце 11"/>
          <p:cNvSpPr/>
          <p:nvPr/>
        </p:nvSpPr>
        <p:spPr>
          <a:xfrm>
            <a:off x="857160" y="500040"/>
            <a:ext cx="135756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4+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83368E-006 C -0.00781 0.01041 -0.01354 0.02522 -0.01545 0.03979 C -0.0151 0.06778 -0.01545 0.09577 -0.0144 0.12376 C -0.0144 0.12584 -0.01284 0.12723 -0.01232 0.12908 C -0.0092 0.14111 -0.00572 0.14805 6.38889E-006 0.158 C 0.00365 0.16401 0.00435 0.16979 0.00712 0.17581 C 0.01563 0.19408 0.03021 0.21004 0.04428 0.21976 C 0.04497 0.22115 0.04532 0.223 0.04636 0.22392 C 0.04827 0.22554 0.05261 0.2267 0.05261 0.2267 C 0.0632 0.23757 0.05799 0.23526 0.06702 0.23757 C 0.07101 0.24104 0.07362 0.24428 0.0783 0.2459 C 0.08525 0.25191 0.07726 0.2459 0.09063 0.25006 C 0.09758 0.25214 0.10383 0.25978 0.11025 0.26371 C 0.11355 0.26556 0.11823 0.26672 0.12171 0.26787 C 0.12744 0.27181 0.13143 0.27273 0.1382 0.27481 C 0.15695 0.28707 0.13959 0.27782 0.15973 0.28291 C 0.16876 0.28522 0.17605 0.29239 0.18455 0.2954 C 0.1882 0.29679 0.19219 0.29702 0.19584 0.29818 C 0.19827 0.29887 0.2007 0.30049 0.20313 0.30095 C 0.2099 0.30234 0.22362 0.3035 0.22362 0.3035 C 0.22639 0.30488 0.22917 0.3065 0.23195 0.30766 C 0.23525 0.30882 0.24219 0.31044 0.24219 0.31044 C 0.25192 0.319 0.24445 0.31344 0.2691 0.3146 C 0.29289 0.31553 0.3165 0.31645 0.34028 0.31738 C 0.39532 0.31622 0.44862 0.31136 0.50417 0.30905 C 0.50556 0.30766 0.50712 0.3065 0.50817 0.30488 C 0.50869 0.30373 0.50851 0.30211 0.50903 0.30095 C 0.51129 0.29725 0.51633 0.29656 0.51962 0.2954 C 0.52396 0.29239 0.52448 0.29424 0.52275 0.29124 E">
                                      <p:cBhvr>
                                        <p:cTn id="19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94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Солнце 11"/>
          <p:cNvSpPr/>
          <p:nvPr/>
        </p:nvSpPr>
        <p:spPr>
          <a:xfrm>
            <a:off x="4357800" y="1214280"/>
            <a:ext cx="135720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8+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блако 4"/>
          <p:cNvSpPr/>
          <p:nvPr/>
        </p:nvSpPr>
        <p:spPr>
          <a:xfrm>
            <a:off x="6643800" y="28584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3.77516E-006 C 0.00313 -0.01619 -0.00242 -0.03424 -0.01128 -0.04534 C -0.0144 -0.05598 -0.01874 -0.06477 -0.02465 -0.07287 C -0.03246 -0.09877 -0.06267 -0.12214 -0.08246 -0.12515 C -0.11562 -0.14018 -0.14843 -0.15753 -0.18246 -0.1691 C -0.19079 -0.17187 -0.19861 -0.17789 -0.20711 -0.17997 C -0.22829 -0.18483 -0.24982 -0.18691 -0.27117 -0.18968 C -0.30833 -0.18922 -0.34531 -0.19015 -0.38246 -0.1883 C -0.38454 -0.1883 -0.38576 -0.18529 -0.38767 -0.18413 C -0.38888 -0.18344 -0.39027 -0.18321 -0.39166 -0.18274 C -0.39861 -0.1758 -0.40538 -0.16725 -0.41232 -0.16077 C -0.41388 -0.15938 -0.41597 -0.15915 -0.41753 -0.15799 C -0.42795 -0.1499 -0.44062 -0.13949 -0.44843 -0.12653 C -0.46093 -0.10571 -0.46926 -0.08351 -0.47725 -0.05922 C -0.4802 -0.02383 -0.47551 -0.06315 -0.48142 -0.04002 C -0.48367 -0.03077 -0.4842 -0.02151 -0.48767 -0.01249 C -0.48836 -0.00787 -0.48958 -0.00046 -0.48958 0.00393 C -0.48923 0.05297 -0.48992 0.10201 -0.48767 0.15105 C -0.48645 0.17673 -0.47013 0.19778 -0.46076 0.21837 C -0.44444 0.25353 -0.46545 0.21374 -0.43715 0.26232 C -0.4342 0.26717 -0.43246 0.27365 -0.42881 0.27735 C -0.39808 0.30858 -0.38385 0.33472 -0.34426 0.34883 C -0.33159 0.35346 -0.30607 0.36248 -0.30607 0.36248 C -0.27308 0.36155 -0.2401 0.36248 -0.20711 0.3597 C -0.20295 0.35924 -0.19965 0.35508 -0.19583 0.35299 C -0.18176 0.34513 -0.16788 0.33981 -0.15763 0.32408 C -0.15312 0.31714 -0.15069 0.30928 -0.14635 0.3021 C -0.146 0.29979 -0.146 0.29725 -0.14531 0.29516 C -0.14461 0.29262 -0.1427 0.291 -0.14218 0.28846 C -0.14114 0.28314 -0.14149 0.27735 -0.14114 0.2718 C -0.14183 0.25399 -0.14166 0.23618 -0.14322 0.21837 C -0.14426 0.2068 -0.15104 0.19801 -0.15572 0.18922 C -0.16562 0.17095 -0.17239 0.16794 -0.18558 0.1566 C -0.18888 0.15383 -0.19131 0.14943 -0.19479 0.14689 C -0.20433 0.14018 -0.21753 0.13856 -0.22777 0.13463 C -0.2585 0.1226 -0.2394 0.12653 -0.25867 0.12352 C -0.2717 0.12399 -0.28489 0.12329 -0.29791 0.12491 C -0.29999 0.12514 -0.30138 0.12792 -0.30312 0.12908 C -0.31579 0.13764 -0.32569 0.14966 -0.33819 0.15799 C -0.34583 0.17627 -0.35486 0.19338 -0.36284 0.21143 C -0.36319 0.21374 -0.36319 0.21605 -0.36388 0.21837 C -0.36475 0.22114 -0.36631 0.22346 -0.36701 0.22646 C -0.3684 0.23317 -0.37013 0.24682 -0.37117 0.25538 C -0.36857 0.3176 -0.37638 0.34906 -0.35364 0.39278 C -0.34617 0.42216 -0.33333 0.43257 -0.3144 0.4476 C -0.30815 0.45246 -0.30329 0.4601 -0.29687 0.46426 C -0.29409 0.46611 -0.29062 0.46565 -0.28767 0.46704 C -0.25989 0.47976 -0.29426 0.46842 -0.2618 0.47791 C -0.24496 0.48832 -0.2276 0.49341 -0.2092 0.49572 C -0.19201 0.49988 -0.17517 0.50035 -0.15763 0.50127 C -0.11701 0.49711 -0.07656 0.49549 -0.03611 0.4904 C -0.02083 0.48253 -0.00468 0.47652 0.01042 0.46842 C 0.01389 0.46657 0.01702 0.46333 0.02067 0.46148 C 0.04133 0.45084 0.06337 0.44136 0.0783 0.41753 C 0.08716 0.40342 0.0882 0.38376 0.0948 0.36803 C 0.09549 0.36178 0.09636 0.35623 0.09792 0.35022 C 0.09723 0.31274 0.09688 0.27504 0.09584 0.23757 C 0.09567 0.22878 0.09549 0.23016 0.09185 0.22507 C 0.08959 0.21652 0.09185 0.21698 0.08872 0.21698 E">
                                      <p:cBhvr>
                                        <p:cTn id="22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Солнце 11"/>
          <p:cNvSpPr/>
          <p:nvPr/>
        </p:nvSpPr>
        <p:spPr>
          <a:xfrm>
            <a:off x="7000920" y="714240"/>
            <a:ext cx="135720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6+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1499E-006 C 0.02674 0.00046 0.05365 -0.0007 0.08038 0.00138 C 0.08212 0.00138 0.08507 0.01665 0.08767 0.01919 C 0.09427 0.02544 0.09774 0.03446 0.10417 0.04117 C 0.10886 0.05736 0.11059 0.05898 0.11649 0.07286 C 0.11736 0.08119 0.1184 0.08697 0.12066 0.09484 C 0.11927 0.1226 0.12396 0.14827 0.11233 0.17025 C 0.10799 0.17857 0.1007 0.18366 0.09392 0.18806 C 0.09028 0.19014 0.08247 0.19338 0.08247 0.19338 C 0.0684 0.20286 0.04844 0.20587 0.03299 0.20749 C 0.02101 0.20564 0.00799 0.20865 -0.00312 0.20171 C -0.01441 0.195 -0.02239 0.17857 -0.02778 0.16493 C -0.03594 0.14318 -0.02448 0.18343 -0.0401 0.13462 C -0.04739 0.11195 -0.05347 0.08859 -0.06076 0.06592 C -0.06111 0.06176 -0.06094 0.05759 -0.0618 0.05366 C -0.06337 0.04695 -0.06805 0.03423 -0.06805 0.03423 C -0.06979 0.01919 -0.07378 0.00555 -0.0783 -0.00833 C -0.08003 -0.02476 -0.07847 -0.01481 -0.08559 -0.03702 C -0.09618 -0.0694 -0.08663 -0.04534 -0.09062 -0.06038 C -0.09757 -0.08606 -0.10347 -0.11289 -0.11649 -0.13463 C -0.1217 -0.14342 -0.1283 -0.14759 -0.13524 -0.15383 C -0.13854 -0.15707 -0.14132 -0.1617 -0.14548 -0.16355 C -0.15243 -0.16679 -0.16701 -0.17164 -0.16701 -0.17164 C -0.18194 -0.18275 -0.19948 -0.18969 -0.21649 -0.19223 C -0.23715 -0.19131 -0.25781 -0.19154 -0.27847 -0.18946 C -0.28281 -0.18899 -0.28646 -0.18344 -0.29062 -0.18136 C -0.30156 -0.17581 -0.31198 -0.16979 -0.32153 -0.16077 C -0.3342 -0.14874 -0.32326 -0.15499 -0.33507 -0.14967 C -0.34305 -0.13903 -0.35139 -0.1307 -0.35972 -0.1196 C -0.3651 -0.11243 -0.36215 -0.10688 -0.3691 -0.1004 C -0.37239 -0.09115 -0.37309 -0.08236 -0.37621 -0.0731 C -0.37951 -0.04257 -0.3809 -0.03262 -0.37621 0.01226 C -0.37292 0.04348 -0.36771 0.03793 -0.35764 0.05621 C -0.35521 0.06037 -0.35399 0.06592 -0.35156 0.07009 C -0.34167 0.08651 -0.32743 0.09576 -0.31441 0.1071 C -0.29861 0.12098 -0.28281 0.13439 -0.26701 0.14827 C -0.26476 0.15382 -0.26163 0.15752 -0.25972 0.16354 C -0.25781 0.16932 -0.25729 0.17557 -0.25555 0.18135 C -0.25451 0.19083 -0.25347 0.20055 -0.24948 0.20888 C -0.25069 0.23733 -0.24444 0.27712 -0.27118 0.28429 C -0.29253 0.29609 -0.31719 0.28614 -0.33906 0.27874 C -0.34548 0.27249 -0.35069 0.26625 -0.3566 0.25931 C -0.36319 0.24219 -0.37274 0.22669 -0.38038 0.21003 C -0.39149 0.18575 -0.39514 0.15544 -0.40503 0.13046 C -0.4066 0.12653 -0.40955 0.12352 -0.41128 0.11936 C -0.4243 0.0909 -0.43698 0.06384 -0.45364 0.03839 C -0.46667 0.01873 -0.49722 -0.00579 -0.51649 -0.01527 C -0.5243 -0.01897 -0.53229 -0.02059 -0.5401 -0.02476 C -0.55764 -0.02429 -0.57517 -0.02522 -0.59271 -0.0236 C -0.60851 -0.02198 -0.62448 -0.00162 -0.63507 0.01087 C -0.64687 0.02428 -0.65694 0.03122 -0.66701 0.04672 C -0.66979 0.05597 -0.67309 0.06176 -0.6783 0.0687 C -0.67899 0.07147 -0.67951 0.07448 -0.68038 0.07703 C -0.68125 0.07911 -0.68281 0.08119 -0.68351 0.08373 C -0.68819 0.099 -0.68108 0.08396 -0.68663 0.09484 C -0.68993 0.11103 -0.68837 0.10501 -0.69062 0.11404 C -0.69028 0.15521 -0.69861 0.22831 -0.67934 0.27342 C -0.67569 0.28198 -0.67014 0.28868 -0.66597 0.29678 C -0.66354 0.30788 -0.65937 0.31367 -0.65469 0.32269 C -0.64983 0.3324 -0.64375 0.34443 -0.63906 0.35438 C -0.63785 0.35692 -0.63767 0.36062 -0.63611 0.36271 C -0.62951 0.3715 -0.61354 0.38006 -0.60608 0.38607 C -0.58976 0.39879 -0.6 0.39555 -0.58246 0.40666 C -0.57812 0.4092 -0.57344 0.41059 -0.5691 0.41337 C -0.56163 0.41845 -0.55469 0.42447 -0.54739 0.43002 C -0.53941 0.43603 -0.52917 0.43789 -0.52066 0.44228 C -0.49896 0.45315 -0.47673 0.46032 -0.45469 0.46981 C -0.42135 0.46749 -0.38802 0.46657 -0.35469 0.46287 C -0.3401 0.46125 -0.32726 0.44621 -0.31337 0.44089 C -0.30555 0.43048 -0.28542 0.41221 -0.27517 0.40504 C -0.27378 0.40342 -0.27257 0.40134 -0.27118 0.39972 C -0.26996 0.3981 -0.2684 0.39717 -0.26701 0.39555 C -0.26389 0.39139 -0.26423 0.38514 -0.2618 0.38052 C -0.26059 0.37751 -0.25764 0.37543 -0.25555 0.37358 C -0.25486 0.37219 -0.25451 0.37057 -0.25364 0.36941 C -0.25278 0.36826 -0.25139 0.36803 -0.25052 0.36641 C -0.24913 0.36433 -0.24861 0.36109 -0.24739 0.35854 C -0.24358 0.34096 -0.23698 0.34443 -0.22361 0.34073 C -0.20989 0.3324 -0.19462 0.32199 -0.17951 0.32014 C -0.17396 0.31644 -0.17083 0.31482 -0.16493 0.3132 C -0.15382 0.30696 -0.14288 0.30603 -0.1309 0.30488 C -0.11042 0.29956 -0.12361 0.3021 -0.09167 0.3021 E">
                                      <p:cBhvr>
                                        <p:cTn id="25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56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Солнце 11"/>
          <p:cNvSpPr/>
          <p:nvPr/>
        </p:nvSpPr>
        <p:spPr>
          <a:xfrm>
            <a:off x="1428840" y="4714920"/>
            <a:ext cx="135720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5+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50821E-006 C 0.00226 0.00879 0.00347 0.01827 0.00712 0.02614 C 0.00885 0.03539 0.01441 0.04326 0.01858 0.05089 C 0.02222 0.05737 0.025 0.06408 0.02778 0.07148 C 0.03003 0.07726 0.03663 0.07957 0.0401 0.08374 C 0.04514 0.08998 0.05243 0.09762 0.05868 0.10155 C 0.06163 0.1034 0.0651 0.10294 0.06806 0.10433 C 0.08906 0.11381 0.07205 0.10988 0.08871 0.11265 C 0.11684 0.12607 0.14531 0.1455 0.17517 0.14828 C 0.26458 0.1994 0.33559 0.15198 0.41441 0.12908 C 0.42656 0.12167 0.43924 0.11844 0.45156 0.11126 C 0.47292 0.09877 0.44687 0.10895 0.47326 0.10016 C 0.48125 0.09276 0.48941 0.08975 0.49792 0.08374 C 0.5059 0.07795 0.51267 0.06916 0.52066 0.06315 C 0.53038 0.0458 0.54427 0.03169 0.55573 0.01642 C 0.56753 0.00069 0.5783 -0.01874 0.58767 -0.03701 C 0.60191 -0.06477 0.60903 -0.10109 0.61649 -0.13324 C 0.62274 -0.16007 0.63056 -0.1883 0.63611 -0.21559 C 0.64028 -0.23664 0.64149 -0.26001 0.64427 -0.28152 C 0.64358 -0.33102 0.64427 -0.38052 0.64219 -0.43003 C 0.64132 -0.45246 0.62274 -0.50035 0.61649 -0.52325 C 0.60677 -0.5591 0.59722 -0.59033 0.58142 -0.62225 C 0.56806 -0.64932 0.5467 -0.66713 0.52674 -0.68402 C 0.48715 -0.71733 0.46476 -0.7319 0.4184 -0.74323 C 0.26302 -0.73861 0.24358 -0.76775 0.15156 -0.71987 C 0.14774 -0.71571 0.14427 -0.71108 0.1401 -0.70738 C 0.13281 -0.7009 0.11753 -0.68957 0.11753 -0.68957 C 0.1059 -0.67083 0.11528 -0.6854 0.09167 -0.65394 C 0.08854 -0.64978 0.08246 -0.64145 0.08246 -0.64145 C 0.07465 -0.61763 0.06163 -0.59958 0.0526 -0.57691 C 0.04844 -0.56627 0.0401 -0.54522 0.0401 -0.54522 C 0.03455 -0.51839 0.02726 -0.49364 0.0217 -0.46704 C 0.02049 -0.45362 0.01875 -0.44067 0.01753 -0.42725 C 0.01858 -0.39834 0.01892 -0.36942 0.02066 -0.34074 C 0.02153 -0.32616 0.02517 -0.32408 0.02882 -0.31043 C 0.03385 -0.2917 0.03733 -0.2725 0.04323 -0.25422 C 0.05799 -0.20935 0.08663 -0.19015 0.11545 -0.16493 C 0.13021 -0.15198 0.12674 -0.15013 0.14427 -0.13879 C 0.14913 -0.13555 0.15469 -0.13463 0.15972 -0.13185 C 0.18802 -0.11659 0.21458 -0.10271 0.24427 -0.09207 C 0.26667 -0.09392 0.28906 -0.09507 0.31128 -0.09762 C 0.32031 -0.09854 0.32396 -0.1078 0.3309 -0.11404 C 0.35399 -0.1344 0.36007 -0.16054 0.37517 -0.18945 C 0.37812 -0.20194 0.38073 -0.21467 0.38455 -0.2267 C 0.3875 -0.26926 0.38246 -0.21467 0.38976 -0.25561 C 0.39062 -0.26047 0.38993 -0.26579 0.39062 -0.27065 C 0.39253 -0.28499 0.39549 -0.29864 0.3967 -0.31321 C 0.39618 -0.33287 0.39583 -0.35253 0.39462 -0.3722 C 0.39358 -0.39417 0.38542 -0.41406 0.37934 -0.43396 C 0.3691 -0.46796 0.36476 -0.514 0.33403 -0.52602 C 0.32865 -0.53019 0.32431 -0.53042 0.31858 -0.53296 C 0.31059 -0.53181 0.30208 -0.5332 0.29479 -0.5288 C 0.28142 -0.5207 0.29149 -0.52464 0.28142 -0.51654 C 0.26875 -0.50613 0.25677 -0.49526 0.24323 -0.48624 C 0.24149 -0.48346 0.24045 -0.47999 0.23819 -0.47791 C 0.22049 -0.46218 0.23368 -0.48207 0.22274 -0.46565 C 0.22135 -0.46334 0.22014 -0.46079 0.21858 -0.45871 C 0.21632 -0.45547 0.21128 -0.44923 0.21128 -0.44923 C 0.2092 -0.43997 0.20573 -0.43326 0.20312 -0.42447 C 0.20278 -0.42124 0.20278 -0.418 0.20208 -0.41476 C 0.20139 -0.41152 0.19896 -0.40874 0.19896 -0.40527 C 0.19861 -0.37451 0.19167 -0.31876 0.21024 -0.28707 C 0.21337 -0.28175 0.21597 -0.2755 0.21962 -0.27065 C 0.22587 -0.26232 0.2375 -0.25815 0.24531 -0.25283 C 0.25052 -0.24936 0.25712 -0.24659 0.26285 -0.24451 C 0.26562 -0.24358 0.27118 -0.24173 0.27118 -0.24173 C 0.29045 -0.24312 0.28733 -0.23549 0.29062 -0.24589 E">
                                      <p:cBhvr>
                                        <p:cTn id="28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Солнышк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85840"/>
            <a:ext cx="933912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Солнце 11"/>
          <p:cNvSpPr/>
          <p:nvPr/>
        </p:nvSpPr>
        <p:spPr>
          <a:xfrm>
            <a:off x="1285920" y="4714920"/>
            <a:ext cx="135720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5+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8758E-006 C 0.00295 -0.0199 0.0059 -0.04025 0.00937 -0.06015 C 0.01076 -0.07657 0.01337 -0.08929 0.01858 -0.1041 C 0.02066 -0.12214 0.02031 -0.14319 0.02378 -0.16077 C 0.03003 -0.19246 0.04201 -0.22184 0.0474 -0.25399 C 0.05156 -0.27828 0.05243 -0.30142 0.05781 -0.32547 C 0.06059 -0.35392 0.06146 -0.38446 0.06701 -0.41199 C 0.06823 -0.43466 0.07361 -0.44807 0.07743 -0.46959 C 0.0783 -0.48323 0.07812 -0.4948 0.08351 -0.5066 C 0.08576 -0.45617 0.10312 -0.40759 0.11545 -0.35971 C 0.12587 -0.31946 0.13437 -0.27782 0.14444 -0.23734 C 0.15156 -0.20889 0.16146 -0.18275 0.1691 -0.15499 C 0.17639 -0.12908 0.18108 -0.10063 0.18767 -0.07426 C 0.18993 -0.11011 0.19635 -0.1418 0.20625 -0.17558 C 0.21007 -0.21883 0.22118 -0.24798 0.2309 -0.29101 C 0.24271 -0.34328 0.25208 -0.39649 0.25885 -0.45039 C 0.26128 -0.50382 0.25521 -0.56489 0.26806 -0.61647 C 0.26944 -0.60121 0.27049 -0.58224 0.27326 -0.5672 C 0.27569 -0.55355 0.27986 -0.5406 0.28246 -0.52718 C 0.2849 -0.49549 0.28767 -0.47491 0.29601 -0.44622 C 0.30156 -0.40458 0.31337 -0.36618 0.32378 -0.32663 C 0.3283 -0.30951 0.33073 -0.28684 0.33819 -0.27181 C 0.34028 -0.29193 0.34167 -0.31229 0.34444 -0.33218 C 0.34618 -0.34444 0.35312 -0.36618 0.35573 -0.37775 C 0.35781 -0.38654 0.35868 -0.39603 0.36094 -0.40505 C 0.36528 -0.42309 0.37049 -0.44067 0.37535 -0.45848 C 0.38229 -0.48439 0.38576 -0.51169 0.39392 -0.5369 C 0.4033 -0.56581 0.41111 -0.59612 0.41858 -0.62619 C 0.42031 -0.64608 0.41806 -0.63128 0.42274 -0.64817 C 0.42274 -0.64817 0.42431 -0.65696 0.42483 -0.65765 C 0.42569 -0.65857 0.42691 -0.65857 0.42795 -0.65904 C 0.43056 -0.64446 0.43333 -0.6285 0.44132 -0.61786 C 0.45 -0.57622 0.46128 -0.53574 0.47118 -0.49434 C 0.47465 -0.47953 0.47743 -0.46357 0.48142 -0.449 C 0.48281 -0.44414 0.48663 -0.43512 0.48663 -0.43512 C 0.48871 -0.42147 0.49253 -0.40875 0.49496 -0.39533 C 0.49566 -0.3796 0.49705 -0.36549 0.5 -0.34999 C 0.50174 -0.3412 0.50521 -0.33334 0.50521 -0.32408 E">
                                      <p:cBhvr>
                                        <p:cTn id="31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indefinite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олнце 11"/>
          <p:cNvSpPr/>
          <p:nvPr/>
        </p:nvSpPr>
        <p:spPr>
          <a:xfrm>
            <a:off x="857160" y="500040"/>
            <a:ext cx="135756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6+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83368E-006 C -0.00781 0.01041 -0.01354 0.02522 -0.01545 0.03979 C -0.0151 0.06778 -0.01545 0.09577 -0.0144 0.12376 C -0.0144 0.12584 -0.01284 0.12723 -0.01232 0.12908 C -0.0092 0.14111 -0.00572 0.14805 6.38889E-006 0.158 C 0.00365 0.16401 0.00435 0.16979 0.00712 0.17581 C 0.01563 0.19408 0.03021 0.21004 0.04428 0.21976 C 0.04497 0.22115 0.04532 0.223 0.04636 0.22392 C 0.04827 0.22554 0.05261 0.2267 0.05261 0.2267 C 0.0632 0.23757 0.05799 0.23526 0.06702 0.23757 C 0.07101 0.24104 0.07362 0.24428 0.0783 0.2459 C 0.08525 0.25191 0.07726 0.2459 0.09063 0.25006 C 0.09758 0.25214 0.10383 0.25978 0.11025 0.26371 C 0.11355 0.26556 0.11823 0.26672 0.12171 0.26787 C 0.12744 0.27181 0.13143 0.27273 0.1382 0.27481 C 0.15695 0.28707 0.13959 0.27782 0.15973 0.28291 C 0.16876 0.28522 0.17605 0.29239 0.18455 0.2954 C 0.1882 0.29679 0.19219 0.29702 0.19584 0.29818 C 0.19827 0.29887 0.2007 0.30049 0.20313 0.30095 C 0.2099 0.30234 0.22362 0.3035 0.22362 0.3035 C 0.22639 0.30488 0.22917 0.3065 0.23195 0.30766 C 0.23525 0.30882 0.24219 0.31044 0.24219 0.31044 C 0.25192 0.319 0.24445 0.31344 0.2691 0.3146 C 0.29289 0.31553 0.3165 0.31645 0.34028 0.31738 C 0.39532 0.31622 0.44862 0.31136 0.50417 0.30905 C 0.50556 0.30766 0.50712 0.3065 0.50817 0.30488 C 0.50869 0.30373 0.50851 0.30211 0.50903 0.30095 C 0.51129 0.29725 0.51633 0.29656 0.51962 0.2954 C 0.52396 0.29239 0.52448 0.29424 0.52275 0.29124 E">
                                      <p:cBhvr>
                                        <p:cTn id="34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indefinite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67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олнце 11"/>
          <p:cNvSpPr/>
          <p:nvPr/>
        </p:nvSpPr>
        <p:spPr>
          <a:xfrm>
            <a:off x="2071800" y="2786040"/>
            <a:ext cx="135720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7+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54106E-007 C 0.00625 -0.00647 0.00972 -0.00671 0.01754 -0.00809 C 0.0217 -0.01411 0.02656 -0.01272 0.03195 -0.01642 C 0.03472 -0.02012 0.03733 -0.02359 0.04011 -0.02729 C 0.04149 -0.02914 0.04271 -0.03978 0.04323 -0.04256 C 0.04584 -0.05459 0.04827 -0.06662 0.05139 -0.07818 C 0.05452 -0.12283 0.05504 -0.12329 0.04948 -0.19778 C 0.04896 -0.20472 0.04531 -0.2105 0.04323 -0.21698 C 0.03542 -0.24103 0.02847 -0.26301 0.01337 -0.28152 C 0.00677 -0.28961 0.00747 -0.2866 -0.00208 -0.29378 C -0.02083 -0.30742 -0.02604 -0.31089 -0.04548 -0.31991 C -0.06562 -0.32917 -0.08403 -0.33958 -0.10521 -0.34467 C -0.1283 -0.34374 -0.15139 -0.34443 -0.1743 -0.34189 C -0.17778 -0.34143 -0.18055 -0.33379 -0.18246 -0.33102 C -0.19166 -0.31783 -0.19826 -0.30326 -0.20729 -0.28984 C -0.20833 -0.2866 -0.20903 -0.28313 -0.21041 -0.28013 C -0.21146 -0.27758 -0.21371 -0.27596 -0.21458 -0.27319 C -0.21614 -0.26879 -0.21632 -0.26393 -0.21753 -0.25954 C -0.22465 -0.23248 -0.21632 -0.2674 -0.22482 -0.24034 C -0.23142 -0.21952 -0.23281 -0.19708 -0.24132 -0.17719 C -0.24028 -0.14018 -0.23941 -0.10294 -0.23819 -0.06592 C -0.23732 -0.04071 -0.23854 -0.06037 -0.23212 -0.03863 C -0.22969 -0.02984 -0.22587 -0.01226 -0.22587 -0.01226 C -0.22413 0.00393 -0.21302 0.02707 -0.20521 0.04002 C -0.20035 0.04812 -0.19757 0.05945 -0.1908 0.06477 C -0.18732 0.06755 -0.18368 0.0694 -0.18055 0.07287 C -0.17778 0.07588 -0.17604 0.08073 -0.17326 0.08397 C -0.16094 0.09854 -0.16597 0.08952 -0.1526 0.09901 C -0.14166 0.10664 -0.12986 0.11821 -0.11962 0.12653 C -0.11423 0.13093 -0.10694 0.13 -0.10104 0.13324 C -0.0875 0.14041 -0.09253 0.14065 -0.07847 0.14435 C -0.06545 0.14782 -0.05226 0.14874 -0.03923 0.15267 C -0.01476 0.15175 0.00955 0.15105 0.03403 0.1499 C 0.0474 0.1492 0.05972 0.13718 0.07309 0.13463 C 0.08837 0.11497 0.06858 0.13856 0.08438 0.12515 C 0.0882 0.12191 0.09011 0.0997 0.09167 0.09346 C 0.09063 0.07056 0.09011 0.04765 0.08854 0.02475 C 0.08802 0.01689 0.08212 0.01203 0.07934 0.00555 C 0.06615 -0.02544 0.04445 -0.0458 0.0184 -0.05366 C 0.01163 -0.06084 0.00538 -0.06292 -0.00312 -0.06454 C -0.02031 -0.06407 -0.0375 -0.06477 -0.05469 -0.06315 C -0.05816 -0.06292 -0.07135 -0.05366 -0.07326 -0.05204 C -0.09774 -0.03377 -0.10729 -0.02244 -0.1217 0.00972 C -0.125 0.01712 -0.12604 0.03146 -0.12795 0.04002 C -0.13142 0.07472 -0.13073 0.05991 -0.12899 0.11127 C -0.12899 0.11173 -0.1276 0.12353 -0.12691 0.12515 C -0.1158 0.15105 -0.09826 0.1684 -0.07847 0.18136 C -0.07031 0.18668 -0.06007 0.1883 -0.05156 0.19246 C -0.03732 0.1994 -0.02673 0.20518 -0.01146 0.2075 C 0.01042 0.21814 0.02899 0.22138 0.05243 0.22253 C 0.09705 0.22161 0.14184 0.223 0.18646 0.21999 C 0.19479 0.21953 0.20226 0.21212 0.21024 0.20888 C 0.21649 0.20634 0.22882 0.20056 0.22882 0.20056 C 0.23507 0.19223 0.24462 0.18251 0.24948 0.17187 C 0.2559 0.15776 0.25052 0.16424 0.25764 0.15383 C 0.26736 0.13972 0.27709 0.12538 0.28438 0.10872 C 0.28577 0.09993 0.28889 0.09438 0.29063 0.08536 C 0.29254 0.05899 0.30174 0.01596 0.28438 -0.00139 C 0.27865 -0.01318 0.27274 -0.01503 0.26285 -0.01781 C 0.23073 -0.01411 0.24254 -0.02197 0.22882 0.00278 C 0.22518 0.01758 0.22691 0.01111 0.22361 0.02198 C 0.22465 0.03401 0.22413 0.04627 0.22674 0.05783 C 0.22726 0.06015 0.23334 0.06385 0.23594 0.06477 C 0.24531 0.06778 0.25417 0.07148 0.26389 0.07287 C 0.29861 0.07194 0.33316 0.07194 0.36788 0.07009 C 0.37309 0.06986 0.38229 0.05968 0.38646 0.05506 C 0.38872 0.05251 0.39271 0.04673 0.39271 0.04673 C 0.39601 0.03007 0.40139 0.01411 0.40504 -0.00254 C 0.40625 -0.03678 0.40608 -0.02267 0.40608 -0.04395 E">
                                      <p:cBhvr>
                                        <p:cTn id="37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indefinite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99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club-edu.tambov.ru/vjpusk/vjp130/rabot/34/37r5.gif"/>
          <p:cNvPicPr/>
          <p:nvPr/>
        </p:nvPicPr>
        <p:blipFill>
          <a:blip r:embed="rId1"/>
          <a:stretch/>
        </p:blipFill>
        <p:spPr>
          <a:xfrm>
            <a:off x="2071800" y="1500120"/>
            <a:ext cx="50004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Солнце 11"/>
          <p:cNvSpPr/>
          <p:nvPr/>
        </p:nvSpPr>
        <p:spPr>
          <a:xfrm>
            <a:off x="857160" y="500040"/>
            <a:ext cx="135756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5+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83368E-006 C -0.00781 0.01041 -0.01354 0.02522 -0.01545 0.03979 C -0.0151 0.06778 -0.01545 0.09577 -0.0144 0.12376 C -0.0144 0.12584 -0.01284 0.12723 -0.01232 0.12908 C -0.0092 0.14111 -0.00572 0.14805 6.38889E-006 0.158 C 0.00365 0.16401 0.00435 0.16979 0.00712 0.17581 C 0.01563 0.19408 0.03021 0.21004 0.04428 0.21976 C 0.04497 0.22115 0.04532 0.223 0.04636 0.22392 C 0.04827 0.22554 0.05261 0.2267 0.05261 0.2267 C 0.0632 0.23757 0.05799 0.23526 0.06702 0.23757 C 0.07101 0.24104 0.07362 0.24428 0.0783 0.2459 C 0.08525 0.25191 0.07726 0.2459 0.09063 0.25006 C 0.09758 0.25214 0.10383 0.25978 0.11025 0.26371 C 0.11355 0.26556 0.11823 0.26672 0.12171 0.26787 C 0.12744 0.27181 0.13143 0.27273 0.1382 0.27481 C 0.15695 0.28707 0.13959 0.27782 0.15973 0.28291 C 0.16876 0.28522 0.17605 0.29239 0.18455 0.2954 C 0.1882 0.29679 0.19219 0.29702 0.19584 0.29818 C 0.19827 0.29887 0.2007 0.30049 0.20313 0.30095 C 0.2099 0.30234 0.22362 0.3035 0.22362 0.3035 C 0.22639 0.30488 0.22917 0.3065 0.23195 0.30766 C 0.23525 0.30882 0.24219 0.31044 0.24219 0.31044 C 0.25192 0.319 0.24445 0.31344 0.2691 0.3146 C 0.29289 0.31553 0.3165 0.31645 0.34028 0.31738 C 0.39532 0.31622 0.44862 0.31136 0.50417 0.30905 C 0.50556 0.30766 0.50712 0.3065 0.50817 0.30488 C 0.50869 0.30373 0.50851 0.30211 0.50903 0.30095 C 0.51129 0.29725 0.51633 0.29656 0.51962 0.2954 C 0.52396 0.29239 0.52448 0.29424 0.52275 0.29124 E">
                                      <p:cBhvr>
                                        <p:cTn id="40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17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24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олнце 11"/>
          <p:cNvSpPr/>
          <p:nvPr/>
        </p:nvSpPr>
        <p:spPr>
          <a:xfrm>
            <a:off x="857160" y="500040"/>
            <a:ext cx="135756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2+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7" descr=""/>
          <p:cNvPicPr/>
          <p:nvPr/>
        </p:nvPicPr>
        <p:blipFill>
          <a:blip r:embed="rId1"/>
          <a:stretch/>
        </p:blipFill>
        <p:spPr>
          <a:xfrm>
            <a:off x="5332320" y="3143160"/>
            <a:ext cx="32670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83368E-006 C -0.00781 0.01041 -0.01354 0.02522 -0.01545 0.03979 C -0.0151 0.06778 -0.01545 0.09577 -0.0144 0.12376 C -0.0144 0.12584 -0.01284 0.12723 -0.01232 0.12908 C -0.0092 0.14111 -0.00572 0.14805 6.38889E-006 0.158 C 0.00365 0.16401 0.00435 0.16979 0.00712 0.17581 C 0.01563 0.19408 0.03021 0.21004 0.04428 0.21976 C 0.04497 0.22115 0.04532 0.223 0.04636 0.22392 C 0.04827 0.22554 0.05261 0.2267 0.05261 0.2267 C 0.0632 0.23757 0.05799 0.23526 0.06702 0.23757 C 0.07101 0.24104 0.07362 0.24428 0.0783 0.2459 C 0.08525 0.25191 0.07726 0.2459 0.09063 0.25006 C 0.09758 0.25214 0.10383 0.25978 0.11025 0.26371 C 0.11355 0.26556 0.11823 0.26672 0.12171 0.26787 C 0.12744 0.27181 0.13143 0.27273 0.1382 0.27481 C 0.15695 0.28707 0.13959 0.27782 0.15973 0.28291 C 0.16876 0.28522 0.17605 0.29239 0.18455 0.2954 C 0.1882 0.29679 0.19219 0.29702 0.19584 0.29818 C 0.19827 0.29887 0.2007 0.30049 0.20313 0.30095 C 0.2099 0.30234 0.22362 0.3035 0.22362 0.3035 C 0.22639 0.30488 0.22917 0.3065 0.23195 0.30766 C 0.23525 0.30882 0.24219 0.31044 0.24219 0.31044 C 0.25192 0.319 0.24445 0.31344 0.2691 0.3146 C 0.29289 0.31553 0.3165 0.31645 0.34028 0.31738 C 0.39532 0.31622 0.44862 0.31136 0.50417 0.30905 C 0.50556 0.30766 0.50712 0.3065 0.50817 0.30488 C 0.50869 0.30373 0.50851 0.30211 0.50903 0.30095 C 0.51129 0.29725 0.51633 0.29656 0.51962 0.2954 C 0.52396 0.29239 0.52448 0.29424 0.52275 0.29124 E"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Солнце 11"/>
          <p:cNvSpPr/>
          <p:nvPr/>
        </p:nvSpPr>
        <p:spPr>
          <a:xfrm>
            <a:off x="857160" y="500040"/>
            <a:ext cx="135756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блако 1"/>
          <p:cNvSpPr/>
          <p:nvPr/>
        </p:nvSpPr>
        <p:spPr>
          <a:xfrm>
            <a:off x="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блако 2"/>
          <p:cNvSpPr/>
          <p:nvPr/>
        </p:nvSpPr>
        <p:spPr>
          <a:xfrm>
            <a:off x="2214720" y="3929040"/>
            <a:ext cx="692928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4+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83368E-006 C -0.00781 0.01041 -0.01354 0.02522 -0.01545 0.03979 C -0.0151 0.06778 -0.01545 0.09577 -0.0144 0.12376 C -0.0144 0.12584 -0.01284 0.12723 -0.01232 0.12908 C -0.0092 0.14111 -0.00572 0.14805 6.38889E-006 0.158 C 0.00365 0.16401 0.00435 0.16979 0.00712 0.17581 C 0.01563 0.19408 0.03021 0.21004 0.04428 0.21976 C 0.04497 0.22115 0.04532 0.223 0.04636 0.22392 C 0.04827 0.22554 0.05261 0.2267 0.05261 0.2267 C 0.0632 0.23757 0.05799 0.23526 0.06702 0.23757 C 0.07101 0.24104 0.07362 0.24428 0.0783 0.2459 C 0.08525 0.25191 0.07726 0.2459 0.09063 0.25006 C 0.09758 0.25214 0.10383 0.25978 0.11025 0.26371 C 0.11355 0.26556 0.11823 0.26672 0.12171 0.26787 C 0.12744 0.27181 0.13143 0.27273 0.1382 0.27481 C 0.15695 0.28707 0.13959 0.27782 0.15973 0.28291 C 0.16876 0.28522 0.17605 0.29239 0.18455 0.2954 C 0.1882 0.29679 0.19219 0.29702 0.19584 0.29818 C 0.19827 0.29887 0.2007 0.30049 0.20313 0.30095 C 0.2099 0.30234 0.22362 0.3035 0.22362 0.3035 C 0.22639 0.30488 0.22917 0.3065 0.23195 0.30766 C 0.23525 0.30882 0.24219 0.31044 0.24219 0.31044 C 0.25192 0.319 0.24445 0.31344 0.2691 0.3146 C 0.29289 0.31553 0.3165 0.31645 0.34028 0.31738 C 0.39532 0.31622 0.44862 0.31136 0.50417 0.30905 C 0.50556 0.30766 0.50712 0.3065 0.50817 0.30488 C 0.50869 0.30373 0.50851 0.30211 0.50903 0.30095 C 0.51129 0.29725 0.51633 0.29656 0.51962 0.2954 C 0.52396 0.29239 0.52448 0.29424 0.52275 0.29124 E">
                                      <p:cBhvr>
                                        <p:cTn id="44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42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indefinite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4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indefinite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56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Картинка 628 из 27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4200"/>
            <a:ext cx="893448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олнце 11"/>
          <p:cNvSpPr/>
          <p:nvPr/>
        </p:nvSpPr>
        <p:spPr>
          <a:xfrm>
            <a:off x="1857240" y="2857680"/>
            <a:ext cx="1357560" cy="1285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3+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блако 5"/>
          <p:cNvSpPr/>
          <p:nvPr/>
        </p:nvSpPr>
        <p:spPr>
          <a:xfrm>
            <a:off x="114300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16632E-006 C -0.00261 -0.01711 -0.00608 -0.02822 -0.01024 -0.04395 C -0.01302 -0.05412 -0.01493 -0.06453 -0.01858 -0.07425 C -0.02865 -0.14179 -0.02448 -0.19592 0.00312 -0.24728 C 0.00764 -0.25584 0.0158 -0.26 0.0217 -0.26648 C 0.03055 -0.27619 0.03923 -0.28753 0.05052 -0.29262 C 0.05364 -0.29678 0.05798 -0.30349 0.0618 -0.30511 C 0.06476 -0.31066 0.0684 -0.31158 0.07326 -0.3132 C 0.08281 -0.32222 0.09462 -0.32477 0.10417 -0.33379 C 0.20885 -0.33217 0.16042 -0.33495 0.20816 -0.32569 C 0.21337 -0.32107 0.22066 -0.31899 0.22673 -0.31737 C 0.23177 -0.31413 0.23733 -0.31251 0.24219 -0.30904 C 0.25243 -0.30164 0.24479 -0.30534 0.25156 -0.30233 C 0.26094 -0.28984 0.27344 -0.28267 0.28455 -0.27342 C 0.2901 -0.26879 0.29392 -0.26254 0.3 -0.25838 C 0.30226 -0.25075 0.30573 -0.24843 0.3092 -0.24172 C 0.31111 -0.23432 0.30868 -0.2408 0.31441 -0.23502 C 0.32344 -0.226 0.31493 -0.23317 0.32066 -0.2253 C 0.3243 -0.22021 0.32847 -0.21744 0.33298 -0.21443 C 0.33733 -0.20587 0.34253 -0.19916 0.34739 -0.19107 C 0.34913 -0.18783 0.34948 -0.18297 0.35156 -0.17996 C 0.35278 -0.17788 0.35521 -0.17672 0.35677 -0.17464 C 0.35798 -0.17302 0.35851 -0.17048 0.35972 -0.16909 C 0.36094 -0.1677 0.3625 -0.16747 0.36389 -0.16631 C 0.37257 -0.15914 0.37778 -0.15359 0.38767 -0.14989 C 0.39305 -0.13902 0.40573 -0.13647 0.41423 -0.13324 C 0.42517 -0.1293 0.43437 -0.1219 0.44531 -0.1182 C 0.45052 -0.11357 0.45677 -0.11334 0.46285 -0.11126 C 0.47882 -0.09715 0.46476 -0.10848 0.51233 -0.10848 E">
                                      <p:cBhvr>
                                        <p:cTn id="3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http://www.nivagold.ru/raznoe/raz/solnse/Photo%20122.gif"/>
          <p:cNvPicPr/>
          <p:nvPr/>
        </p:nvPicPr>
        <p:blipFill>
          <a:blip r:embed="rId1"/>
          <a:stretch/>
        </p:blipFill>
        <p:spPr>
          <a:xfrm>
            <a:off x="571680" y="785880"/>
            <a:ext cx="76435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4+</a:t>
            </a:r>
            <a:r>
              <a:rPr b="0" lang="ru-RU" sz="96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блако 5"/>
          <p:cNvSpPr/>
          <p:nvPr/>
        </p:nvSpPr>
        <p:spPr>
          <a:xfrm>
            <a:off x="114300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олнце 11"/>
          <p:cNvSpPr/>
          <p:nvPr/>
        </p:nvSpPr>
        <p:spPr>
          <a:xfrm>
            <a:off x="1571760" y="4929120"/>
            <a:ext cx="135720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2 -0.00324 C 0.00989 0.00138 -0.01111 0.00023 0.09687 -0.00324 C 0.1026 -0.00347 0.10833 -0.01064 0.11337 -0.01296 C 0.11857 -0.02337 0.11163 -0.01134 0.11962 -0.01851 C 0.12066 -0.01943 0.12083 -0.02152 0.1217 -0.02267 C 0.12257 -0.02383 0.12378 -0.02429 0.12482 -0.02522 C 0.12552 -0.02799 0.12621 -0.03077 0.12691 -0.03355 C 0.12725 -0.03493 0.12795 -0.03771 0.12795 -0.03748 C 0.12743 -0.06223 0.13698 -0.09161 0.11753 -0.09808 C 0.11389 -0.10132 0.11267 -0.10271 0.10833 -0.10086 C 0.11007 -0.08744 0.10781 -0.09461 0.11753 -0.08166 C 0.11996 -0.07842 0.12691 -0.07611 0.12691 -0.07588 C 0.13194 -0.06894 0.12743 -0.0738 0.13611 -0.07056 C 0.14357 -0.06778 0.14791 -0.06385 0.15573 -0.06246 C 0.19062 -0.06431 0.20382 -0.05691 0.22691 -0.0775 C 0.22951 -0.08351 0.23194 -0.0886 0.23507 -0.09392 C 0.23802 -0.10572 0.24253 -0.11613 0.24444 -0.12839 C 0.24357 -0.14643 0.24861 -0.17396 0.23507 -0.18599 C 0.23107 -0.19663 0.2342 -0.19038 0.22274 -0.20125 C 0.22031 -0.20357 0.21441 -0.20519 0.21441 -0.20495 C 0.20885 -0.19478 0.21111 -0.20102 0.21441 -0.1765 C 0.21562 -0.16771 0.22656 -0.15221 0.23194 -0.14759 C 0.23593 -0.14412 0.246 -0.14389 0.24948 -0.14203 C 0.25955 -0.13671 0.26614 -0.13394 0.27743 -0.13255 C 0.28906 -0.13348 0.30069 -0.13301 0.31232 -0.1351 C 0.31371 -0.13533 0.31423 -0.1381 0.31545 -0.13926 C 0.31632 -0.14018 0.31753 -0.14018 0.31857 -0.14065 C 0.32309 -0.14874 0.32795 -0.15221 0.33507 -0.15453 C 0.33767 -0.15938 0.34114 -0.16239 0.34444 -0.16679 C 0.34583 -0.17349 0.34896 -0.17743 0.35156 -0.18321 C 0.35625 -0.19362 0.35816 -0.20542 0.3618 -0.21629 C 0.36076 -0.2415 0.3625 -0.26718 0.35781 -0.2917 C 0.3559 -0.30188 0.35625 -0.29124 0.34948 -0.30835 C 0.34392 -0.32247 0.33455 -0.33241 0.32274 -0.33565 C 0.3184 -0.33958 0.31753 -0.34166 0.31041 -0.33704 C 0.30816 -0.33565 0.3092 -0.33079 0.30833 -0.32755 C 0.30902 -0.30373 0.30347 -0.29054 0.31545 -0.27805 C 0.32135 -0.26209 0.33021 -0.26394 0.33923 -0.25191 C 0.3434 -0.24636 0.34097 -0.24821 0.34635 -0.24636 C 0.35277 -0.24104 0.35955 -0.23896 0.36701 -0.23688 C 0.37604 -0.23179 0.38489 -0.22716 0.39479 -0.22577 C 0.41649 -0.21513 0.40972 -0.2193 0.44635 -0.22184 C 0.45486 -0.22901 0.45069 -0.22508 0.45885 -0.2341 C 0.46146 -0.24104 0.46389 -0.24636 0.46805 -0.25191 C 0.46979 -0.26602 0.47222 -0.2799 0.47639 -0.29309 C 0.48055 -0.34213 0.48003 -0.3109 0.47534 -0.41407 C 0.475 -0.42124 0.46823 -0.42587 0.46389 -0.42772 C 0.44982 -0.42633 0.45503 -0.42633 0.44843 -0.42633 E">
                                      <p:cBhvr>
                                        <p:cTn id="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Солнце 11"/>
          <p:cNvSpPr/>
          <p:nvPr/>
        </p:nvSpPr>
        <p:spPr>
          <a:xfrm>
            <a:off x="7215120" y="785880"/>
            <a:ext cx="135756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блако 5"/>
          <p:cNvSpPr/>
          <p:nvPr/>
        </p:nvSpPr>
        <p:spPr>
          <a:xfrm>
            <a:off x="114300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блако 1"/>
          <p:cNvSpPr/>
          <p:nvPr/>
        </p:nvSpPr>
        <p:spPr>
          <a:xfrm>
            <a:off x="357120" y="4500720"/>
            <a:ext cx="300060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блако 2"/>
          <p:cNvSpPr/>
          <p:nvPr/>
        </p:nvSpPr>
        <p:spPr>
          <a:xfrm>
            <a:off x="3357720" y="4000680"/>
            <a:ext cx="664344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+</a:t>
            </a:r>
            <a:r>
              <a:rPr b="0" lang="ru-RU" sz="96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50821E-006 C 0.01146 0.00092 0.01563 0.00046 0.02466 0.00416 C 0.02674 0.00509 0.02882 0.00601 0.03091 0.00694 C 0.03195 0.0074 0.03403 0.00832 0.03403 0.00832 C 0.03681 0.01411 0.03837 0.02035 0.04132 0.02614 C 0.04358 0.04025 0.04462 0.04534 0.04219 0.06338 C 0.04167 0.06801 0.03594 0.06824 0.03403 0.0687 C 0.02292 0.07124 0.01285 0.07703 0.00209 0.0798 C -0.00243 0.07934 -0.00711 0.0805 -0.01128 0.07842 C -0.01302 0.07749 -0.00798 0.07633 -0.00625 0.07564 C -0.00156 0.07356 0.00348 0.07309 0.00816 0.07148 C 0.01598 0.06523 0.01858 0.06454 0.02778 0.06731 C 0.02969 0.06893 0.03247 0.06939 0.03403 0.07148 C 0.03646 0.07471 0.04028 0.08258 0.04028 0.08258 C 0.04132 0.08859 0.04393 0.09068 0.04532 0.09623 C 0.04618 0.10409 0.04827 0.10826 0.04948 0.11543 C 0.05052 0.12167 0.05105 0.12722 0.05261 0.13324 C 0.05226 0.14342 0.05278 0.15359 0.05157 0.16354 C 0.05139 0.16539 0.04931 0.16609 0.04844 0.1677 C 0.03872 0.18436 0.05122 0.16817 0.03612 0.18274 C 0.02101 0.19731 0.00504 0.19986 -0.01232 0.20749 C -0.02326 0.20657 -0.03437 0.20587 -0.04531 0.20472 C -0.04965 0.20425 -0.0526 0.19986 -0.05573 0.19662 C -0.05763 0.19454 -0.0618 0.19107 -0.0618 0.19107 C -0.06632 0.18228 -0.0684 0.18228 -0.06388 0.17048 C -0.06336 0.16909 -0.05503 0.16794 -0.05364 0.1677 C -0.03628 0.16007 -0.02552 0.1647 -0.00416 0.16632 C -0.00243 0.17303 -0.00104 0.18043 0.00105 0.1869 C 0.00226 0.19084 0.00521 0.19801 0.00521 0.19801 C 0.00608 0.20634 0.0073 0.2142 0.00816 0.22253 C 0.00695 0.23224 0.00834 0.24335 0.00417 0.25144 C 0.00157 0.25653 5.55555999999687E-007 0.25584 -0.00416 0.25838 C -0.01875 0.26694 -0.03368 0.26694 -0.04948 0.26787 C -0.0809 0.27388 -0.11267 0.27319 -0.14323 0.26255 C -0.14843 0.25792 -0.15468 0.25769 -0.16076 0.25561 C -0.16527 0.24751 -0.171 0.24797 -0.17534 0.24057 C -0.17864 0.23479 -0.18177 0.22947 -0.1835 0.22253 C -0.18316 0.21651 -0.18489 0.20981 -0.18246 0.20472 C -0.18107 0.20194 -0.17118 0.20009 -0.16805 0.1994 C -0.16007 0.19986 -0.15208 0.19893 -0.14427 0.20055 C -0.14132 0.20102 -0.13941 0.20495 -0.13715 0.20749 C -0.13489 0.21004 -0.1309 0.21582 -0.1309 0.21582 C -0.12916 0.22484 -0.13073 0.21929 -0.12569 0.22947 C -0.125 0.23086 -0.12378 0.23363 -0.12378 0.23363 C -0.12309 0.23988 -0.12291 0.24173 -0.1217 0.24728 C -0.121 0.25006 -0.11961 0.25561 -0.11961 0.25561 C -0.12031 0.26879 -0.12048 0.28221 -0.1217 0.29539 C -0.12222 0.30048 -0.12482 0.30395 -0.12673 0.30789 C -0.13472 0.32408 -0.14878 0.33102 -0.16284 0.33379 C -0.17118 0.33749 -0.17656 0.33703 -0.18663 0.33796 C -0.19323 0.33703 -0.19982 0.33726 -0.20625 0.33518 C -0.20833 0.33449 -0.20937 0.33102 -0.21128 0.32986 C -0.2125 0.32894 -0.22031 0.32662 -0.22274 0.3257 C -0.22916 0.3213 -0.23489 0.31899 -0.24027 0.31182 C -0.24166 0.30696 -0.24375 0.3028 -0.24531 0.29817 C -0.24618 0.29539 -0.24739 0.28984 -0.24739 0.28984 C -0.24635 0.27966 -0.24704 0.27481 -0.23923 0.27758 C -0.23888 0.27943 -0.23888 0.28151 -0.23819 0.28313 C -0.23715 0.28614 -0.23402 0.29123 -0.23402 0.29123 C -0.23298 0.2984 -0.2309 0.30465 -0.22986 0.31182 C -0.2302 0.31876 -0.22968 0.32593 -0.2309 0.33264 C -0.23125 0.33472 -0.24184 0.33865 -0.24323 0.33934 C -0.25 0.34235 -0.25694 0.34536 -0.26388 0.34767 C -0.30208 0.34513 -0.29357 0.35022 -0.31336 0.33934 C -0.31857 0.33241 -0.32257 0.3287 -0.32673 0.32015 C -0.32812 0.31737 -0.3309 0.31182 -0.3309 0.31182 E">
                                      <p:cBhvr>
                                        <p:cTn id="10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Анимация-солнышко"/>
          <p:cNvPicPr/>
          <p:nvPr/>
        </p:nvPicPr>
        <p:blipFill>
          <a:blip r:embed="rId1"/>
          <a:stretch/>
        </p:blipFill>
        <p:spPr>
          <a:xfrm>
            <a:off x="928800" y="-184320"/>
            <a:ext cx="7429320" cy="70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олнце 11"/>
          <p:cNvSpPr/>
          <p:nvPr/>
        </p:nvSpPr>
        <p:spPr>
          <a:xfrm>
            <a:off x="4286160" y="1000080"/>
            <a:ext cx="135756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блако 1"/>
          <p:cNvSpPr/>
          <p:nvPr/>
        </p:nvSpPr>
        <p:spPr>
          <a:xfrm>
            <a:off x="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блако 2"/>
          <p:cNvSpPr/>
          <p:nvPr/>
        </p:nvSpPr>
        <p:spPr>
          <a:xfrm>
            <a:off x="3000240" y="3929040"/>
            <a:ext cx="650088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9600" spc="-1" strike="noStrike">
                <a:solidFill>
                  <a:srgbClr val="ff0000"/>
                </a:solidFill>
                <a:latin typeface="Arial Black"/>
              </a:rPr>
              <a:t>5</a:t>
            </a: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+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9.41476E-007 C -0.00816 -0.00093 -0.01649 -0.00139 -0.02465 -0.00278 C -0.02812 -0.00347 -0.03281 -0.00694 -0.03611 -0.00833 C -0.04479 -0.0118 -0.05434 -0.01481 -0.06284 -0.0192 C -0.0802 -0.02799 -0.06944 -0.02452 -0.08038 -0.02753 C -0.08854 -0.03817 -0.08368 -0.03239 -0.09583 -0.04395 C -0.09757 -0.04557 -0.10607 -0.06223 -0.10711 -0.06454 C -0.11093 -0.07241 -0.11857 -0.08791 -0.11857 -0.08791 C -0.11979 -0.09993 -0.12291 -0.11451 -0.12777 -0.12492 C -0.13125 -0.15244 -0.13732 -0.18992 -0.11753 -0.2075 C -0.11614 -0.21097 -0.10555 -0.22392 -0.10312 -0.22531 C -0.0993 -0.22762 -0.09149 -0.22947 -0.08663 -0.23086 C -0.03263 -0.26394 0.03282 -0.24497 0.0908 -0.22947 C 0.10712 -0.21999 0.12483 -0.21259 0.14237 -0.2075 C 0.15625 -0.19825 0.17136 -0.19454 0.18559 -0.18691 C 0.19115 -0.1839 0.19393 -0.17928 0.19896 -0.17581 C 0.2007 -0.17303 0.20209 -0.16979 0.20417 -0.16748 C 0.20608 -0.1654 0.20886 -0.1647 0.21042 -0.16216 C 0.2165 -0.15152 0.22118 -0.13718 0.22882 -0.12908 C 0.23525 -0.10387 0.22605 -0.13486 0.23507 -0.11682 C 0.23629 -0.11428 0.23629 -0.11127 0.23716 -0.10849 C 0.23941 -0.10179 0.24341 -0.09808 0.24636 -0.09207 C 0.24966 -0.08536 0.25053 -0.07842 0.25469 -0.07287 C 0.2573 -0.06431 0.25921 -0.05321 0.26389 -0.04673 C 0.26511 -0.03979 0.26632 -0.03031 0.26806 -0.02337 C 0.26928 -0.01874 0.27223 -0.00972 0.27223 -0.00972 C 0.27414 0.003 0.27257 -0.00486 0.27848 0.01364 C 0.28091 0.02128 0.28195 0.03169 0.28351 0.03978 C 0.28386 0.04626 0.28455 0.05251 0.28455 0.05898 C 0.28421 0.08373 0.28334 0.10849 0.28247 0.13324 C 0.28178 0.15105 0.27101 0.16423 0.26493 0.17858 C 0.25938 0.19153 0.25313 0.20865 0.24445 0.21836 C 0.24219 0.22762 0.23941 0.23132 0.23299 0.23617 C 0.23039 0.24126 0.22761 0.2452 0.22379 0.24867 C 0.22118 0.25376 0.2198 0.25376 0.21546 0.25537 C 0.20938 0.26139 0.20278 0.26578 0.19688 0.27203 C 0.19584 0.27319 0.19514 0.27527 0.19393 0.27619 C 0.18993 0.2792 0.18108 0.28151 0.17639 0.2829 C 0.17014 0.28707 0.16268 0.28938 0.15573 0.29123 C 0.1125 0.32014 0.09254 0.29609 0.01858 0.29539 C 0.01216 0.29262 0.00625 0.28845 -2.22222E-006 0.28568 C -0.00347 0.27874 -0.00538 0.27712 -0.01128 0.27342 C -0.01736 0.26255 -0.02621 0.26069 -0.03402 0.25283 C -0.04166 0.2452 -0.04461 0.23502 -0.05052 0.2253 C -0.05225 0.21559 -0.05763 0.21027 -0.06388 0.2061 C -0.06684 0.20032 -0.07135 0.19963 -0.07621 0.19639 C -0.08802 0.17673 -0.07378 0.19847 -0.08454 0.1869 C -0.0927 0.17834 -0.0901 0.17464 -0.1 0.17025 C -0.10607 0.16215 -0.11267 0.15313 -0.12066 0.14966 C -0.13125 0.13555 -0.14947 0.11265 -0.16388 0.1071 C -0.17691 0.09299 -0.17048 0.09692 -0.18142 0.09206 C -0.18663 0.08512 -0.19097 0.0805 -0.19791 0.07703 C -0.20798 0.06361 -0.22066 0.05991 -0.23402 0.05505 C -0.24045 0.05274 -0.24513 0.04834 -0.25156 0.04672 C -0.30277 0.04834 -0.28368 0.04857 -0.31128 0.05227 C -0.31822 0.05598 -0.32257 0.06037 -0.32882 0.06592 C -0.33263 0.07356 -0.33854 0.07749 -0.34322 0.08373 C -0.34774 0.08975 -0.3526 0.09623 -0.35659 0.10293 C -0.36267 0.11311 -0.36527 0.12514 -0.37204 0.13462 C -0.37378 0.14388 -0.3717 0.13717 -0.37725 0.1455 C -0.38159 0.15221 -0.38507 0.16123 -0.38854 0.16886 C -0.39305 0.17858 -0.39409 0.18945 -0.39895 0.19916 C -0.40086 0.21235 -0.40729 0.22137 -0.41128 0.2334 C -0.41597 0.24751 -0.42048 0.26093 -0.42569 0.27481 C -0.42899 0.28336 -0.43177 0.29863 -0.43906 0.3021 C -0.44878 0.30164 -0.4585 0.30233 -0.46805 0.30071 C -0.46944 0.30048 -0.47118 0.29678 -0.47118 0.29678 E">
                                      <p:cBhvr>
                                        <p:cTn id="13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Солнце 11"/>
          <p:cNvSpPr/>
          <p:nvPr/>
        </p:nvSpPr>
        <p:spPr>
          <a:xfrm>
            <a:off x="2071800" y="2786040"/>
            <a:ext cx="135720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3+</a:t>
            </a:r>
            <a:r>
              <a:rPr b="0" lang="ru-RU" sz="96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0379E-006 C -0.13194 -0.00116 -0.11979 0.04372 -0.15989 -0.02753 C -0.16128 -0.03308 -0.16232 -0.03632 -0.16597 -0.03979 C -0.16719 -0.0458 -0.16892 -0.05158 -0.17014 -0.0576 C -0.16944 -0.08374 -0.17118 -0.10409 -0.15677 -0.12214 C -0.14653 -0.14943 -0.12274 -0.16956 -0.1 -0.17303 C -0.07864 -0.1839 -0.0651 -0.18714 -0.04132 -0.18945 C 0.01198 -0.1883 0.00278 -0.19431 0.03195 -0.18136 C 0.04184 -0.16748 0.02622 -0.1883 0.04011 -0.17442 C 0.04913 -0.16539 0.0382 -0.17118 0.04636 -0.16748 C 0.04792 -0.15938 0.04931 -0.15105 0.05052 -0.14296 C 0.0467 -0.11103 0.04913 -0.09461 0.02465 -0.08651 C 0.01771 -0.08027 0.0099 -0.08605 0.00295 -0.09068 C -0.00573 -0.10294 -0.00937 -0.10595 -0.01753 -0.12214 C -0.01857 -0.12445 -0.02066 -0.12908 -0.02066 -0.12908 C -0.0217 -0.13902 -0.02482 -0.14527 -0.02587 -0.15522 C -0.02448 -0.20241 -0.0342 -0.226 -0.01041 -0.25145 C -0.00712 -0.25977 0.00382 -0.2681 0.01024 -0.27203 C 0.0382 -0.28938 0.06771 -0.29725 0.09792 -0.30349 C 0.12813 -0.30303 0.15834 -0.30372 0.18854 -0.30211 C 0.19445 -0.30187 0.20504 -0.29401 0.20504 -0.29401 C 0.20886 -0.28106 0.21632 -0.27157 0.22153 -0.25954 C 0.22431 -0.25307 0.22986 -0.24034 0.22986 -0.24034 C 0.23195 -0.22901 0.23368 -0.21814 0.23698 -0.20749 C 0.23733 -0.20426 0.2382 -0.20102 0.23802 -0.19778 C 0.23768 -0.18436 0.24393 -0.11427 0.2184 -0.10571 C 0.21146 -0.09068 0.19497 -0.10109 0.18438 -0.10571 C 0.18212 -0.10803 0.17917 -0.10965 0.17726 -0.11265 C 0.17535 -0.11566 0.17205 -0.12214 0.17205 -0.12214 C 0.17101 -0.12861 0.17066 -0.13347 0.16788 -0.13879 C 0.16545 -0.16609 0.16528 -0.17118 0.16788 -0.21004 C 0.16927 -0.2304 0.1849 -0.2341 0.19479 -0.24312 C 0.21823 -0.26463 0.24844 -0.27319 0.27622 -0.28013 C 0.3184 -0.27759 0.33281 -0.28129 0.36493 -0.26787 C 0.37188 -0.26509 0.38438 -0.26024 0.39167 -0.25422 C 0.39636 -0.25029 0.40504 -0.24173 0.40504 -0.24173 C 0.40747 -0.23363 0.40903 -0.22785 0.41441 -0.22253 C 0.41806 -0.20773 0.42084 -0.19038 0.42674 -0.17719 C 0.42847 -0.16586 0.43056 -0.15429 0.43195 -0.14296 C 0.43438 -0.10294 0.4342 -0.11427 0.4309 -0.04534 C 0.43073 -0.04048 0.42518 -0.03539 0.42361 -0.03285 C 0.4158 -0.02036 0.40851 -0.00972 0.39584 -0.00555 C 0.38733 0.00301 0.37639 0.00648 0.36597 0.00833 C 0.36059 0.01203 0.34844 0.01504 0.34844 0.01504 C 0.33143 0.01411 0.30434 0.02244 0.28959 0.00278 E">
                                      <p:cBhvr>
                                        <p:cTn id="16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8:43:21Z</dcterms:created>
  <dc:creator>Рустемка</dc:creator>
  <dc:description/>
  <dc:language>en-US</dc:language>
  <cp:lastModifiedBy>1111</cp:lastModifiedBy>
  <dcterms:modified xsi:type="dcterms:W3CDTF">2016-09-25T17:24:57Z</dcterms:modified>
  <cp:revision>38</cp:revision>
  <dc:subject/>
  <dc:title>Слайд 1</dc:title>
</cp:coreProperties>
</file>