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6A6E-3869-490E-B20A-9E395F5B4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18A0-FD11-4968-9CC2-4357E486E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AE04-7DB9-4998-8E77-F7D5B3EC8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1E32-2A34-43D8-92A3-49B47351D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83351-27C1-4D42-9C63-D5AE98594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602A8-59A1-42C9-9171-B60BB551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F6414-4FC1-4B47-A034-01E4BC34F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33200-9708-4AA1-9405-64BC23FA1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11DC3-F3D5-44A2-B1CE-5941D7900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7FA4A-38C0-43FE-8EDC-BA6C52DD9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3B2B4-93FE-465D-8B5A-A0F52F23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465F-A992-4C51-A529-262500AB0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972B7-114E-44FD-A65A-ED64C426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F52EA-5DC7-44F7-A7ED-3EB8B039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EDDE9-C0E5-4E0F-83D8-2B70A3167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FAF77-9977-48D7-8F3F-E24F2005D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83E0A-E3F2-4DDE-9F5A-7E4135157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1D54-38A9-48D0-82D2-1889A133B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A8D6-8DA0-4C65-8074-6727D3BBC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56F9-14B6-44DE-8493-6ECAA305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9D83-1929-41D4-B3D6-C2FF4F818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D71A-6F32-4EE3-BA01-37B1E58F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BD82-32F9-4738-ACE1-7E83FCFF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EA60-CAE2-49C8-9DB4-4D48D251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087CE-93C5-49F8-BF80-84A9733C52E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71D33-542A-4AC1-8D49-DB01320F8F1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6560" y="620280"/>
            <a:ext cx="78598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0033"/>
                </a:solidFill>
                <a:latin typeface="Times New Roman"/>
              </a:rPr>
              <a:t>Сложное предложение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67080" y="5877000"/>
            <a:ext cx="5461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6200000">
            <a:off x="6590520" y="6066000"/>
            <a:ext cx="5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403280" y="5876640"/>
            <a:ext cx="685800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русского языка Адонина Л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Бессоюзная связь: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выражаемые смысловые отношения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rot="16200000">
            <a:off x="1950120" y="1511640"/>
            <a:ext cx="1353960" cy="4032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еречислитель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Семья у него прекрасная, сам он очень м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16200000">
            <a:off x="1948680" y="145080"/>
            <a:ext cx="1353960" cy="4029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ояснитель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Сразу же видно: он очень м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rot="16200000">
            <a:off x="1954080" y="2883600"/>
            <a:ext cx="1353960" cy="40276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ричин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Все его любят: он очень м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6118920" y="76320"/>
            <a:ext cx="1353960" cy="41594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опоставитель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Семья у него прекрасная – сам он не очень м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16200000">
            <a:off x="6127560" y="1440720"/>
            <a:ext cx="1353960" cy="4176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Распространитель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Он очень мил – это сразу вид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16200000">
            <a:off x="6127560" y="2809080"/>
            <a:ext cx="1353960" cy="4176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Результатив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Он очень мил – все его любя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16200000">
            <a:off x="4413960" y="4452480"/>
            <a:ext cx="423720" cy="43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ь русского языка Адонина Л.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3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3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3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3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3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3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3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3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3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3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Знаки препинания 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в бессоюзном предложении (БСП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539640" y="1484280"/>
          <a:ext cx="8280360" cy="4681080"/>
        </p:xfrm>
        <a:graphic>
          <a:graphicData uri="http://schemas.openxmlformats.org/drawingml/2006/table">
            <a:tbl>
              <a:tblPr/>
              <a:tblGrid>
                <a:gridCol w="1584360"/>
                <a:gridCol w="3095640"/>
                <a:gridCol w="3600360"/>
              </a:tblGrid>
              <a:tr h="67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Зна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Зна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Как провери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Одновременность 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оследовате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о смысл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а) при противопоставлен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б) в первом предложении   время или услов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в) во втором предложении следств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союзами </a:t>
                      </a:r>
                      <a:r>
                        <a:rPr b="1" i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а, но</a:t>
                      </a: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и д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союзами </a:t>
                      </a:r>
                      <a:r>
                        <a:rPr b="1" i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когда</a:t>
                      </a: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и </a:t>
                      </a:r>
                      <a:r>
                        <a:rPr b="1" i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ес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союзом </a:t>
                      </a:r>
                      <a:r>
                        <a:rPr b="1" i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так ч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а) во втором предложении прич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б) второе предложение поясняет перв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в) второе предложение дополняет перв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союзом </a:t>
                      </a:r>
                      <a:r>
                        <a:rPr b="1" i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отому ч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союзами</a:t>
                      </a:r>
                      <a:r>
                        <a:rPr b="1" i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а именно, то е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союзом </a:t>
                      </a:r>
                      <a:r>
                        <a:rPr b="1" i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ч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"/>
          <p:cNvSpPr/>
          <p:nvPr/>
        </p:nvSpPr>
        <p:spPr>
          <a:xfrm rot="16200000">
            <a:off x="4413960" y="4452480"/>
            <a:ext cx="423720" cy="43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ь русского языка Адонина Л.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3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2" dur="3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27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33"/>
                </a:solidFill>
                <a:latin typeface="Times New Roman"/>
              </a:rPr>
              <a:t>Определите тип связи в предложении</a:t>
            </a:r>
            <a:endParaRPr b="0" lang="en-US" sz="1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24000" y="620640"/>
            <a:ext cx="853272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00"/>
              </a:spcBef>
              <a:buClr>
                <a:srgbClr val="747339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Вечно болезненный и злобный Илья бесчеловечно бивал Лизавету когда та приходила дом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10000"/>
              </a:lnSpc>
              <a:spcBef>
                <a:spcPts val="349"/>
              </a:spcBef>
              <a:buClr>
                <a:srgbClr val="747339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Каждый, кто был летом в Сочи навсегда запомнит белые ноч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10000"/>
              </a:lnSpc>
              <a:spcBef>
                <a:spcPts val="400"/>
              </a:spcBef>
              <a:buClr>
                <a:srgbClr val="747339"/>
              </a:buClr>
              <a:buSzPct val="9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Мраком задёрнуты небо и даль ветер осенний наводит печал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10000"/>
              </a:lnSpc>
              <a:spcBef>
                <a:spcPts val="400"/>
              </a:spcBef>
              <a:buClr>
                <a:srgbClr val="747339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Когда управляющий вызывал меня я замирал от страха и бежал к крыльцу как на казн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50000"/>
              </a:lnSpc>
              <a:spcBef>
                <a:spcPts val="700"/>
              </a:spcBef>
              <a:buClr>
                <a:srgbClr val="747339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Ты не спросил где я должен тебя ждать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00"/>
              </a:spcBef>
              <a:buClr>
                <a:srgbClr val="747339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Младшая сестра Женя пока говорили о земстве молча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268360" y="981000"/>
            <a:ext cx="6553440" cy="67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д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[   …  гл. …], (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огд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…). – СПП с придаточным обстоятельственным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3059280" y="1268280"/>
            <a:ext cx="0" cy="14472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059280" y="1268280"/>
            <a:ext cx="86508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24360" y="1268280"/>
            <a:ext cx="0" cy="21600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268360" y="2133720"/>
            <a:ext cx="6551640" cy="67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т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ажды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(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кт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…), … гл. …]. – СПП с придаточным местоименно-определитель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2771640" y="2421000"/>
            <a:ext cx="0" cy="21600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771640" y="2421000"/>
            <a:ext cx="64800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419640" y="2421000"/>
            <a:ext cx="0" cy="21600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268360" y="3213000"/>
            <a:ext cx="655164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[  ====  -----   и   ----- ]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[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----   ====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]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.  -  БС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340000" y="4221000"/>
            <a:ext cx="6553080" cy="67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огд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…),[   …  гл. …].– СПП с придаточным обстоятельственным прич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3708360" y="4508280"/>
            <a:ext cx="0" cy="21564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2771640" y="4508640"/>
            <a:ext cx="93672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771640" y="4508640"/>
            <a:ext cx="0" cy="21564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340000" y="5084640"/>
            <a:ext cx="6553080" cy="67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 че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[   …  гл. …], (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гд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…). – СПП с придаточным изъяснитель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2916360" y="5300280"/>
            <a:ext cx="0" cy="2890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916360" y="5300640"/>
            <a:ext cx="64764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564000" y="5300640"/>
            <a:ext cx="0" cy="28908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340000" y="6021360"/>
            <a:ext cx="6553080" cy="67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д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[   … ,(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о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…),  гл],– СПП с придаточным обстоятельственным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3708360" y="6308640"/>
            <a:ext cx="0" cy="21600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131640" y="6308640"/>
            <a:ext cx="57636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132000" y="6308640"/>
            <a:ext cx="0" cy="14472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4390200" y="4906080"/>
            <a:ext cx="423720" cy="36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ь русского языка Адонина Л.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3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7" dur="20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20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9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2" dur="2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3" dur="2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8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1" dur="2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8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2000"/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9" dur="2000" fill="hold"/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800" fill="hold"/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2000"/>
                                        <p:tgtEl>
                                          <p:spTgt spid="2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7" dur="2000" fill="hold"/>
                                        <p:tgtEl>
                                          <p:spTgt spid="2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1800" fill="hold"/>
                                        <p:tgtEl>
                                          <p:spTgt spid="2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4" dur="2000"/>
                                        <p:tgtEl>
                                          <p:spTgt spid="2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5" dur="2000" fill="hold"/>
                                        <p:tgtEl>
                                          <p:spTgt spid="2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800" fill="hold"/>
                                        <p:tgtEl>
                                          <p:spTgt spid="2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4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3" dur="2000" fill="hold"/>
                                        <p:tgtEl>
                                          <p:spTgt spid="24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1800" fill="hold"/>
                                        <p:tgtEl>
                                          <p:spTgt spid="24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9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7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611280" y="188640"/>
            <a:ext cx="853272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747339"/>
              </a:buClr>
              <a:buSzPct val="90000"/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Все кто учился в нашей школе не забудут её никог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747339"/>
              </a:buClr>
              <a:buSzPct val="90000"/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Игра длилась до тех пор пока все костяшки не переходили в одни ру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400"/>
              </a:spcBef>
              <a:buClr>
                <a:srgbClr val="747339"/>
              </a:buClr>
              <a:buSzPct val="90000"/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...Вдова этого дела не бросала и командовала извозчиками не хуже покойника так что в иные дни чистого рублей пять выезжа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400"/>
              </a:spcBef>
              <a:buClr>
                <a:srgbClr val="747339"/>
              </a:buClr>
              <a:buSzPct val="90000"/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Дед относился к Митрию двояко словно перед ним было два человека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400"/>
              </a:spcBef>
              <a:buClr>
                <a:srgbClr val="747339"/>
              </a:buClr>
              <a:buSzPct val="90000"/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Но как бы ни говорили девушки по всему белу свету, все становится милым в их уст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332000" y="549360"/>
            <a:ext cx="7200720" cy="67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т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с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(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кт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…), гл. …]. – СПП с придаточным местоименно-определитель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1692360" y="836640"/>
            <a:ext cx="0" cy="21600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692360" y="836640"/>
            <a:ext cx="57600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268360" y="836640"/>
            <a:ext cx="0" cy="14436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332000" y="1628640"/>
            <a:ext cx="7200720" cy="67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каких пор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… гл. до тех по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]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(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о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…). – СПП с придаточным обстоятельственным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1763640" y="1916280"/>
            <a:ext cx="0" cy="28872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763640" y="1916280"/>
            <a:ext cx="144000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03640" y="1916280"/>
            <a:ext cx="0" cy="21744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403280" y="3141720"/>
            <a:ext cx="7201080" cy="67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из этого следуе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[   …  ], (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ак чт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…), – СПП с придаточным обстоятельственным следств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332000" y="4508640"/>
            <a:ext cx="7272360" cy="67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… гл. …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], (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ловн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…). – СПП с придаточным обстоятельственным сравн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1763640" y="3429000"/>
            <a:ext cx="0" cy="21600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763640" y="3429000"/>
            <a:ext cx="64764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411280" y="3429000"/>
            <a:ext cx="0" cy="21600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1835280" y="4723920"/>
            <a:ext cx="0" cy="2890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835280" y="4724280"/>
            <a:ext cx="64908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84360" y="4724280"/>
            <a:ext cx="0" cy="21744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332000" y="5877000"/>
            <a:ext cx="7416720" cy="67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еки чем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ак бы н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. …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[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…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]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…– СПП с придаточным обстоятельственным уступитель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2987640" y="6165360"/>
            <a:ext cx="0" cy="28764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1979640" y="6165720"/>
            <a:ext cx="100800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979640" y="6165720"/>
            <a:ext cx="0" cy="14292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rot="16200000">
            <a:off x="4413960" y="4834440"/>
            <a:ext cx="42372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ь русского языка Адонина Л.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8" dur="indefinite" restart="never" nodeType="tmRoot">
          <p:childTnLst>
            <p:seq>
              <p:cTn id="1149" dur="indefinite" nodeType="mainSeq">
                <p:childTnLst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6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0" dur="20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20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2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2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2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0" dur="2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2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2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7" dur="20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2000" fill="hold"/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2000" fill="hold"/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4" dur="2000"/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2000" fill="hold"/>
                                        <p:tgtEl>
                                          <p:spTgt spid="2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2000" fill="hold"/>
                                        <p:tgtEl>
                                          <p:spTgt spid="2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1" dur="2000"/>
                                        <p:tgtEl>
                                          <p:spTgt spid="2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6" dur="2000" fill="hold"/>
                                        <p:tgtEl>
                                          <p:spTgt spid="26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2000" fill="hold"/>
                                        <p:tgtEl>
                                          <p:spTgt spid="26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8" dur="2000"/>
                                        <p:tgtEl>
                                          <p:spTgt spid="26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5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8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0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5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8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0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3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5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интаксические связ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07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Arial"/>
              </a:rPr>
              <a:t>Сочинительная (равноправность) </a:t>
            </a: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(ССП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cc0066"/>
                </a:solidFill>
                <a:latin typeface="Arial"/>
              </a:rPr>
              <a:t>сочинительные сою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Arial"/>
              </a:rPr>
              <a:t>Подчинительн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330033"/>
                </a:solidFill>
                <a:latin typeface="Arial"/>
              </a:rPr>
              <a:t>(главное </a:t>
            </a:r>
            <a:r>
              <a:rPr b="0" lang="ru-RU" sz="3200" spc="-1" strike="noStrike">
                <a:solidFill>
                  <a:srgbClr val="330033"/>
                </a:solidFill>
                <a:latin typeface="Arial"/>
                <a:ea typeface="Arial"/>
              </a:rPr>
              <a:t>→придаточное) </a:t>
            </a: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(СПП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800" spc="-1" strike="noStrike">
                <a:solidFill>
                  <a:srgbClr val="cc0066"/>
                </a:solidFill>
                <a:latin typeface="Arial"/>
                <a:ea typeface="Arial"/>
              </a:rPr>
              <a:t>подчинительные союзы; союзные слова (местоимения, нареч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Arial"/>
                <a:ea typeface="Arial"/>
              </a:rPr>
              <a:t>Бессоюзная </a:t>
            </a: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(БСП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800" spc="-1" strike="noStrike">
                <a:solidFill>
                  <a:srgbClr val="cc0066"/>
                </a:solidFill>
                <a:latin typeface="Arial"/>
                <a:ea typeface="Arial"/>
              </a:rPr>
              <a:t>интон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 rot="5400000">
            <a:off x="4199040" y="3804120"/>
            <a:ext cx="423720" cy="54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ь русского языка Адонина Л.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Сочинительные союзы по значению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39640" y="1484280"/>
          <a:ext cx="2592360" cy="792000"/>
        </p:xfrm>
        <a:graphic>
          <a:graphicData uri="http://schemas.openxmlformats.org/drawingml/2006/table">
            <a:tbl>
              <a:tblPr/>
              <a:tblGrid>
                <a:gridCol w="259236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0033"/>
                          </a:solidFill>
                          <a:latin typeface="Arial"/>
                        </a:rPr>
                        <a:t>соединитель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3276720" y="1484280"/>
          <a:ext cx="2543040" cy="792360"/>
        </p:xfrm>
        <a:graphic>
          <a:graphicData uri="http://schemas.openxmlformats.org/drawingml/2006/table">
            <a:tbl>
              <a:tblPr/>
              <a:tblGrid>
                <a:gridCol w="254304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0033"/>
                          </a:solidFill>
                          <a:latin typeface="Arial"/>
                        </a:rPr>
                        <a:t>противитель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6012000" y="1484280"/>
          <a:ext cx="2736720" cy="792000"/>
        </p:xfrm>
        <a:graphic>
          <a:graphicData uri="http://schemas.openxmlformats.org/drawingml/2006/table">
            <a:tbl>
              <a:tblPr/>
              <a:tblGrid>
                <a:gridCol w="273672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0033"/>
                          </a:solidFill>
                          <a:latin typeface="Arial"/>
                        </a:rPr>
                        <a:t>разделитель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539640" y="2421000"/>
          <a:ext cx="2592360" cy="3889440"/>
        </p:xfrm>
        <a:graphic>
          <a:graphicData uri="http://schemas.openxmlformats.org/drawingml/2006/table">
            <a:tbl>
              <a:tblPr/>
              <a:tblGrid>
                <a:gridCol w="2592360"/>
              </a:tblGrid>
              <a:tr h="392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66"/>
                          </a:solidFill>
                          <a:latin typeface="Arial"/>
                        </a:rPr>
                        <a:t>и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66"/>
                          </a:solidFill>
                          <a:latin typeface="Arial"/>
                        </a:rPr>
                        <a:t>да = и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66"/>
                          </a:solidFill>
                          <a:latin typeface="Arial"/>
                        </a:rPr>
                        <a:t>ни - ни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66"/>
                          </a:solidFill>
                          <a:latin typeface="Arial"/>
                        </a:rPr>
                        <a:t>не только -ни и, и - и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66"/>
                          </a:solidFill>
                          <a:latin typeface="Arial"/>
                        </a:rPr>
                        <a:t>как - так и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66"/>
                          </a:solidFill>
                          <a:latin typeface="Arial"/>
                        </a:rPr>
                        <a:t>тоже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66"/>
                          </a:solidFill>
                          <a:latin typeface="Arial"/>
                        </a:rPr>
                        <a:t>такж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3348000" y="2421000"/>
          <a:ext cx="2448000" cy="3887640"/>
        </p:xfrm>
        <a:graphic>
          <a:graphicData uri="http://schemas.openxmlformats.org/drawingml/2006/table">
            <a:tbl>
              <a:tblPr/>
              <a:tblGrid>
                <a:gridCol w="2448000"/>
              </a:tblGrid>
              <a:tr h="388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66"/>
                          </a:solidFill>
                          <a:latin typeface="Arial"/>
                        </a:rPr>
                        <a:t>и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66"/>
                          </a:solidFill>
                          <a:latin typeface="Arial"/>
                        </a:rPr>
                        <a:t>но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66"/>
                          </a:solidFill>
                          <a:latin typeface="Arial"/>
                        </a:rPr>
                        <a:t>да = но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66"/>
                          </a:solidFill>
                          <a:latin typeface="Arial"/>
                        </a:rPr>
                        <a:t>зат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6012000" y="2421000"/>
          <a:ext cx="2736720" cy="3887280"/>
        </p:xfrm>
        <a:graphic>
          <a:graphicData uri="http://schemas.openxmlformats.org/drawingml/2006/table">
            <a:tbl>
              <a:tblPr/>
              <a:tblGrid>
                <a:gridCol w="2736720"/>
              </a:tblGrid>
              <a:tr h="388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66"/>
                          </a:solidFill>
                          <a:latin typeface="Arial"/>
                        </a:rPr>
                        <a:t>или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66"/>
                          </a:solidFill>
                          <a:latin typeface="Arial"/>
                        </a:rPr>
                        <a:t>либо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66"/>
                          </a:solidFill>
                          <a:latin typeface="Arial"/>
                        </a:rPr>
                        <a:t>то – то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66"/>
                          </a:solidFill>
                          <a:latin typeface="Arial"/>
                        </a:rPr>
                        <a:t>не то – не то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66"/>
                          </a:solidFill>
                          <a:latin typeface="Arial"/>
                        </a:rPr>
                        <a:t>или – или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66"/>
                          </a:solidFill>
                          <a:latin typeface="Arial"/>
                        </a:rPr>
                        <a:t>то ли  - то 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 rot="16200000">
            <a:off x="4413960" y="4452480"/>
            <a:ext cx="423720" cy="43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ь русского языка Адонина Л.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Сочинительная связь: выражаемые смысловые отношения (типы союзов)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24000" y="1484280"/>
          <a:ext cx="2881080" cy="736560"/>
        </p:xfrm>
        <a:graphic>
          <a:graphicData uri="http://schemas.openxmlformats.org/drawingml/2006/table">
            <a:tbl>
              <a:tblPr/>
              <a:tblGrid>
                <a:gridCol w="288108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0033"/>
                          </a:solidFill>
                          <a:latin typeface="Arial"/>
                        </a:rPr>
                        <a:t>соединитель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3348000" y="1484280"/>
          <a:ext cx="2881080" cy="720720"/>
        </p:xfrm>
        <a:graphic>
          <a:graphicData uri="http://schemas.openxmlformats.org/drawingml/2006/table">
            <a:tbl>
              <a:tblPr/>
              <a:tblGrid>
                <a:gridCol w="288108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0033"/>
                          </a:solidFill>
                          <a:latin typeface="Arial"/>
                        </a:rPr>
                        <a:t>разделитель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6443640" y="1484280"/>
          <a:ext cx="2700360" cy="720720"/>
        </p:xfrm>
        <a:graphic>
          <a:graphicData uri="http://schemas.openxmlformats.org/drawingml/2006/table">
            <a:tbl>
              <a:tblPr/>
              <a:tblGrid>
                <a:gridCol w="270036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0033"/>
                          </a:solidFill>
                          <a:latin typeface="Arial"/>
                        </a:rPr>
                        <a:t>противитель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324000" y="2492280"/>
          <a:ext cx="2808000" cy="2968560"/>
        </p:xfrm>
        <a:graphic>
          <a:graphicData uri="http://schemas.openxmlformats.org/drawingml/2006/table">
            <a:tbl>
              <a:tblPr/>
              <a:tblGrid>
                <a:gridCol w="2808000"/>
              </a:tblGrid>
              <a:tr h="296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Он очень милый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и</a:t>
                      </a:r>
                      <a:r>
                        <a:rPr b="0" i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все его любя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[</a:t>
                      </a: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== 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­­</a:t>
                      </a: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]</a:t>
                      </a: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, </a:t>
                      </a: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и</a:t>
                      </a: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[</a:t>
                      </a: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­­</a:t>
                      </a: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==</a:t>
                      </a: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]</a:t>
                      </a: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3348000" y="2492280"/>
          <a:ext cx="2879280" cy="2968560"/>
        </p:xfrm>
        <a:graphic>
          <a:graphicData uri="http://schemas.openxmlformats.org/drawingml/2006/table">
            <a:tbl>
              <a:tblPr/>
              <a:tblGrid>
                <a:gridCol w="2879280"/>
              </a:tblGrid>
              <a:tr h="296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Или</a:t>
                      </a:r>
                      <a:r>
                        <a:rPr b="0" i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его полюбят, </a:t>
                      </a:r>
                      <a:r>
                        <a:rPr b="1" i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или</a:t>
                      </a:r>
                      <a:r>
                        <a:rPr b="0" i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он загрусти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Или</a:t>
                      </a: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[</a:t>
                      </a: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== 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]</a:t>
                      </a: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, </a:t>
                      </a: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или</a:t>
                      </a: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[­­</a:t>
                      </a: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==]</a:t>
                      </a: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6443640" y="2492280"/>
          <a:ext cx="2700360" cy="2968560"/>
        </p:xfrm>
        <a:graphic>
          <a:graphicData uri="http://schemas.openxmlformats.org/drawingml/2006/table">
            <a:tbl>
              <a:tblPr/>
              <a:tblGrid>
                <a:gridCol w="2700360"/>
              </a:tblGrid>
              <a:tr h="296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Он очень милый, </a:t>
                      </a:r>
                      <a:r>
                        <a:rPr b="1" i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о</a:t>
                      </a:r>
                      <a:r>
                        <a:rPr b="0" i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не все его любя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[</a:t>
                      </a: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== 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­­</a:t>
                      </a: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]</a:t>
                      </a: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, </a:t>
                      </a: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но</a:t>
                      </a: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[</a:t>
                      </a: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­­</a:t>
                      </a: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==</a:t>
                      </a: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]</a:t>
                      </a: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 rot="16200000">
            <a:off x="4390200" y="4476240"/>
            <a:ext cx="423720" cy="43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ь русского языка Адонина Л.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Подчинительные союзы по значению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50920" y="1009800"/>
          <a:ext cx="8713800" cy="5456160"/>
        </p:xfrm>
        <a:graphic>
          <a:graphicData uri="http://schemas.openxmlformats.org/drawingml/2006/table">
            <a:tbl>
              <a:tblPr/>
              <a:tblGrid>
                <a:gridCol w="2160360"/>
                <a:gridCol w="2376720"/>
                <a:gridCol w="4176720"/>
              </a:tblGrid>
              <a:tr h="43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0033"/>
                          </a:solidFill>
                          <a:latin typeface="Arial"/>
                        </a:rPr>
                        <a:t>Разря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330033"/>
                          </a:solidFill>
                          <a:latin typeface="Arial"/>
                        </a:rPr>
                        <a:t>Союзы и союзные сл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330033"/>
                          </a:solidFill>
                          <a:latin typeface="Arial"/>
                        </a:rPr>
                        <a:t>Приме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Времен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указывают на врем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когда, пока, едва, лишь, лишь тольк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Когда </a:t>
                      </a:r>
                      <a:r>
                        <a:rPr b="0" i="1" lang="ru-RU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мы возвращались домой, было темно и тихо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ричин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указывают на причину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отому, что, так как, оттого что. иб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Неравная это была борьба, </a:t>
                      </a:r>
                      <a:r>
                        <a:rPr b="1" i="1" lang="ru-RU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потому что</a:t>
                      </a:r>
                      <a:r>
                        <a:rPr b="0" i="1" lang="ru-RU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 трудней всего преодолевать себ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Целев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указывают на цель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Чтобы, для того чтобы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с тем чтоб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Для того чтобы</a:t>
                      </a:r>
                      <a:r>
                        <a:rPr b="0" i="1" lang="ru-RU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 выучиться говорить правду людям, надо научиться говорить её самому себ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Услов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указывают на услови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Если, если – то, раз, если б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Если</a:t>
                      </a:r>
                      <a:r>
                        <a:rPr b="0" i="1" lang="ru-RU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 исчезнет воображение, </a:t>
                      </a:r>
                      <a:r>
                        <a:rPr b="1" i="1" lang="ru-RU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то</a:t>
                      </a:r>
                      <a:r>
                        <a:rPr b="0" i="1" lang="ru-RU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 человек перестанет быть человеко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Уступитель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указывают на противореч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Хотя, не смотря на то что, пускай,(пуст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Ему уже не было страшно, </a:t>
                      </a:r>
                      <a:r>
                        <a:rPr b="1" i="1" lang="ru-RU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хотя</a:t>
                      </a:r>
                      <a:r>
                        <a:rPr b="0" i="1" lang="ru-RU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 гром гремел по-прежнему и молния полосовала все небо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Сравнитель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указывают на сравнени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Как, как будто, будто, словно, точ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Живой язык изменчив, </a:t>
                      </a:r>
                      <a:r>
                        <a:rPr b="1" i="1" lang="ru-RU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как</a:t>
                      </a:r>
                      <a:r>
                        <a:rPr b="0" i="1" lang="ru-RU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 изменчива сама жизн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Следствен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указывают на следстви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Так ч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Льет проливной дождь, </a:t>
                      </a:r>
                      <a:r>
                        <a:rPr b="1" i="1" lang="ru-RU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так что</a:t>
                      </a:r>
                      <a:r>
                        <a:rPr b="0" i="1" lang="ru-RU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 без зонтика выйти нельз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Изъяснитель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указывают на то, о чем говорится в главном предложени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Что, чтобы, буд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И послышалось мне, </a:t>
                      </a:r>
                      <a:r>
                        <a:rPr b="1" i="1" lang="ru-RU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будто</a:t>
                      </a:r>
                      <a:r>
                        <a:rPr b="0" i="1" lang="ru-RU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 снег хрусти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 rot="16200000">
            <a:off x="4413960" y="4452480"/>
            <a:ext cx="423720" cy="43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ь русского языка Адонина Л.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89308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Предложение: </a:t>
            </a:r>
            <a:br>
              <a:rPr sz="3200"/>
            </a:b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сложносочиненное или сложноподчиненное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50560" y="1916280"/>
            <a:ext cx="5113080" cy="460080"/>
          </a:xfrm>
          <a:prstGeom prst="rect">
            <a:avLst/>
          </a:prstGeom>
          <a:noFill/>
          <a:ln w="9360">
            <a:solidFill>
              <a:srgbClr val="800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ю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580000" y="1844640"/>
            <a:ext cx="3178080" cy="504720"/>
          </a:xfrm>
          <a:prstGeom prst="rect">
            <a:avLst/>
          </a:prstGeom>
          <a:noFill/>
          <a:ln w="9360">
            <a:solidFill>
              <a:srgbClr val="800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союзное сло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50560" y="2924280"/>
            <a:ext cx="4025880" cy="576000"/>
          </a:xfrm>
          <a:prstGeom prst="rect">
            <a:avLst/>
          </a:prstGeom>
          <a:noFill/>
          <a:ln w="9360">
            <a:solidFill>
              <a:srgbClr val="800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сочинитель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427280" y="2924280"/>
            <a:ext cx="2950920" cy="576000"/>
          </a:xfrm>
          <a:prstGeom prst="rect">
            <a:avLst/>
          </a:prstGeom>
          <a:noFill/>
          <a:ln w="9360">
            <a:solidFill>
              <a:srgbClr val="800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подчинитель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11280" y="1052280"/>
            <a:ext cx="8137440" cy="431640"/>
          </a:xfrm>
          <a:prstGeom prst="rect">
            <a:avLst/>
          </a:prstGeom>
          <a:noFill/>
          <a:ln w="9360">
            <a:solidFill>
              <a:srgbClr val="800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жное предложение, части которого связыв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4005360"/>
            <a:ext cx="4025880" cy="576000"/>
          </a:xfrm>
          <a:prstGeom prst="rect">
            <a:avLst/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Сложносочинен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427640" y="4005360"/>
            <a:ext cx="4464000" cy="576000"/>
          </a:xfrm>
          <a:prstGeom prst="rect">
            <a:avLst/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Сложноподчинен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19640" y="1413000"/>
            <a:ext cx="0" cy="50328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08720" y="1484280"/>
            <a:ext cx="0" cy="43344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24000" y="2349360"/>
            <a:ext cx="0" cy="57636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03640" y="2349360"/>
            <a:ext cx="0" cy="57492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403280" y="3500280"/>
            <a:ext cx="0" cy="50652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51640" y="3429000"/>
            <a:ext cx="0" cy="57636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740720" y="2349360"/>
            <a:ext cx="0" cy="165600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3280" y="4869000"/>
            <a:ext cx="8316720" cy="1655640"/>
          </a:xfrm>
          <a:prstGeom prst="rect">
            <a:avLst/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cc"/>
                </a:solidFill>
                <a:latin typeface="Arial"/>
              </a:rPr>
              <a:t>Пахнет полынью и мятой, </a:t>
            </a:r>
            <a:r>
              <a:rPr b="1" i="1" lang="ru-RU" sz="2000" spc="-1" strike="noStrike">
                <a:solidFill>
                  <a:srgbClr val="0033cc"/>
                </a:solidFill>
                <a:latin typeface="Arial"/>
              </a:rPr>
              <a:t>и</a:t>
            </a:r>
            <a:r>
              <a:rPr b="0" i="1" lang="ru-RU" sz="2000" spc="-1" strike="noStrike">
                <a:solidFill>
                  <a:srgbClr val="0033cc"/>
                </a:solidFill>
                <a:latin typeface="Arial"/>
              </a:rPr>
              <a:t> от соседних болот легкий тума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cc"/>
                </a:solidFill>
                <a:latin typeface="Arial"/>
              </a:rPr>
              <a:t>сизоватый низко над степью плыв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33"/>
                </a:solidFill>
                <a:latin typeface="Arial"/>
              </a:rPr>
              <a:t>Не прошло и получаса, </a:t>
            </a: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как</a:t>
            </a:r>
            <a:r>
              <a:rPr b="0" i="1" lang="ru-RU" sz="2000" spc="-1" strike="noStrike">
                <a:solidFill>
                  <a:srgbClr val="990033"/>
                </a:solidFill>
                <a:latin typeface="Arial"/>
              </a:rPr>
              <a:t> сердце его начало ныть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33"/>
                </a:solidFill>
                <a:latin typeface="Arial"/>
              </a:rPr>
              <a:t>Ему сказали, </a:t>
            </a: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в чем</a:t>
            </a:r>
            <a:r>
              <a:rPr b="0" i="1" lang="ru-RU" sz="2000" spc="-1" strike="noStrike">
                <a:solidFill>
                  <a:srgbClr val="990033"/>
                </a:solidFill>
                <a:latin typeface="Arial"/>
              </a:rPr>
              <a:t> де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6200000">
            <a:off x="4413960" y="4452480"/>
            <a:ext cx="423720" cy="43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ь русского языка Адонина Л.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Как относится придаточная часть к главной в сложноподчиненном предложении?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900000" y="2492280"/>
          <a:ext cx="3441600" cy="576360"/>
        </p:xfrm>
        <a:graphic>
          <a:graphicData uri="http://schemas.openxmlformats.org/drawingml/2006/table">
            <a:tbl>
              <a:tblPr/>
              <a:tblGrid>
                <a:gridCol w="344160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33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5148360" y="2492280"/>
          <a:ext cx="3609720" cy="576360"/>
        </p:xfrm>
        <a:graphic>
          <a:graphicData uri="http://schemas.openxmlformats.org/drawingml/2006/table">
            <a:tbl>
              <a:tblPr/>
              <a:tblGrid>
                <a:gridCol w="360972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33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900000" y="3357720"/>
          <a:ext cx="3513240" cy="1734840"/>
        </p:xfrm>
        <a:graphic>
          <a:graphicData uri="http://schemas.openxmlformats.org/drawingml/2006/table">
            <a:tbl>
              <a:tblPr/>
              <a:tblGrid>
                <a:gridCol w="3513240"/>
              </a:tblGrid>
              <a:tr h="174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даточная часть относитс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 этому слову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его называют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орным словом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33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5148360" y="3357720"/>
          <a:ext cx="3609720" cy="1728360"/>
        </p:xfrm>
        <a:graphic>
          <a:graphicData uri="http://schemas.openxmlformats.org/drawingml/2006/table">
            <a:tbl>
              <a:tblPr/>
              <a:tblGrid>
                <a:gridCol w="3609720"/>
              </a:tblGrid>
              <a:tr h="172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даточная часть относитс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 всей главной части в целом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3366"/>
                    </a:solidFill>
                  </a:tcPr>
                </a:tc>
              </a:tr>
            </a:tbl>
          </a:graphicData>
        </a:graphic>
      </p:graphicFrame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90560" y="1197000"/>
            <a:ext cx="8353440" cy="892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жно ли от какого-нибудь слова в главной ча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дать вопрос к придаточн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924280"/>
            <a:ext cx="0" cy="504720"/>
          </a:xfrm>
          <a:prstGeom prst="line">
            <a:avLst/>
          </a:prstGeom>
          <a:ln w="255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948360" y="3068640"/>
            <a:ext cx="0" cy="360360"/>
          </a:xfrm>
          <a:prstGeom prst="line">
            <a:avLst/>
          </a:prstGeom>
          <a:ln w="255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26920" y="5084640"/>
            <a:ext cx="7993080" cy="1224000"/>
          </a:xfrm>
          <a:prstGeom prst="flowChartProcess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00000" y="5084640"/>
            <a:ext cx="792180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0033"/>
                </a:solidFill>
                <a:latin typeface="Arial"/>
              </a:rPr>
              <a:t>Он стоял среди </a:t>
            </a:r>
            <a:r>
              <a:rPr b="1" i="1" lang="ru-RU" sz="1600" spc="-1" strike="noStrike">
                <a:solidFill>
                  <a:srgbClr val="330033"/>
                </a:solidFill>
                <a:latin typeface="Arial"/>
              </a:rPr>
              <a:t>метели</a:t>
            </a:r>
            <a:r>
              <a:rPr b="0" i="1" lang="ru-RU" sz="1600" spc="-1" strike="noStrike">
                <a:solidFill>
                  <a:srgbClr val="330033"/>
                </a:solidFill>
                <a:latin typeface="Arial"/>
              </a:rPr>
              <a:t>, которая кружилась вокруг него, лепя мокрым снегом в лицо и застилая окрестности льющейся мутью позем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0033"/>
                </a:solidFill>
                <a:latin typeface="Arial"/>
              </a:rPr>
              <a:t>Чтобы никого не беспокоить, </a:t>
            </a:r>
            <a:r>
              <a:rPr b="1" i="1" lang="ru-RU" sz="1600" spc="-1" strike="noStrike">
                <a:solidFill>
                  <a:srgbClr val="330033"/>
                </a:solidFill>
                <a:latin typeface="Arial"/>
              </a:rPr>
              <a:t>он играл очень тихо</a:t>
            </a:r>
            <a:r>
              <a:rPr b="0" i="1" lang="ru-RU" sz="1600" spc="-1" strike="noStrike">
                <a:solidFill>
                  <a:srgbClr val="330033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627280" y="2060640"/>
            <a:ext cx="0" cy="431640"/>
          </a:xfrm>
          <a:prstGeom prst="line">
            <a:avLst/>
          </a:prstGeom>
          <a:ln w="255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77080" y="2060640"/>
            <a:ext cx="0" cy="431640"/>
          </a:xfrm>
          <a:prstGeom prst="line">
            <a:avLst/>
          </a:prstGeom>
          <a:ln w="255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4413960" y="4452480"/>
            <a:ext cx="423720" cy="43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ь русского языка Адонина Л.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0" y="1341000"/>
            <a:ext cx="7308720" cy="460440"/>
          </a:xfrm>
          <a:prstGeom prst="rect">
            <a:avLst/>
          </a:prstGeom>
          <a:solidFill>
            <a:srgbClr val="ffffff"/>
          </a:solidFill>
          <a:ln w="25560">
            <a:solidFill>
              <a:srgbClr val="9933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66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7451280" y="1341000"/>
            <a:ext cx="1692360" cy="460440"/>
          </a:xfrm>
          <a:prstGeom prst="rect">
            <a:avLst/>
          </a:prstGeom>
          <a:solidFill>
            <a:srgbClr val="ffffff"/>
          </a:solidFill>
          <a:ln w="25560">
            <a:solidFill>
              <a:srgbClr val="9933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66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07552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9933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66"/>
                </a:solidFill>
                <a:latin typeface="Arial"/>
              </a:rPr>
              <a:t>Можно ли в данном СПП выделить главную и придаточную част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508720" y="1989000"/>
            <a:ext cx="1800000" cy="935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66"/>
                </a:solidFill>
                <a:latin typeface="Arial"/>
              </a:rPr>
              <a:t>Вопрос от глав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66"/>
                </a:solidFill>
                <a:latin typeface="Arial"/>
              </a:rPr>
              <a:t>части 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66"/>
                </a:solidFill>
                <a:latin typeface="Arial"/>
              </a:rPr>
              <a:t>придаточ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66"/>
                </a:solidFill>
                <a:latin typeface="Arial"/>
              </a:rPr>
              <a:t>задать нельз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4360" y="2565360"/>
            <a:ext cx="914400" cy="6094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451640" y="1989000"/>
            <a:ext cx="1692360" cy="935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66"/>
                </a:solidFill>
                <a:latin typeface="Arial"/>
              </a:rPr>
              <a:t>Это взаимо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66"/>
                </a:solidFill>
                <a:latin typeface="Arial"/>
              </a:rPr>
              <a:t>обусловле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993366"/>
                </a:solidFill>
                <a:latin typeface="Arial"/>
              </a:rPr>
              <a:t>ч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9280" y="1989000"/>
            <a:ext cx="5113440" cy="7207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66"/>
                </a:solidFill>
                <a:latin typeface="Arial"/>
              </a:rPr>
              <a:t>Придаточная часть отвечает на во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635280" y="1125360"/>
            <a:ext cx="0" cy="935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64000" y="1125360"/>
            <a:ext cx="0" cy="21600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64000" y="1700280"/>
            <a:ext cx="0" cy="28872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77080" y="1773360"/>
            <a:ext cx="0" cy="21564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388360" y="1773360"/>
            <a:ext cx="0" cy="21564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388360" y="1125360"/>
            <a:ext cx="0" cy="21600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10800000">
            <a:off x="0" y="2923920"/>
            <a:ext cx="395280" cy="25923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66"/>
                </a:solidFill>
                <a:latin typeface="Arial"/>
              </a:rPr>
              <a:t>какой?  чей?  которы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10800000">
            <a:off x="4355640" y="2923920"/>
            <a:ext cx="576360" cy="25923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3366"/>
                </a:solidFill>
                <a:latin typeface="Arial"/>
              </a:rPr>
              <a:t>почему? отчего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3366"/>
                </a:solidFill>
                <a:latin typeface="Arial"/>
              </a:rPr>
              <a:t>по какой причин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10800000">
            <a:off x="5003280" y="2923920"/>
            <a:ext cx="360360" cy="25923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3366"/>
                </a:solidFill>
                <a:latin typeface="Arial"/>
              </a:rPr>
              <a:t>несмотря на чт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10800000">
            <a:off x="3276360" y="2923920"/>
            <a:ext cx="360360" cy="25923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3366"/>
                </a:solidFill>
                <a:latin typeface="Arial"/>
              </a:rPr>
              <a:t>при каком услови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10800000">
            <a:off x="3779640" y="2923920"/>
            <a:ext cx="431640" cy="25923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3366"/>
                </a:solidFill>
                <a:latin typeface="Arial"/>
              </a:rPr>
              <a:t>зачем? для чего? с какой целью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10800000">
            <a:off x="2050560" y="2923920"/>
            <a:ext cx="360360" cy="25923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3366"/>
                </a:solidFill>
                <a:latin typeface="Arial"/>
              </a:rPr>
              <a:t>где? куда? откуд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10800000">
            <a:off x="2484360" y="2923920"/>
            <a:ext cx="720720" cy="25923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3366"/>
                </a:solidFill>
                <a:latin typeface="Arial"/>
              </a:rPr>
              <a:t>когда? как долго? с каких пор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3366"/>
                </a:solidFill>
                <a:latin typeface="Arial"/>
              </a:rPr>
              <a:t>до каких пор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3366"/>
                </a:solidFill>
                <a:latin typeface="Arial"/>
              </a:rPr>
              <a:t>на сколько времен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0800000">
            <a:off x="1042920" y="2923920"/>
            <a:ext cx="504720" cy="25923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3366"/>
                </a:solidFill>
                <a:latin typeface="Arial"/>
              </a:rPr>
              <a:t>как? каким образом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3366"/>
                </a:solidFill>
                <a:latin typeface="Arial"/>
              </a:rPr>
              <a:t>в какой степен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10800000">
            <a:off x="1618920" y="2923920"/>
            <a:ext cx="360360" cy="25923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3366"/>
                </a:solidFill>
                <a:latin typeface="Arial"/>
              </a:rPr>
              <a:t>как?</a:t>
            </a:r>
            <a:r>
              <a:rPr b="0" lang="ru-RU" sz="12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 при сравнен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10800000">
            <a:off x="539280" y="2923920"/>
            <a:ext cx="360360" cy="25923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все падежные вопро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451640" y="3213000"/>
            <a:ext cx="1692360" cy="23036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юз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3366"/>
                </a:solidFill>
                <a:latin typeface="Arial"/>
              </a:rPr>
              <a:t>Если…то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993366"/>
                </a:solidFill>
                <a:latin typeface="Arial"/>
              </a:rPr>
              <a:t>в то время как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3366"/>
                </a:solidFill>
                <a:latin typeface="Arial"/>
              </a:rPr>
              <a:t>между тем как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3366"/>
                </a:solidFill>
                <a:latin typeface="Arial"/>
              </a:rPr>
              <a:t>тогда как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3366"/>
                </a:solidFill>
                <a:latin typeface="Arial"/>
              </a:rPr>
              <a:t>по мере того как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3366"/>
                </a:solidFill>
                <a:latin typeface="Arial"/>
              </a:rPr>
              <a:t>чем…те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3366"/>
                </a:solidFill>
                <a:latin typeface="Arial"/>
              </a:rPr>
              <a:t>настолько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3366"/>
                </a:solidFill>
                <a:latin typeface="Arial"/>
              </a:rPr>
              <a:t>насколько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3366"/>
                </a:solidFill>
                <a:latin typeface="Arial"/>
              </a:rPr>
              <a:t>едва…ка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156360" y="3213000"/>
            <a:ext cx="1152360" cy="23036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юз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о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3366"/>
                </a:solidFill>
                <a:latin typeface="Arial"/>
              </a:rPr>
              <a:t>что, заче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993366"/>
                </a:solidFill>
                <a:latin typeface="Arial"/>
              </a:rPr>
              <a:t>почему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3366"/>
                </a:solidFill>
                <a:latin typeface="Arial"/>
              </a:rPr>
              <a:t>поэтому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3366"/>
                </a:solidFill>
                <a:latin typeface="Arial"/>
              </a:rPr>
              <a:t>вследств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3366"/>
                </a:solidFill>
                <a:latin typeface="Arial"/>
              </a:rPr>
              <a:t>чего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3366"/>
                </a:solidFill>
                <a:latin typeface="Arial"/>
              </a:rPr>
              <a:t>отч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10800000">
            <a:off x="5508720" y="3212640"/>
            <a:ext cx="503280" cy="23036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юз </a:t>
            </a:r>
            <a:r>
              <a:rPr b="0" i="1" lang="ru-RU" sz="1200" spc="-1" strike="noStrike">
                <a:solidFill>
                  <a:srgbClr val="993366"/>
                </a:solidFill>
                <a:latin typeface="Arial"/>
              </a:rPr>
              <a:t>т</a:t>
            </a:r>
            <a:r>
              <a:rPr b="0" i="1" lang="en-US" sz="1200" spc="-1" strike="noStrike">
                <a:solidFill>
                  <a:srgbClr val="993366"/>
                </a:solidFill>
                <a:latin typeface="Arial"/>
                <a:ea typeface="Arial"/>
              </a:rPr>
              <a:t>á</a:t>
            </a:r>
            <a:r>
              <a:rPr b="0" i="1" lang="ru-RU" sz="1200" spc="-1" strike="noStrike">
                <a:solidFill>
                  <a:srgbClr val="993366"/>
                </a:solidFill>
                <a:latin typeface="Arial"/>
              </a:rPr>
              <a:t>к ч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9280" y="189000"/>
            <a:ext cx="8713800" cy="431640"/>
          </a:xfrm>
          <a:prstGeom prst="flowChartProcess">
            <a:avLst/>
          </a:prstGeom>
          <a:solidFill>
            <a:srgbClr val="cccc99"/>
          </a:solidFill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66"/>
                </a:solidFill>
                <a:latin typeface="Arial"/>
              </a:rPr>
              <a:t>Как определить тип придаточной част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324000" y="2708280"/>
            <a:ext cx="288720" cy="28908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6920" y="2708280"/>
            <a:ext cx="0" cy="28908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403280" y="2708280"/>
            <a:ext cx="0" cy="28908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63640" y="2708280"/>
            <a:ext cx="0" cy="28908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95640" y="2708280"/>
            <a:ext cx="0" cy="28908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843280" y="2708280"/>
            <a:ext cx="0" cy="28908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492360" y="2708280"/>
            <a:ext cx="0" cy="28908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95640" y="2708280"/>
            <a:ext cx="0" cy="28908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43280" y="2708280"/>
            <a:ext cx="0" cy="28908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19640" y="2708280"/>
            <a:ext cx="0" cy="28908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5795640" y="2924280"/>
            <a:ext cx="73080" cy="28872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659640" y="2924280"/>
            <a:ext cx="0" cy="36036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459640" y="2924280"/>
            <a:ext cx="0" cy="28872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0" y="5734080"/>
          <a:ext cx="9144000" cy="1123560"/>
        </p:xfrm>
        <a:graphic>
          <a:graphicData uri="http://schemas.openxmlformats.org/drawingml/2006/table">
            <a:tbl>
              <a:tblPr/>
              <a:tblGrid>
                <a:gridCol w="611280"/>
                <a:gridCol w="576000"/>
                <a:gridCol w="863640"/>
                <a:gridCol w="649440"/>
                <a:gridCol w="503280"/>
                <a:gridCol w="431640"/>
                <a:gridCol w="432000"/>
                <a:gridCol w="576000"/>
                <a:gridCol w="576360"/>
                <a:gridCol w="792360"/>
                <a:gridCol w="720720"/>
                <a:gridCol w="863640"/>
                <a:gridCol w="1547640"/>
              </a:tblGrid>
              <a:tr h="73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66"/>
                      </a:solidFill>
                    </a:lnL>
                    <a:lnR w="5760">
                      <a:solidFill>
                        <a:srgbClr val="993366"/>
                      </a:solidFill>
                    </a:lnR>
                    <a:lnT w="5760">
                      <a:solidFill>
                        <a:srgbClr val="993366"/>
                      </a:solidFill>
                    </a:lnT>
                    <a:lnB w="5760">
                      <a:solidFill>
                        <a:srgbClr val="99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66"/>
                      </a:solidFill>
                    </a:lnL>
                    <a:lnR w="5760">
                      <a:solidFill>
                        <a:srgbClr val="993366"/>
                      </a:solidFill>
                    </a:lnR>
                    <a:lnT w="5760">
                      <a:solidFill>
                        <a:srgbClr val="993366"/>
                      </a:solidFill>
                    </a:lnT>
                    <a:lnB w="5760">
                      <a:solidFill>
                        <a:srgbClr val="99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66"/>
                      </a:solidFill>
                    </a:lnL>
                    <a:lnR w="5760">
                      <a:solidFill>
                        <a:srgbClr val="993366"/>
                      </a:solidFill>
                    </a:lnR>
                    <a:lnT w="5760">
                      <a:solidFill>
                        <a:srgbClr val="993366"/>
                      </a:solidFill>
                    </a:lnT>
                    <a:lnB w="5760">
                      <a:solidFill>
                        <a:srgbClr val="99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66"/>
                      </a:solidFill>
                    </a:lnL>
                    <a:lnR w="5760">
                      <a:solidFill>
                        <a:srgbClr val="993366"/>
                      </a:solidFill>
                    </a:lnR>
                    <a:lnT w="5760">
                      <a:solidFill>
                        <a:srgbClr val="993366"/>
                      </a:solidFill>
                    </a:lnT>
                    <a:lnB w="5760">
                      <a:solidFill>
                        <a:srgbClr val="99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66"/>
                      </a:solidFill>
                    </a:lnL>
                    <a:lnR w="5760">
                      <a:solidFill>
                        <a:srgbClr val="993366"/>
                      </a:solidFill>
                    </a:lnR>
                    <a:lnT w="5760">
                      <a:solidFill>
                        <a:srgbClr val="993366"/>
                      </a:solidFill>
                    </a:lnT>
                    <a:lnB w="5760">
                      <a:solidFill>
                        <a:srgbClr val="99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66"/>
                      </a:solidFill>
                    </a:lnL>
                    <a:lnR w="5760">
                      <a:solidFill>
                        <a:srgbClr val="993366"/>
                      </a:solidFill>
                    </a:lnR>
                    <a:lnT w="5760">
                      <a:solidFill>
                        <a:srgbClr val="993366"/>
                      </a:solidFill>
                    </a:lnT>
                    <a:lnB w="5760">
                      <a:solidFill>
                        <a:srgbClr val="99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66"/>
                      </a:solidFill>
                    </a:lnL>
                    <a:lnR w="5760">
                      <a:solidFill>
                        <a:srgbClr val="993366"/>
                      </a:solidFill>
                    </a:lnR>
                    <a:lnT w="5760">
                      <a:solidFill>
                        <a:srgbClr val="993366"/>
                      </a:solidFill>
                    </a:lnT>
                    <a:lnB w="5760">
                      <a:solidFill>
                        <a:srgbClr val="99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66"/>
                      </a:solidFill>
                    </a:lnL>
                    <a:lnR w="5760">
                      <a:solidFill>
                        <a:srgbClr val="993366"/>
                      </a:solidFill>
                    </a:lnR>
                    <a:lnT w="5760">
                      <a:solidFill>
                        <a:srgbClr val="993366"/>
                      </a:solidFill>
                    </a:lnT>
                    <a:lnB w="5760">
                      <a:solidFill>
                        <a:srgbClr val="99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66"/>
                      </a:solidFill>
                    </a:lnL>
                    <a:lnR w="5760">
                      <a:solidFill>
                        <a:srgbClr val="993366"/>
                      </a:solidFill>
                    </a:lnR>
                    <a:lnT w="5760">
                      <a:solidFill>
                        <a:srgbClr val="993366"/>
                      </a:solidFill>
                    </a:lnT>
                    <a:lnB w="5760">
                      <a:solidFill>
                        <a:srgbClr val="99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66"/>
                      </a:solidFill>
                    </a:lnL>
                    <a:lnR w="5760">
                      <a:solidFill>
                        <a:srgbClr val="993366"/>
                      </a:solidFill>
                    </a:lnR>
                    <a:lnT w="5760">
                      <a:solidFill>
                        <a:srgbClr val="993366"/>
                      </a:solidFill>
                    </a:lnT>
                    <a:lnB w="5760">
                      <a:solidFill>
                        <a:srgbClr val="99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66"/>
                      </a:solidFill>
                    </a:lnL>
                    <a:lnR w="5760">
                      <a:solidFill>
                        <a:srgbClr val="993366"/>
                      </a:solidFill>
                    </a:lnR>
                    <a:lnT w="5760">
                      <a:solidFill>
                        <a:srgbClr val="993366"/>
                      </a:solidFill>
                    </a:lnT>
                    <a:lnB w="5760">
                      <a:solidFill>
                        <a:srgbClr val="99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66"/>
                      </a:solidFill>
                    </a:lnL>
                    <a:lnR w="5760">
                      <a:solidFill>
                        <a:srgbClr val="993366"/>
                      </a:solidFill>
                    </a:lnR>
                    <a:lnT w="5760">
                      <a:solidFill>
                        <a:srgbClr val="993366"/>
                      </a:solidFill>
                    </a:lnT>
                    <a:lnB w="5760">
                      <a:solidFill>
                        <a:srgbClr val="993366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66"/>
                      </a:solidFill>
                    </a:lnL>
                    <a:lnR w="5760">
                      <a:solidFill>
                        <a:srgbClr val="993366"/>
                      </a:solidFill>
                    </a:lnR>
                    <a:lnT w="5760">
                      <a:solidFill>
                        <a:srgbClr val="993366"/>
                      </a:solidFill>
                    </a:lnT>
                    <a:lnB w="5760">
                      <a:solidFill>
                        <a:srgbClr val="99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4840">
                <a:tc gridSpan="1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ы придаточ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993366"/>
                      </a:solidFill>
                    </a:lnR>
                    <a:lnT w="5760">
                      <a:solidFill>
                        <a:srgbClr val="993366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 rot="10800000">
            <a:off x="608040" y="5660640"/>
            <a:ext cx="583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зъяс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ль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10800000">
            <a:off x="0" y="5589720"/>
            <a:ext cx="58356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ред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ль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10800000">
            <a:off x="1186920" y="5589720"/>
            <a:ext cx="8042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ра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й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 степе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10800000">
            <a:off x="2052720" y="5660640"/>
            <a:ext cx="583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равни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ль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10800000">
            <a:off x="2771640" y="5661000"/>
            <a:ext cx="3628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е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10800000">
            <a:off x="3635280" y="5589360"/>
            <a:ext cx="3628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слов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3276360" y="5661000"/>
            <a:ext cx="3628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реме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10800000">
            <a:off x="4714920" y="5590800"/>
            <a:ext cx="3628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чи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0800000">
            <a:off x="4140000" y="5734080"/>
            <a:ext cx="3628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10800000">
            <a:off x="6014520" y="5589360"/>
            <a:ext cx="5835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ед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10800000">
            <a:off x="5289120" y="5734080"/>
            <a:ext cx="58356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ступи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ль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6802560" y="5660640"/>
            <a:ext cx="5835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ясни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ль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26920" y="5516640"/>
            <a:ext cx="0" cy="28872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5445000"/>
            <a:ext cx="0" cy="28908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332000" y="5445000"/>
            <a:ext cx="0" cy="28764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835280" y="5373720"/>
            <a:ext cx="288720" cy="36036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268360" y="5445000"/>
            <a:ext cx="574920" cy="28908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843280" y="5373720"/>
            <a:ext cx="504720" cy="36036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716360" y="5373720"/>
            <a:ext cx="142920" cy="36036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95640" y="5445000"/>
            <a:ext cx="360360" cy="28908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492360" y="5373720"/>
            <a:ext cx="287640" cy="36036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796000" y="5445000"/>
            <a:ext cx="647640" cy="36036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148360" y="5445000"/>
            <a:ext cx="360360" cy="36036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317080" y="5445000"/>
            <a:ext cx="0" cy="28908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948360" y="5445000"/>
            <a:ext cx="216000" cy="36036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596360" y="5734080"/>
            <a:ext cx="1547640" cy="1123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поставите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16200000">
            <a:off x="4413960" y="4906080"/>
            <a:ext cx="42372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ь русского языка Адонина Л.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xit" presetID="55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1" dur="3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3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3" dur="3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8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3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1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8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5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8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6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2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8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9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9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0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7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8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8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6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2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9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5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6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3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7164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Подчинительная связь: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выражаемые смысловые отношения ( типы придаточных)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611280" y="981000"/>
          <a:ext cx="8075520" cy="5510160"/>
        </p:xfrm>
        <a:graphic>
          <a:graphicData uri="http://schemas.openxmlformats.org/drawingml/2006/table">
            <a:tbl>
              <a:tblPr/>
              <a:tblGrid>
                <a:gridCol w="2089080"/>
                <a:gridCol w="598644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ъяснительны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Я знаю, </a:t>
                      </a:r>
                      <a:r>
                        <a:rPr b="1" i="1" lang="ru-RU" sz="14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почему</a:t>
                      </a:r>
                      <a:r>
                        <a:rPr b="0" i="1" lang="ru-RU" sz="14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  все его любя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ределительны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Это человек, </a:t>
                      </a:r>
                      <a:r>
                        <a:rPr b="1" i="1" lang="ru-RU" sz="14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которого</a:t>
                      </a:r>
                      <a:r>
                        <a:rPr b="0" i="1" lang="ru-RU" sz="14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 все любя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яснительны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Он настолько мил, </a:t>
                      </a:r>
                      <a:r>
                        <a:rPr b="1" i="1" lang="ru-RU" sz="14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что</a:t>
                      </a:r>
                      <a:r>
                        <a:rPr b="0" i="1" lang="ru-RU" sz="14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 все его любя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авнительны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Все его любят,  </a:t>
                      </a:r>
                      <a:r>
                        <a:rPr b="1" i="1" lang="ru-RU" sz="14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будто</a:t>
                      </a:r>
                      <a:r>
                        <a:rPr b="0" i="1" lang="ru-RU" sz="14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 он очень ми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енны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Когда</a:t>
                      </a:r>
                      <a:r>
                        <a:rPr b="0" i="1" lang="ru-RU" sz="14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 он был мил, все его любил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евы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Надо быть милым, </a:t>
                      </a:r>
                      <a:r>
                        <a:rPr b="1" i="1" lang="ru-RU" sz="14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чтобы</a:t>
                      </a:r>
                      <a:r>
                        <a:rPr b="0" i="1" lang="ru-RU" sz="14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 тебя любил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чинны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Его все любят, </a:t>
                      </a:r>
                      <a:r>
                        <a:rPr b="1" i="1" lang="ru-RU" sz="14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потому что</a:t>
                      </a:r>
                      <a:r>
                        <a:rPr b="0" i="1" lang="ru-RU" sz="14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 он ми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едственны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Он очень мил, </a:t>
                      </a:r>
                      <a:r>
                        <a:rPr b="1" i="1" lang="ru-RU" sz="14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так что</a:t>
                      </a:r>
                      <a:r>
                        <a:rPr b="0" i="1" lang="ru-RU" sz="14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 все его любя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ловны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Если</a:t>
                      </a:r>
                      <a:r>
                        <a:rPr b="0" i="1" lang="ru-RU" sz="14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 будешь мил, все тебя полюбя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тупительны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Хотя</a:t>
                      </a:r>
                      <a:r>
                        <a:rPr b="0" i="1" lang="ru-RU" sz="14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 он очень мил, не все его любя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3" name=""/>
          <p:cNvSpPr/>
          <p:nvPr/>
        </p:nvSpPr>
        <p:spPr>
          <a:xfrm>
            <a:off x="2771640" y="1052640"/>
            <a:ext cx="648000" cy="72720"/>
          </a:xfrm>
          <a:prstGeom prst="rect">
            <a:avLst/>
          </a:prstGeom>
          <a:noFill/>
          <a:ln w="936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t" anchorCtr="1" vert="eaVert">
            <a:noAutofit/>
          </a:bodyPr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503520" y="6010200"/>
            <a:ext cx="5461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 vert="eaVer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87880" y="5651640"/>
            <a:ext cx="5457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eaVer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5400000">
            <a:off x="3779640" y="907920"/>
            <a:ext cx="71640" cy="7920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— • — • —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03640" y="1700280"/>
            <a:ext cx="647640" cy="73080"/>
          </a:xfrm>
          <a:prstGeom prst="rect">
            <a:avLst/>
          </a:prstGeom>
          <a:noFill/>
          <a:ln w="936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t" anchorCtr="1" vert="eaVert">
            <a:noAutofit/>
          </a:bodyPr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rot="5400000">
            <a:off x="4355640" y="1628640"/>
            <a:ext cx="71640" cy="79236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— —  —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349360"/>
            <a:ext cx="648000" cy="73080"/>
          </a:xfrm>
          <a:prstGeom prst="rect">
            <a:avLst/>
          </a:prstGeom>
          <a:noFill/>
          <a:ln w="936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t" anchorCtr="1" vert="eaVert">
            <a:noAutofit/>
          </a:bodyPr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4413960" y="4452480"/>
            <a:ext cx="423720" cy="43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ь русского языка Адонина Л.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5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2" dur="5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4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9" dur="3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4" dur="3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9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4" dur="3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9" dur="3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09:31:25Z</dcterms:created>
  <dc:creator>Людмила</dc:creator>
  <dc:description/>
  <dc:language>en-US</dc:language>
  <cp:lastModifiedBy>Люда</cp:lastModifiedBy>
  <dcterms:modified xsi:type="dcterms:W3CDTF">2008-05-03T20:05:18Z</dcterms:modified>
  <cp:revision>22</cp:revision>
  <dc:subject/>
  <dc:title>Сложное предложени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