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FAB1-2331-49C1-AF18-3C12B9C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F63C-79C3-42DA-82D1-BB65AF0A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9694-5516-4EAD-B298-1CF23C73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C877-DBFA-40A2-9CDF-21567E1E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64C3-09C6-4C09-8436-6A7C5F1B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4568-4BAC-46E8-AEB8-890839C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504D-775C-469C-B0AF-D76A869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18F-EDAE-4D7B-8C8A-269F377A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EA88-1538-4481-B92C-D2D7D1C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B3EC-F88A-4594-8918-B02D0EF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99F3-0CC3-4736-B79D-CAC6702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CBFE-7738-456C-BF02-CF06CBF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C57-31FA-45C3-87AB-1FC6A70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ACD9-7F9E-4E2B-A016-2667197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E52-34FD-4AC3-8EAE-D5E9B0B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A53-79BA-4EE0-8680-BCE636D6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DFD8-78CA-485C-A1B7-3955F181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2565-9E4B-48FB-A549-1F1FA6B5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83BA-23AB-43DD-B9E5-0BA9DA6F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3000-FDC3-4C8B-9BEA-05A90C54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9149-D5DB-4E87-8A3E-6BE853F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5951-4AE3-497A-B76E-99A3AB1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CA1F-6692-4539-B39D-9886186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DF59-4659-4154-90F7-E30DF89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9FE-5173-450A-B48F-C7059E6F2A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9F2-62D5-49B1-9152-C8ABA04B0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Вредоносные и антивирусные  программы. Компьютерные вирусы и защита от них.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86e0"/>
                </a:solidFill>
                <a:latin typeface="Garamond"/>
              </a:rPr>
              <a:t>Антивирусные програм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Антивирус Касперск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Доктор  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Web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NOD 32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Eset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AGV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Symantec antivirus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AVAST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Microsoft Security Essentials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t1.gstatic.com/images?q=tbn:ANd9GcQfxFfKSyqsqL8NwsgvJFvXh3bcY2XHRbHfaYFTpcGI_rEV8D0VdCHW7pbP"/>
          <p:cNvPicPr/>
          <p:nvPr/>
        </p:nvPicPr>
        <p:blipFill>
          <a:blip r:embed="rId1"/>
          <a:stretch/>
        </p:blipFill>
        <p:spPr>
          <a:xfrm>
            <a:off x="2556000" y="155736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t2.gstatic.com/images?q=tbn:ANd9GcQnQR3RyQqB44l4vO3h0_o5cT0v-rF9PloHnjn3Uc15XlcdBSCYgNt79A"/>
          <p:cNvPicPr/>
          <p:nvPr/>
        </p:nvPicPr>
        <p:blipFill>
          <a:blip r:embed="rId2"/>
          <a:stretch/>
        </p:blipFill>
        <p:spPr>
          <a:xfrm>
            <a:off x="539640" y="1628640"/>
            <a:ext cx="1130400" cy="11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0.gstatic.com/images?q=tbn:ANd9GcRVF5ED4F07OHVCd3jYSkkDVEJ5j3GXNGe3_tGvLcz-PkY-t1gxyJAvzXg"/>
          <p:cNvPicPr/>
          <p:nvPr/>
        </p:nvPicPr>
        <p:blipFill>
          <a:blip r:embed="rId3"/>
          <a:stretch/>
        </p:blipFill>
        <p:spPr>
          <a:xfrm>
            <a:off x="4356000" y="1824120"/>
            <a:ext cx="1392480" cy="105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t2.gstatic.com/images?q=tbn:ANd9GcQsHc26tAqaLxyC7Fj4M17tTzrj8myDGd0h1qOEF9em3fPcN347DXlfEgwA"/>
          <p:cNvPicPr/>
          <p:nvPr/>
        </p:nvPicPr>
        <p:blipFill>
          <a:blip r:embed="rId4"/>
          <a:stretch/>
        </p:blipFill>
        <p:spPr>
          <a:xfrm>
            <a:off x="324000" y="3357720"/>
            <a:ext cx="196344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ttp://www.livehacking.com/web/wp-content/uploads/2010/12/Microsoft-Security-Essentials-Beta-Goes-Live-Downloads.jpg"/>
          <p:cNvPicPr/>
          <p:nvPr/>
        </p:nvPicPr>
        <p:blipFill>
          <a:blip r:embed="rId5"/>
          <a:stretch/>
        </p:blipFill>
        <p:spPr>
          <a:xfrm>
            <a:off x="3203640" y="3357720"/>
            <a:ext cx="2905200" cy="12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http://t3.gstatic.com/images?q=tbn:ANd9GcTz2cocUrM342YtS3szx9txNTakFsVKZczRLwwB8GVEpffS3nY9WUD1hwM"/>
          <p:cNvPicPr/>
          <p:nvPr/>
        </p:nvPicPr>
        <p:blipFill>
          <a:blip r:embed="rId6"/>
          <a:stretch/>
        </p:blipFill>
        <p:spPr>
          <a:xfrm>
            <a:off x="6443640" y="1484280"/>
            <a:ext cx="1793880" cy="17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ttp://www.freeprogs.net/uploads/posts/2010-01/1263896605_avz.png"/>
          <p:cNvPicPr/>
          <p:nvPr/>
        </p:nvPicPr>
        <p:blipFill>
          <a:blip r:embed="rId7"/>
          <a:stretch/>
        </p:blipFill>
        <p:spPr>
          <a:xfrm>
            <a:off x="7020000" y="3357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Логотип Avast! Free Antivirus"/>
          <p:cNvPicPr/>
          <p:nvPr/>
        </p:nvPicPr>
        <p:blipFill>
          <a:blip r:embed="rId8"/>
          <a:stretch/>
        </p:blipFill>
        <p:spPr>
          <a:xfrm>
            <a:off x="1692360" y="4941720"/>
            <a:ext cx="1385640" cy="134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Логотип Avira AntiVir"/>
          <p:cNvPicPr/>
          <p:nvPr/>
        </p:nvPicPr>
        <p:blipFill>
          <a:blip r:embed="rId9"/>
          <a:stretch/>
        </p:blipFill>
        <p:spPr>
          <a:xfrm>
            <a:off x="6005520" y="4941720"/>
            <a:ext cx="123048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бота в групп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ьютерный вирус. Классификация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тивирусные программы. Виды анти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рия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пространение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ка и ле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ила защиты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зервные групп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тистическая группа (проанализировать анкеты, представить данные в виде диаграммы «Рейтинг антивирусных программ»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художников (в графическом редакторе 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Pain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изобразить, как визуально можно представить себе компьютерный вирус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сужд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ходу работы в группах и в процессе обсуждения заполняем лист с ОК (опорным конспектом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смотр мини-презента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ьютерный вирус. Классификация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тивирусные программы. Виды анти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рия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пространение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ка и ле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ила защиты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рактическая работа «Защита от вирусов: обнаружение и лечение». 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Цель работы: 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учиться использовать антивирусную программу для проверки компьютера на наличие вирусов и его излеч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: 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рить флешку на наличие вирусов с использованием антивирусной програм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од практической работ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Запустите программу в меню Пус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      Поиск вирусов - выбрать проверяемый диск 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      При обнаружении вирусов нажать кнопку Лечить все – Удали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  Просмотреть статис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дведение ит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ение компьютерного виру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ссификация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такое антивирусная программ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антивирусных программ вы зна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то и когда создал первый компьютерный вирус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компьютерных вирусов вам известн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правила необходимо соблюдать, чтобы предупредить появление на компьютере вирус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надо проверять компьютер и флешки на наличие вирус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описать и выучить О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вести исследовательскую работ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йтинг используемых антивирусных програм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пособы обновления антивирусных програм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готовить реферат на одну из 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Антивирусные програм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Виды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Методы борьбы с компьютерными вирус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здать буклет-памятку «Правила защиты информации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ПАСИ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ЗА УРОК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680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просы к семинар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ение компьютерного виру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ссификация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такое антивирусная программ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антивирусных программ вы зна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то и когда создал первый компьютерный вирус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компьютерных вирусов вам известн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правила необходимо соблюдать, чтобы предупредить появление на компьютере вирус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надо проверять компьютер и флешки на наличие вирус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. Что такое компьютерный вирус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Приклад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Систем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Программа, выполняющая на компьютере несанкционированные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База да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2. Основные типы компьютерных вирус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, программные, загрузочные 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, загрузочные, макровиру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Файловые, программные, макровиру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овые, загрузочн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3. Этапы действия программного вирус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Размножение, вирусная ата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Запись в файл, размнож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Запись в файл,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4. В чем заключается размножение программного вируса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Программа-вирус один раз копируется в теле другой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Вирусный код неоднократно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а-вирус поражает многократно другие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Вирусный код один раз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5. Что называется вирусной атакой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Неоднократное копирование кода вируса в код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Отключение компьютера в результате попадания вирус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Нарушение работы программы, уничтожение данных, форматирование жесткого диск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Частое зависание компьютера и замедление его работ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6. Какие существуют методы реализации антивирусной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Аппаратные и программ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Программные, аппаратные и организацион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Только программ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Только аппарат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7. Какие существуют основные средства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Резервное копирование наиболее ценных данных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Аппаратные средств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8. Какие существуют вспомогательные средства защит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Аппаратные средства и антивирусны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9. На чем основано действие антивирусной программ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На ожидании начала вирусной ата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На сравнении программных кодов с известными вирус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На удалении зараженных фай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На обнаружении и удалении вирус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0. Какие программы относятся к антивирусны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AVP, DrWeb, Norton AntiVirus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VAST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MS-DOS, MS Word, AV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MS Word, MS Excel, Norton Comman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DrWeb, Microsoft Security Essentials, MS Word, MS Exc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ВЕРИМ СЕБЯ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. Что такое компьютерный вирус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Приклад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Системная программа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3) Программа, выполняющая на компьютере несанкционированные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База да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2. Основные типы компьютерных вирус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, программные, загрузочные 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2) Программные, загрузочные, макровиру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Файловые, программные, макровиру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овые, загрузочн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3. Этапы действия программного вирус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1) Размножение, вирусная ата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Запись в файл, размнож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Запись в файл,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4. В чем заключается размножение программного вируса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Программа-вирус один раз копируется в теле другой программы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2) Вирусный код неоднократно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а-вирус поражает многократно другие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Вирусный код один раз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5. Что называется вирусной атакой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Неоднократное копирование кода вируса в код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Отключение компьютера в результате попадания вируса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3) Нарушение работы программы, уничтожение данных, форматирование жесткого диск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Частое зависание компьютера и замедление его работ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6. Какие существуют методы реализации антивирусной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Аппаратные и программные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2) Программные, аппаратные и организацион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Только программ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Только аппарат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7. Какие существуют основные средства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1) Резервное копирование наиболее ценных данных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Аппаратные средств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8. Какие существуют вспомогательные средства защит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 средства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3) Аппаратные средства и антивирусны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9. На чем основано действие антивирусной программ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На ожидании начала вирусной атаки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2) На сравнении программных кодов с известными вирус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На удалении зараженных фай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На обнаружении и удалении вирус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0. Какие программы относятся к антивирусны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1) AVP, DrWeb, Norton AntiViru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VAST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MS-DOS, MS Word, AV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MS Word, MS Excel, Norton Comman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DrWeb, Microsoft Security Essentials, MS Word, MS Exc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21:43:25Z</dcterms:created>
  <dc:creator>Юлёк</dc:creator>
  <dc:description/>
  <dc:language>en-US</dc:language>
  <cp:lastModifiedBy>Юлёк</cp:lastModifiedBy>
  <dcterms:modified xsi:type="dcterms:W3CDTF">2015-02-19T20:23:42Z</dcterms:modified>
  <cp:revision>9</cp:revision>
  <dc:subject/>
  <dc:title>Физическая защита данных на дисках. Вредоносные и антивирусные  программы. Компьютерные вирусы и защита от них. </dc:title>
</cp:coreProperties>
</file>