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C307AB-C1E1-4739-8184-D56F81C90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E3C9D0-30BD-4184-8463-DD3B8C67C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2FFA8A-9CEA-4590-BA62-17E589D10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6A1657-89FE-429E-B68D-029223ED0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F8E19-FAB7-4114-84F2-5C1C4D898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1BE28-95E0-46B5-B743-A23C594BC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A7137-4297-429A-80D6-6E07A68B9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A38C9-B570-4E70-89A8-2B676B361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D517F-BF68-4012-BF92-F09689270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509F4-E17A-4EA5-BC6B-4426A77D4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57A8D-001E-4F29-BC83-8FC89C20E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866827-D3C9-452A-A9F6-2E53F5D17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0173F-3E31-4287-9316-7C9CB2F18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CFF54-5C55-4498-B569-2219076E5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5BCC4-9F94-4441-B2F3-F1ECE7DA6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BEA56-B1DB-4963-8F85-023CAB0BB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F9A3A-677A-498C-A64A-3897C5F34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05E852-602D-499A-A799-7C5C86B86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D71BC5-6DB6-4BDD-83E2-63CE14086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0A0D87-14CA-42CC-878E-06E56A230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06A82D-03C4-4D75-B4A9-970D5B342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D55443-B2F2-43B8-B146-47F8CE6D9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8198C4-ED5D-412E-A8EC-DA77B3459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7B1712-BD8F-4F28-A5DC-D5BB2E2E0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70B24-4A0E-4F27-9BFD-79E73E87E4F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C885E-2457-419D-A8D3-433FB62FB16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png"/><Relationship Id="rId8" Type="http://schemas.openxmlformats.org/officeDocument/2006/relationships/image" Target="../media/image8.jpe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5e5ff"/>
                </a:solidFill>
                <a:latin typeface="Garamond"/>
              </a:rPr>
              <a:t>Вредоносные и антивирусные  программы. Компьютерные вирусы и защита от них. 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886e0"/>
                </a:solidFill>
                <a:latin typeface="Garamond"/>
              </a:rPr>
              <a:t>Антивирусные программы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68000" y="1628280"/>
            <a:ext cx="822636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886e0"/>
                </a:solidFill>
                <a:latin typeface="Garamond"/>
              </a:rPr>
              <a:t>Антивирус Касперского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886e0"/>
                </a:solidFill>
                <a:latin typeface="Garamond"/>
              </a:rPr>
              <a:t>Доктор  </a:t>
            </a:r>
            <a:r>
              <a:rPr b="1" lang="en-US" sz="3200" spc="-1" strike="noStrike">
                <a:solidFill>
                  <a:srgbClr val="a886e0"/>
                </a:solidFill>
                <a:latin typeface="Garamond"/>
              </a:rPr>
              <a:t>Web</a:t>
            </a:r>
            <a:r>
              <a:rPr b="1" lang="ru-RU" sz="3200" spc="-1" strike="noStrike">
                <a:solidFill>
                  <a:srgbClr val="a886e0"/>
                </a:solidFill>
                <a:latin typeface="Garamond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886e0"/>
                </a:solidFill>
                <a:latin typeface="Garamond"/>
              </a:rPr>
              <a:t>NOD 32</a:t>
            </a:r>
            <a:r>
              <a:rPr b="1" lang="ru-RU" sz="3200" spc="-1" strike="noStrike">
                <a:solidFill>
                  <a:srgbClr val="a886e0"/>
                </a:solidFill>
                <a:latin typeface="Garamond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886e0"/>
                </a:solidFill>
                <a:latin typeface="Garamond"/>
              </a:rPr>
              <a:t>Eset</a:t>
            </a:r>
            <a:r>
              <a:rPr b="1" lang="ru-RU" sz="3200" spc="-1" strike="noStrike">
                <a:solidFill>
                  <a:srgbClr val="a886e0"/>
                </a:solidFill>
                <a:latin typeface="Garamond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886e0"/>
                </a:solidFill>
                <a:latin typeface="Garamond"/>
              </a:rPr>
              <a:t>AGV</a:t>
            </a:r>
            <a:r>
              <a:rPr b="1" lang="ru-RU" sz="3200" spc="-1" strike="noStrike">
                <a:solidFill>
                  <a:srgbClr val="a886e0"/>
                </a:solidFill>
                <a:latin typeface="Garamond"/>
              </a:rPr>
              <a:t>;</a:t>
            </a:r>
            <a:r>
              <a:rPr b="1" lang="en-US" sz="3200" spc="-1" strike="noStrike">
                <a:solidFill>
                  <a:srgbClr val="a886e0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886e0"/>
                </a:solidFill>
                <a:latin typeface="Garamond"/>
              </a:rPr>
              <a:t>Symantec antivirus</a:t>
            </a:r>
            <a:r>
              <a:rPr b="1" lang="ru-RU" sz="3200" spc="-1" strike="noStrike">
                <a:solidFill>
                  <a:srgbClr val="a886e0"/>
                </a:solidFill>
                <a:latin typeface="Garamond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886e0"/>
                </a:solidFill>
                <a:latin typeface="Garamond"/>
              </a:rPr>
              <a:t>AVAST</a:t>
            </a:r>
            <a:r>
              <a:rPr b="1" lang="ru-RU" sz="3200" spc="-1" strike="noStrike">
                <a:solidFill>
                  <a:srgbClr val="a886e0"/>
                </a:solidFill>
                <a:latin typeface="Garamond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886e0"/>
                </a:solidFill>
                <a:latin typeface="Garamond"/>
              </a:rPr>
              <a:t>Microsoft Security Essentials</a:t>
            </a:r>
            <a:r>
              <a:rPr b="1" lang="ru-RU" sz="3200" spc="-1" strike="noStrike">
                <a:solidFill>
                  <a:srgbClr val="a886e0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" descr="http://t1.gstatic.com/images?q=tbn:ANd9GcQfxFfKSyqsqL8NwsgvJFvXh3bcY2XHRbHfaYFTpcGI_rEV8D0VdCHW7pbP"/>
          <p:cNvPicPr/>
          <p:nvPr/>
        </p:nvPicPr>
        <p:blipFill>
          <a:blip r:embed="rId1"/>
          <a:stretch/>
        </p:blipFill>
        <p:spPr>
          <a:xfrm>
            <a:off x="2556000" y="1557360"/>
            <a:ext cx="1247760" cy="12477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4" descr="http://t2.gstatic.com/images?q=tbn:ANd9GcQnQR3RyQqB44l4vO3h0_o5cT0v-rF9PloHnjn3Uc15XlcdBSCYgNt79A"/>
          <p:cNvPicPr/>
          <p:nvPr/>
        </p:nvPicPr>
        <p:blipFill>
          <a:blip r:embed="rId2"/>
          <a:stretch/>
        </p:blipFill>
        <p:spPr>
          <a:xfrm>
            <a:off x="539640" y="1628640"/>
            <a:ext cx="1130400" cy="11289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6" descr="http://t0.gstatic.com/images?q=tbn:ANd9GcRVF5ED4F07OHVCd3jYSkkDVEJ5j3GXNGe3_tGvLcz-PkY-t1gxyJAvzXg"/>
          <p:cNvPicPr/>
          <p:nvPr/>
        </p:nvPicPr>
        <p:blipFill>
          <a:blip r:embed="rId3"/>
          <a:stretch/>
        </p:blipFill>
        <p:spPr>
          <a:xfrm>
            <a:off x="4356000" y="1824120"/>
            <a:ext cx="1392480" cy="10522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8" descr="http://t2.gstatic.com/images?q=tbn:ANd9GcQsHc26tAqaLxyC7Fj4M17tTzrj8myDGd0h1qOEF9em3fPcN347DXlfEgwA"/>
          <p:cNvPicPr/>
          <p:nvPr/>
        </p:nvPicPr>
        <p:blipFill>
          <a:blip r:embed="rId4"/>
          <a:stretch/>
        </p:blipFill>
        <p:spPr>
          <a:xfrm>
            <a:off x="324000" y="3357720"/>
            <a:ext cx="1963440" cy="8650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2" descr="http://www.livehacking.com/web/wp-content/uploads/2010/12/Microsoft-Security-Essentials-Beta-Goes-Live-Downloads.jpg"/>
          <p:cNvPicPr/>
          <p:nvPr/>
        </p:nvPicPr>
        <p:blipFill>
          <a:blip r:embed="rId5"/>
          <a:stretch/>
        </p:blipFill>
        <p:spPr>
          <a:xfrm>
            <a:off x="3203640" y="3357720"/>
            <a:ext cx="2905200" cy="12715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4" descr="http://t3.gstatic.com/images?q=tbn:ANd9GcTz2cocUrM342YtS3szx9txNTakFsVKZczRLwwB8GVEpffS3nY9WUD1hwM"/>
          <p:cNvPicPr/>
          <p:nvPr/>
        </p:nvPicPr>
        <p:blipFill>
          <a:blip r:embed="rId6"/>
          <a:stretch/>
        </p:blipFill>
        <p:spPr>
          <a:xfrm>
            <a:off x="6443640" y="1484280"/>
            <a:ext cx="1793880" cy="17924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6" descr="http://www.freeprogs.net/uploads/posts/2010-01/1263896605_avz.png"/>
          <p:cNvPicPr/>
          <p:nvPr/>
        </p:nvPicPr>
        <p:blipFill>
          <a:blip r:embed="rId7"/>
          <a:stretch/>
        </p:blipFill>
        <p:spPr>
          <a:xfrm>
            <a:off x="7020000" y="3357720"/>
            <a:ext cx="1152360" cy="11523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8" descr="Логотип Avast! Free Antivirus"/>
          <p:cNvPicPr/>
          <p:nvPr/>
        </p:nvPicPr>
        <p:blipFill>
          <a:blip r:embed="rId8"/>
          <a:stretch/>
        </p:blipFill>
        <p:spPr>
          <a:xfrm>
            <a:off x="1692360" y="4941720"/>
            <a:ext cx="1385640" cy="13449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20" descr="Логотип Avira AntiVir"/>
          <p:cNvPicPr/>
          <p:nvPr/>
        </p:nvPicPr>
        <p:blipFill>
          <a:blip r:embed="rId9"/>
          <a:stretch/>
        </p:blipFill>
        <p:spPr>
          <a:xfrm>
            <a:off x="6005520" y="4941720"/>
            <a:ext cx="1230480" cy="12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Работа в группах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Компьютерный вирус. Классификация вирусов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Антивирусные программы. Виды антивирусов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История компьютерных вирусов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Распространение компьютерных вирусов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Профилактика и лечение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Правила защиты информации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Резервные группы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Статистическая группа (проанализировать анкеты, представить данные в виде диаграммы «Рейтинг антивирусных программ»)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Группа художников (в графическом редакторе </a:t>
            </a:r>
            <a:r>
              <a:rPr b="0" lang="ru-RU" sz="3200" spc="-1" strike="noStrike" u="sng">
                <a:solidFill>
                  <a:srgbClr val="ffffff"/>
                </a:solidFill>
                <a:uFillTx/>
                <a:latin typeface="Garamond"/>
              </a:rPr>
              <a:t>Paint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 изобразить, как визуально можно представить себе компьютерный вирус)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Обсуждение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По ходу работы в группах и в процессе обсуждения заполняем лист с ОК (опорным конспектом)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Просмотр мини-презентаций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Компьютерный вирус. Классификация вирусов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Антивирусные программы. Виды антивирусов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История компьютерных вирусов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Распространение компьютерных вирусов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Профилактика и лечение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Правила защиты информации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Практическая работа «Защита от вирусов: обнаружение и лечение». </a:t>
            </a: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Цель работы: 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научиться использовать антивирусную программу для проверки компьютера на наличие вирусов и его излечения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Задание: 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Проверить флешку на наличие вирусов с использованием антивирусной программы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Ход практической работы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1. Запустите программу в меню Пуск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2.      Поиск вирусов - выбрать проверяемый диск </a:t>
            </a: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Е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3.      При обнаружении вирусов нажать кнопку Лечить все – Удалить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4.  Просмотреть статистику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Подведение итогов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566640" indent="-566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Определение компьютерного вируса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66640" indent="-566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Классификация компьютерных вирусов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66640" indent="-566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Что такое антивирусная программа?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66640" indent="-566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Какие названия антивирусных программ вы знаете?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66640" indent="-566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Кто и когда создал первый компьютерный вирус?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66640" indent="-566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Какие названия компьютерных вирусов вам известны?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66640" indent="-566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Какие правила необходимо соблюдать, чтобы предупредить появление на компьютере вирусов?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66640" indent="-566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Как часто надо проверять компьютер и флешки на наличие вируса?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66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Домашнее задание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85000" indent="-5850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Дописать и выучить ОК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85000" indent="-5850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Провести исследовательскую работу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950760" indent="-51192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Рейтинг используемых антивирусных программ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950760" indent="-51192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Способы обновления антивирусных программ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85000" indent="-5850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Подготовить реферат на одну из тем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950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. Антивирусные программы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950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2. Виды компьютерных вирусов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950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3. Методы борьбы с компьютерными вирусами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85000" indent="-5850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Создать буклет-памятку «Правила защиты информации»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9507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СПАСИБО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ЗА УРОК!!!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2124000" y="2565360"/>
            <a:ext cx="4680000" cy="32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Вопросы к семинару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566640" indent="-566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Определение компьютерного вируса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66640" indent="-566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Классификация компьютерных вирусов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66640" indent="-566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Что такое антивирусная программа?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66640" indent="-566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Какие названия антивирусных программ вы знаете?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66640" indent="-566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Кто и когда создал первый компьютерный вирус?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66640" indent="-566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Какие названия компьютерных вирусов вам известны?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66640" indent="-566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Какие правила необходимо соблюдать, чтобы предупредить появление на компьютере вирусов?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66640" indent="-566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Как часто надо проверять компьютер и флешки на наличие вируса?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ТЕСТ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Garamond"/>
              </a:rPr>
              <a:t>1. Что такое компьютерный вирус?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1) Прикладная программа.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2) Системная программа.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3) Программа, выполняющая на компьютере несанкционированные действия.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4) База данных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Garamond"/>
              </a:rPr>
              <a:t>2. Основные типы компьютерных вирусов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1) Аппаратные, программные, загрузочные .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2) Программные, загрузочные, макровирусы.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3) Файловые, программные, макровирусы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4)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Файловые, загрузочные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Garamond"/>
              </a:rPr>
              <a:t>3. Этапы действия программного вируса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1) Размножение, вирусная атака.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2) Запись в файл, размножение.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3) Запись в файл, размножение, уничтожение программы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4) Размножение, уничтожение программы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cc00"/>
                </a:solidFill>
                <a:latin typeface="Garamond"/>
              </a:rPr>
              <a:t>4. В чем заключается размножение программного вируса?</a:t>
            </a:r>
            <a:endParaRPr b="0" lang="en-US" sz="19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1900" spc="-1" strike="noStrike">
                <a:solidFill>
                  <a:srgbClr val="ffffff"/>
                </a:solidFill>
                <a:latin typeface="Garamond"/>
              </a:rPr>
              <a:t>1) Программа-вирус один раз копируется в теле другой программы.</a:t>
            </a:r>
            <a:br>
              <a:rPr sz="1900"/>
            </a:br>
            <a:r>
              <a:rPr b="0" lang="en-US" sz="1900" spc="-1" strike="noStrike">
                <a:solidFill>
                  <a:srgbClr val="ffffff"/>
                </a:solidFill>
                <a:latin typeface="Garamond"/>
              </a:rPr>
              <a:t>2) Вирусный код неоднократно копируется в теле другой программы.</a:t>
            </a:r>
            <a:endParaRPr b="0" lang="en-US" sz="19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1900" spc="-1" strike="noStrike">
                <a:solidFill>
                  <a:srgbClr val="ffffff"/>
                </a:solidFill>
                <a:latin typeface="Garamond"/>
              </a:rPr>
              <a:t>3) Программа-вирус поражает многократно другие программы.</a:t>
            </a:r>
            <a:endParaRPr b="0" lang="en-US" sz="19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1900" spc="-1" strike="noStrike">
                <a:solidFill>
                  <a:srgbClr val="ffffff"/>
                </a:solidFill>
                <a:latin typeface="Garamond"/>
              </a:rPr>
              <a:t>4) Вирусный код один раз копируется в теле другой программы.</a:t>
            </a:r>
            <a:endParaRPr b="0" lang="en-US" sz="19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cc00"/>
                </a:solidFill>
                <a:latin typeface="Garamond"/>
              </a:rPr>
              <a:t>5. Что называется вирусной атакой?</a:t>
            </a:r>
            <a:endParaRPr b="0" lang="en-US" sz="19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1900" spc="-1" strike="noStrike">
                <a:solidFill>
                  <a:srgbClr val="ffffff"/>
                </a:solidFill>
                <a:latin typeface="Garamond"/>
              </a:rPr>
              <a:t>1) Неоднократное копирование кода вируса в код программы.</a:t>
            </a:r>
            <a:br>
              <a:rPr sz="1900"/>
            </a:br>
            <a:r>
              <a:rPr b="0" lang="en-US" sz="1900" spc="-1" strike="noStrike">
                <a:solidFill>
                  <a:srgbClr val="ffffff"/>
                </a:solidFill>
                <a:latin typeface="Garamond"/>
              </a:rPr>
              <a:t>2) Отключение компьютера в результате попадания вируса.</a:t>
            </a:r>
            <a:br>
              <a:rPr sz="1900"/>
            </a:br>
            <a:r>
              <a:rPr b="0" lang="en-US" sz="1900" spc="-1" strike="noStrike">
                <a:solidFill>
                  <a:srgbClr val="ffffff"/>
                </a:solidFill>
                <a:latin typeface="Garamond"/>
              </a:rPr>
              <a:t>3) Нарушение работы программы, уничтожение данных, форматирование жесткого диска.</a:t>
            </a:r>
            <a:endParaRPr b="0" lang="en-US" sz="19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1900" spc="-1" strike="noStrike">
                <a:solidFill>
                  <a:srgbClr val="ffffff"/>
                </a:solidFill>
                <a:latin typeface="Garamond"/>
              </a:rPr>
              <a:t>4) Частое зависание компьютера и замедление его работы.</a:t>
            </a:r>
            <a:endParaRPr b="0" lang="en-US" sz="19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cc00"/>
                </a:solidFill>
                <a:latin typeface="Garamond"/>
              </a:rPr>
              <a:t>6. Какие существуют методы реализации антивирусной защиты?</a:t>
            </a:r>
            <a:endParaRPr b="0" lang="en-US" sz="19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1900" spc="-1" strike="noStrike">
                <a:solidFill>
                  <a:srgbClr val="ffffff"/>
                </a:solidFill>
                <a:latin typeface="Garamond"/>
              </a:rPr>
              <a:t>1) Аппаратные и программные.</a:t>
            </a:r>
            <a:br>
              <a:rPr sz="1900"/>
            </a:br>
            <a:r>
              <a:rPr b="0" lang="en-US" sz="1900" spc="-1" strike="noStrike">
                <a:solidFill>
                  <a:srgbClr val="ffffff"/>
                </a:solidFill>
                <a:latin typeface="Garamond"/>
              </a:rPr>
              <a:t>2) Программные, аппаратные и организационные.</a:t>
            </a:r>
            <a:br>
              <a:rPr sz="1900"/>
            </a:br>
            <a:r>
              <a:rPr b="0" lang="en-US" sz="1900" spc="-1" strike="noStrike">
                <a:solidFill>
                  <a:srgbClr val="ffffff"/>
                </a:solidFill>
                <a:latin typeface="Garamond"/>
              </a:rPr>
              <a:t>3) Только программные.</a:t>
            </a:r>
            <a:endParaRPr b="0" lang="en-US" sz="19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1900" spc="-1" strike="noStrike">
                <a:solidFill>
                  <a:srgbClr val="ffffff"/>
                </a:solidFill>
                <a:latin typeface="Garamond"/>
              </a:rPr>
              <a:t>4) Только аппаратные.</a:t>
            </a:r>
            <a:endParaRPr b="0" lang="en-US" sz="19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cc00"/>
                </a:solidFill>
                <a:latin typeface="Garamond"/>
              </a:rPr>
              <a:t>7. Какие существуют основные средства защиты?</a:t>
            </a:r>
            <a:endParaRPr b="0" lang="en-US" sz="19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1900" spc="-1" strike="noStrike">
                <a:solidFill>
                  <a:srgbClr val="ffffff"/>
                </a:solidFill>
                <a:latin typeface="Garamond"/>
              </a:rPr>
              <a:t>1) Резервное копирование наиболее ценных данных.</a:t>
            </a:r>
            <a:br>
              <a:rPr sz="1900"/>
            </a:br>
            <a:r>
              <a:rPr b="0" lang="en-US" sz="1900" spc="-1" strike="noStrike">
                <a:solidFill>
                  <a:srgbClr val="ffffff"/>
                </a:solidFill>
                <a:latin typeface="Garamond"/>
              </a:rPr>
              <a:t>2) Аппаратные средства.</a:t>
            </a:r>
            <a:br>
              <a:rPr sz="1900"/>
            </a:br>
            <a:r>
              <a:rPr b="0" lang="en-US" sz="1900" spc="-1" strike="noStrike">
                <a:solidFill>
                  <a:srgbClr val="ffffff"/>
                </a:solidFill>
                <a:latin typeface="Garamond"/>
              </a:rPr>
              <a:t>3) Программные средства.</a:t>
            </a:r>
            <a:endParaRPr b="0" lang="en-US" sz="19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1900" spc="-1" strike="noStrike">
                <a:solidFill>
                  <a:srgbClr val="ffffff"/>
                </a:solidFill>
                <a:latin typeface="Garamond"/>
              </a:rPr>
              <a:t>4) Аппаратные и программные средства.</a:t>
            </a:r>
            <a:endParaRPr b="0" lang="en-US" sz="19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Garamond"/>
              </a:rPr>
              <a:t>8. Какие существуют вспомогательные средства защиты?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1) Аппаратные средства.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2) Программные средства.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3) Аппаратные средства и антивирусные программы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4) Аппаратные и программные средства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Garamond"/>
              </a:rPr>
              <a:t>9. На чем основано действие антивирусной программы?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1) На ожидании начала вирусной атаки.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2) На сравнении программных кодов с известными вирусами.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3) На удалении зараженных файлов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4) На обнаружении и удалении вируса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Garamond"/>
              </a:rPr>
              <a:t>10. Какие программы относятся к антивирусным?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1) AVP, DrWeb, Norton AntiVirus,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VAST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2) MS-DOS, MS Word, AVP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3) MS Word, MS Excel, Norton Commander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4) DrWeb, Microsoft Security Essentials, MS Word, MS Excel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278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ПРОВЕРИМ СЕБЯ!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ТЕСТ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Garamond"/>
              </a:rPr>
              <a:t>1. Что такое компьютерный вирус?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1) Прикладная программа.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2) Системная программа.</a:t>
            </a:r>
            <a:br>
              <a:rPr sz="2000"/>
            </a:br>
            <a:r>
              <a:rPr b="0" lang="ru-RU" sz="2000" spc="-1" strike="noStrike" u="sng">
                <a:solidFill>
                  <a:srgbClr val="ffffff"/>
                </a:solidFill>
                <a:uFillTx/>
                <a:latin typeface="Garamond"/>
              </a:rPr>
              <a:t>3) Программа, выполняющая на компьютере несанкционированные действия.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4) База данных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Garamond"/>
              </a:rPr>
              <a:t>2. Основные типы компьютерных вирусов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1) Аппаратные, программные, загрузочные .</a:t>
            </a:r>
            <a:br>
              <a:rPr sz="2000"/>
            </a:br>
            <a:r>
              <a:rPr b="0" lang="ru-RU" sz="2000" spc="-1" strike="noStrike" u="sng">
                <a:solidFill>
                  <a:srgbClr val="ffffff"/>
                </a:solidFill>
                <a:uFillTx/>
                <a:latin typeface="Garamond"/>
              </a:rPr>
              <a:t>2) Программные, загрузочные, макровирусы.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3) Файловые, программные, макровирусы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4)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Файловые, загрузочные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Garamond"/>
              </a:rPr>
              <a:t>3. Этапы действия программного вируса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000" spc="-1" strike="noStrike" u="sng">
                <a:solidFill>
                  <a:srgbClr val="ffffff"/>
                </a:solidFill>
                <a:uFillTx/>
                <a:latin typeface="Garamond"/>
              </a:rPr>
              <a:t>1) Размножение, вирусная атака.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2) Запись в файл, размножение.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3) Запись в файл, размножение, уничтожение программы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4) Размножение, уничтожение программы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68360" y="404640"/>
            <a:ext cx="822960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cc00"/>
                </a:solidFill>
                <a:latin typeface="Garamond"/>
              </a:rPr>
              <a:t>4. В чем заключается размножение программного вируса?</a:t>
            </a:r>
            <a:endParaRPr b="0" lang="en-US" sz="19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1900" spc="-1" strike="noStrike">
                <a:solidFill>
                  <a:srgbClr val="ffffff"/>
                </a:solidFill>
                <a:latin typeface="Garamond"/>
              </a:rPr>
              <a:t>1) Программа-вирус один раз копируется в теле другой программы.</a:t>
            </a:r>
            <a:br>
              <a:rPr sz="1900"/>
            </a:br>
            <a:r>
              <a:rPr b="0" lang="en-US" sz="1900" spc="-1" strike="noStrike" u="sng">
                <a:solidFill>
                  <a:srgbClr val="ffffff"/>
                </a:solidFill>
                <a:uFillTx/>
                <a:latin typeface="Garamond"/>
              </a:rPr>
              <a:t>2) Вирусный код неоднократно копируется в теле другой программы.</a:t>
            </a:r>
            <a:endParaRPr b="0" lang="en-US" sz="19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1900" spc="-1" strike="noStrike">
                <a:solidFill>
                  <a:srgbClr val="ffffff"/>
                </a:solidFill>
                <a:latin typeface="Garamond"/>
              </a:rPr>
              <a:t>3) Программа-вирус поражает многократно другие программы.</a:t>
            </a:r>
            <a:endParaRPr b="0" lang="en-US" sz="19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1900" spc="-1" strike="noStrike">
                <a:solidFill>
                  <a:srgbClr val="ffffff"/>
                </a:solidFill>
                <a:latin typeface="Garamond"/>
              </a:rPr>
              <a:t>4) Вирусный код один раз копируется в теле другой программы.</a:t>
            </a:r>
            <a:endParaRPr b="0" lang="en-US" sz="19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cc00"/>
                </a:solidFill>
                <a:latin typeface="Garamond"/>
              </a:rPr>
              <a:t>5. Что называется вирусной атакой?</a:t>
            </a:r>
            <a:endParaRPr b="0" lang="en-US" sz="19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1900" spc="-1" strike="noStrike">
                <a:solidFill>
                  <a:srgbClr val="ffffff"/>
                </a:solidFill>
                <a:latin typeface="Garamond"/>
              </a:rPr>
              <a:t>1) Неоднократное копирование кода вируса в код программы.</a:t>
            </a:r>
            <a:br>
              <a:rPr sz="1900"/>
            </a:br>
            <a:r>
              <a:rPr b="0" lang="en-US" sz="1900" spc="-1" strike="noStrike">
                <a:solidFill>
                  <a:srgbClr val="ffffff"/>
                </a:solidFill>
                <a:latin typeface="Garamond"/>
              </a:rPr>
              <a:t>2) Отключение компьютера в результате попадания вируса.</a:t>
            </a:r>
            <a:br>
              <a:rPr sz="1900"/>
            </a:br>
            <a:r>
              <a:rPr b="0" lang="en-US" sz="1900" spc="-1" strike="noStrike" u="sng">
                <a:solidFill>
                  <a:srgbClr val="ffffff"/>
                </a:solidFill>
                <a:uFillTx/>
                <a:latin typeface="Garamond"/>
              </a:rPr>
              <a:t>3) Нарушение работы программы, уничтожение данных, форматирование жесткого диска.</a:t>
            </a:r>
            <a:endParaRPr b="0" lang="en-US" sz="19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1900" spc="-1" strike="noStrike">
                <a:solidFill>
                  <a:srgbClr val="ffffff"/>
                </a:solidFill>
                <a:latin typeface="Garamond"/>
              </a:rPr>
              <a:t>4) Частое зависание компьютера и замедление его работы.</a:t>
            </a:r>
            <a:endParaRPr b="0" lang="en-US" sz="19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cc00"/>
                </a:solidFill>
                <a:latin typeface="Garamond"/>
              </a:rPr>
              <a:t>6. Какие существуют методы реализации антивирусной защиты?</a:t>
            </a:r>
            <a:endParaRPr b="0" lang="en-US" sz="19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1900" spc="-1" strike="noStrike">
                <a:solidFill>
                  <a:srgbClr val="ffffff"/>
                </a:solidFill>
                <a:latin typeface="Garamond"/>
              </a:rPr>
              <a:t>1) Аппаратные и программные.</a:t>
            </a:r>
            <a:br>
              <a:rPr sz="1900"/>
            </a:br>
            <a:r>
              <a:rPr b="0" lang="en-US" sz="1900" spc="-1" strike="noStrike" u="sng">
                <a:solidFill>
                  <a:srgbClr val="ffffff"/>
                </a:solidFill>
                <a:uFillTx/>
                <a:latin typeface="Garamond"/>
              </a:rPr>
              <a:t>2) Программные, аппаратные и организационные.</a:t>
            </a:r>
            <a:br>
              <a:rPr sz="1900"/>
            </a:br>
            <a:r>
              <a:rPr b="0" lang="en-US" sz="1900" spc="-1" strike="noStrike">
                <a:solidFill>
                  <a:srgbClr val="ffffff"/>
                </a:solidFill>
                <a:latin typeface="Garamond"/>
              </a:rPr>
              <a:t>3) Только программные.</a:t>
            </a:r>
            <a:endParaRPr b="0" lang="en-US" sz="19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1900" spc="-1" strike="noStrike">
                <a:solidFill>
                  <a:srgbClr val="ffffff"/>
                </a:solidFill>
                <a:latin typeface="Garamond"/>
              </a:rPr>
              <a:t>4) Только аппаратные.</a:t>
            </a:r>
            <a:endParaRPr b="0" lang="en-US" sz="19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cc00"/>
                </a:solidFill>
                <a:latin typeface="Garamond"/>
              </a:rPr>
              <a:t>7. Какие существуют основные средства защиты?</a:t>
            </a:r>
            <a:endParaRPr b="0" lang="en-US" sz="19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1900" spc="-1" strike="noStrike" u="sng">
                <a:solidFill>
                  <a:srgbClr val="ffffff"/>
                </a:solidFill>
                <a:uFillTx/>
                <a:latin typeface="Garamond"/>
              </a:rPr>
              <a:t>1) Резервное копирование наиболее ценных данных.</a:t>
            </a:r>
            <a:br>
              <a:rPr sz="1900"/>
            </a:br>
            <a:r>
              <a:rPr b="0" lang="en-US" sz="1900" spc="-1" strike="noStrike">
                <a:solidFill>
                  <a:srgbClr val="ffffff"/>
                </a:solidFill>
                <a:latin typeface="Garamond"/>
              </a:rPr>
              <a:t>2) Аппаратные средства.</a:t>
            </a:r>
            <a:br>
              <a:rPr sz="1900"/>
            </a:br>
            <a:r>
              <a:rPr b="0" lang="en-US" sz="1900" spc="-1" strike="noStrike">
                <a:solidFill>
                  <a:srgbClr val="ffffff"/>
                </a:solidFill>
                <a:latin typeface="Garamond"/>
              </a:rPr>
              <a:t>3) Программные средства.</a:t>
            </a:r>
            <a:endParaRPr b="0" lang="en-US" sz="19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1900" spc="-1" strike="noStrike">
                <a:solidFill>
                  <a:srgbClr val="ffffff"/>
                </a:solidFill>
                <a:latin typeface="Garamond"/>
              </a:rPr>
              <a:t>4) Аппаратные и программные средства.</a:t>
            </a:r>
            <a:endParaRPr b="0" lang="en-US" sz="19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Garamond"/>
              </a:rPr>
              <a:t>8. Какие существуют вспомогательные средства защиты?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1) Аппаратные средства.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2) Программные средства.</a:t>
            </a:r>
            <a:br>
              <a:rPr sz="2000"/>
            </a:br>
            <a:r>
              <a:rPr b="0" lang="ru-RU" sz="2000" spc="-1" strike="noStrike" u="sng">
                <a:solidFill>
                  <a:srgbClr val="ffffff"/>
                </a:solidFill>
                <a:uFillTx/>
                <a:latin typeface="Garamond"/>
              </a:rPr>
              <a:t>3) Аппаратные средства и антивирусные программы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4) Аппаратные и программные средства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Garamond"/>
              </a:rPr>
              <a:t>9. На чем основано действие антивирусной программы?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1) На ожидании начала вирусной атаки.</a:t>
            </a:r>
            <a:br>
              <a:rPr sz="2000"/>
            </a:br>
            <a:r>
              <a:rPr b="0" lang="ru-RU" sz="2000" spc="-1" strike="noStrike" u="sng">
                <a:solidFill>
                  <a:srgbClr val="ffffff"/>
                </a:solidFill>
                <a:uFillTx/>
                <a:latin typeface="Garamond"/>
              </a:rPr>
              <a:t>2) На сравнении программных кодов с известными вирусами.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3) На удалении зараженных файлов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4) На обнаружении и удалении вируса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Garamond"/>
              </a:rPr>
              <a:t>10. Какие программы относятся к антивирусным?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Garamond"/>
              </a:rPr>
              <a:t>1) AVP, DrWeb, Norton AntiVirus,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Garamond"/>
              </a:rPr>
              <a:t>AVAST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Garamond"/>
              </a:rPr>
              <a:t>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2) MS-DOS, MS Word, AVP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3) MS Word, MS Excel, Norton Commander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4) DrWeb, Microsoft Security Essentials, MS Word, MS Excel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05T21:43:25Z</dcterms:created>
  <dc:creator>Юлёк</dc:creator>
  <dc:description/>
  <dc:language>en-US</dc:language>
  <cp:lastModifiedBy>Юлёк</cp:lastModifiedBy>
  <dcterms:modified xsi:type="dcterms:W3CDTF">2015-02-19T20:23:42Z</dcterms:modified>
  <cp:revision>9</cp:revision>
  <dc:subject/>
  <dc:title>Физическая защита данных на дисках. Вредоносные и антивирусные  программы. Компьютерные вирусы и защита от них. </dc:title>
</cp:coreProperties>
</file>