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5D1-D848-4F5F-BAC5-E3B9412C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952-9832-4D1A-AAE6-9E30EF7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6E-FF28-41D3-BCDD-9FAD09E1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749-F234-4F69-AFC6-DAFCC488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27CB-12C6-46BD-B8FB-74676A74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E579-5AF6-47A8-91CD-FF0743B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FE39-CE0C-46A5-AA99-CC57C6D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3C0D-AC23-4CF4-BDBF-0618231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FDC4-D62A-4F7C-BA73-E00DD46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60C-0178-43DF-8ACC-35E3B04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415-CA66-4815-AA42-5156F0A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E8E-9454-4D90-867F-EFB09B2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ED31-8765-4FEE-8833-32BEE278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08F-03C1-4922-B799-3968F0A3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8D07-C073-491B-A25C-7D8DA009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DF0E-CF35-4163-8719-1E60D84B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B7E-B8BE-47B7-8DD6-8E2D8661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FD8-BB91-427B-B84B-9088E43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7FB-8663-46D7-9124-91DE9ABE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CA6-D3CD-461D-9D3A-2AD865C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ED2-D30E-4393-BFDD-D655C76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B8C-4FD0-4F77-A2A8-E40AA24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893-42A6-4533-94F2-558668F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A1D-DEC3-419E-A355-5A52935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36E-AB4E-4640-9542-F0F53E18574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DEA5-8479-41D5-A63E-64E3573421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2b2b2"/>
                </a:solidFill>
                <a:latin typeface="Times New Roman"/>
              </a:rPr>
              <a:t>Освоение космоса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дготовил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АШИНА Марина Викторовна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ЛЯЕВА Екатери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сква, 20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теме проект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энциклопедиями. Дидактическая игра «Планеты Солнечной системы»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DSC06293"/>
          <p:cNvPicPr/>
          <p:nvPr/>
        </p:nvPicPr>
        <p:blipFill>
          <a:blip r:embed="rId1"/>
          <a:stretch/>
        </p:blipFill>
        <p:spPr>
          <a:xfrm>
            <a:off x="1116000" y="1197000"/>
            <a:ext cx="3425760" cy="256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2016-03-21 10"/>
          <p:cNvPicPr/>
          <p:nvPr/>
        </p:nvPicPr>
        <p:blipFill>
          <a:blip r:embed="rId2"/>
          <a:stretch/>
        </p:blipFill>
        <p:spPr>
          <a:xfrm>
            <a:off x="4716360" y="1197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DSC06300"/>
          <p:cNvPicPr/>
          <p:nvPr/>
        </p:nvPicPr>
        <p:blipFill>
          <a:blip r:embed="rId3"/>
          <a:stretch/>
        </p:blipFill>
        <p:spPr>
          <a:xfrm>
            <a:off x="2700360" y="3860640"/>
            <a:ext cx="3456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Рисование. «Неизвестная планета».</a:t>
            </a: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етрадиционная техника рисования мыльной пеной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13" descr="2016-03-15 10"/>
          <p:cNvPicPr/>
          <p:nvPr/>
        </p:nvPicPr>
        <p:blipFill>
          <a:blip r:embed="rId1"/>
          <a:stretch/>
        </p:blipFill>
        <p:spPr>
          <a:xfrm>
            <a:off x="1042920" y="1231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2016-03-15 10"/>
          <p:cNvPicPr/>
          <p:nvPr/>
        </p:nvPicPr>
        <p:blipFill>
          <a:blip r:embed="rId2"/>
          <a:stretch/>
        </p:blipFill>
        <p:spPr>
          <a:xfrm>
            <a:off x="4500720" y="12081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2016-03-21 08"/>
          <p:cNvPicPr/>
          <p:nvPr/>
        </p:nvPicPr>
        <p:blipFill>
          <a:blip r:embed="rId3"/>
          <a:stretch/>
        </p:blipFill>
        <p:spPr>
          <a:xfrm>
            <a:off x="1042920" y="3860640"/>
            <a:ext cx="3357720" cy="251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2016-03-15 10"/>
          <p:cNvPicPr/>
          <p:nvPr/>
        </p:nvPicPr>
        <p:blipFill>
          <a:blip r:embed="rId4"/>
          <a:stretch/>
        </p:blipFill>
        <p:spPr>
          <a:xfrm>
            <a:off x="4500720" y="3860640"/>
            <a:ext cx="338436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Лепка с элементами конструирования из природного и бросового материала. «Космонавт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11" descr="DSC06192"/>
          <p:cNvPicPr/>
          <p:nvPr/>
        </p:nvPicPr>
        <p:blipFill>
          <a:blip r:embed="rId1"/>
          <a:stretch/>
        </p:blipFill>
        <p:spPr>
          <a:xfrm>
            <a:off x="971640" y="981000"/>
            <a:ext cx="3498840" cy="262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DSC06200"/>
          <p:cNvPicPr/>
          <p:nvPr/>
        </p:nvPicPr>
        <p:blipFill>
          <a:blip r:embed="rId2"/>
          <a:stretch/>
        </p:blipFill>
        <p:spPr>
          <a:xfrm>
            <a:off x="4572000" y="98100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DSC06201"/>
          <p:cNvPicPr/>
          <p:nvPr/>
        </p:nvPicPr>
        <p:blipFill>
          <a:blip r:embed="rId3"/>
          <a:stretch/>
        </p:blipFill>
        <p:spPr>
          <a:xfrm>
            <a:off x="971640" y="3716280"/>
            <a:ext cx="3498840" cy="2621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DSC06203"/>
          <p:cNvPicPr/>
          <p:nvPr/>
        </p:nvPicPr>
        <p:blipFill>
          <a:blip r:embed="rId4"/>
          <a:stretch/>
        </p:blipFill>
        <p:spPr>
          <a:xfrm>
            <a:off x="4572000" y="3716280"/>
            <a:ext cx="35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Рисование. «Лунный пейзаж».</a:t>
            </a: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омбинированная техника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1" descr="DSC06247"/>
          <p:cNvPicPr/>
          <p:nvPr/>
        </p:nvPicPr>
        <p:blipFill>
          <a:blip r:embed="rId1"/>
          <a:stretch/>
        </p:blipFill>
        <p:spPr>
          <a:xfrm>
            <a:off x="1042920" y="1052640"/>
            <a:ext cx="3282840" cy="245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DSC06251"/>
          <p:cNvPicPr/>
          <p:nvPr/>
        </p:nvPicPr>
        <p:blipFill>
          <a:blip r:embed="rId2"/>
          <a:stretch/>
        </p:blipFill>
        <p:spPr>
          <a:xfrm>
            <a:off x="4427640" y="105264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DSC06252"/>
          <p:cNvPicPr/>
          <p:nvPr/>
        </p:nvPicPr>
        <p:blipFill>
          <a:blip r:embed="rId3"/>
          <a:stretch/>
        </p:blipFill>
        <p:spPr>
          <a:xfrm>
            <a:off x="1042920" y="3645000"/>
            <a:ext cx="3282840" cy="245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DSC06272"/>
          <p:cNvPicPr/>
          <p:nvPr/>
        </p:nvPicPr>
        <p:blipFill>
          <a:blip r:embed="rId4"/>
          <a:stretch/>
        </p:blipFill>
        <p:spPr>
          <a:xfrm>
            <a:off x="4427640" y="364500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ыставка детских работ: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Лунный пейзаж», «Путь к звездам»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5" name="Picture 11" descr="DSC06262"/>
          <p:cNvPicPr/>
          <p:nvPr/>
        </p:nvPicPr>
        <p:blipFill>
          <a:blip r:embed="rId1"/>
          <a:stretch/>
        </p:blipFill>
        <p:spPr>
          <a:xfrm>
            <a:off x="250920" y="2195640"/>
            <a:ext cx="4097160" cy="3074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2016-03-21 15"/>
          <p:cNvPicPr/>
          <p:nvPr/>
        </p:nvPicPr>
        <p:blipFill>
          <a:blip r:embed="rId2"/>
          <a:stretch/>
        </p:blipFill>
        <p:spPr>
          <a:xfrm>
            <a:off x="4427640" y="1052640"/>
            <a:ext cx="3566880" cy="267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DSC06283"/>
          <p:cNvPicPr/>
          <p:nvPr/>
        </p:nvPicPr>
        <p:blipFill>
          <a:blip r:embed="rId3"/>
          <a:stretch/>
        </p:blipFill>
        <p:spPr>
          <a:xfrm>
            <a:off x="4500720" y="378936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Конструирование из бумаги в технике оригам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ая ракет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13" descr="DSC06425"/>
          <p:cNvPicPr/>
          <p:nvPr/>
        </p:nvPicPr>
        <p:blipFill>
          <a:blip r:embed="rId1"/>
          <a:stretch/>
        </p:blipFill>
        <p:spPr>
          <a:xfrm>
            <a:off x="4067280" y="2060640"/>
            <a:ext cx="4610160" cy="345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DSC06426"/>
          <p:cNvPicPr/>
          <p:nvPr/>
        </p:nvPicPr>
        <p:blipFill>
          <a:blip r:embed="rId2"/>
          <a:stretch/>
        </p:blipFill>
        <p:spPr>
          <a:xfrm>
            <a:off x="611280" y="146052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DSC06438"/>
          <p:cNvPicPr/>
          <p:nvPr/>
        </p:nvPicPr>
        <p:blipFill>
          <a:blip r:embed="rId3"/>
          <a:stretch/>
        </p:blipFill>
        <p:spPr>
          <a:xfrm>
            <a:off x="611280" y="393372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ОД. Аппликация с элементами конструирование из бумаги в технике оригам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ий коллаж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11" descr="DSC06443"/>
          <p:cNvPicPr/>
          <p:nvPr/>
        </p:nvPicPr>
        <p:blipFill>
          <a:blip r:embed="rId1"/>
          <a:stretch/>
        </p:blipFill>
        <p:spPr>
          <a:xfrm>
            <a:off x="1116000" y="1359000"/>
            <a:ext cx="3279960" cy="245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DSC06444"/>
          <p:cNvPicPr/>
          <p:nvPr/>
        </p:nvPicPr>
        <p:blipFill>
          <a:blip r:embed="rId2"/>
          <a:stretch/>
        </p:blipFill>
        <p:spPr>
          <a:xfrm>
            <a:off x="4500720" y="1335240"/>
            <a:ext cx="3311280" cy="2482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DSC06450"/>
          <p:cNvPicPr/>
          <p:nvPr/>
        </p:nvPicPr>
        <p:blipFill>
          <a:blip r:embed="rId3"/>
          <a:stretch/>
        </p:blipFill>
        <p:spPr>
          <a:xfrm>
            <a:off x="1116000" y="3933720"/>
            <a:ext cx="3284640" cy="245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DSC06680"/>
          <p:cNvPicPr/>
          <p:nvPr/>
        </p:nvPicPr>
        <p:blipFill>
          <a:blip r:embed="rId4"/>
          <a:stretch/>
        </p:blipFill>
        <p:spPr>
          <a:xfrm>
            <a:off x="4500720" y="3933720"/>
            <a:ext cx="33112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ллея космонавтов. Памятник К.Э. Циолковскому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1" name="Picture 11" descr="DSC06311"/>
          <p:cNvPicPr/>
          <p:nvPr/>
        </p:nvPicPr>
        <p:blipFill>
          <a:blip r:embed="rId1"/>
          <a:stretch/>
        </p:blipFill>
        <p:spPr>
          <a:xfrm>
            <a:off x="1022400" y="1700280"/>
            <a:ext cx="3510000" cy="46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DSC06317"/>
          <p:cNvPicPr/>
          <p:nvPr/>
        </p:nvPicPr>
        <p:blipFill>
          <a:blip r:embed="rId2"/>
          <a:stretch/>
        </p:blipFill>
        <p:spPr>
          <a:xfrm>
            <a:off x="4716360" y="1700280"/>
            <a:ext cx="3510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с историей отечественной космонавтик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Picture 11" descr="DSC06328"/>
          <p:cNvPicPr/>
          <p:nvPr/>
        </p:nvPicPr>
        <p:blipFill>
          <a:blip r:embed="rId1"/>
          <a:stretch/>
        </p:blipFill>
        <p:spPr>
          <a:xfrm>
            <a:off x="971640" y="1071720"/>
            <a:ext cx="3566880" cy="267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DSC06361"/>
          <p:cNvPicPr/>
          <p:nvPr/>
        </p:nvPicPr>
        <p:blipFill>
          <a:blip r:embed="rId2"/>
          <a:stretch/>
        </p:blipFill>
        <p:spPr>
          <a:xfrm>
            <a:off x="4643280" y="11001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DSC06385"/>
          <p:cNvPicPr/>
          <p:nvPr/>
        </p:nvPicPr>
        <p:blipFill>
          <a:blip r:embed="rId3"/>
          <a:stretch/>
        </p:blipFill>
        <p:spPr>
          <a:xfrm>
            <a:off x="971640" y="3860640"/>
            <a:ext cx="3566880" cy="2675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DSC06339"/>
          <p:cNvPicPr/>
          <p:nvPr/>
        </p:nvPicPr>
        <p:blipFill>
          <a:blip r:embed="rId4"/>
          <a:stretch/>
        </p:blipFill>
        <p:spPr>
          <a:xfrm>
            <a:off x="464328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Космические» продукты. Метеориты. Центр управления полетам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11" descr="DSC06386"/>
          <p:cNvPicPr/>
          <p:nvPr/>
        </p:nvPicPr>
        <p:blipFill>
          <a:blip r:embed="rId1"/>
          <a:stretch/>
        </p:blipFill>
        <p:spPr>
          <a:xfrm>
            <a:off x="1042920" y="1089000"/>
            <a:ext cx="3640320" cy="27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DSC06403"/>
          <p:cNvPicPr/>
          <p:nvPr/>
        </p:nvPicPr>
        <p:blipFill>
          <a:blip r:embed="rId2"/>
          <a:stretch/>
        </p:blipFill>
        <p:spPr>
          <a:xfrm>
            <a:off x="4788000" y="1065240"/>
            <a:ext cx="3671640" cy="27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DSC06408"/>
          <p:cNvPicPr/>
          <p:nvPr/>
        </p:nvPicPr>
        <p:blipFill>
          <a:blip r:embed="rId3"/>
          <a:stretch/>
        </p:blipFill>
        <p:spPr>
          <a:xfrm>
            <a:off x="1042920" y="3860640"/>
            <a:ext cx="3640320" cy="272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DSC06417"/>
          <p:cNvPicPr/>
          <p:nvPr/>
        </p:nvPicPr>
        <p:blipFill>
          <a:blip r:embed="rId4"/>
          <a:stretch/>
        </p:blipFill>
        <p:spPr>
          <a:xfrm>
            <a:off x="4788000" y="3860640"/>
            <a:ext cx="36716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71640" y="873720"/>
            <a:ext cx="75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у ребенка представления об окружающем мире до глубин Вселенной, не зазубривая научные истины, а открывая их сам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Способствовать формированию у детей понятий «Космос», «Космическое пространств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2. Способствовать ознакомлению с историей  освоения космо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3. Способствовать расширению и углублению представлений об окружающем мире Земли  и о роли человека в ее экосист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4. Подвести к пониманию уникальности нашей планеты, так как только на ней есть жиз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5. Воспитывать уважение и любовь к Земле, как к космическому чуду, дающему все необходимое для жизни, а так же чувство гордости за историю своей планеты, за достижения отечественных ученых, конструкторов, космонав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Экскурсия в Музей космонавтики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Юные исследователи космоса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12" descr="DSC06421"/>
          <p:cNvPicPr/>
          <p:nvPr/>
        </p:nvPicPr>
        <p:blipFill>
          <a:blip r:embed="rId1"/>
          <a:stretch/>
        </p:blipFill>
        <p:spPr>
          <a:xfrm>
            <a:off x="971640" y="1125360"/>
            <a:ext cx="69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Picture 11" descr="DSC06471"/>
          <p:cNvPicPr/>
          <p:nvPr/>
        </p:nvPicPr>
        <p:blipFill>
          <a:blip r:embed="rId1"/>
          <a:stretch/>
        </p:blipFill>
        <p:spPr>
          <a:xfrm>
            <a:off x="971640" y="1125360"/>
            <a:ext cx="3639960" cy="272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DSC06500"/>
          <p:cNvPicPr/>
          <p:nvPr/>
        </p:nvPicPr>
        <p:blipFill>
          <a:blip r:embed="rId2"/>
          <a:stretch/>
        </p:blipFill>
        <p:spPr>
          <a:xfrm>
            <a:off x="4716360" y="113976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DSC06529"/>
          <p:cNvPicPr/>
          <p:nvPr/>
        </p:nvPicPr>
        <p:blipFill>
          <a:blip r:embed="rId3"/>
          <a:stretch/>
        </p:blipFill>
        <p:spPr>
          <a:xfrm>
            <a:off x="971640" y="3933720"/>
            <a:ext cx="3641760" cy="272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DSC06536"/>
          <p:cNvPicPr/>
          <p:nvPr/>
        </p:nvPicPr>
        <p:blipFill>
          <a:blip r:embed="rId4"/>
          <a:stretch/>
        </p:blipFill>
        <p:spPr>
          <a:xfrm>
            <a:off x="4716360" y="3933720"/>
            <a:ext cx="36720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Picture 11" descr="DSC06544"/>
          <p:cNvPicPr/>
          <p:nvPr/>
        </p:nvPicPr>
        <p:blipFill>
          <a:blip r:embed="rId1"/>
          <a:stretch/>
        </p:blipFill>
        <p:spPr>
          <a:xfrm>
            <a:off x="1258920" y="1268280"/>
            <a:ext cx="3279600" cy="245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DSC06552"/>
          <p:cNvPicPr/>
          <p:nvPr/>
        </p:nvPicPr>
        <p:blipFill>
          <a:blip r:embed="rId2"/>
          <a:stretch/>
        </p:blipFill>
        <p:spPr>
          <a:xfrm>
            <a:off x="4643280" y="126216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DSC06571"/>
          <p:cNvPicPr/>
          <p:nvPr/>
        </p:nvPicPr>
        <p:blipFill>
          <a:blip r:embed="rId3"/>
          <a:stretch/>
        </p:blipFill>
        <p:spPr>
          <a:xfrm>
            <a:off x="1258920" y="3789360"/>
            <a:ext cx="3279600" cy="2459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DSC06573"/>
          <p:cNvPicPr/>
          <p:nvPr/>
        </p:nvPicPr>
        <p:blipFill>
          <a:blip r:embed="rId4"/>
          <a:stretch/>
        </p:blipFill>
        <p:spPr>
          <a:xfrm>
            <a:off x="4643280" y="3789360"/>
            <a:ext cx="33134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2" name="Picture 11" descr="DSC06576"/>
          <p:cNvPicPr/>
          <p:nvPr/>
        </p:nvPicPr>
        <p:blipFill>
          <a:blip r:embed="rId1"/>
          <a:stretch/>
        </p:blipFill>
        <p:spPr>
          <a:xfrm>
            <a:off x="1403280" y="119700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DSC06583"/>
          <p:cNvPicPr/>
          <p:nvPr/>
        </p:nvPicPr>
        <p:blipFill>
          <a:blip r:embed="rId2"/>
          <a:stretch/>
        </p:blipFill>
        <p:spPr>
          <a:xfrm>
            <a:off x="4716360" y="11714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DSC06603"/>
          <p:cNvPicPr/>
          <p:nvPr/>
        </p:nvPicPr>
        <p:blipFill>
          <a:blip r:embed="rId3"/>
          <a:stretch/>
        </p:blipFill>
        <p:spPr>
          <a:xfrm>
            <a:off x="1403280" y="371628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DSC06640"/>
          <p:cNvPicPr/>
          <p:nvPr/>
        </p:nvPicPr>
        <p:blipFill>
          <a:blip r:embed="rId4"/>
          <a:stretch/>
        </p:blipFill>
        <p:spPr>
          <a:xfrm>
            <a:off x="4716360" y="371628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тоговое мероприятие по проекту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теллектуальная викторина «Знатоки космоса»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8" name="Picture 5" descr="DSC06670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71640" y="2053080"/>
            <a:ext cx="7559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й, групповой, долгосроч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и подготовительной группы №3 «Радуга», родители воспитанников, педагоги группы, музыкальный руководи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оки реализаци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тябрь 2015 года — апрель 2016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Целеполагание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125360"/>
          <a:ext cx="8229600" cy="429588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ьское собрание, на котором родители  поддержали  интерес детей к теме космоса и наметили Совместные пути по реализации данной т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 в группе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емля — наш общий дом», «Что такое Солнце?», «Звезды — какие они?», «Космонавт — важная профессия»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целью выявления интереса и уровня знаний детей по теме проекта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программно-методического обеспечения для реализации проекта, формулирование цели и задач проекта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Разработка проект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125360"/>
          <a:ext cx="8229600" cy="435168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материала и оборудования, методической литературы, презентационного материала по теме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ор познавательной и художественной литературы для детей, фотографий о космос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 воспитанников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конспектов НОД, сценария спортивного развлечения «Большое космическое путешествие», сценария интеллектуально-познавательного досуга «Мы — будущие космонавты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 и анализ полученной информации об экскурсионных программах для детей дошкольного возраста в Московском Планетарии и Музее Космонавтик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Выполнение проект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25360"/>
          <a:ext cx="8229600" cy="549756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ы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такое Солнечная система?», «Земля и ее спутник», «Созвездия нашего неба», «Путеводная звезда», «Что такое метеориты?», «Кто придумал космический корабль?», «Первые космонавты Земли», «Полет человека в космос», «Мы первые в космосе!», «Российские космонав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родители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: Ознакомление с окружающим миром: «Земля — наш дом во Вселенной», Развитие речи «Ракета летит к звездам», ФЭМП «Большое космическое путешествие», Рисование «Неизвестная планета», «Путь к звездам», «Лунный пейзаж», Лепка «Космонавт», Аппликация с элементами конструирования из бумаги в технике оригами «Космический коллаж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: С. Баруздин «Первый человек в космосе», М. Водопьянов «Космонавт-1», «106 минут вне Земли», А. Митяев «День космонавтики», «Первый полет», Г. Юрмин «Счастливого пути, космонавт», К. Булычев «Тайна третьей планеты», В. Медведев «Звездолет Брунька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родители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476280"/>
          <a:ext cx="8229600" cy="585324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е развлечение «Большое космическое путешествие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, инструктор по физической культу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, Евдокимова М.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ие игры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йди лишнее», «Дверная скважина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вук потерялся», «Разведчики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изменилось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де мы были, что мы видел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южетно-ролевые игры: «Космонавты в полет!», «Космическое путешествие», «Будущие космонавты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ная игра «Космодр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о-родительских поделок «Космический транспорт будущего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и воспитанники группы, родители воспитан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Музея космонавти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и воспитанники группы, родители воспитан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 проек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Этап: Презентационно-Завершающий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125360"/>
          <a:ext cx="8229600" cy="3795840"/>
        </p:xfrm>
        <a:graphic>
          <a:graphicData uri="http://schemas.openxmlformats.org/drawingml/2006/table">
            <a:tbl>
              <a:tblPr/>
              <a:tblGrid>
                <a:gridCol w="4103640"/>
                <a:gridCol w="2087640"/>
                <a:gridCol w="203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вое мероприят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ая викторина «Знатоки космос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воение космоса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, музыкальный руководитель, учитель логопе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, Алиева А.В., Новосильчук В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: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о мы знали, что узнали, что еще хотим узн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ики группы, 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ов проектной деятельности на педагогическом совете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 Сашина М.В., Филяева Е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55640" y="28242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теме проекта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комство детей с энциклопедиями.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34" descr="DSC06298"/>
          <p:cNvPicPr/>
          <p:nvPr/>
        </p:nvPicPr>
        <p:blipFill>
          <a:blip r:embed="rId1"/>
          <a:stretch/>
        </p:blipFill>
        <p:spPr>
          <a:xfrm>
            <a:off x="468360" y="981000"/>
            <a:ext cx="4319640" cy="323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DSC06290"/>
          <p:cNvPicPr/>
          <p:nvPr/>
        </p:nvPicPr>
        <p:blipFill>
          <a:blip r:embed="rId2"/>
          <a:stretch/>
        </p:blipFill>
        <p:spPr>
          <a:xfrm>
            <a:off x="4716360" y="314172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19:52:51Z</dcterms:created>
  <dc:creator>Billy Gates</dc:creator>
  <dc:description/>
  <dc:language>en-US</dc:language>
  <cp:lastModifiedBy>Billy Gates</cp:lastModifiedBy>
  <dcterms:modified xsi:type="dcterms:W3CDTF">2016-09-26T20:46:34Z</dcterms:modified>
  <cp:revision>19</cp:revision>
  <dc:subject/>
  <dc:title>Освоение космоса — первые во Вселенно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