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0DE-DA5A-4FCE-B4F8-BEB7C9F3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8C4-B0F6-45FB-94CB-F0C7F1F2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87A-4B4E-4C88-9922-9878611C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405-34DB-464D-A380-38453C69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1ADC-8CC3-4AF7-B238-D3FA1F5A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B40C-5764-4A23-AB78-057626A0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FCDF-6A06-4F4E-A7E7-ECD18245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B836-719F-4A2E-8CD0-5C8A7B93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1C51-E7B2-4095-A157-D9E06FBD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5525-5377-4748-8841-0C6A9B8B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15F5-40DA-49C6-BC1F-01081AB5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303-B382-40AA-80CD-15EE2D2E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3C74-4091-4F3C-99F9-DD07EDFF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5004-CD75-4EE0-A8BB-F2D07F2A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B820-FB12-4801-BACD-785574D2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32B2-04C6-42D6-A70F-2C014E2F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DC02-C78C-4594-AEBB-8A59BF87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F92-29F1-4B61-A0B7-BCE1B45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EA4-79A9-40DA-B757-BAF62D8D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51C-6FCE-4A81-8004-0B0B9964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2C5-F2DC-4E00-968A-6A437535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9D0-C20C-4B9C-B427-CAD5A3C1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988-963A-400A-8927-8F24F71F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A38-7BD4-40C0-B812-69DF633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2B4C-0EE3-4590-93E7-28E4EED0EA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6AB8-57CD-4944-B6F7-5D9BF77AD3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2b2b2"/>
                </a:solidFill>
                <a:latin typeface="Times New Roman"/>
              </a:rPr>
              <a:t>Освоение космоса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дготовил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АШИНА Марина Викторовна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ИЛЯЕВА Екатери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осква, 20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едметно-развивающая среда по теме проекта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Знакомство детей с энциклопедиями. Дидактическая игра «Планеты Солнечной системы»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Picture 3" descr="DSC06293"/>
          <p:cNvPicPr/>
          <p:nvPr/>
        </p:nvPicPr>
        <p:blipFill>
          <a:blip r:embed="rId1"/>
          <a:stretch/>
        </p:blipFill>
        <p:spPr>
          <a:xfrm>
            <a:off x="1116000" y="1197000"/>
            <a:ext cx="3425760" cy="2565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2016-03-21 10"/>
          <p:cNvPicPr/>
          <p:nvPr/>
        </p:nvPicPr>
        <p:blipFill>
          <a:blip r:embed="rId2"/>
          <a:stretch/>
        </p:blipFill>
        <p:spPr>
          <a:xfrm>
            <a:off x="4716360" y="119700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DSC06300"/>
          <p:cNvPicPr/>
          <p:nvPr/>
        </p:nvPicPr>
        <p:blipFill>
          <a:blip r:embed="rId3"/>
          <a:stretch/>
        </p:blipFill>
        <p:spPr>
          <a:xfrm>
            <a:off x="2700360" y="3860640"/>
            <a:ext cx="34560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Д. Рисование. «Неизвестная планета».</a:t>
            </a: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Нетрадиционная техника рисования мыльной пеной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13" descr="2016-03-15 10"/>
          <p:cNvPicPr/>
          <p:nvPr/>
        </p:nvPicPr>
        <p:blipFill>
          <a:blip r:embed="rId1"/>
          <a:stretch/>
        </p:blipFill>
        <p:spPr>
          <a:xfrm>
            <a:off x="1042920" y="12319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2016-03-15 10"/>
          <p:cNvPicPr/>
          <p:nvPr/>
        </p:nvPicPr>
        <p:blipFill>
          <a:blip r:embed="rId2"/>
          <a:stretch/>
        </p:blipFill>
        <p:spPr>
          <a:xfrm>
            <a:off x="4500720" y="12081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2016-03-21 08"/>
          <p:cNvPicPr/>
          <p:nvPr/>
        </p:nvPicPr>
        <p:blipFill>
          <a:blip r:embed="rId3"/>
          <a:stretch/>
        </p:blipFill>
        <p:spPr>
          <a:xfrm>
            <a:off x="1042920" y="3860640"/>
            <a:ext cx="3357720" cy="251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2016-03-15 10"/>
          <p:cNvPicPr/>
          <p:nvPr/>
        </p:nvPicPr>
        <p:blipFill>
          <a:blip r:embed="rId4"/>
          <a:stretch/>
        </p:blipFill>
        <p:spPr>
          <a:xfrm>
            <a:off x="4500720" y="3860640"/>
            <a:ext cx="338436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Д. Лепка с элементами конструирования из природного и бросового материала. «Космонавт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11" descr="DSC06192"/>
          <p:cNvPicPr/>
          <p:nvPr/>
        </p:nvPicPr>
        <p:blipFill>
          <a:blip r:embed="rId1"/>
          <a:stretch/>
        </p:blipFill>
        <p:spPr>
          <a:xfrm>
            <a:off x="971640" y="981000"/>
            <a:ext cx="3498840" cy="2621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DSC06200"/>
          <p:cNvPicPr/>
          <p:nvPr/>
        </p:nvPicPr>
        <p:blipFill>
          <a:blip r:embed="rId2"/>
          <a:stretch/>
        </p:blipFill>
        <p:spPr>
          <a:xfrm>
            <a:off x="4572000" y="981000"/>
            <a:ext cx="3529080" cy="264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DSC06201"/>
          <p:cNvPicPr/>
          <p:nvPr/>
        </p:nvPicPr>
        <p:blipFill>
          <a:blip r:embed="rId3"/>
          <a:stretch/>
        </p:blipFill>
        <p:spPr>
          <a:xfrm>
            <a:off x="971640" y="3716280"/>
            <a:ext cx="3498840" cy="262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DSC06203"/>
          <p:cNvPicPr/>
          <p:nvPr/>
        </p:nvPicPr>
        <p:blipFill>
          <a:blip r:embed="rId4"/>
          <a:stretch/>
        </p:blipFill>
        <p:spPr>
          <a:xfrm>
            <a:off x="4572000" y="3716280"/>
            <a:ext cx="3529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Д. Рисование. «Лунный пейзаж».</a:t>
            </a: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Комбинированная техника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11" descr="DSC06247"/>
          <p:cNvPicPr/>
          <p:nvPr/>
        </p:nvPicPr>
        <p:blipFill>
          <a:blip r:embed="rId1"/>
          <a:stretch/>
        </p:blipFill>
        <p:spPr>
          <a:xfrm>
            <a:off x="1042920" y="1052640"/>
            <a:ext cx="3282840" cy="245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DSC06251"/>
          <p:cNvPicPr/>
          <p:nvPr/>
        </p:nvPicPr>
        <p:blipFill>
          <a:blip r:embed="rId2"/>
          <a:stretch/>
        </p:blipFill>
        <p:spPr>
          <a:xfrm>
            <a:off x="4427640" y="105264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DSC06252"/>
          <p:cNvPicPr/>
          <p:nvPr/>
        </p:nvPicPr>
        <p:blipFill>
          <a:blip r:embed="rId3"/>
          <a:stretch/>
        </p:blipFill>
        <p:spPr>
          <a:xfrm>
            <a:off x="1042920" y="3645000"/>
            <a:ext cx="3282840" cy="245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DSC06272"/>
          <p:cNvPicPr/>
          <p:nvPr/>
        </p:nvPicPr>
        <p:blipFill>
          <a:blip r:embed="rId4"/>
          <a:stretch/>
        </p:blipFill>
        <p:spPr>
          <a:xfrm>
            <a:off x="4427640" y="364500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ыставка детских работ: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Лунный пейзаж», «Путь к звездам»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5" name="Picture 11" descr="DSC06262"/>
          <p:cNvPicPr/>
          <p:nvPr/>
        </p:nvPicPr>
        <p:blipFill>
          <a:blip r:embed="rId1"/>
          <a:stretch/>
        </p:blipFill>
        <p:spPr>
          <a:xfrm>
            <a:off x="250920" y="2195640"/>
            <a:ext cx="409716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2016-03-21 15"/>
          <p:cNvPicPr/>
          <p:nvPr/>
        </p:nvPicPr>
        <p:blipFill>
          <a:blip r:embed="rId2"/>
          <a:stretch/>
        </p:blipFill>
        <p:spPr>
          <a:xfrm>
            <a:off x="4427640" y="1052640"/>
            <a:ext cx="3566880" cy="2674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DSC06283"/>
          <p:cNvPicPr/>
          <p:nvPr/>
        </p:nvPicPr>
        <p:blipFill>
          <a:blip r:embed="rId3"/>
          <a:stretch/>
        </p:blipFill>
        <p:spPr>
          <a:xfrm>
            <a:off x="4500720" y="378936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Д. Конструирование из бумаги в технике оригам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Космическая ракета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Picture 13" descr="DSC06425"/>
          <p:cNvPicPr/>
          <p:nvPr/>
        </p:nvPicPr>
        <p:blipFill>
          <a:blip r:embed="rId1"/>
          <a:stretch/>
        </p:blipFill>
        <p:spPr>
          <a:xfrm>
            <a:off x="4067280" y="2060640"/>
            <a:ext cx="4610160" cy="3459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DSC06426"/>
          <p:cNvPicPr/>
          <p:nvPr/>
        </p:nvPicPr>
        <p:blipFill>
          <a:blip r:embed="rId2"/>
          <a:stretch/>
        </p:blipFill>
        <p:spPr>
          <a:xfrm>
            <a:off x="611280" y="1460520"/>
            <a:ext cx="324000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DSC06438"/>
          <p:cNvPicPr/>
          <p:nvPr/>
        </p:nvPicPr>
        <p:blipFill>
          <a:blip r:embed="rId3"/>
          <a:stretch/>
        </p:blipFill>
        <p:spPr>
          <a:xfrm>
            <a:off x="611280" y="3933720"/>
            <a:ext cx="3240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Д. Аппликация с элементами конструирование из бумаги в технике оригам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Космический коллаж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11" descr="DSC06443"/>
          <p:cNvPicPr/>
          <p:nvPr/>
        </p:nvPicPr>
        <p:blipFill>
          <a:blip r:embed="rId1"/>
          <a:stretch/>
        </p:blipFill>
        <p:spPr>
          <a:xfrm>
            <a:off x="1116000" y="1359000"/>
            <a:ext cx="3279960" cy="245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DSC06444"/>
          <p:cNvPicPr/>
          <p:nvPr/>
        </p:nvPicPr>
        <p:blipFill>
          <a:blip r:embed="rId2"/>
          <a:stretch/>
        </p:blipFill>
        <p:spPr>
          <a:xfrm>
            <a:off x="4500720" y="1335240"/>
            <a:ext cx="3311280" cy="2482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DSC06450"/>
          <p:cNvPicPr/>
          <p:nvPr/>
        </p:nvPicPr>
        <p:blipFill>
          <a:blip r:embed="rId3"/>
          <a:stretch/>
        </p:blipFill>
        <p:spPr>
          <a:xfrm>
            <a:off x="1116000" y="3933720"/>
            <a:ext cx="3284640" cy="245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DSC06680"/>
          <p:cNvPicPr/>
          <p:nvPr/>
        </p:nvPicPr>
        <p:blipFill>
          <a:blip r:embed="rId4"/>
          <a:stretch/>
        </p:blipFill>
        <p:spPr>
          <a:xfrm>
            <a:off x="4500720" y="3933720"/>
            <a:ext cx="331128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кскурсия в Музей космонавтик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ллея космонавтов. Памятник К.Э. Циолковскому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1" name="Picture 11" descr="DSC06311"/>
          <p:cNvPicPr/>
          <p:nvPr/>
        </p:nvPicPr>
        <p:blipFill>
          <a:blip r:embed="rId1"/>
          <a:stretch/>
        </p:blipFill>
        <p:spPr>
          <a:xfrm>
            <a:off x="1022400" y="1700280"/>
            <a:ext cx="3510000" cy="4681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DSC06317"/>
          <p:cNvPicPr/>
          <p:nvPr/>
        </p:nvPicPr>
        <p:blipFill>
          <a:blip r:embed="rId2"/>
          <a:stretch/>
        </p:blipFill>
        <p:spPr>
          <a:xfrm>
            <a:off x="4716360" y="1700280"/>
            <a:ext cx="3510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кскурсия в Музей космонавтик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Знакомство с историей отечественной космонавтики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5" name="Picture 11" descr="DSC06328"/>
          <p:cNvPicPr/>
          <p:nvPr/>
        </p:nvPicPr>
        <p:blipFill>
          <a:blip r:embed="rId1"/>
          <a:stretch/>
        </p:blipFill>
        <p:spPr>
          <a:xfrm>
            <a:off x="971640" y="1071720"/>
            <a:ext cx="3566880" cy="2674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DSC06361"/>
          <p:cNvPicPr/>
          <p:nvPr/>
        </p:nvPicPr>
        <p:blipFill>
          <a:blip r:embed="rId2"/>
          <a:stretch/>
        </p:blipFill>
        <p:spPr>
          <a:xfrm>
            <a:off x="4643280" y="11001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DSC06385"/>
          <p:cNvPicPr/>
          <p:nvPr/>
        </p:nvPicPr>
        <p:blipFill>
          <a:blip r:embed="rId3"/>
          <a:stretch/>
        </p:blipFill>
        <p:spPr>
          <a:xfrm>
            <a:off x="971640" y="3860640"/>
            <a:ext cx="3566880" cy="2675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DSC06339"/>
          <p:cNvPicPr/>
          <p:nvPr/>
        </p:nvPicPr>
        <p:blipFill>
          <a:blip r:embed="rId4"/>
          <a:stretch/>
        </p:blipFill>
        <p:spPr>
          <a:xfrm>
            <a:off x="4643280" y="386064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кскурсия в Музей космонавтик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Космические» продукты. Метеориты. Центр управления полетами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1" name="Picture 11" descr="DSC06386"/>
          <p:cNvPicPr/>
          <p:nvPr/>
        </p:nvPicPr>
        <p:blipFill>
          <a:blip r:embed="rId1"/>
          <a:stretch/>
        </p:blipFill>
        <p:spPr>
          <a:xfrm>
            <a:off x="1042920" y="1089000"/>
            <a:ext cx="3640320" cy="272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DSC06403"/>
          <p:cNvPicPr/>
          <p:nvPr/>
        </p:nvPicPr>
        <p:blipFill>
          <a:blip r:embed="rId2"/>
          <a:stretch/>
        </p:blipFill>
        <p:spPr>
          <a:xfrm>
            <a:off x="4788000" y="1065240"/>
            <a:ext cx="3671640" cy="2752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DSC06408"/>
          <p:cNvPicPr/>
          <p:nvPr/>
        </p:nvPicPr>
        <p:blipFill>
          <a:blip r:embed="rId3"/>
          <a:stretch/>
        </p:blipFill>
        <p:spPr>
          <a:xfrm>
            <a:off x="1042920" y="3860640"/>
            <a:ext cx="3640320" cy="272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DSC06417"/>
          <p:cNvPicPr/>
          <p:nvPr/>
        </p:nvPicPr>
        <p:blipFill>
          <a:blip r:embed="rId4"/>
          <a:stretch/>
        </p:blipFill>
        <p:spPr>
          <a:xfrm>
            <a:off x="4788000" y="3860640"/>
            <a:ext cx="36716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971640" y="87372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у ребенка представления об окружающем мире до глубин Вселенной, не зазубривая научные истины, а открывая их само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1. Способствовать формированию у детей понятий «Космос», «Космическое пространств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2. Способствовать ознакомлению с историей  освоения космо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3. Способствовать расширению и углублению представлений об окружающем мире Земли  и о роли человека в ее экосистем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4. Подвести к пониманию уникальности нашей планеты, так как только на ней есть жизн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5. Воспитывать уважение и любовь к Земле, как к космическому чуду, дающему все необходимое для жизни, а так же чувство гордости за историю своей планеты, за достижения отечественных ученых, конструкторов, космонав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кскурсия в Музей космонавтик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Юные исследователи космоса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12" descr="DSC06421"/>
          <p:cNvPicPr/>
          <p:nvPr/>
        </p:nvPicPr>
        <p:blipFill>
          <a:blip r:embed="rId1"/>
          <a:stretch/>
        </p:blipFill>
        <p:spPr>
          <a:xfrm>
            <a:off x="971640" y="1125360"/>
            <a:ext cx="69850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тоговое мероприятие по проекту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теллектуальная викторина «Знатоки космоса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0" name="Picture 11" descr="DSC06471"/>
          <p:cNvPicPr/>
          <p:nvPr/>
        </p:nvPicPr>
        <p:blipFill>
          <a:blip r:embed="rId1"/>
          <a:stretch/>
        </p:blipFill>
        <p:spPr>
          <a:xfrm>
            <a:off x="971640" y="1125360"/>
            <a:ext cx="3639960" cy="2729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DSC06500"/>
          <p:cNvPicPr/>
          <p:nvPr/>
        </p:nvPicPr>
        <p:blipFill>
          <a:blip r:embed="rId2"/>
          <a:stretch/>
        </p:blipFill>
        <p:spPr>
          <a:xfrm>
            <a:off x="4716360" y="1139760"/>
            <a:ext cx="3672000" cy="2749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DSC06529"/>
          <p:cNvPicPr/>
          <p:nvPr/>
        </p:nvPicPr>
        <p:blipFill>
          <a:blip r:embed="rId3"/>
          <a:stretch/>
        </p:blipFill>
        <p:spPr>
          <a:xfrm>
            <a:off x="971640" y="3933720"/>
            <a:ext cx="3641760" cy="2729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DSC06536"/>
          <p:cNvPicPr/>
          <p:nvPr/>
        </p:nvPicPr>
        <p:blipFill>
          <a:blip r:embed="rId4"/>
          <a:stretch/>
        </p:blipFill>
        <p:spPr>
          <a:xfrm>
            <a:off x="4716360" y="3933720"/>
            <a:ext cx="36720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тоговое мероприятие по проекту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теллектуальная викторина «Знатоки космоса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6" name="Picture 11" descr="DSC06544"/>
          <p:cNvPicPr/>
          <p:nvPr/>
        </p:nvPicPr>
        <p:blipFill>
          <a:blip r:embed="rId1"/>
          <a:stretch/>
        </p:blipFill>
        <p:spPr>
          <a:xfrm>
            <a:off x="1258920" y="1268280"/>
            <a:ext cx="3279600" cy="245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DSC06552"/>
          <p:cNvPicPr/>
          <p:nvPr/>
        </p:nvPicPr>
        <p:blipFill>
          <a:blip r:embed="rId2"/>
          <a:stretch/>
        </p:blipFill>
        <p:spPr>
          <a:xfrm>
            <a:off x="4643280" y="1262160"/>
            <a:ext cx="3313440" cy="24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DSC06571"/>
          <p:cNvPicPr/>
          <p:nvPr/>
        </p:nvPicPr>
        <p:blipFill>
          <a:blip r:embed="rId3"/>
          <a:stretch/>
        </p:blipFill>
        <p:spPr>
          <a:xfrm>
            <a:off x="1258920" y="3789360"/>
            <a:ext cx="3279600" cy="2459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DSC06573"/>
          <p:cNvPicPr/>
          <p:nvPr/>
        </p:nvPicPr>
        <p:blipFill>
          <a:blip r:embed="rId4"/>
          <a:stretch/>
        </p:blipFill>
        <p:spPr>
          <a:xfrm>
            <a:off x="4643280" y="3789360"/>
            <a:ext cx="33134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тоговое мероприятие по проекту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теллектуальная викторина «Знатоки космоса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2" name="Picture 11" descr="DSC06576"/>
          <p:cNvPicPr/>
          <p:nvPr/>
        </p:nvPicPr>
        <p:blipFill>
          <a:blip r:embed="rId1"/>
          <a:stretch/>
        </p:blipFill>
        <p:spPr>
          <a:xfrm>
            <a:off x="1403280" y="1197000"/>
            <a:ext cx="3208320" cy="2405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DSC06583"/>
          <p:cNvPicPr/>
          <p:nvPr/>
        </p:nvPicPr>
        <p:blipFill>
          <a:blip r:embed="rId2"/>
          <a:stretch/>
        </p:blipFill>
        <p:spPr>
          <a:xfrm>
            <a:off x="4716360" y="11714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DSC06603"/>
          <p:cNvPicPr/>
          <p:nvPr/>
        </p:nvPicPr>
        <p:blipFill>
          <a:blip r:embed="rId3"/>
          <a:stretch/>
        </p:blipFill>
        <p:spPr>
          <a:xfrm>
            <a:off x="1403280" y="3716280"/>
            <a:ext cx="3208320" cy="2405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DSC06640"/>
          <p:cNvPicPr/>
          <p:nvPr/>
        </p:nvPicPr>
        <p:blipFill>
          <a:blip r:embed="rId4"/>
          <a:stretch/>
        </p:blipFill>
        <p:spPr>
          <a:xfrm>
            <a:off x="4716360" y="3716280"/>
            <a:ext cx="3240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тоговое мероприятие по проекту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теллектуальная викторина «Знатоки космоса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8" name="Picture 5" descr="DSC06670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971640" y="2053080"/>
            <a:ext cx="7559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знавательный, групповой, долгосроч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ти подготовительной группы №3 «Радуга», родители воспитанников, педагоги группы, музыкальный руководит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оки реализации проект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ктябрь 2015 года — апрель 2016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проек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Этап: Целеполагание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125360"/>
          <a:ext cx="8229600" cy="4295880"/>
        </p:xfrm>
        <a:graphic>
          <a:graphicData uri="http://schemas.openxmlformats.org/drawingml/2006/table">
            <a:tbl>
              <a:tblPr/>
              <a:tblGrid>
                <a:gridCol w="4103640"/>
                <a:gridCol w="2087640"/>
                <a:gridCol w="203832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ьское собрание, на котором родители  поддержали  интерес детей к теме космоса и наметили Совместные пути по реализации данной т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 воспитанников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ы в группе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емля — наш общий дом», «Что такое Солнце?», «Звезды — какие они?», «Космонавт — важная профессия»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целью выявления интереса и уровня знаний детей по теме проекта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 воспитанников, 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бор программно-методического обеспечения для реализации проекта, формулирование цели и задач проекта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проек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Этап: Разработка проекта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125360"/>
          <a:ext cx="8229600" cy="4351680"/>
        </p:xfrm>
        <a:graphic>
          <a:graphicData uri="http://schemas.openxmlformats.org/drawingml/2006/table">
            <a:tbl>
              <a:tblPr/>
              <a:tblGrid>
                <a:gridCol w="4103640"/>
                <a:gridCol w="2087640"/>
                <a:gridCol w="203832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материала и оборудования, методической литературы, презентационного материала по теме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 воспитанников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бор познавательной и художественной литературы для детей, фотографий о космос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 воспитанников, 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конспектов НОД, сценария спортивного развлечения «Большое космическое путешествие», сценария интеллектуально-познавательного досуга «Мы — будущие космонавты»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 и анализ полученной информации об экскурсионных программах для детей дошкольного возраста в Московском Планетарии и Музее Космонавтик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проек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Этап: Выполнение проекта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125360"/>
          <a:ext cx="8229600" cy="5497560"/>
        </p:xfrm>
        <a:graphic>
          <a:graphicData uri="http://schemas.openxmlformats.org/drawingml/2006/table">
            <a:tbl>
              <a:tblPr/>
              <a:tblGrid>
                <a:gridCol w="4103640"/>
                <a:gridCol w="2087640"/>
                <a:gridCol w="20383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ы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то такое Солнечная система?», «Земля и ее спутник», «Созвездия нашего неба», «Путеводная звезда», «Что такое метеориты?», «Кто придумал космический корабль?», «Первые космонавты Земли», «Полет человека в космос», «Мы первые в космосе!», «Российские космонавт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родители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Д: Ознакомление с окружающим миром: «Земля — наш дом во Вселенной», Развитие речи «Ракета летит к звездам», ФЭМП «Большое космическое путешествие», Рисование «Неизвестная планета», «Путь к звездам», «Лунный пейзаж», Лепка «Космонавт», Аппликация с элементами конструирования из бумаги в технике оригами «Космический коллаж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: С. Баруздин «Первый человек в космосе», М. Водопьянов «Космонавт-1», «106 минут вне Земли», А. Митяев «День космонавтики», «Первый полет», Г. Юрмин «Счастливого пути, космонавт», К. Булычев «Тайна третьей планеты», В. Медведев «Звездолет Брунька»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родители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476280"/>
          <a:ext cx="8229600" cy="5853240"/>
        </p:xfrm>
        <a:graphic>
          <a:graphicData uri="http://schemas.openxmlformats.org/drawingml/2006/table">
            <a:tbl>
              <a:tblPr/>
              <a:tblGrid>
                <a:gridCol w="4103640"/>
                <a:gridCol w="2087640"/>
                <a:gridCol w="203832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ивное развлечение «Большое космическое путешествие»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, инструктор по физической культур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, Евдокимова М.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айди лишнее», «Дверная скважина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вук потерялся», «Разведчики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то изменилось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де мы были, что мы видели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южетно-ролевые игры: «Космонавты в полет!», «Космическое путешествие», «Будущие космонавт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ельная игра «Космодр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детско-родительских поделок «Космический транспорт будущего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и воспитанники группы, родители воспитан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Музея космонавти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и воспитанники группы, родители воспитан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проек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Этап: Презентационно-Завершающий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125360"/>
          <a:ext cx="8229600" cy="3795840"/>
        </p:xfrm>
        <a:graphic>
          <a:graphicData uri="http://schemas.openxmlformats.org/drawingml/2006/table">
            <a:tbl>
              <a:tblPr/>
              <a:tblGrid>
                <a:gridCol w="4103640"/>
                <a:gridCol w="2087640"/>
                <a:gridCol w="203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вое мероприятие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ая викторина «Знатоки космоса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своение космоса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группы, музыкальный руководитель, учитель логопе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, Алиева А.В., Новосильчук В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а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то мы знали, что узнали, что еще хотим узна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едение итогов проектной деятельности на педагогическом совете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едметно-развивающая среда по теме проекта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Знакомство детей с энциклопедиями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34" descr="DSC06298"/>
          <p:cNvPicPr/>
          <p:nvPr/>
        </p:nvPicPr>
        <p:blipFill>
          <a:blip r:embed="rId1"/>
          <a:stretch/>
        </p:blipFill>
        <p:spPr>
          <a:xfrm>
            <a:off x="468360" y="981000"/>
            <a:ext cx="4319640" cy="323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DSC06290"/>
          <p:cNvPicPr/>
          <p:nvPr/>
        </p:nvPicPr>
        <p:blipFill>
          <a:blip r:embed="rId2"/>
          <a:stretch/>
        </p:blipFill>
        <p:spPr>
          <a:xfrm>
            <a:off x="4716360" y="314172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19:52:51Z</dcterms:created>
  <dc:creator>Billy Gates</dc:creator>
  <dc:description/>
  <dc:language>en-US</dc:language>
  <cp:lastModifiedBy>Billy Gates</cp:lastModifiedBy>
  <dcterms:modified xsi:type="dcterms:W3CDTF">2016-09-26T20:46:34Z</dcterms:modified>
  <cp:revision>19</cp:revision>
  <dc:subject/>
  <dc:title>Освоение космоса — первые во Вселенно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