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2B0C7-05FE-4D85-BAAC-351F3629BCD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4D480-435B-45CB-82FD-7806C00BE3D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DC956-6626-415D-822C-6ED5E6D287B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6F133-2863-4F45-B847-484364B0149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98F0B-CDC8-4F27-91F1-D4C49C1E27D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9032F-1160-4FEB-B8F2-02EB6A5056E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09A4B-24FD-4147-8D44-BEBC6233508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4FAD6-46F6-4024-AA91-109C4D7D170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463E0-586E-4075-AD98-42B6F3595F3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5235B-CA0C-47B5-94A0-CA071EE1710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72A74-B321-4E3C-8D5E-D7922D40C70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B858D-2AEE-4695-BE97-9684887AF5E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BB69C-194E-4910-91F8-CE6C35C5831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047C8-94AF-4691-93C4-0DDA1914AE6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0D55F-3490-4472-A2D9-9A90906F14C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B9636-AC19-4783-865D-977A1994A51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CD244-42BA-49D3-B3C0-BFF204FD13C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27C89-2E8A-43EC-88F1-53E32EB56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EF336-2EEC-409B-9A8B-C1B72E20D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7F678-F62C-4431-A7CB-8807C4A67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72C98-4EBA-4573-873B-277421041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55A7D-6E8A-4475-98B6-3F5AF3763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5C540-5F9E-4641-A756-C24C00D95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097B9-C34C-4978-BFFC-6636511C3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06452-B625-4911-9270-2F9ACECE1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282F8-7CDB-4E0A-B391-111E539E3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5FF2F-7201-4F2D-A52B-CB8137563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55788-1A2C-4D75-A8ED-B0E1EEB51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CD856-8393-490C-88D5-B9068C25C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5ACE5-7F3D-4698-8D93-3BCAF551F2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yandex.ru/schoolsearch?p=5&amp;ed=1&amp;text=&#1057;&#1086;&#1088;&#1090;&#1072;%20%20&#1087;&#1080;&#1074;&#1072;%20&#1074;%20&#1056;&#1086;&#1089;&#1089;&#1080;&#1080;&amp;spsite=fratria.ru&amp;clid=46021&amp;img_url=fratria.ru%2Fdownontour%2Fgermany%2Ffood%2Fgermany_food_2.jpg&amp;rpt=simage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5;&#1080;&#1074;&#1085;&#1086;&#1081;_&#1072;&#1083;&#1082;&#1086;&#1075;&#1086;&#1083;&#1080;&#1079;&#1084;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72;&#1081;&#1083;:Lager_beer_in_glass.jpg" TargetMode="External"/><Relationship Id="rId2" Type="http://schemas.openxmlformats.org/officeDocument/2006/relationships/image" Target="../media/image2.jpeg"/><Relationship Id="rId3" Type="http://schemas.openxmlformats.org/officeDocument/2006/relationships/hyperlink" Target="http://ru.wikipedia.org/wiki/&#1040;&#1083;&#1082;&#1086;&#1075;&#1086;&#1083;&#1100;&#1085;&#1099;&#1081;_&#1085;&#1072;&#1087;&#1080;&#1090;&#1086;&#1082;" TargetMode="External"/><Relationship Id="rId4" Type="http://schemas.openxmlformats.org/officeDocument/2006/relationships/hyperlink" Target="http://ru.wikipedia.org/wiki/&#1041;&#1088;&#1086;&#1078;&#1077;&#1085;&#1080;&#1077;" TargetMode="External"/><Relationship Id="rId5" Type="http://schemas.openxmlformats.org/officeDocument/2006/relationships/hyperlink" Target="http://ru.wikipedia.org/wiki/&#1057;&#1086;&#1083;&#1086;&#1076;" TargetMode="External"/><Relationship Id="rId6" Type="http://schemas.openxmlformats.org/officeDocument/2006/relationships/hyperlink" Target="http://ru.wikipedia.org/wiki/&#1057;&#1091;&#1089;&#1083;&#1086;" TargetMode="External"/><Relationship Id="rId7" Type="http://schemas.openxmlformats.org/officeDocument/2006/relationships/hyperlink" Target="http://ru.wikipedia.org/wiki/&#1055;&#1080;&#1074;&#1085;&#1099;&#1077;_&#1076;&#1088;&#1086;&#1078;&#1078;&#1080;" TargetMode="External"/><Relationship Id="rId8" Type="http://schemas.openxmlformats.org/officeDocument/2006/relationships/hyperlink" Target="http://ru.wikipedia.org/wiki/&#1061;&#1084;&#1077;&#1083;&#1100;" TargetMode="External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ru.wikipedia.org/wiki/&#1044;&#1088;&#1077;&#1074;&#1085;&#1080;&#1081;_&#1045;&#1075;&#1080;&#1087;&#1077;&#1090;" TargetMode="External"/><Relationship Id="rId3" Type="http://schemas.openxmlformats.org/officeDocument/2006/relationships/hyperlink" Target="http://ru.wikipedia.org/wiki/&#1061;&#1083;&#1077;&#1073;" TargetMode="External"/><Relationship Id="rId4" Type="http://schemas.openxmlformats.org/officeDocument/2006/relationships/hyperlink" Target="http://ru.wikipedia.org/wiki/&#1042;&#1072;&#1074;&#1080;&#1083;&#1086;&#1085;" TargetMode="External"/><Relationship Id="rId5" Type="http://schemas.openxmlformats.org/officeDocument/2006/relationships/hyperlink" Target="http://ru.wikipedia.org/wiki/&#1050;&#1080;&#1090;&#1072;&#1081;" TargetMode="External"/><Relationship Id="rId6" Type="http://schemas.openxmlformats.org/officeDocument/2006/relationships/hyperlink" Target="http://ru.wikipedia.org/w/index.php?title=&#1064;&#1072;&#1085;&#1089;&#1082;&#1072;&#1103;_&#1076;&#1080;&#1085;&#1072;&#1089;&#1090;&#1080;&#1103;&amp;action=edit&amp;redlink=1" TargetMode="External"/><Relationship Id="rId7" Type="http://schemas.openxmlformats.org/officeDocument/2006/relationships/hyperlink" Target="http://ru.wikipedia.org/w/index.php?title=&#1064;&#1072;&#1085;&#1089;&#1082;&#1072;&#1103;_&#1076;&#1080;&#1085;&#1072;&#1089;&#1090;&#1080;&#1103;&amp;action=edit&amp;redlink=1" TargetMode="External"/><Relationship Id="rId8" Type="http://schemas.openxmlformats.org/officeDocument/2006/relationships/hyperlink" Target="http://ru.wikipedia.org/wiki/&#1040;&#1085;&#1072;&#1073;&#1072;&#1089;&#1080;&#1089;" TargetMode="External"/><Relationship Id="rId9" Type="http://schemas.openxmlformats.org/officeDocument/2006/relationships/hyperlink" Target="http://ru.wikipedia.org/wiki/&#1040;&#1088;&#1084;&#1077;&#1085;&#1080;&#1103;" TargetMode="External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ru.wikipedia.org/wiki/&#1056;&#1086;&#1089;&#1089;&#1080;&#1103;" TargetMode="External"/><Relationship Id="rId3" Type="http://schemas.openxmlformats.org/officeDocument/2006/relationships/hyperlink" Target="http://ru.wikipedia.org/wiki/&#1050;&#1080;&#1090;&#1072;&#1081;" TargetMode="External"/><Relationship Id="rId4" Type="http://schemas.openxmlformats.org/officeDocument/2006/relationships/hyperlink" Target="http://ru.wikipedia.org/wiki/&#1057;&#1064;&#1040;" TargetMode="External"/><Relationship Id="rId5" Type="http://schemas.openxmlformats.org/officeDocument/2006/relationships/hyperlink" Target="http://ru.wikipedia.org/wiki/&#1043;&#1077;&#1088;&#1084;&#1072;&#1085;&#1080;&#1103;" TargetMode="External"/><Relationship Id="rId6" Type="http://schemas.openxmlformats.org/officeDocument/2006/relationships/hyperlink" Target="http://ru.wikipedia.org/wiki/&#1063;&#1077;&#1093;&#1080;&#1103;" TargetMode="Externa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77;&#1088;&#1084;&#1077;&#1085;&#1090;&#1099;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1;&#1077;&#1079;&#1072;&#1083;&#1082;&#1086;&#1075;&#1086;&#1083;&#1100;&#1085;&#1086;&#1077;_&#1087;&#1080;&#1074;&#1086;" TargetMode="External"/><Relationship Id="rId2" Type="http://schemas.openxmlformats.org/officeDocument/2006/relationships/hyperlink" Target="http://ru.wikipedia.org/wiki/&#1042;&#1072;&#1082;&#1091;&#1091;&#1084;-&#1076;&#1080;&#1089;&#1090;&#1080;&#1083;&#1083;&#1103;&#1094;&#1080;&#1103;" TargetMode="External"/><Relationship Id="rId3" Type="http://schemas.openxmlformats.org/officeDocument/2006/relationships/hyperlink" Target="http://ru.wikipedia.org/wiki/&#1044;&#1080;&#1072;&#1083;&#1080;&#1079;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yandex.ru/schoolsearch?p=11&amp;ed=1&amp;text=&#1057;&#1086;&#1088;&#1090;&#1072;%20%20&#1087;&#1080;&#1074;&#1072;%20&#1074;%20&#1056;&#1086;&#1089;&#1089;&#1080;&#1080;&amp;spsite=lobbying.ru&amp;clid=46021&amp;img_url=www.autocentre.ua%2Fac%2F03%2F47%2Fimages%2F13%2FPivo000_1.jpg&amp;rpt=simage" TargetMode="External"/><Relationship Id="rId2" Type="http://schemas.openxmlformats.org/officeDocument/2006/relationships/image" Target="../media/image7.jpeg"/><Relationship Id="rId3" Type="http://schemas.openxmlformats.org/officeDocument/2006/relationships/hyperlink" Target="http://images.yandex.ru/schoolsearch?p=12&amp;ed=1&amp;text=&#1057;&#1086;&#1088;&#1090;&#1072;%20%20&#1087;&#1080;&#1074;&#1072;%20&#1074;%20&#1056;&#1086;&#1089;&#1089;&#1080;&#1080;&amp;spsite=www.nasha-russia.net&amp;clid=46021&amp;img_url=i016.radikal.ru%2F0804%2Fb6%2Feebbe0e3e095.jpg&amp;rpt=simage" TargetMode="External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Рисунок 13" descr="http://im4-tub.yandex.net/i?id=12207825&amp;tov=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9280" y="74520"/>
            <a:ext cx="8713800" cy="64771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528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Классный ча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258920" y="3789360"/>
            <a:ext cx="6400800" cy="22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«Пивной алкоголизм среди молодежи»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57200" y="-36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Пивной алкоголизм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— спорный термин, обозначающий болезненное пристрастие к пив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 мнению одних исследователей, пивной алкоголизм является тяжелой и трудно поддающейся лечению формой алкоголизма, в то время как по мнению других, с медицинской точки зрения этот термин не вполне корректен или вовсе не имеет права на существова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торонниками второй точки зрения злоупотребление пивом рассматривается обычно не как прямая причина алкоголизма, а как промежуточная стадия, ведущая в перспективе к переходу на более крепкие напитки, употребление которых чревато развитием истинной алкогольной зависим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БЕРЕГИТЕ  СЕБЯ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8" descr="2"/>
          <p:cNvPicPr/>
          <p:nvPr/>
        </p:nvPicPr>
        <p:blipFill>
          <a:blip r:embed="rId1"/>
          <a:stretch/>
        </p:blipFill>
        <p:spPr>
          <a:xfrm>
            <a:off x="2340000" y="1413000"/>
            <a:ext cx="4319640" cy="52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7200" y="-36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ивной алкоголизм является проблемой, о которой все чаще говорят врачи наркологи. Все больше молодежи попадают под пагубную зависимость от пи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мый большой рост распространения зависимости от пагубной привычки наблюдается сейчас среди подростков. Показатель «пагубного употребления алкоголя» здесь в три раза выше общего уровня. Специалисты Санэпиднадзора считают, что виновато в этом именно пиво. По их данным, пивная зависимость занимает примерно до 75% в общем количестве подростк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Рисунок 16" descr="http://im3-tub.yandex.net/i?id=49485580&amp;tov=3"/>
          <p:cNvPicPr/>
          <p:nvPr/>
        </p:nvPicPr>
        <p:blipFill>
          <a:blip r:embed="rId1"/>
          <a:stretch/>
        </p:blipFill>
        <p:spPr>
          <a:xfrm>
            <a:off x="0" y="0"/>
            <a:ext cx="5645160" cy="3780000"/>
          </a:xfrm>
          <a:prstGeom prst="rect">
            <a:avLst/>
          </a:prstGeom>
          <a:ln w="0">
            <a:noFill/>
          </a:ln>
        </p:spPr>
      </p:pic>
      <p:pic>
        <p:nvPicPr>
          <p:cNvPr id="69" name="Рисунок 10" descr="http://im6-tub.yandex.net/i?id=81396170&amp;tov=6"/>
          <p:cNvPicPr/>
          <p:nvPr/>
        </p:nvPicPr>
        <p:blipFill>
          <a:blip r:embed="rId2"/>
          <a:stretch/>
        </p:blipFill>
        <p:spPr>
          <a:xfrm>
            <a:off x="3635280" y="3273480"/>
            <a:ext cx="5508720" cy="35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еумолимая статистик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жегодно в России умирает около 1 миллиона человек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оссия выходит в общемировые лидеры по детскому пивному алкоголизм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ить в России начинают с 11 лет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16 лет каждый третий подросток не мыслит свою жизнь без пива и ежедневно выпивает до 3-х литров этого напитк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 последние годы количество больных алкоголизмом среди тинейджеров выросло на 15,3 %, алкогольными психозами - на 76,9%. Специалисты считают, что виновато в этом именно пиво. По их данным, пивная зависимость занимает до 75-80% в общем количестве подростков-алкоголик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стати, 47% пациентов наркологических клиник - девушки: в женском организме алкоголь действует еще стремительней, лечение сложнее, а полное выздоровление происходит намного тяжелее и дольш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 algn="ctr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Чем опасно злоупотребление пивом?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ивной алкоголизм развивается более коварно, чем водочный, но протекает намного тяжелее. А выход из пивного запоя очень длительный. Последствия пивной зависимости более разрушительные: в организме повышается объем циркулирующей жидкости, следовательно, увеличивается нагрузка на сердце и почки, а это приводит к развитию серьезных болезней - причем в самом молодом возраст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 пивной алкоголизации тяжелее, чем при водочной поражаются клетки головного мозга, поэтому быстрее нарушается интеллект, обнаруживаются тяжелые психопатоподобные измене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юди попадают в зависимость и сталкиваются с серьезными проблемами со здоровье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больших количествах пиво оказывается клеточным ядом, который может вызвать цирроз печени, гепатит, недостаточность кровообраще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 так называемом «пивном животе» высока опасность сдавливания других внутренних органов, вплоть до возникновения ишемии и некроз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Социологический опрос среди учащихся 1-11 классов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«Возраст «ПИВА»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11280" y="2492280"/>
            <a:ext cx="8075520" cy="36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1,5 года---18 челове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7-10 лет – 29 челове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11-14 лет – 32 челове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15-16 лет – 45 челове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Рисунок 4" descr="http://upload.wikimedia.org/wikipedia/commons/thumb/d/d7/Lager_beer_in_glass.jpg/180px-Lager_beer_in_glass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419640" y="3789360"/>
            <a:ext cx="2145960" cy="286236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68360" y="4042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и́во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 — умеренный по содержанию винного спирта </a:t>
            </a:r>
            <a:r>
              <a:rPr b="0" lang="ru-RU" sz="3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алкогольный напиток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получаемый спиртовым </a:t>
            </a:r>
            <a:r>
              <a:rPr b="0" lang="ru-RU" sz="36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брожением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солодового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сусла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с помощью </a:t>
            </a:r>
            <a:r>
              <a:rPr b="0" lang="ru-RU" sz="36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пивных дрожжей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, обычно с добавлением </a:t>
            </a:r>
            <a:r>
              <a:rPr b="0" lang="ru-RU" sz="36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хмеля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i--"/>
          <p:cNvPicPr/>
          <p:nvPr/>
        </p:nvPicPr>
        <p:blipFill>
          <a:blip r:embed="rId1"/>
          <a:stretch/>
        </p:blipFill>
        <p:spPr>
          <a:xfrm>
            <a:off x="250920" y="181080"/>
            <a:ext cx="8424720" cy="63324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стория пи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иво — древний напиток, известный ещё в </a:t>
            </a: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Древнем Египте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(пшеницу и ячмень люди там начали культивировать исключительно для приготовления пива, а создание </a:t>
            </a: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хлеба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явилось лишь побочным эффектом, </a:t>
            </a: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Вавилоне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Китае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времён </a:t>
            </a: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Шанской</a:t>
            </a: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династии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(II тыс. до н. э.), Армении. Одно из самых ранних письменных упоминаний о пиве встречается в </a:t>
            </a: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Анабасисе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Ксенофонта (V век д.н. э.), будучи в одной из деревень в </a:t>
            </a: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Армен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В борьбе с такими напастями, как наркомания, СПИД и табакокурение, человечество, похоже,  «проморгало» еще одну опасную зависимость - пивной алкоголизм. Наркологи  бьют тревогу еше и потому, что спиваться буквально со школьной скамьи начинают подростки.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егодня никого не удивляют подростки, распивающие пиво прямо на улице. Купить бутылочку пива можно в любом месте. За это никто не осудит: в нашем обществе принято считать, что пиво не только безвредно, но и полезно для здоровья. Возможно, если употреблять его в меру, считают врачи. Но, по мнению наркологов, человек, ежедневно выпивающий литр и более пива, незаметно для себя впадает  в алкогольную зависимость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За последние годы наблюдается существенный рост пивного алкоголизма среди молодежи. Правда, юноши и девушки, отрицают, что употребление одной бутылочки пива  в день приведет к привыканию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Рисунок 2" descr="Государство вылечит водочный алкоголизм пивным"/>
          <p:cNvPicPr/>
          <p:nvPr/>
        </p:nvPicPr>
        <p:blipFill>
          <a:blip r:embed="rId1"/>
          <a:stretch/>
        </p:blipFill>
        <p:spPr>
          <a:xfrm>
            <a:off x="250920" y="0"/>
            <a:ext cx="87138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-36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Потребление по регион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Крупнейшими рынками пива являются </a:t>
            </a:r>
            <a:r>
              <a:rPr b="0" lang="en-US" sz="3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Россия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, </a:t>
            </a:r>
            <a:r>
              <a:rPr b="0" lang="en-US" sz="3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Китай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, </a:t>
            </a:r>
            <a:r>
              <a:rPr b="0" lang="en-US" sz="36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США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 и </a:t>
            </a:r>
            <a:r>
              <a:rPr b="0" lang="en-US" sz="36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Германия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. Страной с наибольшим потреблением пива на душу населения является </a:t>
            </a:r>
            <a:r>
              <a:rPr b="0" lang="en-US" sz="36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Чехия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(161,2 л на душу населения в 2008 г.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324000" y="189000"/>
            <a:ext cx="836280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 цвета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лассификация пива по цветам широко распространена в России, а также некоторых других европейских странах, например Испании. Различают тёмное, светлое, красное и белые виды пи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 приготовлении тёмного пива используется обжаренный соло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Цветность пива определяется степенью обжаренности солода и количеством темного солода, используемого при варке. Наиболее темные сорта солода не могут использоваться самостоятельно без светлых сортов, так как при обжаривании теряют 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ферменты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необходимые для осахаривания сус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i"/>
          <p:cNvPicPr/>
          <p:nvPr/>
        </p:nvPicPr>
        <p:blipFill>
          <a:blip r:embed="rId1"/>
          <a:stretch/>
        </p:blipFill>
        <p:spPr>
          <a:xfrm>
            <a:off x="0" y="0"/>
            <a:ext cx="4680000" cy="35701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" descr="11"/>
          <p:cNvPicPr/>
          <p:nvPr/>
        </p:nvPicPr>
        <p:blipFill>
          <a:blip r:embed="rId2"/>
          <a:stretch/>
        </p:blipFill>
        <p:spPr>
          <a:xfrm>
            <a:off x="3348000" y="2143080"/>
            <a:ext cx="57960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250560" y="0"/>
            <a:ext cx="843588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Безалкогольное пи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Несмотря на название, в безалкогольном пиве содержится 0,2—1,0 % спирта, полностью от него избавиться не удаётся. Существует несколько технологий получения безалкогольного пива.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пирт, содержащийся в обычном пиве, убирают при помощи </a:t>
            </a:r>
            <a:r>
              <a:rPr b="0" lang="ru-RU" sz="2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вакуум-дистилляции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(используя низкую точку кипения спирта) и при помощи </a:t>
            </a:r>
            <a:r>
              <a:rPr b="0" lang="ru-RU" sz="2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диализа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(мембранный способ). Также избавляются от спирта путем подавления брожения, с применением особых дрожжей, не превращающих мальтозу в алкоголь, либо останавливают процесс брожения, понижая температуру. Мембранный способ считается лучшим, поскольку используется традиционная технология производства, и вкус пива менее всего отличается от обычного. Но из-за малого содержания спирта вкус безалкогольного пива при любой технологии получается другим, так как спирт оказывает существенное влияние на вкус пива. Из-за более сложной технологии производства безалкогольного пива, его стоимость выше чем у обычного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Рисунок 7" descr="http://im4-tub.yandex.net/i?id=19875315&amp;tov=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4716360" cy="3200400"/>
          </a:xfrm>
          <a:prstGeom prst="rect">
            <a:avLst/>
          </a:prstGeom>
          <a:ln w="0">
            <a:noFill/>
          </a:ln>
        </p:spPr>
      </p:pic>
      <p:pic>
        <p:nvPicPr>
          <p:cNvPr id="63" name="Рисунок 4" descr="http://im8-tub.yandex.net/i?id=56990383&amp;tov=8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059280" y="2954160"/>
            <a:ext cx="6084720" cy="39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9T09:29:16Z</dcterms:created>
  <dc:creator>МВД</dc:creator>
  <dc:description/>
  <dc:language>en-US</dc:language>
  <cp:lastModifiedBy>Aleksandr</cp:lastModifiedBy>
  <dcterms:modified xsi:type="dcterms:W3CDTF">2016-09-26T14:57:25Z</dcterms:modified>
  <cp:revision>8</cp:revision>
  <dc:subject/>
  <dc:title>«Публичная защита»  МОУ «Средняя общеобразовательная  школа №23»</dc:title>
</cp:coreProperties>
</file>