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DC22-497B-4985-AAF0-60ABD054C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8E4E-287C-4AEB-B5E7-F9D8BEB20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ECE-471F-44A0-944E-609EAADA6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3EEF-4F2E-4D22-8E89-B84DE71DC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544B-423E-4951-A907-38A6E2C1A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C226-4505-40F1-9DA1-A7A13B88B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C99B-649A-4D47-98EF-ED43BF965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F481-2A7E-417E-8F3A-5529A7F7E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FD7B-C18C-476E-A5E5-2CFBEC65A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3AFC-1DB6-4B35-8747-8554B10AB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574A-A054-4E1F-A1DE-798066659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49E-14CA-4A67-803D-140C64792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320-9DBF-4F81-B9EF-68B7E7248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5E05-67CF-44C7-A0E3-ACD355E73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3F5F-5093-4B89-9E8C-447C822E0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2EE-9459-4F0B-883F-149E639D8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338-440D-47D6-970A-365C02162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1FE-5F5F-4345-B1B9-224A3AB0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924-0BFE-4DA0-B677-EBD8BA64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162-D98D-41D9-9C05-A535B2FC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32B-38D7-421D-99AF-942FB384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E4E-2D46-410A-A823-DECE3B8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D90-E292-448C-8E4D-4C2E187A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AC4-A894-471F-9D6E-47D3EAAE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BD2-342C-45E8-82DA-B75AF960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66B-B8E3-487C-B06D-F682E97C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CF3-817D-46D8-A4FD-109C1E8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33B-ACB7-45DF-8C8F-47FB89A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54A-3583-479C-957B-E229A542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5BEA-5B18-44DE-825A-A9E1CBF9B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choolsearch?p=5&amp;ed=1&amp;text=&#1057;&#1086;&#1088;&#1090;&#1072;%20%20&#1087;&#1080;&#1074;&#1072;%20&#1074;%20&#1056;&#1086;&#1089;&#1089;&#1080;&#1080;&amp;spsite=fratria.ru&amp;clid=46021&amp;img_url=fratria.ru%2Fdownontour%2Fgermany%2Ffood%2Fgermany_food_2.jpg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0;&#1074;&#1085;&#1086;&#1081;_&#1072;&#1083;&#1082;&#1086;&#1075;&#1086;&#1083;&#1080;&#1079;&#1084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ager_beer_in_glass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u.wikipedia.org/wiki/&#1040;&#1083;&#1082;&#1086;&#1075;&#1086;&#1083;&#1100;&#1085;&#1099;&#1081;_&#1085;&#1072;&#1087;&#1080;&#1090;&#1086;&#1082;" TargetMode="External"/><Relationship Id="rId4" Type="http://schemas.openxmlformats.org/officeDocument/2006/relationships/hyperlink" Target="http://ru.wikipedia.org/wiki/&#1041;&#1088;&#1086;&#1078;&#1077;&#1085;&#1080;&#1077;" TargetMode="External"/><Relationship Id="rId5" Type="http://schemas.openxmlformats.org/officeDocument/2006/relationships/hyperlink" Target="http://ru.wikipedia.org/wiki/&#1057;&#1086;&#1083;&#1086;&#1076;" TargetMode="External"/><Relationship Id="rId6" Type="http://schemas.openxmlformats.org/officeDocument/2006/relationships/hyperlink" Target="http://ru.wikipedia.org/wiki/&#1057;&#1091;&#1089;&#1083;&#1086;" TargetMode="External"/><Relationship Id="rId7" Type="http://schemas.openxmlformats.org/officeDocument/2006/relationships/hyperlink" Target="http://ru.wikipedia.org/wiki/&#1055;&#1080;&#1074;&#1085;&#1099;&#1077;_&#1076;&#1088;&#1086;&#1078;&#1078;&#1080;" TargetMode="External"/><Relationship Id="rId8" Type="http://schemas.openxmlformats.org/officeDocument/2006/relationships/hyperlink" Target="http://ru.wikipedia.org/wiki/&#1061;&#1084;&#1077;&#1083;&#1100;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4;&#1088;&#1077;&#1074;&#1085;&#1080;&#1081;_&#1045;&#1075;&#1080;&#1087;&#1077;&#1090;" TargetMode="External"/><Relationship Id="rId3" Type="http://schemas.openxmlformats.org/officeDocument/2006/relationships/hyperlink" Target="http://ru.wikipedia.org/wiki/&#1061;&#1083;&#1077;&#1073;" TargetMode="External"/><Relationship Id="rId4" Type="http://schemas.openxmlformats.org/officeDocument/2006/relationships/hyperlink" Target="http://ru.wikipedia.org/wiki/&#1042;&#1072;&#1074;&#1080;&#1083;&#1086;&#1085;" TargetMode="External"/><Relationship Id="rId5" Type="http://schemas.openxmlformats.org/officeDocument/2006/relationships/hyperlink" Target="http://ru.wikipedia.org/wiki/&#1050;&#1080;&#1090;&#1072;&#1081;" TargetMode="External"/><Relationship Id="rId6" Type="http://schemas.openxmlformats.org/officeDocument/2006/relationships/hyperlink" Target="http://ru.wikipedia.org/w/index.php?title=&#1064;&#1072;&#1085;&#1089;&#1082;&#1072;&#1103;_&#1076;&#1080;&#1085;&#1072;&#1089;&#1090;&#1080;&#1103;&amp;action=edit&amp;redlink=1" TargetMode="External"/><Relationship Id="rId7" Type="http://schemas.openxmlformats.org/officeDocument/2006/relationships/hyperlink" Target="http://ru.wikipedia.org/w/index.php?title=&#1064;&#1072;&#1085;&#1089;&#1082;&#1072;&#1103;_&#1076;&#1080;&#1085;&#1072;&#1089;&#1090;&#1080;&#1103;&amp;action=edit&amp;redlink=1" TargetMode="External"/><Relationship Id="rId8" Type="http://schemas.openxmlformats.org/officeDocument/2006/relationships/hyperlink" Target="http://ru.wikipedia.org/wiki/&#1040;&#1085;&#1072;&#1073;&#1072;&#1089;&#1080;&#1089;" TargetMode="External"/><Relationship Id="rId9" Type="http://schemas.openxmlformats.org/officeDocument/2006/relationships/hyperlink" Target="http://ru.wikipedia.org/wiki/&#1040;&#1088;&#1084;&#1077;&#1085;&#1080;&#1103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50;&#1080;&#1090;&#1072;&#1081;" TargetMode="External"/><Relationship Id="rId4" Type="http://schemas.openxmlformats.org/officeDocument/2006/relationships/hyperlink" Target="http://ru.wikipedia.org/wiki/&#1057;&#1064;&#1040;" TargetMode="External"/><Relationship Id="rId5" Type="http://schemas.openxmlformats.org/officeDocument/2006/relationships/hyperlink" Target="http://ru.wikipedia.org/wiki/&#1043;&#1077;&#1088;&#1084;&#1072;&#1085;&#1080;&#1103;" TargetMode="External"/><Relationship Id="rId6" Type="http://schemas.openxmlformats.org/officeDocument/2006/relationships/hyperlink" Target="http://ru.wikipedia.org/wiki/&#1063;&#1077;&#1093;&#1080;&#1103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7;&#1088;&#1084;&#1077;&#1085;&#1090;&#1099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79;&#1072;&#1083;&#1082;&#1086;&#1075;&#1086;&#1083;&#1100;&#1085;&#1086;&#1077;_&#1087;&#1080;&#1074;&#1086;" TargetMode="External"/><Relationship Id="rId2" Type="http://schemas.openxmlformats.org/officeDocument/2006/relationships/hyperlink" Target="http://ru.wikipedia.org/wiki/&#1042;&#1072;&#1082;&#1091;&#1091;&#1084;-&#1076;&#1080;&#1089;&#1090;&#1080;&#1083;&#1083;&#1103;&#1094;&#1080;&#1103;" TargetMode="External"/><Relationship Id="rId3" Type="http://schemas.openxmlformats.org/officeDocument/2006/relationships/hyperlink" Target="http://ru.wikipedia.org/wiki/&#1044;&#1080;&#1072;&#1083;&#1080;&#1079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choolsearch?p=11&amp;ed=1&amp;text=&#1057;&#1086;&#1088;&#1090;&#1072;%20%20&#1087;&#1080;&#1074;&#1072;%20&#1074;%20&#1056;&#1086;&#1089;&#1089;&#1080;&#1080;&amp;spsite=lobbying.ru&amp;clid=46021&amp;img_url=www.autocentre.ua%2Fac%2F03%2F47%2Fimages%2F13%2FPivo000_1.jpg&amp;rpt=s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schoolsearch?p=12&amp;ed=1&amp;text=&#1057;&#1086;&#1088;&#1090;&#1072;%20%20&#1087;&#1080;&#1074;&#1072;%20&#1074;%20&#1056;&#1086;&#1089;&#1089;&#1080;&#1080;&amp;spsite=www.nasha-russia.net&amp;clid=46021&amp;img_url=i016.radikal.ru%2F0804%2Fb6%2Feebbe0e3e095.jpg&amp;rpt=s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3" descr="http://im4-tub.yandex.net/i?id=1220782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4520"/>
            <a:ext cx="8713800" cy="647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ивной алкоголизм среди молодежи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вной алкоголизм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— спорный термин, обозначающий болезненное пристрастие к пи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нению одних исследователей, пивной алкоголизм является тяжелой и трудно поддающейся лечению формой алкоголизма, в то время как по мнению других, с медицинской точки зрения этот термин не вполне корректен или вовсе не имеет права на сущ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ронниками второй точки зрения злоупотребление пивом рассматривается обычно не как прямая причина алкоголизма, а как промежуточная стадия, ведущая в перспективе к переходу на более крепкие напитки, употребление которых чревато развитием истинной алкогольной 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РЕГИТЕ  СЕБ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2"/>
          <p:cNvPicPr/>
          <p:nvPr/>
        </p:nvPicPr>
        <p:blipFill>
          <a:blip r:embed="rId1"/>
          <a:stretch/>
        </p:blipFill>
        <p:spPr>
          <a:xfrm>
            <a:off x="2340000" y="1413000"/>
            <a:ext cx="431964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вной алкоголизм является проблемой, о которой все чаще говорят врачи наркологи. Все больше молодежи попадают под пагубную зависимость от п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большой рост распространения зависимости от пагубной привычки наблюдается сейчас среди подростков. Показатель «пагубного употребления алкоголя» здесь в три раза выше общего уровня. Специалисты Санэпиднадзора считают, что виновато в этом именно пиво. По их данным, пивная зависимость занимает примерно до 75% в общем количестве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6" descr="http://im3-tub.yandex.net/i?id=49485580&amp;tov=3"/>
          <p:cNvPicPr/>
          <p:nvPr/>
        </p:nvPicPr>
        <p:blipFill>
          <a:blip r:embed="rId1"/>
          <a:stretch/>
        </p:blipFill>
        <p:spPr>
          <a:xfrm>
            <a:off x="0" y="0"/>
            <a:ext cx="5645160" cy="3780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http://im6-tub.yandex.net/i?id=81396170&amp;tov=6"/>
          <p:cNvPicPr/>
          <p:nvPr/>
        </p:nvPicPr>
        <p:blipFill>
          <a:blip r:embed="rId2"/>
          <a:stretch/>
        </p:blipFill>
        <p:spPr>
          <a:xfrm>
            <a:off x="3635280" y="3273480"/>
            <a:ext cx="5508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умолимая статис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 России умирает около 1 миллиона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я выходит в общемировые лидеры по детскому пивному алкоголиз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ь в России начинают с 11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6 лет каждый третий подросток не мыслит свою жизнь без пива и ежедневно выпивает до 3-х литров этого напи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оследние годы количество больных алкоголизмом среди тинейджеров выросло на 15,3 %, алкогольными психозами - на 76,9%. Специалисты считают, что виновато в этом именно пиво. По их данным, пивная зависимость занимает до 75-80% в общем количестве подростков-алкогол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стати, 47% пациентов наркологических клиник - девушки: в женском организме алкоголь действует еще стремительней, лечение сложнее, а полное выздоровление происходит намного тяжелее и дол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м опасно злоупотребление пивом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ной алкоголизм развивается более коварно, чем водочный, но протекает намного тяжелее. А выход из пивного запоя очень длительный. Последствия пивной зависимости более разрушительные: в организме повышается объем циркулирующей жидкости, следовательно, увеличивается нагрузка на сердце и почки, а это приводит к развитию серьезных болезней - причем в самом молодом возра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ивной алкоголизации тяжелее, чем при водочной поражаются клетки головного мозга, поэтому быстрее нарушается интеллект, обнаруживаются тяжелые психопатоподобные изме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 попадают в зависимость и сталкиваются с серьезными проблемами со здоровь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х количествах пиво оказывается клеточным ядом, который может вызвать цирроз печени, гепатит, недостаточность кровооб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так называемом «пивном животе» высока опасность сдавливания других внутренних органов, вплоть до возникновения ишемии и некро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ологический опрос среди учащихся 1-11 класс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Возраст «ПИВ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075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,5 года---18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7-10 лет – 29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1-14 лет – 32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5-16 лет – 45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http://upload.wikimedia.org/wikipedia/commons/thumb/d/d7/Lager_beer_in_glass.jpg/180px-Lager_beer_in_gla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789360"/>
            <a:ext cx="21459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́в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— умеренный по содержанию винного спирта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когольный напит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лучаемый спиртовым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рожение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олодов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ус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 помощью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ивных дрожж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обычно с добавлением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хме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--"/>
          <p:cNvPicPr/>
          <p:nvPr/>
        </p:nvPicPr>
        <p:blipFill>
          <a:blip r:embed="rId1"/>
          <a:stretch/>
        </p:blipFill>
        <p:spPr>
          <a:xfrm>
            <a:off x="250920" y="181080"/>
            <a:ext cx="8424720" cy="6332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 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во — древний напиток, известный ещё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евнем Египт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пшеницу и ячмень люди там начали культивировать исключительно для приготовления пива, а созд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хлеб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илось лишь побочным эффектом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авило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ита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ремён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Шанской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династ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II тыс. до н. э.), Армении. Одно из самых ранних письменных упоминаний о пиве встречается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набасис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сенофонта (V век д.н. э.), будучи в одной из деревень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Арм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борьбе с такими напастями, как наркомания, СПИД и табакокурение, человечество, похоже,  «проморгало» еще одну опасную зависимость - пивной алкоголизм. Наркологи  бьют тревогу еше и потому, что спиваться буквально со школьной скамьи начинают подростк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годня никого не удивляют подростки, распивающие пиво прямо на улице. Купить бутылочку пива можно в любом месте. За это никто не осудит: в нашем обществе принято считать, что пиво не только безвредно, но и полезно для здоровья. Возможно, если употреблять его в меру, считают врачи. Но, по мнению наркологов, человек, ежедневно выпивающий литр и более пива, незаметно для себя впадает  в алкогольную зависим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последние годы наблюдается существенный рост пивного алкоголизма среди молодежи. Правда, юноши и девушки, отрицают, что употребление одной бутылочки пива  в день приведет к привыкан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Государство вылечит водочный алкоголизм пивным"/>
          <p:cNvPicPr/>
          <p:nvPr/>
        </p:nvPicPr>
        <p:blipFill>
          <a:blip r:embed="rId1"/>
          <a:stretch/>
        </p:blipFill>
        <p:spPr>
          <a:xfrm>
            <a:off x="250920" y="0"/>
            <a:ext cx="871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требление по регио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упнейшими рынками пива являются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итай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ША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Германия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. Страной с наибольшим потреблением пива на душу населения является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Чехия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61,2 л на душу населения в 2008 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цве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фикация пива по цветам широко распространена в России, а также некоторых других европейских странах, например Испании. Различают тёмное, светлое, красное и белые виды п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готовлении тёмного пива используется обжаренный с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ность пива определяется степенью обжаренности солода и количеством темного солода, используемого при варке. Наиболее темные сорта солода не могут использоваться самостоятельно без светлых сортов, так как при обжаривании теряю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ерме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еобходимые для осахаривания су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4680000" cy="357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"/>
          <p:cNvPicPr/>
          <p:nvPr/>
        </p:nvPicPr>
        <p:blipFill>
          <a:blip r:embed="rId2"/>
          <a:stretch/>
        </p:blipFill>
        <p:spPr>
          <a:xfrm>
            <a:off x="3348000" y="2143080"/>
            <a:ext cx="5796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езалкогольное п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смотря на название, в безалкогольном пиве содержится 0,2—1,0 % спирта, полностью от него избавиться не удаётся. Существует несколько технологий получения безалкогольного пив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рт, содержащийся в обычном пиве, убирают при помощи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акуум-дистилля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используя низкую точку кипения спирта) и при помощи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диали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мембранный способ). Также избавляются от спирта путем подавления брожения, с применением особых дрожжей, не превращающих мальтозу в алкоголь, либо останавливают процесс брожения, понижая температуру. Мембранный способ считается лучшим, поскольку используется традиционная технология производства, и вкус пива менее всего отличается от обычного. Но из-за малого содержания спирта вкус безалкогольного пива при любой технологии получается другим, так как спирт оказывает существенное влияние на вкус пива. Из-за более сложной технологии производства безалкогольного пива, его стоимость выше чем у обычн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7" descr="http://im4-tub.yandex.net/i?id=1987531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2004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http://im8-tub.yandex.net/i?id=56990383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2954160"/>
            <a:ext cx="60847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9:29:16Z</dcterms:created>
  <dc:creator>МВД</dc:creator>
  <dc:description/>
  <dc:language>en-US</dc:language>
  <cp:lastModifiedBy>Aleksandr</cp:lastModifiedBy>
  <dcterms:modified xsi:type="dcterms:W3CDTF">2016-09-26T14:57:25Z</dcterms:modified>
  <cp:revision>8</cp:revision>
  <dc:subject/>
  <dc:title>«Публичная защита»  МОУ «Средняя общеобразовательная  школа №23»</dc:title>
</cp:coreProperties>
</file>