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A1E-4EE0-47F4-82C9-3A5E1C76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F99-E5C9-4DF9-A4F6-506E1ED4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7EC-5AEA-4916-A120-A0C85404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1E7-749D-4536-8DEF-13BF651A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C50-3798-49A5-B90C-F7CEA6D5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5AB-2388-4376-B980-B6D7698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90D-D10E-4730-A3DD-1FF6E194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60F-EF1C-4700-A7C2-966D4A83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97B-5217-417B-A521-811FE0F4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659-8D31-4A2A-9247-A16A0AD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4D3-6192-4EA5-8E5F-7B7E918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3FE-0B65-4182-A8F9-483BF26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649-AB57-44CC-AE7F-17D13029F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243080" y="523800"/>
            <a:ext cx="7005600" cy="227988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8"/>
          <p:cNvSpPr/>
          <p:nvPr/>
        </p:nvSpPr>
        <p:spPr>
          <a:xfrm rot="396600">
            <a:off x="2917440" y="3087360"/>
            <a:ext cx="392040" cy="1312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2124000" y="3789360"/>
            <a:ext cx="657360" cy="8920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 rot="17884200">
            <a:off x="6118560" y="5293440"/>
            <a:ext cx="758880" cy="10238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 rot="8073000">
            <a:off x="5893560" y="4101480"/>
            <a:ext cx="814320" cy="8157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7524720" y="4221000"/>
            <a:ext cx="831960" cy="879480"/>
          </a:xfrm>
          <a:prstGeom prst="rtTriangl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GEOMTRY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050920" y="3068640"/>
            <a:ext cx="540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Равносторонний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28520" y="2143080"/>
            <a:ext cx="416556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714920" y="5072040"/>
            <a:ext cx="18572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7825800">
            <a:off x="2265120" y="3213000"/>
            <a:ext cx="4165560" cy="130824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14922600">
            <a:off x="3268440" y="3477600"/>
            <a:ext cx="4319640" cy="1230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687000">
            <a:off x="2643120" y="4422240"/>
            <a:ext cx="4361040" cy="1151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 rot="645000">
            <a:off x="2544480" y="1593360"/>
            <a:ext cx="4728960" cy="3998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ЯМОУГОЛЬНЫЙ 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000680" y="1857240"/>
            <a:ext cx="2133360" cy="35053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 rot="19635600">
            <a:off x="3875400" y="4016520"/>
            <a:ext cx="27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Arial"/>
              </a:rPr>
              <a:t>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1.50289E-006 L 0.35833 1.50289E-006 E"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028E-008 L 0.36493 0.00278 E">
                                      <p:cBhvr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ВНОБЕДРЕННЫЙ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428920" y="1643040"/>
            <a:ext cx="4114800" cy="4643640"/>
          </a:xfrm>
          <a:prstGeom prst="triangle">
            <a:avLst>
              <a:gd name="adj" fmla="val 5031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1.56069E-006 L -0.36666 -1.56069E-006 E">
                                      <p:cBhvr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УПОУГОЛЬНЫЙ 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2286000" y="2357280"/>
            <a:ext cx="4648320" cy="2743200"/>
            <a:chOff x="2286000" y="2357280"/>
            <a:chExt cx="4648320" cy="2743200"/>
          </a:xfrm>
        </p:grpSpPr>
        <p:sp>
          <p:nvSpPr>
            <p:cNvPr id="62" name="Line 4"/>
            <p:cNvSpPr/>
            <p:nvPr/>
          </p:nvSpPr>
          <p:spPr>
            <a:xfrm>
              <a:off x="2286000" y="2357280"/>
              <a:ext cx="2286000" cy="2743200"/>
            </a:xfrm>
            <a:prstGeom prst="line">
              <a:avLst/>
            </a:prstGeom>
            <a:ln w="76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>
              <a:off x="4572000" y="5100480"/>
              <a:ext cx="2362320" cy="0"/>
            </a:xfrm>
            <a:prstGeom prst="line">
              <a:avLst/>
            </a:prstGeom>
            <a:ln w="76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2286000" y="2357280"/>
              <a:ext cx="4648320" cy="2743200"/>
            </a:xfrm>
            <a:prstGeom prst="line">
              <a:avLst/>
            </a:prstGeom>
            <a:ln w="76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1"/>
          <p:cNvSpPr/>
          <p:nvPr/>
        </p:nvSpPr>
        <p:spPr>
          <a:xfrm rot="18145800">
            <a:off x="4303440" y="4332960"/>
            <a:ext cx="95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93802E-007 L 0.26771 -0.15726 E">
                                      <p:cBhvr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79278E-007 L 0.2757 -0.14685 E">
                                      <p:cBhvr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1523880" y="1905120"/>
            <a:ext cx="6172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 О Л О Д Ц 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8:13:28Z</dcterms:created>
  <dc:creator>Преподаватель</dc:creator>
  <dc:description/>
  <dc:language>en-US</dc:language>
  <cp:lastModifiedBy>Школа21</cp:lastModifiedBy>
  <dcterms:modified xsi:type="dcterms:W3CDTF">2015-10-22T11:54:01Z</dcterms:modified>
  <cp:revision>25</cp:revision>
  <dc:subject/>
  <dc:title>Слайд 1</dc:title>
</cp:coreProperties>
</file>