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E864-77C6-4869-BBDA-37FCB3E1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65DA-7814-4228-9853-792A1EB9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1038-47B0-400F-A222-C40C053A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3225-0347-47AB-8A67-A4C1830E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404E-D886-41CB-AA2E-F307B921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1393-B4D8-45B8-95BC-3E39AF2A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5C92-CE78-47E9-835A-068EBD2D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2F4A-35DF-4E7D-A2AD-EC61BFD4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050C-3BB1-4930-934F-850E8C6A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6049-A248-4EDD-8EB8-814F2F0F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670A-2B8B-45CB-9997-B2AFAFC3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1649-6B1C-4107-92B1-88D3CCEA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9EAD-3436-4EB0-AF2E-72A500AF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3FBD-E62C-4027-AC71-C6256E92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5CAF-7332-4496-B493-406121B6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6370-FA17-436D-9625-0CC45661C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74CC-FF3C-4BFB-B81F-1F8DFBA7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8964-C6B0-4EBE-9144-2ABD73ED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C51E-AE97-43CD-B370-5514197A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5D3-AAEA-428B-8263-3460039A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F991-150F-46B2-95FC-EEACCB5C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34E3-4764-4E12-9D7D-A9724D3F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856B-5895-4BE4-9D9E-DD30491D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1621-74A6-4DD5-9404-FD3D06A6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AF63-DB9B-40CB-88C4-2FAE7D23C84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4804-1475-443E-BDB3-801D57122F3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258920" y="368280"/>
            <a:ext cx="6765840" cy="61945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рок добро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теперь вернёмся на родную планету, чтобы делать добрые дела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первое наше доброе дело будет такое – мы будем с вами выращивать тюльпаны!!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755640" y="3284640"/>
            <a:ext cx="27338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ЮЛЬПАН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4356000" y="2133720"/>
            <a:ext cx="37213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81644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бята, а чего на земле больше: добра или зл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жет быть, об этом  нам помогут узнать старинные чашечные весы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одну чашу весов мы будем класть "зло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бы победить зло, надо постараться, чтобы перевесила чаша весов с "добром”. Давайте вспомним, какие добрые дела вы совершили, и по капельке положим их на чашу весов с "добром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Что такое добро? Что такое зло? Над этими вопросами задумывались и наши предки: прабабушки, прадедушки, бабушки, дедушки, папы и мамы и мы с в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хотя мы живём в третьем тысячелетии, о добре и зле будут размышлять ваши дети, внуки и правну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Итак, что такое добро? Где вы его встречали?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4859280" y="4221000"/>
            <a:ext cx="3816360" cy="2119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3167280" cy="2111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3"/>
          <a:stretch/>
        </p:blipFill>
        <p:spPr>
          <a:xfrm>
            <a:off x="4932360" y="1628640"/>
            <a:ext cx="2841480" cy="2132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4"/>
          <a:stretch/>
        </p:blipFill>
        <p:spPr>
          <a:xfrm>
            <a:off x="1547640" y="3789360"/>
            <a:ext cx="2833920" cy="2309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5"/>
          <a:stretch/>
        </p:blipFill>
        <p:spPr>
          <a:xfrm>
            <a:off x="2484360" y="2781360"/>
            <a:ext cx="3960720" cy="3000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609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всё хорошее, доброе, красиво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Что такое зло? Где встречались со злом?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3527640" cy="2416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900000" y="4005360"/>
            <a:ext cx="3313080" cy="237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03640" y="4149720"/>
            <a:ext cx="3384720" cy="22557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ЛО – это нечто, противоположное добр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Вы любите путешествовать? Давайте представим, что мы отправляемся с вами на ракете в космическое пространство.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072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Итак. Мы приземлились с вами на планету Добра. 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Что мы здесь увидели? Давайте пофантазируем.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 знаете, кто самый главный на этой планете?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46814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опольд. Помните, какие слова он всё время говорил, обращаясь к мышатам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4932360" y="1413000"/>
            <a:ext cx="3809880" cy="48099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179280" y="544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Жить дружно - это хорошо или плохо? Дружба - это доброе дело?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улице шли мальчик и девочка. А впереди них шла старушка. Было очень скользко. Старушка поскользнулась и упа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Подержи мои книжки! – крикнул мальчик, передал девочке свою сумку и бросился на помощь старуш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 он вернулся, девочка спросила ег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Это твоя бабушк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Нет,- ответил мальчи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Мама?- удивилась подруж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Нет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Ну, тётя? Или знакома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Да нет же, нет! – улыбаясь, сказал мальчик. – Это просто старушк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А сейчас кот Леопольд приглашает вас послушать одну историю, которая произошла на планете Добра.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гла ли эта история произойти с кем-нибудь из вас? Чему научил вас этот случай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0:34:20Z</dcterms:created>
  <dc:creator>stensor</dc:creator>
  <dc:description/>
  <dc:language>en-US</dc:language>
  <cp:lastModifiedBy>гриша</cp:lastModifiedBy>
  <dcterms:modified xsi:type="dcterms:W3CDTF">2013-02-11T02:42:20Z</dcterms:modified>
  <cp:revision>5</cp:revision>
  <dc:subject/>
  <dc:title>Слайд 1</dc:title>
</cp:coreProperties>
</file>