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4E8-F698-4462-A08E-51C5A142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F3E-C9E1-4EF6-B19D-35717B8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F79-D29A-4D30-B760-0C6A9309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F7F-5ED1-4410-9329-E26D229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208D-94E8-4C9F-B0B8-A7C8C132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6A3-0547-44B2-9288-0651D68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C5A6-49F3-46E2-AA48-B9B66CE8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4C87-E768-41A9-A468-2E82985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AA6-B178-4CCE-A87F-5DF6F5C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2F3-74C8-473C-8B57-EA174DB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E39-0E39-498D-91F2-5D357D7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781-7330-41CD-A7F8-72B2E6F3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43DA-2387-49A9-B66F-814D4E2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CDDD-8C04-4526-A56A-BEAA64C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211-70F5-4C73-B9CF-ED37A4C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DF90-B454-4EA3-977C-AF0434D5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65A-32D8-4FE3-BD27-0C60F62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77A-597E-48A8-B1F7-3B1B8AD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AC9-C3A2-4728-8046-6E7623BF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C92-BF00-494D-9675-B95E120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80B-427A-437E-AA47-8711F37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88C-ACE8-427B-99B9-47B9E33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74-F349-4B9E-B2C8-E6ED6AA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F67-85D0-4288-BE01-D2E47540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A2A9-7434-46EC-9BC7-CECC707E3E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C09B-C345-4093-A307-E51599E9E4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258920" y="368280"/>
            <a:ext cx="6765840" cy="619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добр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теперь вернёмся на родную планету, чтобы делать добрые дел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ервое наше доброе дело будет такое – мы будем с вами выращивать тюльпаны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755640" y="3284640"/>
            <a:ext cx="27338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ЮЛЬПАН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3721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16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бята, а чего на земле больше: добра или зл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ет быть, об этом  нам помогут узнать старинные чашечные вес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дну чашу весов мы будем класть "зло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обедить зло, надо постараться, чтобы перевесила чаша весов с "добром”. Давайте вспомним, какие добрые дела вы совершили, и по капельке положим их на чашу весов с "добром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Что такое добро? Что такое зло? Над этими вопросами задумывались и наши предки: прабабушки, прадедушки, бабушки, дедушки, папы и мамы и мы с 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хотя мы живём в третьем тысячелетии, о добре и зле будут размышлять ваши дети, внуки и правну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так, что такое добро? Где вы его встречали?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816360" cy="2119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167280" cy="211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2841480" cy="213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1547640" y="3789360"/>
            <a:ext cx="2833920" cy="2309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5"/>
          <a:stretch/>
        </p:blipFill>
        <p:spPr>
          <a:xfrm>
            <a:off x="2484360" y="2781360"/>
            <a:ext cx="3960720" cy="3000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всё хорошее, доброе, красив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то такое зло? Где встречались со злом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527640" cy="241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ЛО – это нечто, противоположное добр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ы любите путешествовать? Давайте представим, что мы отправляемся с вами на ракете в космическое пространство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Итак. Мы приземлились с вами на планету Добра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Что мы здесь увидели? Давайте пофантазируем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 знаете, кто самый главный на этой планете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4681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опольд. Помните, какие слова он всё время говорил, обращаясь к мышата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09880" cy="4809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7928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Жить дружно - это хорошо или плохо? Дружба - это доброе дело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лице шли мальчик и девочка. А впереди них шла старушка. Было очень скользко. Старушка поскользнулась и уп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держи мои книжки! – крикнул мальчик, передал девочке свою сумку и бросился на помощь старуш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он вернулся, девочка спросила ег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Это твоя бабуш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т,- ответил маль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ама?- удивилась подруж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у, тётя? Или знакома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 нет же, нет! – улыбаясь, сказал мальчик. – Это просто старуш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 сейчас кот Леопольд приглашает вас послушать одну историю, которая произошла на планете Добра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ла ли эта история произойти с кем-нибудь из вас? Чему научил вас этот случай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0:34:20Z</dcterms:created>
  <dc:creator>stensor</dc:creator>
  <dc:description/>
  <dc:language>en-US</dc:language>
  <cp:lastModifiedBy>гриша</cp:lastModifiedBy>
  <dcterms:modified xsi:type="dcterms:W3CDTF">2013-02-11T02:42:20Z</dcterms:modified>
  <cp:revision>5</cp:revision>
  <dc:subject/>
  <dc:title>Слайд 1</dc:title>
</cp:coreProperties>
</file>