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67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37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D76B5-8466-4DA6-B104-ECAA9ACC03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995A-44EE-4447-9E25-8B2C8A4F8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A49C-A2E2-46F1-8EA4-2ED7F6D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344D-8630-4466-934C-C8E8601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508C-2F2D-4A30-9085-E23A7BCAC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21B7B-6697-4402-A2D8-7E1A75800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C986F-AFDF-495A-A2E2-77084F9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11942-081D-4E55-B410-303D309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D139-3B2F-4096-9602-06642E45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D6217-103C-49F8-BF34-8C697B1B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F7FA-A238-437A-9FCA-998A21B7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2749E-8D21-4633-A1D9-5A1B9FB7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6B57-7DDD-4B81-9AB4-D3DEE94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A46D-F3FC-4E86-AEDD-AC33D05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B74E4-AF18-4B73-A849-301656E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FA5C1-FF57-4256-8E60-A2CC22F9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44A9A-A9BE-4CA9-9BE0-426D0B03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C37EE-7A01-42AB-86ED-D43F96DAF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BA8-8678-47EF-99AD-2AE932D48A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F13A-1E39-4A6D-AB69-3508E07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E46-0A20-4F40-82ED-3441396D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152-3F07-40D0-95DD-EA00E798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DA21-0478-49D3-9F4C-5E8D09DA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CD56-62FA-4814-8879-851B5161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F177-B741-4A7E-8347-8E92C27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520D-FF6E-4423-84CE-65F88735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50AE-32C4-4AD0-ABD7-E3D0816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381E-D50A-4495-BE17-1B07983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559-63A9-4463-AC15-16CAAF0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7547-F87A-448B-B6CD-A2F6568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DB7E-1E40-4D78-86AE-E5B985879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570B-140F-49B4-9E16-D1F48F1B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D049-61C2-4905-B00E-BE9ECAB1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7B86-7D76-4D64-806A-02621807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C4AB-D3A0-4058-8492-8B9A2A6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607B-6E96-433E-A06D-C211CB2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8F60-A972-4EB5-B2A3-13CA60C1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52156"/>
                </a:srgbClr>
              </a:gs>
              <a:gs pos="100000">
                <a:srgbClr val="00c4cd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8abf">
                  <a:alpha val="52156"/>
                </a:srgbClr>
              </a:gs>
              <a:gs pos="100000">
                <a:srgbClr val="00a0a8">
                  <a:alpha val="3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446760" y="-1725120"/>
            <a:ext cx="9936000" cy="4493160"/>
            <a:chOff x="-446760" y="-1725120"/>
            <a:chExt cx="9936000" cy="4493160"/>
          </a:xfrm>
        </p:grpSpPr>
        <p:sp>
          <p:nvSpPr>
            <p:cNvPr id="3" name=""/>
            <p:cNvSpPr/>
            <p:nvPr/>
          </p:nvSpPr>
          <p:spPr>
            <a:xfrm rot="21420000">
              <a:off x="-348840" y="-1472760"/>
              <a:ext cx="9740520" cy="3988800"/>
            </a:xfrm>
            <a:prstGeom prst="rect">
              <a:avLst/>
            </a:pr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340920" y="-1019520"/>
              <a:ext cx="9751680" cy="3249000"/>
            </a:xfrm>
            <a:prstGeom prst="rect">
              <a:avLst/>
            </a:pr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840440" cy="1817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9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5DE26-A685-416E-A86B-A698C5AE394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52156"/>
                </a:srgbClr>
              </a:gs>
              <a:gs pos="100000">
                <a:srgbClr val="00c4cd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8abf">
                  <a:alpha val="52156"/>
                </a:srgbClr>
              </a:gs>
              <a:gs pos="100000">
                <a:srgbClr val="00a0a8">
                  <a:alpha val="3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446760" y="-1725120"/>
            <a:ext cx="9936000" cy="4493160"/>
            <a:chOff x="-446760" y="-1725120"/>
            <a:chExt cx="9936000" cy="4493160"/>
          </a:xfrm>
        </p:grpSpPr>
        <p:sp>
          <p:nvSpPr>
            <p:cNvPr id="49" name=""/>
            <p:cNvSpPr/>
            <p:nvPr/>
          </p:nvSpPr>
          <p:spPr>
            <a:xfrm rot="21420000">
              <a:off x="-348840" y="-1472760"/>
              <a:ext cx="9740520" cy="3988800"/>
            </a:xfrm>
            <a:prstGeom prst="rect">
              <a:avLst/>
            </a:pr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340920" y="-1019520"/>
              <a:ext cx="9751680" cy="3249000"/>
            </a:xfrm>
            <a:prstGeom prst="rect">
              <a:avLst/>
            </a:pr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27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679DD4F-BCF9-4A36-9798-6FF5F3AA6D46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52156"/>
                </a:srgbClr>
              </a:gs>
              <a:gs pos="100000">
                <a:srgbClr val="00c4cd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8abf">
                  <a:alpha val="52156"/>
                </a:srgbClr>
              </a:gs>
              <a:gs pos="100000">
                <a:srgbClr val="00a0a8">
                  <a:alpha val="3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446760" y="-1725120"/>
            <a:ext cx="9936000" cy="4493160"/>
            <a:chOff x="-446760" y="-1725120"/>
            <a:chExt cx="9936000" cy="4493160"/>
          </a:xfrm>
        </p:grpSpPr>
        <p:sp>
          <p:nvSpPr>
            <p:cNvPr id="95" name=""/>
            <p:cNvSpPr/>
            <p:nvPr/>
          </p:nvSpPr>
          <p:spPr>
            <a:xfrm rot="21420000">
              <a:off x="-348840" y="-1472760"/>
              <a:ext cx="9740520" cy="3988800"/>
            </a:xfrm>
            <a:prstGeom prst="rect">
              <a:avLst/>
            </a:pr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340920" y="-1019520"/>
              <a:ext cx="9751680" cy="3249000"/>
            </a:xfrm>
            <a:prstGeom prst="rect">
              <a:avLst/>
            </a:pr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27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83B1233-F301-4EA7-A015-B1A196FC5BD4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73.jpeg"/><Relationship Id="rId10" Type="http://schemas.openxmlformats.org/officeDocument/2006/relationships/image" Target="../media/image74.jpeg"/><Relationship Id="rId11" Type="http://schemas.openxmlformats.org/officeDocument/2006/relationships/slideLayout" Target="../slideLayouts/slideLayout27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image" Target="../media/image84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image" Target="../media/image88.jpeg"/><Relationship Id="rId6" Type="http://schemas.openxmlformats.org/officeDocument/2006/relationships/image" Target="../media/image8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00160" y="407160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КРУЖОК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521496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Азбука вязани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00080" y="0"/>
            <a:ext cx="7572600" cy="42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200" y="357120"/>
            <a:ext cx="4000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39bff"/>
                </a:solidFill>
                <a:latin typeface="Constantia"/>
              </a:rPr>
              <a:t>Работы Бухоновой Мар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1920" y="3214800"/>
            <a:ext cx="2367000" cy="3336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500200" y="3000240"/>
            <a:ext cx="2857680" cy="361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572080" y="4071960"/>
            <a:ext cx="2719440" cy="2643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86240" y="0"/>
            <a:ext cx="3571920" cy="3989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271440" y="714240"/>
            <a:ext cx="4772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Романовой Пол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15080" y="4429080"/>
            <a:ext cx="234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2920" y="3195720"/>
            <a:ext cx="1928880" cy="3376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642000" y="863640"/>
            <a:ext cx="2286000" cy="3643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071800" y="3244680"/>
            <a:ext cx="2357280" cy="3035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406760" y="3143160"/>
            <a:ext cx="2308320" cy="3514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214880" y="642960"/>
            <a:ext cx="2571840" cy="256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2687760" cy="339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57240" y="357120"/>
            <a:ext cx="53578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Клинниковой Елизав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572080" y="2786040"/>
            <a:ext cx="2928960" cy="3935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714760" y="3286080"/>
            <a:ext cx="3071520" cy="3306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7215120" y="285840"/>
            <a:ext cx="1714680" cy="275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42920"/>
            <a:ext cx="4572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Деменковой Анаста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57600" y="428760"/>
            <a:ext cx="400536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9040" y="3205080"/>
            <a:ext cx="3857760" cy="359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57120" y="2714760"/>
            <a:ext cx="3143160" cy="382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2214360" cy="4495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85960" y="142920"/>
            <a:ext cx="64785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dc3ff"/>
                </a:solidFill>
                <a:latin typeface="Constantia"/>
              </a:rPr>
              <a:t>Работы Сухих Мар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357280" y="1714680"/>
            <a:ext cx="1879920" cy="2544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619600" y="2000160"/>
            <a:ext cx="3381480" cy="278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143240" y="1857240"/>
            <a:ext cx="1857600" cy="2362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857920" y="4572000"/>
            <a:ext cx="2722680" cy="211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500880" y="1000080"/>
            <a:ext cx="230976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142920" y="4786200"/>
            <a:ext cx="2394000" cy="1712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2571840" y="4143240"/>
            <a:ext cx="3025800" cy="254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09640" y="500040"/>
            <a:ext cx="31892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Дзюба Соф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2428920" cy="3571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600360" y="3386160"/>
            <a:ext cx="3786120" cy="3471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143240" y="0"/>
            <a:ext cx="42148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2857680" cy="587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43120" y="571680"/>
            <a:ext cx="6286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7caff"/>
                </a:solidFill>
                <a:latin typeface="Constantia"/>
              </a:rPr>
              <a:t>Работы Марюхина Серге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072040" y="2500200"/>
            <a:ext cx="21718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274760"/>
          </a:xfrm>
          <a:prstGeom prst="rect">
            <a:avLst/>
          </a:prstGeom>
          <a:solidFill>
            <a:srgbClr val="0bd0d9"/>
          </a:solidFill>
          <a:ln w="34920">
            <a:solidFill>
              <a:srgbClr val="ffffff"/>
            </a:solidFill>
            <a:round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дготовка к выставке творческих рабо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7120" y="4500720"/>
            <a:ext cx="3678480" cy="2071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78280" y="2286000"/>
            <a:ext cx="2851200" cy="3714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954760" y="2303640"/>
            <a:ext cx="3044880" cy="1714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0040" y="2286000"/>
            <a:ext cx="2656080" cy="1857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5643720" y="4071960"/>
            <a:ext cx="321300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853920"/>
            <a:ext cx="91440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c9b74"/>
                </a:solidFill>
                <a:latin typeface="Calibri"/>
              </a:rPr>
              <a:t>Голосование на выставке - конкурс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2643120" cy="4694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215040" y="1928880"/>
            <a:ext cx="2665440" cy="4734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000240" y="1928880"/>
            <a:ext cx="308160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ведение итогов выставк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571920" cy="2439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71680" y="1714680"/>
            <a:ext cx="1928520" cy="2909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42920" y="4071960"/>
            <a:ext cx="212256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928880" y="39751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643800" y="171468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5273640" y="4214880"/>
            <a:ext cx="3735360" cy="2428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500280" y="4429080"/>
            <a:ext cx="31975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оги выставки – конкурса </a:t>
            </a:r>
            <a:br>
              <a:rPr sz="50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(19-22.09.2014 г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86280" y="1500120"/>
            <a:ext cx="1460520" cy="2214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85880" y="3071880"/>
            <a:ext cx="2006640" cy="1928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143080" cy="1992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7269120" y="1643040"/>
            <a:ext cx="1568520" cy="2786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2428920" y="4714920"/>
            <a:ext cx="3373560" cy="2000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072120" y="4500720"/>
            <a:ext cx="2803680" cy="2212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500200" y="1928880"/>
            <a:ext cx="2498760" cy="1798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4572000" y="3571920"/>
            <a:ext cx="2112840" cy="1522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142920" y="5072040"/>
            <a:ext cx="2357280" cy="1500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346040" y="2928960"/>
            <a:ext cx="64519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1 место – Деменкова Анаста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2 место – Сотышева К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3 место – Бухонова М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4 место – Романова П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357720" y="928800"/>
            <a:ext cx="5357520" cy="5343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42920" y="1643040"/>
            <a:ext cx="3214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dc3ff"/>
                </a:solidFill>
                <a:latin typeface="Constantia"/>
              </a:rPr>
              <a:t>Творческие проекты «Эмблема для круж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4200" y="642960"/>
            <a:ext cx="8753760" cy="4929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143000" y="5691240"/>
            <a:ext cx="71438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07e06"/>
                </a:solidFill>
                <a:latin typeface="Constantia"/>
              </a:rPr>
              <a:t>Проект Демидовой Марины,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07e06"/>
                </a:solidFill>
                <a:latin typeface="Constantia"/>
              </a:rPr>
              <a:t>«Кукла в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ставка работ «Новогодний сюрприз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74640" y="1935000"/>
            <a:ext cx="77961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2581560" cy="2657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786040" y="714240"/>
            <a:ext cx="4102200" cy="2310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138480" y="3317760"/>
            <a:ext cx="3219480" cy="301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786720" y="428760"/>
            <a:ext cx="2071440" cy="3236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6500880" y="3643200"/>
            <a:ext cx="2060640" cy="3027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500040" y="3571920"/>
            <a:ext cx="24987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3143160" cy="3851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357880" y="0"/>
            <a:ext cx="3657600" cy="3355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42920" y="3929040"/>
            <a:ext cx="3498840" cy="278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929200" y="3357720"/>
            <a:ext cx="3070440" cy="3340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214800" y="2214720"/>
            <a:ext cx="264312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42960" y="500040"/>
            <a:ext cx="8215200" cy="5916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082520" y="3643200"/>
            <a:ext cx="69789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Успехов в творчеств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785880" y="5716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5000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8786880" cy="4946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5500800"/>
            <a:ext cx="8229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987ff"/>
                </a:solidFill>
                <a:latin typeface="Constantia"/>
              </a:rPr>
              <a:t>Презентация кружка «Азбука вя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987ff"/>
                </a:solidFill>
                <a:latin typeface="Constantia"/>
              </a:rPr>
              <a:t>22сентября 201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8767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ворческий отчет работы кружк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ужок работает на базе  МКОУ Князевской ООШ с 2013 года по авторской программе. Руководитель кружка Буянкова Л. 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атус группы, вид группы – профиль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 группы – постоян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енности набора детей – свобод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а занятий – индивидуальные, групповые, разновозрас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д обучения – 1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обучающихся – 6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раст учащихся – 7-15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занятий – 1 час в неделю, 35 часов за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и задачи: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уждение интереса и любви к декоративно – прикладному искусст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знакомление с историей художественного вязания, с цветной гаммой, с орнаментами узоров, украшающих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стетическое воспит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ние аккуратности, усидчивости, чувства взаимопомощи, активности,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ие творчества в создании новых, современных узоров и моделей одежд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ние вязать поможет каждой девушке красиво и элегантно одеваться в соответствии со своим вкусом, учитывая при этом индивидуальность фиг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владение навыками вязания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329904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500800" y="1714680"/>
            <a:ext cx="3484440" cy="1962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14200" y="3571920"/>
            <a:ext cx="2392560" cy="2857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287880" y="1428840"/>
            <a:ext cx="2323800" cy="2357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429240" y="3929040"/>
            <a:ext cx="2570400" cy="221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2571840" y="4071960"/>
            <a:ext cx="3857400" cy="21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60804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4200" y="2786040"/>
            <a:ext cx="2578320" cy="217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2920" y="428760"/>
            <a:ext cx="4357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bd0d9"/>
                </a:solidFill>
                <a:latin typeface="Constantia"/>
              </a:rPr>
              <a:t>Работы Сотышевой Кс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915160" y="500040"/>
            <a:ext cx="25812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929280" y="3578400"/>
            <a:ext cx="1989360" cy="3278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00040" y="4857840"/>
            <a:ext cx="2171880" cy="2000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987800" y="3857760"/>
            <a:ext cx="234504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032360" y="1871640"/>
            <a:ext cx="2286000" cy="2211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592360" y="4319640"/>
            <a:ext cx="2143080" cy="218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3:39:36Z</dcterms:created>
  <dc:creator>Андрей</dc:creator>
  <dc:description/>
  <dc:language>en-US</dc:language>
  <cp:lastModifiedBy/>
  <dcterms:modified xsi:type="dcterms:W3CDTF">2016-09-27T19:08:52Z</dcterms:modified>
  <cp:revision>243</cp:revision>
  <dc:subject/>
  <dc:title>КРУЖ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3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40</vt:r8>
  </property>
</Properties>
</file>