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67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02B9A-D89A-413E-BF35-526844DA02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9C11-A67B-4683-9FB1-CC28FF6470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3516-D32A-4F50-9C55-15C6CC86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4FA2-1BC7-4353-803A-DBDC633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5A5E-FCC0-4CCE-B3B2-935A40B51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C706E-E444-4311-8DD1-3D3F7D4F6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20946-F0B5-40CA-A77B-9CCAF5C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3F49D-D608-419A-A599-E5EDAA5C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7310-1EFF-4C18-AEEF-8332DA4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936CA-1087-4F12-8DE0-9EA27851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5FDB0-8D2A-4D08-BBEE-46B025F4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5202F-17AD-492E-9A9F-429D2C7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0C62-7E1A-4A7B-BD71-13720F70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BA7BF-73D9-46EE-9B71-645EA222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1248-0BC8-4539-B772-2690BAA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0A0AF-028C-403E-B2E8-3B1954C9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C0540-48DC-4D44-B97B-C7CF1EF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EDB7D-3B49-491E-9717-114629357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B6B-A9EF-4516-953A-EBA0ABE98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485F-8240-415A-BEFB-A8DC1031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9082-B1DD-405A-9BFF-C03E1C8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C56A-7C1B-4EC7-855D-6D809BA3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142-E636-43E5-97F5-FD0BB2F0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05DC-9E41-41BC-8D9F-F744DBC5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58D8-8F90-4271-9087-BDA33AA0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96BC-9E53-4B9E-B851-CC9BDF2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B7E-537F-4BC5-9C52-5C9101E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8ED-B3F6-42A0-9661-77F11833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4249-E476-404A-82DF-FB481F21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E12C-BBD6-4533-BAD3-79A0F3D0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568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4160" y="160488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684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568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4160" y="3676320"/>
            <a:ext cx="26460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6D0-1D3E-41DB-A377-716C0813B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AAEA-F7FC-46F8-B509-453F7C08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A4A9-3F99-4121-B27B-ED9C3CF7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1F1D-C925-4D0A-B385-A8EA8964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ADC9-73F6-4FED-B2CA-070DBF5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67632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46AA-EACD-49AA-AE9F-2AD56CF7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4880"/>
            <a:ext cx="401040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76320"/>
            <a:ext cx="8218440" cy="1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EB28-97E6-4148-A514-6D07048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3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840440" cy="1817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9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5C30B-2068-49D2-A3E8-EFE13266D7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49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7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B5FFE78-31E4-49A4-B5AC-D01A628557FD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7920"/>
            <a:ext cx="9162720" cy="1041480"/>
          </a:xfrm>
          <a:prstGeom prst="rect">
            <a:avLst/>
          </a:prstGeom>
          <a:gradFill rotWithShape="0">
            <a:gsLst>
              <a:gs pos="0">
                <a:srgbClr val="0074a0">
                  <a:alpha val="52156"/>
                </a:srgbClr>
              </a:gs>
              <a:gs pos="100000">
                <a:srgbClr val="00c4cd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7920"/>
            <a:ext cx="4762440" cy="638280"/>
          </a:xfrm>
          <a:prstGeom prst="rect">
            <a:avLst/>
          </a:prstGeom>
          <a:gradFill rotWithShape="0">
            <a:gsLst>
              <a:gs pos="0">
                <a:srgbClr val="008abf">
                  <a:alpha val="52156"/>
                </a:srgbClr>
              </a:gs>
              <a:gs pos="100000">
                <a:srgbClr val="00a0a8">
                  <a:alpha val="3725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446760" y="-1725120"/>
            <a:ext cx="9936000" cy="4493160"/>
            <a:chOff x="-446760" y="-1725120"/>
            <a:chExt cx="9936000" cy="4493160"/>
          </a:xfrm>
        </p:grpSpPr>
        <p:sp>
          <p:nvSpPr>
            <p:cNvPr id="95" name=""/>
            <p:cNvSpPr/>
            <p:nvPr/>
          </p:nvSpPr>
          <p:spPr>
            <a:xfrm rot="21420000">
              <a:off x="-348840" y="-1472760"/>
              <a:ext cx="9740520" cy="3988800"/>
            </a:xfrm>
            <a:prstGeom prst="rect">
              <a:avLst/>
            </a:pr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340920" y="-1019520"/>
              <a:ext cx="9751680" cy="3249000"/>
            </a:xfrm>
            <a:prstGeom prst="rect">
              <a:avLst/>
            </a:pr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7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DDA68E-E145-4A87-BDEE-C0903DE8F5E4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2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27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73.jpeg"/><Relationship Id="rId10" Type="http://schemas.openxmlformats.org/officeDocument/2006/relationships/image" Target="../media/image74.jpeg"/><Relationship Id="rId11" Type="http://schemas.openxmlformats.org/officeDocument/2006/relationships/slideLayout" Target="../slideLayouts/slideLayout27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image" Target="../media/image84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jpeg"/><Relationship Id="rId6" Type="http://schemas.openxmlformats.org/officeDocument/2006/relationships/image" Target="../media/image8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00160" y="407160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КРУЖОК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21496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збука вязани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00080" y="0"/>
            <a:ext cx="7572600" cy="42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200" y="357120"/>
            <a:ext cx="4000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39bff"/>
                </a:solidFill>
                <a:latin typeface="Constantia"/>
              </a:rPr>
              <a:t>Работы Бухоновой Мар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920" y="3214800"/>
            <a:ext cx="2367000" cy="3336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00200" y="3000240"/>
            <a:ext cx="2857680" cy="361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572080" y="4071960"/>
            <a:ext cx="2719440" cy="2643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286240" y="0"/>
            <a:ext cx="3571920" cy="3989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271440" y="714240"/>
            <a:ext cx="4772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Романовой Пол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715080" y="4429080"/>
            <a:ext cx="234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2920" y="3195720"/>
            <a:ext cx="1928880" cy="3376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642000" y="863640"/>
            <a:ext cx="2286000" cy="3643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071800" y="3244680"/>
            <a:ext cx="2357280" cy="3035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406760" y="3143160"/>
            <a:ext cx="2308320" cy="3514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214880" y="642960"/>
            <a:ext cx="2571840" cy="256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2687760" cy="339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57240" y="357120"/>
            <a:ext cx="53578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Клинниковой Елизав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572080" y="2786040"/>
            <a:ext cx="2928960" cy="3935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714760" y="3286080"/>
            <a:ext cx="3071520" cy="3306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7215120" y="285840"/>
            <a:ext cx="1714680" cy="275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42920"/>
            <a:ext cx="4572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Деменковой Анаста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7600" y="428760"/>
            <a:ext cx="400536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9040" y="3205080"/>
            <a:ext cx="3857760" cy="359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57120" y="2714760"/>
            <a:ext cx="3143160" cy="382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2214360" cy="4495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85960" y="142920"/>
            <a:ext cx="64785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dc3ff"/>
                </a:solidFill>
                <a:latin typeface="Constantia"/>
              </a:rPr>
              <a:t>Работы Сухих Мар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357280" y="1714680"/>
            <a:ext cx="1879920" cy="2544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619600" y="2000160"/>
            <a:ext cx="3381480" cy="278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143240" y="1857240"/>
            <a:ext cx="1857600" cy="2362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857920" y="4572000"/>
            <a:ext cx="2722680" cy="211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500880" y="1000080"/>
            <a:ext cx="230976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142920" y="4786200"/>
            <a:ext cx="2394000" cy="1712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2571840" y="4143240"/>
            <a:ext cx="3025800" cy="254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09640" y="500040"/>
            <a:ext cx="31892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1f7fd"/>
                </a:solidFill>
                <a:latin typeface="Constantia"/>
              </a:rPr>
              <a:t>Работы Дзюба Соф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600360" y="3386160"/>
            <a:ext cx="3786120" cy="3471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143240" y="0"/>
            <a:ext cx="42148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2857680" cy="587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43120" y="571680"/>
            <a:ext cx="62866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7caff"/>
                </a:solidFill>
                <a:latin typeface="Constantia"/>
              </a:rPr>
              <a:t>Работы Марюхина Серге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72040" y="2500200"/>
            <a:ext cx="21718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274760"/>
          </a:xfrm>
          <a:prstGeom prst="rect">
            <a:avLst/>
          </a:prstGeom>
          <a:solidFill>
            <a:srgbClr val="0bd0d9"/>
          </a:solidFill>
          <a:ln w="34920">
            <a:solidFill>
              <a:srgbClr val="ffffff"/>
            </a:solidFill>
            <a:round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дготовка к выставке творческих рабо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7120" y="4500720"/>
            <a:ext cx="3678480" cy="2071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78280" y="2286000"/>
            <a:ext cx="2851200" cy="3714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954760" y="2303640"/>
            <a:ext cx="3044880" cy="1714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500040" y="2286000"/>
            <a:ext cx="2656080" cy="1857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5643720" y="4071960"/>
            <a:ext cx="321300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853920"/>
            <a:ext cx="914400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c9b74"/>
                </a:solidFill>
                <a:latin typeface="Calibri"/>
              </a:rPr>
              <a:t>Голосование на выставке - конкурс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2643120" cy="4694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215040" y="1928880"/>
            <a:ext cx="2665440" cy="4734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000240" y="1928880"/>
            <a:ext cx="308160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едение итогов выставки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571920" cy="2439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71680" y="1714680"/>
            <a:ext cx="1928520" cy="2909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42920" y="4071960"/>
            <a:ext cx="212256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928880" y="39751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643800" y="171468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5273640" y="4214880"/>
            <a:ext cx="3735360" cy="2428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3500280" y="4429080"/>
            <a:ext cx="31975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оги выставки – конкурса </a:t>
            </a:r>
            <a:br>
              <a:rPr sz="50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(19-22.09.2014 г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86280" y="1500120"/>
            <a:ext cx="1460520" cy="2214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85880" y="3071880"/>
            <a:ext cx="2006640" cy="192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143080" cy="1992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7269120" y="1643040"/>
            <a:ext cx="1568520" cy="2786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2428920" y="4714920"/>
            <a:ext cx="3373560" cy="2000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072120" y="4500720"/>
            <a:ext cx="2803680" cy="2212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500200" y="1928880"/>
            <a:ext cx="2498760" cy="1798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4572000" y="3571920"/>
            <a:ext cx="2112840" cy="1522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142920" y="5072040"/>
            <a:ext cx="2357280" cy="150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346040" y="2928960"/>
            <a:ext cx="64519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1 место – Деменкова Анаста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2 место – Сотышева К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3 место – Бухонова М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5ddff"/>
                </a:solidFill>
                <a:latin typeface="Constantia"/>
              </a:rPr>
              <a:t>4 место – Романова П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357720" y="928800"/>
            <a:ext cx="5357520" cy="5343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42920" y="1643040"/>
            <a:ext cx="3214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dc3ff"/>
                </a:solidFill>
                <a:latin typeface="Constantia"/>
              </a:rPr>
              <a:t>Творческие проекты «Эмблема для круж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4200" y="642960"/>
            <a:ext cx="8753760" cy="4929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143000" y="5691240"/>
            <a:ext cx="71438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07e06"/>
                </a:solidFill>
                <a:latin typeface="Constantia"/>
              </a:rPr>
              <a:t>Проект Демидовой Марины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07e06"/>
                </a:solidFill>
                <a:latin typeface="Constantia"/>
              </a:rPr>
              <a:t>«Кукла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ставка работ «Новогодний сюрприз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74640" y="1935000"/>
            <a:ext cx="77961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2581560" cy="2657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786040" y="714240"/>
            <a:ext cx="4102200" cy="2310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138480" y="3317760"/>
            <a:ext cx="3219480" cy="301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786720" y="428760"/>
            <a:ext cx="2071440" cy="3236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500880" y="3643200"/>
            <a:ext cx="2060640" cy="3027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500040" y="3571920"/>
            <a:ext cx="24987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3143160" cy="3851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357880" y="0"/>
            <a:ext cx="3657600" cy="3355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42920" y="3929040"/>
            <a:ext cx="3498840" cy="278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929200" y="3357720"/>
            <a:ext cx="3070440" cy="334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214800" y="2214720"/>
            <a:ext cx="264312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42960" y="500040"/>
            <a:ext cx="8215200" cy="5916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82520" y="3643200"/>
            <a:ext cx="69789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Успехов в творчеств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785880" y="571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5000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8786880" cy="4946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550080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987ff"/>
                </a:solidFill>
                <a:latin typeface="Constantia"/>
              </a:rPr>
              <a:t>Презентация кружка «Азбука вя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987ff"/>
                </a:solidFill>
                <a:latin typeface="Constantia"/>
              </a:rPr>
              <a:t>22сент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8767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ворческий отчет работы кружк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ужок работает на базе  МКОУ Князевской ООШ с 2013 года по авторской программе. Руководитель кружка Буянкова Л. 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атус группы, вид группы – профиль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 группы – постоян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енности набора детей – свобод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 занятий – индивидуальные, групповые, разновозрас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д обучения – 1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обучающихся – 6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раст учащихся – 7-15 л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занятий – 1 час в неделю, 35 часов за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4680"/>
                <a:tab algn="l" pos="722160"/>
                <a:tab algn="l" pos="1171440"/>
                <a:tab algn="l" pos="1620720"/>
                <a:tab algn="l" pos="2070000"/>
                <a:tab algn="l" pos="2519280"/>
                <a:tab algn="l" pos="2968560"/>
                <a:tab algn="l" pos="3417840"/>
                <a:tab algn="l" pos="3867120"/>
                <a:tab algn="l" pos="4316400"/>
                <a:tab algn="l" pos="4765680"/>
                <a:tab algn="l" pos="5214960"/>
                <a:tab algn="l" pos="5664240"/>
                <a:tab algn="l" pos="6113520"/>
                <a:tab algn="l" pos="6562800"/>
                <a:tab algn="l" pos="7012080"/>
                <a:tab algn="l" pos="7461360"/>
                <a:tab algn="l" pos="7910640"/>
                <a:tab algn="l" pos="8359920"/>
                <a:tab algn="l" pos="8809200"/>
                <a:tab algn="l" pos="9258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и задачи: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уждение интереса и любви к декоративно – прикладному искусст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знакомление с историей художественного вязания, с цветной гаммой, с орнаментами узоров, украшающих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стетическое воспита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аккуратности, усидчивости, чувства взаимопомощи, активности,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творчества в создании новых, современных узоров и моделей одежд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ние вязать поможет каждой девушке красиво и элегантно одеваться в соответствии со своим вкусом, учитывая при этом индивидуальность фиг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635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владение навыками вязания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329904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500800" y="1714680"/>
            <a:ext cx="3484440" cy="1962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14200" y="3571920"/>
            <a:ext cx="2392560" cy="285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287880" y="1428840"/>
            <a:ext cx="2323800" cy="235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429240" y="3929040"/>
            <a:ext cx="2570400" cy="221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571840" y="4071960"/>
            <a:ext cx="3857400" cy="21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0804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4200" y="2786040"/>
            <a:ext cx="2578320" cy="217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2920" y="428760"/>
            <a:ext cx="4357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bd0d9"/>
                </a:solidFill>
                <a:latin typeface="Constantia"/>
              </a:rPr>
              <a:t>Работы Сотышевой Кс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915160" y="500040"/>
            <a:ext cx="25812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929280" y="3578400"/>
            <a:ext cx="1989360" cy="3278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00040" y="4857840"/>
            <a:ext cx="2171880" cy="2000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987800" y="3857760"/>
            <a:ext cx="234504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032360" y="1871640"/>
            <a:ext cx="2286000" cy="2211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592360" y="4319640"/>
            <a:ext cx="214308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3:39:36Z</dcterms:created>
  <dc:creator>Андрей</dc:creator>
  <dc:description/>
  <dc:language>en-US</dc:language>
  <cp:lastModifiedBy/>
  <dcterms:modified xsi:type="dcterms:W3CDTF">2016-09-27T19:08:52Z</dcterms:modified>
  <cp:revision>243</cp:revision>
  <dc:subject/>
  <dc:title>КРУЖ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3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40</vt:r8>
  </property>
</Properties>
</file>