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D496-6F37-4EFC-9AB1-54221008C9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DF6A-5ED2-423E-A977-17B9F87F36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6B8-44C9-4F2F-A2F1-674406EF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F62-76F3-4066-AD66-62F19C29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FC7-676E-4345-B470-BCD05C46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286-6730-454B-BC6B-55A1E08A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CAA9-6544-4667-94DF-7C6D476D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4BEC-0AA4-4A1D-B4D5-02D5F547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1B96-CAAD-4B6E-AEBA-795D9A7D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BEC9-0903-4E5F-9BC6-6AE2839F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98D3-6564-4F24-8487-629494DB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0251-B31B-4B18-8C61-AAB7C46C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1119-BEAC-4872-92E3-79675AD7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089-CC6B-4888-886E-796A8480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E8D1-FBC9-40D9-AB61-DB96B960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4A5E-E70E-41CF-80E7-3B08DBAD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C1C9-1E7F-465B-93BD-AF340192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988F-897C-4213-9607-11779F5C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9E50-ADDC-4A51-9250-93A8C1CC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12447-5F36-488B-829D-306F1336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66C7-4A00-42B5-9BE3-46D35965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3FA3-2EF0-4FCA-9F6A-3738D1EE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2BF1-DE14-46A2-ADDF-F846018B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B47D-50F1-4804-A65D-71B3FB08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DA8-75D2-4327-B796-05FEC116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0912-230B-4DA6-A85E-078551C6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5CCB-AEBD-496C-8DF9-42B1FBE5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42D5-BF17-4738-99B7-17F64217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7E5E-3E09-473D-B66E-D6893A54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390B-5B1E-4B12-B8B4-98434BE4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0762B-9ECF-4FF9-9100-5B4C901A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061B3-F4C0-40FC-9CC0-C3A41E48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C23D-6537-4CE2-82D2-CDA1821B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7F3EC-9500-4278-BB07-C5F3810F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39F69-9E70-4FB6-BCD4-5700D7BF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99F-09C6-4F10-BC86-907A0EF4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8DBA-21CB-4F5A-8AE5-ECC62FF6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D1AA5-7C10-4F7B-B216-D2933C07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17A35-68DF-4516-9468-9A04CC61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E91F8-6469-4393-80FB-72DDB93C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C4159-584C-4FD3-8E89-8908FFD7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2F1D-44C8-49AB-AD83-7A0E666F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D439-8E6C-4C9D-862E-5F10BF13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45F0D-15C0-4DBC-889E-EF30ECA3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897A-6E6A-46D2-842F-F19B1169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726-55E7-45B0-813B-8517239B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02E-C193-4A38-9437-58B437D9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366-B477-407B-8290-A1B2304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A3A-F585-4590-B561-9E23914B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68E-5022-40B0-94E6-7207BE6B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13B2-8538-4C96-89F2-F8B73E789B51}" type="slidenum">
              <a:rPr b="0" lang="ru-RU" sz="900" spc="-1" strike="noStrike">
                <a:solidFill>
                  <a:srgbClr val="eb3d9f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ADFB-6A3C-4130-972E-307FD779A882}" type="slidenum">
              <a:rPr b="0" lang="ru-RU" sz="900" spc="-1" strike="noStrike">
                <a:solidFill>
                  <a:srgbClr val="eb3d9f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9D88-E8E7-4F0C-A0B1-8F72872BA012}" type="slidenum">
              <a:rPr b="0" lang="ru-RU" sz="900" spc="-1" strike="noStrike">
                <a:solidFill>
                  <a:srgbClr val="eb3d9f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D77C-B02D-4A29-94E6-B1064A493002}" type="slidenum">
              <a:rPr b="0" lang="ru-RU" sz="900" spc="-1" strike="noStrike">
                <a:solidFill>
                  <a:srgbClr val="eb3d9f"/>
                </a:solidFill>
                <a:latin typeface="Gill Sans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24360" y="2600280"/>
            <a:ext cx="3254400" cy="21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100"/>
            </a:b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0920" y="1261800"/>
            <a:ext cx="65530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b2136d"/>
                </a:solidFill>
                <a:latin typeface="Trebuchet MS"/>
              </a:rPr>
              <a:t>Методический совет по теме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b2136d"/>
                </a:solidFill>
                <a:latin typeface="Trebuchet MS"/>
              </a:rPr>
              <a:t>«Повышение качества знаний обучающихся»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042920" y="486900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5238d"/>
                </a:solidFill>
                <a:latin typeface="Gill Sans MT"/>
              </a:rPr>
              <a:t>Заместитель директора по УВР: Демидкова Л.С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42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Интерес к учению проявляется только тогда, когда есть вдохновение, рождающееся от успеха»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Сухомлинский</a:t>
            </a:r>
            <a:br>
              <a:rPr sz="4400"/>
            </a:b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3" name="Picture 5" descr="00036097"/>
          <p:cNvPicPr/>
          <p:nvPr/>
        </p:nvPicPr>
        <p:blipFill>
          <a:blip r:embed="rId1"/>
          <a:stretch/>
        </p:blipFill>
        <p:spPr>
          <a:xfrm>
            <a:off x="6012000" y="3862440"/>
            <a:ext cx="2539800" cy="2820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b2136d"/>
                </a:solidFill>
                <a:latin typeface="Trebuchet MS"/>
              </a:rPr>
              <a:t>Формы работы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403280" y="1628280"/>
            <a:ext cx="55548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lang="ru-RU" sz="1800" spc="-1" strike="noStrike">
                <a:solidFill>
                  <a:srgbClr val="eb3d9f"/>
                </a:solidFill>
                <a:latin typeface="Trebuchet MS"/>
              </a:rPr>
              <a:t>Улучшения качества образования через использование инновационных технологий , основная цель которых стимулирование познавательной деятельности старшеклассников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eb3d9f"/>
                </a:solidFill>
                <a:latin typeface="Trebuchet MS"/>
              </a:rPr>
              <a:t>Информационные техноло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eb3d9f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eb3d9f"/>
                </a:solidFill>
                <a:latin typeface="Trebuchet MS"/>
              </a:rPr>
              <a:t>Балльно – рейтинговая технология в оценивании достижений старшеклассник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1001"/>
              </a:spcBef>
              <a:buClr>
                <a:srgbClr val="eb3d9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3" descr="Рисунок12"/>
          <p:cNvPicPr/>
          <p:nvPr/>
        </p:nvPicPr>
        <p:blipFill>
          <a:blip r:embed="rId1"/>
          <a:stretch/>
        </p:blipFill>
        <p:spPr>
          <a:xfrm>
            <a:off x="0" y="1428840"/>
            <a:ext cx="1779480" cy="15001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379520" y="642960"/>
            <a:ext cx="7764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Не загружайте ученика домашними заданиями, и так есть о чем думать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Создать хорошую атмосферу на уроке. Интересно строить план урока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В первую очередь заинтересовать любого ученика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Не кричать, не отвлекаться на поведение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онять ученика. Индивидуальная работа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роверять только то, чему научила, а не о чем догадались, додумались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одходить к своей работе с оптимистической точки зрения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оговорить с учеником. Позвонить родителям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роводить дополнительные консультации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Не обращать внимания на форму, а лучше объяснять материал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осле объяснения должна быть самост. работа для закрепления знаний, а не для оценки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Если ученик не понял – объясняй индивидуально, он не виноват. Сама так объяснила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Подробнее останавливаться на темах, которые будут в ЕГЭ.</a:t>
            </a:r>
            <a:br>
              <a:rPr sz="1900"/>
            </a:br>
            <a:r>
              <a:rPr b="1" lang="ru-RU" sz="1900" spc="-1" strike="noStrike">
                <a:solidFill>
                  <a:srgbClr val="eb3d9f"/>
                </a:solidFill>
                <a:latin typeface="Trebuchet MS"/>
              </a:rPr>
              <a:t>* Объяснять МНЕ МОИ ошибки, а не всего класса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1714680" y="0"/>
            <a:ext cx="7072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КАКИЕ ДЕЙСТВИЯ ДОЛЖЕН ПРЕДПРИНЯТЬ УЧИТЕЛЬ, ЧТОБЫ ТВОЕ КАЧЕСТВО ЗНАНИЙ, ТВОИ ОЦЕНКИ СТАЛИ ЛУЧШЕ?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9" name="Picture 5" descr="Рисунок10"/>
          <p:cNvPicPr/>
          <p:nvPr/>
        </p:nvPicPr>
        <p:blipFill>
          <a:blip r:embed="rId1"/>
          <a:stretch/>
        </p:blipFill>
        <p:spPr>
          <a:xfrm>
            <a:off x="-214200" y="3714840"/>
            <a:ext cx="1828800" cy="2857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Рисунок8"/>
          <p:cNvPicPr/>
          <p:nvPr/>
        </p:nvPicPr>
        <p:blipFill>
          <a:blip r:embed="rId2"/>
          <a:stretch/>
        </p:blipFill>
        <p:spPr>
          <a:xfrm>
            <a:off x="0" y="1557360"/>
            <a:ext cx="1638360" cy="1803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499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65331"/>
                </a:solidFill>
                <a:latin typeface="Trebuchet MS"/>
              </a:rPr>
              <a:t>Какие действия должен предпринять лично ты сам, чтобы твое качество знаний, твои оценки стали лучше?</a:t>
            </a:r>
            <a:r>
              <a:rPr b="1" lang="ru-RU" sz="3200" spc="-1" strike="noStrike">
                <a:solidFill>
                  <a:srgbClr val="293d46"/>
                </a:solidFill>
                <a:latin typeface="Trebuchet MS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71640" y="2636640"/>
            <a:ext cx="6348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Быть заинтересованным в предмете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Внимательно слушать, думать. Присутствовать на уроках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Относиться ответственно. Подавить лень. Взяться за ум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Быть целеустремленным. Работать над собой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Учить правила, формулы, темы. Читать, практиковаться, вникать в сут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buClr>
                <a:srgbClr val="b2136d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b2136d"/>
                </a:solidFill>
                <a:latin typeface="Arial"/>
                <a:ea typeface="Times New Roman"/>
              </a:rPr>
              <a:t>Репетитор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3" descr="Рисунок12"/>
          <p:cNvPicPr/>
          <p:nvPr/>
        </p:nvPicPr>
        <p:blipFill>
          <a:blip r:embed="rId1"/>
          <a:stretch/>
        </p:blipFill>
        <p:spPr>
          <a:xfrm>
            <a:off x="108000" y="500040"/>
            <a:ext cx="1525680" cy="1285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8" dur="indefinite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" dur="indefinite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68515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От желания учителя или желания ученика в большей степени зависит качество знаний учащихся? </a:t>
            </a:r>
            <a:br>
              <a:rPr sz="2800"/>
            </a:b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4000" y="2924280"/>
            <a:ext cx="6273720" cy="31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eb3d9f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eb3d9f"/>
                </a:solidFill>
                <a:latin typeface="Trebuchet MS"/>
              </a:rPr>
              <a:t>Можно подвести коня к водопою, но нельзя заставить коня пить; от желания ученика зависит в основном зависит качество знаний учащихся, но если учитель не заинтересован в хорошем уровне знаний, а ученику не даны способности от природы, знаний не будет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spcBef>
                <a:spcPts val="1001"/>
              </a:spcBef>
              <a:buClr>
                <a:srgbClr val="eb3d9f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5" descr="Рисунок10"/>
          <p:cNvPicPr/>
          <p:nvPr/>
        </p:nvPicPr>
        <p:blipFill>
          <a:blip r:embed="rId1"/>
          <a:stretch/>
        </p:blipFill>
        <p:spPr>
          <a:xfrm>
            <a:off x="6715080" y="4768920"/>
            <a:ext cx="1428840" cy="175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09:56Z</dcterms:created>
  <dc:creator>Bill Gates</dc:creator>
  <dc:description/>
  <dc:language>en-US</dc:language>
  <cp:lastModifiedBy>Windows User</cp:lastModifiedBy>
  <cp:lastPrinted>2011-09-17T11:02:44Z</cp:lastPrinted>
  <dcterms:modified xsi:type="dcterms:W3CDTF">2016-09-27T19:58:17Z</dcterms:modified>
  <cp:revision>28</cp:revision>
  <dc:subject/>
  <dc:title>Слайд 1</dc:title>
</cp:coreProperties>
</file>