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5E25-E160-4DED-8955-533114FCD7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7CE-ADE6-4409-81FA-286AEB8129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204-60D1-4DBC-8AD1-083CE7EA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C02-074B-4D32-9A7E-4E922D6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725-E295-4B67-BBF8-2E86A0D8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5FA-6BA3-4271-A16A-8C3C97DB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60E4-C480-4656-BA0C-2A5942A4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89B3-2816-42DA-B81E-0D168B9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934-CFE3-4643-B152-3D79021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509-20D5-468F-9EEF-5B35446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A1D0-BC43-43AB-AE2C-005E4E4A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65B9-A1A8-4BA6-9390-61F4496B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267-231B-4F03-8164-0615476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9F7-96FA-4449-80D7-64AB861B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7B7B-3CC2-4F3E-8D8E-F0EA0E5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D453-7C54-476A-9E1A-EC13503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B68-5B51-45BB-B0DA-248AA27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D32-7C46-4FD1-A586-47B38D91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2650-E653-4FE6-87B6-CD71DFC1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6FB3-F7E7-4DE2-9690-5A3D78B7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7584-2991-4055-891E-1962A7F2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9148-FDBC-4EDF-916D-18020CCA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F0DC-34DC-405F-9782-FD2AE7F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1DC6-B3D7-47CF-9EB4-45EB8D1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7FD-5C48-4B42-AC23-951FF4AC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B20C-E4A9-458A-BB26-D92A0A7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BFD3-2FFF-47A6-A09A-61EAF4CA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763A-C3D7-4974-A3FD-C6B5D04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96EB-4353-40EF-9FA1-07BCA8F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C528-2B15-43E3-A6D6-B7A533F7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7C4E-14F9-4A0E-915A-E3A40F6F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E23F-A8FA-4E53-AB58-A2A0846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1A6B-152B-4C96-8920-EA068AF2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EE7E-EF33-4D6A-A1D9-32D0338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1088-5AE3-43DF-B36D-6EB41770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AE5-3B9F-468A-B3DF-370A7213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9480-DA52-4178-AA55-2E71C3BB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DE40-6F3D-41C3-896D-845C1D90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8319F-80EE-4DC8-A6A0-6CF1615E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F400-33AC-48BC-98D6-CE596EA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03DB-D110-409F-A356-5AA18C9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2FB3-70AF-424B-B239-2115456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E795-5EAF-4DE5-AE2D-788EFF6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75FC-5344-4827-923C-293AD7F8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DA23-FC68-470F-9854-A10237A3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0B-8C8F-4A85-BAB0-EC78BCE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15D-AAF8-40B5-A0E1-DF434E7C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ECA-AC9F-4780-BF15-237D62D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7A2-3D13-402A-9894-6F9BA34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0B5-F0F6-4C2D-A951-5F8C1F9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FC8-9697-46D9-866B-9B89AE1C8892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119D-113A-4C13-B6B1-E6E034EDA9C6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F6B-C9E3-4400-8D1E-A4F919FA080F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266-F593-4331-903C-8BDACEA7915D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360" y="2600280"/>
            <a:ext cx="3254400" cy="21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100"/>
            </a:b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1261800"/>
            <a:ext cx="65530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b2136d"/>
                </a:solidFill>
                <a:latin typeface="Trebuchet MS"/>
              </a:rPr>
              <a:t>Методический совет по теме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b2136d"/>
                </a:solidFill>
                <a:latin typeface="Trebuchet MS"/>
              </a:rPr>
              <a:t>«Повышение качества знаний обучающихся»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042920" y="486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238d"/>
                </a:solidFill>
                <a:latin typeface="Gill Sans MT"/>
              </a:rPr>
              <a:t>Заместитель директора по УВР: Демидкова Л.С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терес к учению проявляется только тогда, когда есть вдохновение, рождающееся от успеха»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ухомлинский</a:t>
            </a:r>
            <a:br>
              <a:rPr sz="4400"/>
            </a:b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3" name="Picture 5" descr="00036097"/>
          <p:cNvPicPr/>
          <p:nvPr/>
        </p:nvPicPr>
        <p:blipFill>
          <a:blip r:embed="rId1"/>
          <a:stretch/>
        </p:blipFill>
        <p:spPr>
          <a:xfrm>
            <a:off x="6012000" y="3862440"/>
            <a:ext cx="2539800" cy="2820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b2136d"/>
                </a:solidFill>
                <a:latin typeface="Trebuchet MS"/>
              </a:rPr>
              <a:t>Формы работы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403280" y="1628280"/>
            <a:ext cx="55548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Улучшения качества образования через использование инновационных технологий , основная цель которых стимулирование познавательной деятельности старшеклассников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Информационные техноло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Балльно – рейтинговая технология в оценивании достижений старшеклассник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3" descr="Рисунок12"/>
          <p:cNvPicPr/>
          <p:nvPr/>
        </p:nvPicPr>
        <p:blipFill>
          <a:blip r:embed="rId1"/>
          <a:stretch/>
        </p:blipFill>
        <p:spPr>
          <a:xfrm>
            <a:off x="0" y="1428840"/>
            <a:ext cx="177948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79520" y="642960"/>
            <a:ext cx="7764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загружайте ученика домашними заданиями, и так есть о чем думать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Создать хорошую атмосферу на уроке. Интересно строить план урок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В первую очередь заинтересовать любого ученик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кричать, не отвлекаться на поведение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нять ученика. Индивидуальная работ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роверять только то, чему научила, а не о чем догадались, додумались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дходить к своей работе с оптимистической точки зрения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говорить с учеником. Позвонить родителям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роводить дополнительные консультации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обращать внимания на форму, а лучше объяснять материал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сле объяснения должна быть самост. работа для закрепления знаний, а не для оценки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Если ученик не понял – объясняй индивидуально, он не виноват. Сама так объяснил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дробнее останавливаться на темах, которые будут в ЕГЭ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Объяснять МНЕ МОИ ошибки, а не всего класса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714680" y="0"/>
            <a:ext cx="70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КАКИЕ ДЕЙСТВИЯ ДОЛЖЕН ПРЕДПРИНЯТЬ УЧИТЕЛЬ, ЧТОБЫ ТВОЕ КАЧЕСТВО ЗНАНИЙ, ТВОИ ОЦЕНКИ СТАЛИ ЛУЧШЕ?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9" name="Picture 5" descr="Рисунок10"/>
          <p:cNvPicPr/>
          <p:nvPr/>
        </p:nvPicPr>
        <p:blipFill>
          <a:blip r:embed="rId1"/>
          <a:stretch/>
        </p:blipFill>
        <p:spPr>
          <a:xfrm>
            <a:off x="-214200" y="3714840"/>
            <a:ext cx="182880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Рисунок8"/>
          <p:cNvPicPr/>
          <p:nvPr/>
        </p:nvPicPr>
        <p:blipFill>
          <a:blip r:embed="rId2"/>
          <a:stretch/>
        </p:blipFill>
        <p:spPr>
          <a:xfrm>
            <a:off x="0" y="1557360"/>
            <a:ext cx="1638360" cy="180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499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65331"/>
                </a:solidFill>
                <a:latin typeface="Trebuchet MS"/>
              </a:rPr>
              <a:t>Какие действия должен предпринять лично ты сам, чтобы твое качество знаний, твои оценки стали лучше?</a:t>
            </a:r>
            <a:r>
              <a:rPr b="1" lang="ru-RU" sz="3200" spc="-1" strike="noStrike">
                <a:solidFill>
                  <a:srgbClr val="293d46"/>
                </a:solidFill>
                <a:latin typeface="Trebuchet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71640" y="263664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Быть заинтересованным в предмете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Внимательно слушать, думать. Присутствовать на уроках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Относиться ответственно. Подавить лень. Взяться за у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Быть целеустремленным. Работать над собо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Учить правила, формулы, темы. Читать, практиковаться, вникать в су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Репетитор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3" descr="Рисунок12"/>
          <p:cNvPicPr/>
          <p:nvPr/>
        </p:nvPicPr>
        <p:blipFill>
          <a:blip r:embed="rId1"/>
          <a:stretch/>
        </p:blipFill>
        <p:spPr>
          <a:xfrm>
            <a:off x="108000" y="500040"/>
            <a:ext cx="1525680" cy="1285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8515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От желания учителя или желания ученика в большей степени зависит качество знаний учащихся? </a:t>
            </a:r>
            <a:br>
              <a:rPr sz="28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4000" y="2924280"/>
            <a:ext cx="6273720" cy="31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eb3d9f"/>
                </a:solidFill>
                <a:latin typeface="Trebuchet MS"/>
              </a:rPr>
              <a:t>Можно подвести коня к водопою, но нельзя заставить коня пить; от желания ученика зависит в основном зависит качество знаний учащихся, но если учитель не заинтересован в хорошем уровне знаний, а ученику не даны способности от природы, знаний не будет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spcBef>
                <a:spcPts val="1001"/>
              </a:spcBef>
              <a:buClr>
                <a:srgbClr val="eb3d9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5" descr="Рисунок10"/>
          <p:cNvPicPr/>
          <p:nvPr/>
        </p:nvPicPr>
        <p:blipFill>
          <a:blip r:embed="rId1"/>
          <a:stretch/>
        </p:blipFill>
        <p:spPr>
          <a:xfrm>
            <a:off x="6715080" y="4768920"/>
            <a:ext cx="1428840" cy="17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09:56Z</dcterms:created>
  <dc:creator>Bill Gates</dc:creator>
  <dc:description/>
  <dc:language>en-US</dc:language>
  <cp:lastModifiedBy>Windows User</cp:lastModifiedBy>
  <cp:lastPrinted>2011-09-17T11:02:44Z</cp:lastPrinted>
  <dcterms:modified xsi:type="dcterms:W3CDTF">2016-09-27T19:58:17Z</dcterms:modified>
  <cp:revision>28</cp:revision>
  <dc:subject/>
  <dc:title>Слайд 1</dc:title>
</cp:coreProperties>
</file>