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E485-BCFF-4393-B1B2-CC26A68B8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24DC-66E9-48C1-BC1B-62DF7546A5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3FE-182F-49B6-B09B-B5C45E158F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519-B30D-4AE0-8DD1-466828B0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2F0-18CC-4DD1-88F9-A1EAAB6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041-1176-4E84-83DE-6D1F89BB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FA2-69D6-49AE-A02D-526693EC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A3122-D6FC-48AF-9B31-ECB938A4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3E71-AB3C-4654-A111-245FF33F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64AF-18FC-471F-B5B2-89E039D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E405D-510A-455A-A660-0043532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7710-8FC1-44FE-A087-92EF5D2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CA17B-6F89-4B6B-8737-90A2442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8F804-C8C4-4A2D-A2CD-530CF73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A1A-BA3F-45C4-A854-5F61153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91D39-FEBB-4DF5-B926-B27F078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8885-E1E6-4B7E-8A7D-6475F20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4913-3945-424F-9256-CBF0AAF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5238E-DA9E-40B9-936B-4955EDB6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36F5C-4597-4A77-B596-F702A9F6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F5D-8412-4A40-B8A7-DAB64D9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23B-786A-4D37-8C9E-6CCACA7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2C2-270E-406C-B967-4C22E29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6D2-AB67-475B-ADE1-4F59165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242-FF09-493F-92D2-4EDBDD6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A03-BF30-446C-9894-13A6B50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141-6DD1-4160-A5F3-A69325C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2D1-27A4-4EC4-B881-F0A7B9833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9171-2049-43F5-8ED9-ECE2B49393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3" descr="шк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562720" y="0"/>
            <a:ext cx="3581280" cy="224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Муниципальное бюджетн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еобразовательное учреждение средняя общеобразовательная школа №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г.Совет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исленность учащихся в начальной школ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2011-2012  год        -     393 обучаю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2012-2013  год        -     395 обучаю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C:\Users\007-PC\Desktop\P1010205.JPG"/>
          <p:cNvPicPr/>
          <p:nvPr/>
        </p:nvPicPr>
        <p:blipFill>
          <a:blip r:embed="rId1"/>
          <a:stretch/>
        </p:blipFill>
        <p:spPr>
          <a:xfrm>
            <a:off x="1447920" y="2346480"/>
            <a:ext cx="60148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чальная школа полностью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комплектована кад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G:\1.jpg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На базе начальной школы реализуются следующие образовательные програм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рограмма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XXI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Школа 2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ерспект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Школа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G:\IMG_0324.JPG"/>
          <p:cNvPicPr/>
          <p:nvPr/>
        </p:nvPicPr>
        <p:blipFill>
          <a:blip r:embed="rId1"/>
          <a:stretch/>
        </p:blipFill>
        <p:spPr>
          <a:xfrm>
            <a:off x="4038480" y="1600200"/>
            <a:ext cx="4775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DSC01828"/>
          <p:cNvPicPr/>
          <p:nvPr/>
        </p:nvPicPr>
        <p:blipFill>
          <a:blip r:embed="rId1"/>
          <a:stretch/>
        </p:blipFill>
        <p:spPr>
          <a:xfrm>
            <a:off x="0" y="990720"/>
            <a:ext cx="6084720" cy="4952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6400800" y="380880"/>
            <a:ext cx="27432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011г.  школа включена в Федеральный эксперимент «Механизм реализации ФГОС на основе деятельностного метода Л.Г. Петерсон (1а,1г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рамках эксперимента ведется метапредметный курс «Мир деятельно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овершенствуется материально - техническая база школы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676520"/>
            <a:ext cx="441936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Все учебные кабинеты оснащены цифровыми образовательными ресур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8862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Ежегодно на базе начальной школы организуется работа лагерь дневного пребывания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52280" y="1677960"/>
          <a:ext cx="4711680" cy="48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7960"/>
                    <a:ext cx="471168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P1010056"/>
          <p:cNvPicPr/>
          <p:nvPr/>
        </p:nvPicPr>
        <p:blipFill>
          <a:blip r:embed="rId3"/>
          <a:stretch/>
        </p:blipFill>
        <p:spPr>
          <a:xfrm>
            <a:off x="5029200" y="22096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MG_7235"/>
          <p:cNvPicPr/>
          <p:nvPr/>
        </p:nvPicPr>
        <p:blipFill>
          <a:blip r:embed="rId1"/>
          <a:stretch/>
        </p:blipFill>
        <p:spPr>
          <a:xfrm>
            <a:off x="250920" y="601560"/>
            <a:ext cx="3254400" cy="473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"/>
          <p:cNvGraphicFramePr/>
          <p:nvPr/>
        </p:nvGraphicFramePr>
        <p:xfrm>
          <a:off x="3809880" y="1219320"/>
          <a:ext cx="510552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219320"/>
                    <a:ext cx="5105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4"/>
          <p:cNvSpPr/>
          <p:nvPr/>
        </p:nvSpPr>
        <p:spPr>
          <a:xfrm>
            <a:off x="3780000" y="404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кола – центр здоров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4648320" y="5486400"/>
            <a:ext cx="37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Из 905 учащихся не болели 357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что составляет 40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cp:lastPrinted>2012-10-25T07:10:38Z</cp:lastPrinted>
  <dcterms:modified xsi:type="dcterms:W3CDTF">2013-02-13T09:39:27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