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C00-0C96-4B7B-8891-A4DCD3921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51B4-4FC0-4DCC-9790-E6A76D4C5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590-34F8-4C6D-9CBB-8F0B119762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EAE-DE7A-4B73-B21C-6C9CFE70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9FC-64BC-4349-B775-A821473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C54-265E-462B-B8E4-D34BDDA6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1BE-F294-404D-A0BE-1E24FD82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C37C-EE8E-47F0-A26D-07E0849D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4CA24-5ED0-4F23-8DA6-BC87BC0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1A5F5-6A88-41FF-8F59-7544D933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DAC2-2DAE-4015-8E86-428531E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ECB28-59B0-48E7-B033-AC83061B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2845B-1BFD-4E78-9B70-AE77922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0AB2-BA84-47EE-9852-A9CFB13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FE6-9D02-410C-8E47-C7C383F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6AF6-EB51-4B63-96F3-B637384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9C7A-F75D-497D-A475-16A8290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D74B-039E-497C-9CEA-1B9AC1C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1857-16CA-4B7E-A622-3E28CEFF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C3B4-A849-405B-90DF-2BAC202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265-9D94-4139-B1F6-26A26977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B04-A65F-4F02-9CDE-1E43949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B8B-967A-4DE8-A2BB-5B1F611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23C-58EE-480A-9146-EADC3CB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7C7-C860-4F9E-ACC8-FABAF90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980-5349-466A-879F-389C923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D65-2207-4E57-88BE-4A36234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FD48-CF62-4FA2-8302-44E0765EE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980-851E-4D93-BE30-6B86CD6CE7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3" descr="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562720" y="0"/>
            <a:ext cx="3581280" cy="224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униципальное бюджет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еобразовательное учреждение средняя общеобразовательная школа №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г.Совет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исленность учащихся в начальной школ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2011-2012  год        -     393 обучаю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2012-2013  год        -     395 обучаю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C:\Users\007-PC\Desktop\P1010205.JPG"/>
          <p:cNvPicPr/>
          <p:nvPr/>
        </p:nvPicPr>
        <p:blipFill>
          <a:blip r:embed="rId1"/>
          <a:stretch/>
        </p:blipFill>
        <p:spPr>
          <a:xfrm>
            <a:off x="1447920" y="2346480"/>
            <a:ext cx="60148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чальная школа полностью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комплектована кад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G:\1.jpg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На базе начальной школы реализуются следующие образовательные програм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рограмма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XXI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Школа 2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ерспект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Школа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G:\IMG_0324.JPG"/>
          <p:cNvPicPr/>
          <p:nvPr/>
        </p:nvPicPr>
        <p:blipFill>
          <a:blip r:embed="rId1"/>
          <a:stretch/>
        </p:blipFill>
        <p:spPr>
          <a:xfrm>
            <a:off x="4038480" y="1600200"/>
            <a:ext cx="4775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DSC01828"/>
          <p:cNvPicPr/>
          <p:nvPr/>
        </p:nvPicPr>
        <p:blipFill>
          <a:blip r:embed="rId1"/>
          <a:stretch/>
        </p:blipFill>
        <p:spPr>
          <a:xfrm>
            <a:off x="0" y="990720"/>
            <a:ext cx="6084720" cy="4952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6400800" y="380880"/>
            <a:ext cx="27432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011г.  школа включена в Федеральный эксперимент «Механизм реализации ФГОС на основе деятельностного метода Л.Г. Петерсон (1а,1г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рамках эксперимента ведется метапредметный курс «Мир деятельно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овершенствуется материально - техническая база школы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676520"/>
            <a:ext cx="441936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е учебные кабинеты оснащены цифровыми образовательными ресур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8862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Ежегодно на базе начальной школы организуется работа лагерь дневного пребывания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52280" y="1677960"/>
          <a:ext cx="471168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7960"/>
                    <a:ext cx="471168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P1010056"/>
          <p:cNvPicPr/>
          <p:nvPr/>
        </p:nvPicPr>
        <p:blipFill>
          <a:blip r:embed="rId3"/>
          <a:stretch/>
        </p:blipFill>
        <p:spPr>
          <a:xfrm>
            <a:off x="5029200" y="22096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MG_7235"/>
          <p:cNvPicPr/>
          <p:nvPr/>
        </p:nvPicPr>
        <p:blipFill>
          <a:blip r:embed="rId1"/>
          <a:stretch/>
        </p:blipFill>
        <p:spPr>
          <a:xfrm>
            <a:off x="250920" y="601560"/>
            <a:ext cx="3254400" cy="473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3809880" y="1219320"/>
          <a:ext cx="51055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219320"/>
                    <a:ext cx="5105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4"/>
          <p:cNvSpPr/>
          <p:nvPr/>
        </p:nvSpPr>
        <p:spPr>
          <a:xfrm>
            <a:off x="3780000" y="404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кола – центр здоров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4648320" y="5486400"/>
            <a:ext cx="37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Из 905 учащихся не болели 357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что составляет 40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cp:lastPrinted>2012-10-25T07:10:38Z</cp:lastPrinted>
  <dcterms:modified xsi:type="dcterms:W3CDTF">2013-02-13T09:39:27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