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4EA-F4B6-4A89-BCD2-D675B749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FE1-0159-4CE4-8CA0-B6AAA51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CA1-AD74-416B-B0BC-11ADBD32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703-DB8F-434B-8701-8AA65CA8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3B8B-7607-4679-8529-D1C574B1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D860-6EC4-47EA-9EAA-187A866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A06D-2E9C-43C1-9012-0760F24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1337-7AD4-4C7D-843C-E300DE0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9A19-CF7B-4FCF-A83B-2A7D767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C0E6-0D94-405C-A541-8EB99B2E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58D-C336-4740-AC1E-F06C4D6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822-11EF-458F-914F-C529C783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3256-13F4-4CE6-9D37-E535369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6F1-C7B0-40A6-A769-17338EA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03A6-E445-4A62-9EDF-EB8B6E6E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5DA-8CD0-4C4C-92A5-AC3DDBCC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887-A14B-4C0C-BA91-8FD2AAA5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757-C86B-46DB-8509-040FEBED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6CC-FF07-4CFE-B6AD-32AA851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260-AF48-418E-AF95-691C8918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EDD-2310-4FB2-A8C8-D1FB9F61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640-17C4-41BF-81C2-0FFDB729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294-AA43-4105-B276-E00DE3C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794-349E-44CF-95C5-A90DB56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9F4-1D18-4AAB-A417-269DD54919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EDC-CB4A-48AA-9F90-EDA17F0C97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ное развитие дошкольника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ой опыт Театрализованная деятельность с детьми раннего возраста для успешной социализ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3213000"/>
            <a:ext cx="64008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безова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zolotayariba"/>
          <p:cNvPicPr/>
          <p:nvPr/>
        </p:nvPicPr>
        <p:blipFill>
          <a:blip r:embed="rId1"/>
          <a:stretch/>
        </p:blipFill>
        <p:spPr>
          <a:xfrm>
            <a:off x="900000" y="3357720"/>
            <a:ext cx="30258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SCN3179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тературным материалом к проведени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атрализованной деятельности служит преимущественно произведения народного творчества: русский фольклор, народные сказки, песенки, потешки. Каждое произведение или сказка для детей всегда имеют нравственность, поднимает самые важные вопросы о добре и зле, она приоткрывает завесу в мир тайн и чудес, в мир сокровенный, но явно ощутимый. Во все времена сказка имела огромную власть над детским сердц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сказк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4" descr="DSCN3196"/>
          <p:cNvPicPr/>
          <p:nvPr/>
        </p:nvPicPr>
        <p:blipFill>
          <a:blip r:embed="rId1"/>
          <a:stretch/>
        </p:blipFill>
        <p:spPr>
          <a:xfrm>
            <a:off x="539640" y="1600200"/>
            <a:ext cx="8136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осуществления поставленных перед собой целей и задач, я создаю условия для развития творческой активности детей в театрализованной деятельности, приобщаю детей к интеграции через различные виды деятельности в педагогическом проце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музыкальном занятии дети учатся слышать, на речевых - развивается четкая, ясная дикция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DSCN3142"/>
          <p:cNvPicPr/>
          <p:nvPr/>
        </p:nvPicPr>
        <p:blipFill>
          <a:blip r:embed="rId1"/>
          <a:stretch/>
        </p:blipFill>
        <p:spPr>
          <a:xfrm>
            <a:off x="1547640" y="1628640"/>
            <a:ext cx="6035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ИЗО учатся рисовать, лепить различными материалами отдельных персонажей сказки: колобка, снеговика и т.д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4" descr="DSCN3210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м театрализацию в разных видах деятельности пед. процесса: в режимных моментах, например, в воспитании КГН персонаж - кукла покажет, как правильно мыть руки, пользоваться полотенцем; во время еды к ним в гости приходит Девочка -Припевочка из театра «Живая рука» и показать, как правильно держать ложку, пользоваться салфеткой; перед сном споёт колыбельн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N3181"/>
          <p:cNvPicPr/>
          <p:nvPr/>
        </p:nvPicPr>
        <p:blipFill>
          <a:blip r:embed="rId1"/>
          <a:stretch/>
        </p:blipFill>
        <p:spPr>
          <a:xfrm>
            <a:off x="2220840" y="79200"/>
            <a:ext cx="4816440" cy="361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SCN3183"/>
          <p:cNvPicPr/>
          <p:nvPr/>
        </p:nvPicPr>
        <p:blipFill>
          <a:blip r:embed="rId2"/>
          <a:stretch/>
        </p:blipFill>
        <p:spPr>
          <a:xfrm>
            <a:off x="324000" y="3789360"/>
            <a:ext cx="3795480" cy="284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SCN3182"/>
          <p:cNvPicPr/>
          <p:nvPr/>
        </p:nvPicPr>
        <p:blipFill>
          <a:blip r:embed="rId3"/>
          <a:stretch/>
        </p:blipFill>
        <p:spPr>
          <a:xfrm>
            <a:off x="4716360" y="3716280"/>
            <a:ext cx="39513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ем персонажи - игрушки в адаптационный период, куклы отвлекают детей, помогают им расслабиться, снять напряжение, вызывают у детей положительные эмо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же используем персонажи - игрушки, как сюрпризные моменты во время занятий; для организации сюжетно - ролевых, подвижных иг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DSCN3199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SCN3178"/>
          <p:cNvPicPr/>
          <p:nvPr/>
        </p:nvPicPr>
        <p:blipFill>
          <a:blip r:embed="rId1"/>
          <a:stretch/>
        </p:blipFill>
        <p:spPr>
          <a:xfrm>
            <a:off x="1609560" y="260280"/>
            <a:ext cx="592488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655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нятия театрализованной деятельностью активизируют творческие задатки детей, формируют способности, приучают к проявлению самостоятельности. А самое главное -навыки, полученные в театрализованных играх, дети могут использовать в повседневной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DSCN3184"/>
          <p:cNvPicPr/>
          <p:nvPr/>
        </p:nvPicPr>
        <p:blipFill>
          <a:blip r:embed="rId1"/>
          <a:stretch/>
        </p:blipFill>
        <p:spPr>
          <a:xfrm>
            <a:off x="3419640" y="3400560"/>
            <a:ext cx="540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SCN3211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не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нашем детском саду я работаю 6 лет воспитателем первой младшей группы- 2 года. Театрализованная деятельность помогает мне раскрытия творческого потенциала ребенка, воспитания творческой направленной личности. Инсценировки, игры-драматизации, театральные постановки являются моим подспорьем. Они помогают создать ситуацию, в которой возникает желание речевой деятельност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Драматизация - одна из форм сказкотерапии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ными задачами которой являются социализация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ребенка, помощь в адаптации к окружающей среде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дети охотнее общаются с другими детьми, адекватно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реагируют на любое предложение воспитателя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ходятся в нормальном эмоциональном состояни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SCN3202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N3205"/>
          <p:cNvPicPr/>
          <p:nvPr/>
        </p:nvPicPr>
        <p:blipFill>
          <a:blip r:embed="rId1"/>
          <a:stretch/>
        </p:blipFill>
        <p:spPr>
          <a:xfrm>
            <a:off x="622440" y="466560"/>
            <a:ext cx="79009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атральная деятельности развивает коммуникабельные способности и навыки, уверенность в себе, необходимые моральные нормы и правила, развитие фантазии, творчества, мышления, памяти, внимания. Идентификация с героями сказки помогает понять, что у сказочных персонажей существуют такие же проблемы и переживания, как и у него. Нам известно, что драматизация позволяет детям психологически сблизиться с персонажами сказки, пережить их победы и поражения, счастье и беду, поэтому метод сказкотерапии способствует личному росту реб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SCN3203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организации театральной деятельности составила перспективный план, используя разные виды театра - настольный, бибабо, кружковый, ложковый, пальчиковый и т.д. Мы с вами знаем, театр радует детей, развивает их, помогает знакомиться с окружающим миром, умело поставленные вопросы заставляют их думать, делать выводы и обобщения, развивает творческую самостоятельность, отчетливое произнош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атральные реквизи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DSCN3206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7:06:44Z</dcterms:created>
  <dc:creator>Светик</dc:creator>
  <dc:description/>
  <dc:language>en-US</dc:language>
  <cp:lastModifiedBy>Светик</cp:lastModifiedBy>
  <dcterms:modified xsi:type="dcterms:W3CDTF">2016-09-27T20:17:53Z</dcterms:modified>
  <cp:revision>14</cp:revision>
  <dc:subject/>
  <dc:title>Театрализованная деятельность с детьми раннего возраста для успешной социализации</dc:title>
</cp:coreProperties>
</file>