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333D-D4BF-465F-BBAD-DD9208171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D664-5337-46E1-B9B9-78C426A4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3C7A-B662-4598-8EC4-4D54A0A4F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237A-17D3-49BB-AB8B-AD745334D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17A2-A569-48BA-A925-7E8A2051C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8E89-C4F1-4CB5-A04A-400CF1AD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D379-1EB8-4705-AEF1-5B55AE0E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9520-5878-4470-93A4-61C5AAC7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1715-017F-4663-B361-FA13371C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3AB0-E7FF-41B9-8CAD-5BFE8BE2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B4F1-2A40-4A84-B5D2-A205CA99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F3F2-4D96-44D0-A1BB-1F064862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49EB-4DB2-42AB-ACEA-0CE109AF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C163-20EC-4CDC-972C-104FDFFE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87FCB-FC85-4F54-8024-300D06F7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0EF2-BFE9-4CC2-B5F0-9C1E44310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5B1C-5B95-47E3-B95E-6EE5E4FA5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D51A-58B6-4CF9-B78C-7CAF0EFB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16B1-A9CE-4E8C-984F-9E3FC0F0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70B2-91C6-40BC-A2B1-BFD97A62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D1E6-411F-4863-B262-AF344C01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7AC5-DB4F-4174-A269-07BE8532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9294-C67E-4C5F-8758-A6658417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A008-4A48-48CD-9668-4CA22926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E4A9-BA3E-4EA5-8890-E8F3B8DD65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0B31-BB93-4BE3-AF09-3BB027920FD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Личностное развитие дошкольника.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Мой опыт Театрализованная деятельность с детьми раннего возраста для успешной социализаци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56000" y="3213000"/>
            <a:ext cx="64008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спитатель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ебезова С.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zolotayariba"/>
          <p:cNvPicPr/>
          <p:nvPr/>
        </p:nvPicPr>
        <p:blipFill>
          <a:blip r:embed="rId1"/>
          <a:stretch/>
        </p:blipFill>
        <p:spPr>
          <a:xfrm>
            <a:off x="900000" y="3357720"/>
            <a:ext cx="3025800" cy="30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DSCN3179"/>
          <p:cNvPicPr/>
          <p:nvPr/>
        </p:nvPicPr>
        <p:blipFill>
          <a:blip r:embed="rId1"/>
          <a:stretch/>
        </p:blipFill>
        <p:spPr>
          <a:xfrm>
            <a:off x="539640" y="765000"/>
            <a:ext cx="8209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Литературным материалом к проведению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атрализованной деятельности служит преимущественно произведения народного творчества: русский фольклор, народные сказки, песенки, потешки. Каждое произведение или сказка для детей всегда имеют нравственность, поднимает самые важные вопросы о добре и зле, она приоткрывает завесу в мир тайн и чудес, в мир сокровенный, но явно ощутимый. Во все времена сказка имела огромную власть над детским сердце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ши сказки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3" name="Picture 4" descr="DSCN3196"/>
          <p:cNvPicPr/>
          <p:nvPr/>
        </p:nvPicPr>
        <p:blipFill>
          <a:blip r:embed="rId1"/>
          <a:stretch/>
        </p:blipFill>
        <p:spPr>
          <a:xfrm>
            <a:off x="539640" y="1600200"/>
            <a:ext cx="81360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осуществления поставленных перед собой целей и задач, я создаю условия для развития творческой активности детей в театрализованной деятельности, приобщаю детей к интеграции через различные виды деятельности в педагогическом процесс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5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На музыкальном занятии дети учатся слышать, на речевых - развивается четкая, ясная дикция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6" name="Picture 4" descr="DSCN3142"/>
          <p:cNvPicPr/>
          <p:nvPr/>
        </p:nvPicPr>
        <p:blipFill>
          <a:blip r:embed="rId1"/>
          <a:stretch/>
        </p:blipFill>
        <p:spPr>
          <a:xfrm>
            <a:off x="1547640" y="1628640"/>
            <a:ext cx="60357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на ИЗО учатся рисовать, лепить различными материалами отдельных персонажей сказки: колобка, снеговика и т.д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8" name="Picture 4" descr="DSCN3210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спользуем театрализацию в разных видах деятельности пед. процесса: в режимных моментах, например, в воспитании КГН персонаж - кукла покажет, как правильно мыть руки, пользоваться полотенцем; во время еды к ним в гости приходит Девочка -Припевочка из театра «Живая рука» и показать, как правильно держать ложку, пользоваться салфеткой; перед сном споёт колыбельну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6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DSCN3181"/>
          <p:cNvPicPr/>
          <p:nvPr/>
        </p:nvPicPr>
        <p:blipFill>
          <a:blip r:embed="rId1"/>
          <a:stretch/>
        </p:blipFill>
        <p:spPr>
          <a:xfrm>
            <a:off x="2220840" y="79200"/>
            <a:ext cx="4816440" cy="3610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DSCN3183"/>
          <p:cNvPicPr/>
          <p:nvPr/>
        </p:nvPicPr>
        <p:blipFill>
          <a:blip r:embed="rId2"/>
          <a:stretch/>
        </p:blipFill>
        <p:spPr>
          <a:xfrm>
            <a:off x="324000" y="3789360"/>
            <a:ext cx="3795480" cy="2846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DSCN3182"/>
          <p:cNvPicPr/>
          <p:nvPr/>
        </p:nvPicPr>
        <p:blipFill>
          <a:blip r:embed="rId3"/>
          <a:stretch/>
        </p:blipFill>
        <p:spPr>
          <a:xfrm>
            <a:off x="4716360" y="3716280"/>
            <a:ext cx="395136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спользуем персонажи - игрушки в адаптационный период, куклы отвлекают детей, помогают им расслабиться, снять напряжение, вызывают у детей положительные эмо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акже используем персонажи - игрушки, как сюрпризные моменты во время занятий; для организации сюжетно - ролевых, подвижных иг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DSCN3199"/>
          <p:cNvPicPr/>
          <p:nvPr/>
        </p:nvPicPr>
        <p:blipFill>
          <a:blip r:embed="rId1"/>
          <a:stretch/>
        </p:blipFill>
        <p:spPr>
          <a:xfrm>
            <a:off x="622440" y="466560"/>
            <a:ext cx="7900920" cy="59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DSCN3178"/>
          <p:cNvPicPr/>
          <p:nvPr/>
        </p:nvPicPr>
        <p:blipFill>
          <a:blip r:embed="rId1"/>
          <a:stretch/>
        </p:blipFill>
        <p:spPr>
          <a:xfrm>
            <a:off x="1609560" y="260280"/>
            <a:ext cx="5924880" cy="60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655308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нятия театрализованной деятельностью активизируют творческие задатки детей, формируют способности, приучают к проявлению самостоятельности. А самое главное -навыки, полученные в театрализованных играх, дети могут использовать в повседневной жиз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4" descr="DSCN3184"/>
          <p:cNvPicPr/>
          <p:nvPr/>
        </p:nvPicPr>
        <p:blipFill>
          <a:blip r:embed="rId1"/>
          <a:stretch/>
        </p:blipFill>
        <p:spPr>
          <a:xfrm>
            <a:off x="3419640" y="3400560"/>
            <a:ext cx="54003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77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DSCN3211"/>
          <p:cNvPicPr/>
          <p:nvPr/>
        </p:nvPicPr>
        <p:blipFill>
          <a:blip r:embed="rId1"/>
          <a:stretch/>
        </p:blipFill>
        <p:spPr>
          <a:xfrm>
            <a:off x="622440" y="466560"/>
            <a:ext cx="7900920" cy="59248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920" y="47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онец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В нашем детском саду я работаю 6 лет воспитателем первой младшей группы- 2 года. Театрализованная деятельность помогает мне раскрытия творческого потенциала ребенка, воспитания творческой направленной личности. Инсценировки, игры-драматизации, театральные постановки являются моим подспорьем. Они помогают создать ситуацию, в которой возникает желание речевой деятельности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Драматизация - одна из форм сказкотерапии,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основными задачами которой являются социализация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ребенка, помощь в адаптации к окружающей среде,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дети охотнее общаются с другими детьми, адекватно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реагируют на любое предложение воспитателя,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находятся в нормальном эмоциональном состоянии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DSCN3202"/>
          <p:cNvPicPr/>
          <p:nvPr/>
        </p:nvPicPr>
        <p:blipFill>
          <a:blip r:embed="rId1"/>
          <a:stretch/>
        </p:blipFill>
        <p:spPr>
          <a:xfrm>
            <a:off x="611280" y="620640"/>
            <a:ext cx="784836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DSCN3205"/>
          <p:cNvPicPr/>
          <p:nvPr/>
        </p:nvPicPr>
        <p:blipFill>
          <a:blip r:embed="rId1"/>
          <a:stretch/>
        </p:blipFill>
        <p:spPr>
          <a:xfrm>
            <a:off x="622440" y="466560"/>
            <a:ext cx="7900920" cy="59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атральная деятельности развивает коммуникабельные способности и навыки, уверенность в себе, необходимые моральные нормы и правила, развитие фантазии, творчества, мышления, памяти, внимания. Идентификация с героями сказки помогает понять, что у сказочных персонажей существуют такие же проблемы и переживания, как и у него. Нам известно, что драматизация позволяет детям психологически сблизиться с персонажами сказки, пережить их победы и поражения, счастье и беду, поэтому метод сказкотерапии способствует личному росту ребен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DSCN3203"/>
          <p:cNvPicPr/>
          <p:nvPr/>
        </p:nvPicPr>
        <p:blipFill>
          <a:blip r:embed="rId1"/>
          <a:stretch/>
        </p:blipFill>
        <p:spPr>
          <a:xfrm>
            <a:off x="395280" y="476280"/>
            <a:ext cx="84978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я организации театральной деятельности составила перспективный план, используя разные виды театра - настольный, бибабо, кружковый, ложковый, пальчиковый и т.д. Мы с вами знаем, театр радует детей, развивает их, помогает знакомиться с окружающим миром, умело поставленные вопросы заставляют их думать, делать выводы и обобщения, развивает творческую самостоятельность, отчетливое произнош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0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Театральные реквизиты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9" name="Picture 4" descr="DSCN3206"/>
          <p:cNvPicPr/>
          <p:nvPr/>
        </p:nvPicPr>
        <p:blipFill>
          <a:blip r:embed="rId1"/>
          <a:stretch/>
        </p:blipFill>
        <p:spPr>
          <a:xfrm>
            <a:off x="1042920" y="1628640"/>
            <a:ext cx="70581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17:06:44Z</dcterms:created>
  <dc:creator>Светик</dc:creator>
  <dc:description/>
  <dc:language>en-US</dc:language>
  <cp:lastModifiedBy>Светик</cp:lastModifiedBy>
  <dcterms:modified xsi:type="dcterms:W3CDTF">2016-09-27T20:17:53Z</dcterms:modified>
  <cp:revision>14</cp:revision>
  <dc:subject/>
  <dc:title>Театрализованная деятельность с детьми раннего возраста для успешной социализации</dc:title>
</cp:coreProperties>
</file>