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7F92-2830-472B-A71F-0DD51131F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1105-E487-4BAD-A7F0-230C6BA80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F539-F50C-48F9-A4A7-D21BC23367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аблицей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F9F6-DC8A-4172-97C2-B54C4CADC0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825-24EA-4389-B0FA-6520D969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6BE-FE71-4263-8A94-E25D580E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B87-D7EE-4D79-B1AE-B9AE3D94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3D5-45B5-4DF7-A0E4-E01D4AC7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962-6DA2-40F7-B0E3-D341C079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B03-D291-4047-87E0-7EC4F206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91C-F44D-4590-99FE-CC92DC3F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00F-16B1-480C-A08D-DF6AD13D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654-C487-4E9F-A753-0A802B4D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83F-4B8D-4655-BF4B-93A6F610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8B9-7EE7-4C4B-8264-2AF7D317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683-BF80-4832-A520-D0C05E01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D765-603C-4F8F-9811-3A76F0210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bac85d69aa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school-children_6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2600" y="-60480"/>
            <a:ext cx="9313920" cy="157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:\Documents and Settings\Aida\Рабочий стол\ПРО создание презнетаций шаблонов... и всё!\Картинки к 1 сентября\lqoeyiomhoedxyztswryo.png"/>
          <p:cNvPicPr/>
          <p:nvPr/>
        </p:nvPicPr>
        <p:blipFill>
          <a:blip r:embed="rId2"/>
          <a:stretch/>
        </p:blipFill>
        <p:spPr>
          <a:xfrm flipH="1" rot="1484400">
            <a:off x="463320" y="216000"/>
            <a:ext cx="61092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extBox 6"/>
          <p:cNvSpPr/>
          <p:nvPr/>
        </p:nvSpPr>
        <p:spPr>
          <a:xfrm>
            <a:off x="152280" y="65008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3d69b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Заголовок 8" descr=""/>
          <p:cNvPicPr/>
          <p:nvPr/>
        </p:nvPicPr>
        <p:blipFill>
          <a:blip r:embed="rId3"/>
          <a:stretch/>
        </p:blipFill>
        <p:spPr>
          <a:xfrm>
            <a:off x="706320" y="1420920"/>
            <a:ext cx="7785360" cy="14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678200" cy="350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534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Двузначные числа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делите на две группы чис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, 12, 17, 5, 16, 1, 20, 10, 9,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4572000" cy="343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79" name="TextBox 5"/>
          <p:cNvSpPr/>
          <p:nvPr/>
        </p:nvSpPr>
        <p:spPr>
          <a:xfrm>
            <a:off x="822960" y="299736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: Од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сключ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9280" y="1125000"/>
            <a:ext cx="8147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можно использовать через зрительное или слуховое восприят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ервый вид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вторяется основа приема "Яркое пятно", но в этом случае детям необходимо через анализ общего и отличного, найти лишнее, обосновывая свой выбо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торой вид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даётся  ряд загадок или просто слов, с обязательным неоднократным повтором отгадок или предложенного ряда слов. Анализируя, дети легко определяют лишнее и формулируется учебную ц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162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Ис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933720" cy="295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3558960" cy="2670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3618000" cy="27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352908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p:transition>
    <p:wheel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омыслив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агается тема урока и слова "помощники"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торим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Изучим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Узнаем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Провери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слов "помощников" дети формулируют цели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блемная ситу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ётся ситуация противоречия между известным и неизвестным. Последовательность применения данного приема таков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амостоятельное реш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Коллективная проверка результат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Выявление причин разногласий результатов или затруднений выпол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Постановка цели урок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блема предыдущего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нце урока детям предлагается задание, в ходе которого должны возникнуть трудности с выполнением, из-за недостаточности знаний или недостаточностью времени, что подразумевает продолжение работы на следующем уроке. Таким образом, тему урока можно сформулировать накануне, а на следующем уроке лишь восстановить в памяти и обосн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684360" y="640440"/>
            <a:ext cx="7704000" cy="43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3b47"/>
                </a:solidFill>
                <a:latin typeface="Arial"/>
                <a:ea typeface="Times New Roman"/>
              </a:rPr>
              <a:t>Обязательными условиями использования  перечисленных приемов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т уровня знаний и опыта дет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доступность, т.е. разрешимая степень трудност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олерантность, необходимость выслушивания всех мнений правильных и неправильных, но обязательно обоснованны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ся работа должна быть направлена на активную мыслительную деятельность.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ac85d69aa-150x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5640" y="4653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Целеполаг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амая важная часть конструирования урока, планируя урок, необходимо идти от цели, а не от содержания. Предметные цели не должны заслонять главное – воспитание и развитие лич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Calibri"/>
              </a:rPr>
              <a:t>Цель урока трансформируется в педагогические задач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Информационная: Что и чему будем учитьс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перационная: Как и каким образом будем учитьс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отивационная: Зачем нам это над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Коммуникативная: С кем и гд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317520" y="1517760"/>
            <a:ext cx="8558280" cy="4614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258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school-children_6-150x150">
            <a:hlinkClick r:id="rId1"/>
          </p:cNvPr>
          <p:cNvPicPr/>
          <p:nvPr/>
        </p:nvPicPr>
        <p:blipFill>
          <a:blip r:embed="rId2"/>
          <a:stretch/>
        </p:blipFill>
        <p:spPr>
          <a:xfrm rot="19587000">
            <a:off x="3030120" y="2887560"/>
            <a:ext cx="3121200" cy="312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о процесс выявления целей и задач субъектов деятельности (учителя и ученика), их предъявления друг другу, согласования и достижения. Оно должно быть субъектным и соответствовать планируемому результа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463680" y="212760"/>
            <a:ext cx="7785000" cy="12016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4" descr=""/>
          <p:cNvPicPr/>
          <p:nvPr/>
        </p:nvPicPr>
        <p:blipFill>
          <a:blip r:embed="rId2"/>
          <a:stretch/>
        </p:blipFill>
        <p:spPr>
          <a:xfrm>
            <a:off x="1066680" y="4687920"/>
            <a:ext cx="7296120" cy="1865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Цели должны бы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50720" y="1109520"/>
            <a:ext cx="8242560" cy="539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57120" y="35712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иемы целеполагания классифицирую н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изуальные:                              2. Аудиальны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-вопрос                                    Подводящий диалог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понятием                     Собери слов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яркого пятна                    Исключе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                                    Проблема предыдущего урок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ыслива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ировк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заметить, что практически</a:t>
            </a:r>
            <a:r>
              <a:rPr b="0" lang="ru-RU" sz="21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приемы целеполагания строятся на диалоге, поэтому очень важно грамо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овать  вопросы, учить детей не только отвечать на них, но и  придумывать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4500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ема-вопро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000080"/>
            <a:ext cx="8472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ма урока формулируется в виде вопро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ащимся необходимо построить план действий, чтобы ответить на поставленный вопрос. Дети выдвигают множество мнений, чем больше мнений, чем лучше развито умение слушать друг друга и поддерживать идеи других, тем интереснее и быстрее проходит работа. Руководить процессом отбора может сам учитель при субъек-субъектных отношениях, или выбранный ученик, а учитель в этом случае может лишь высказывать свое мнение и направлять деятель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ример, для темы урока "Как изменяются имена прилагательные?" построили план действи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     Повторить знания об имени прилагательн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пределить, с какими частями речи соче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Изменить несколько прилагательных вместе с именами существительн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Определить закономерность изменений, сделать выв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сформулированы конкретные учебные ц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Работа над понятием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907560"/>
            <a:ext cx="8147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мся предлагается  для зрительного восприятия название темы урока и просят объяснить значение каждого слова или отыскать в "Толковом словаре". Например, тема уро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 Спряжение глаголов". Далее, от значения слова определяем цель урока. Аналогичное можно сделать через подбор родственных слов или через поиск в сложном слове словосоставляющих основ. Например, темы уроков "Словосочетание", "Прямоугольник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дводящий диал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апе актуализации учебного материала ведется беседа, направленная на обобщение, конкретизацию, логику рассуждения. Диалог подвожу к тому, о чем дети не могут рассказать в силу некомпетентности или недостаточно полного обоснования своих действий. Тем самым возникает ситуация, для которой необходимы дополнительные исследования или действия. Ставится ц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туация Яркого пя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и множества однотипных предметов, слов, цифр, букв, фигур одно выделено цветом или размером. Через зрительное восприятие внимание концентрируется на выделенном предмете. Совместно определяется причина обособленности и общности всего предложенного. Далее определяется тема и цели уро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68360" y="1916280"/>
            <a:ext cx="100800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с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547640" y="1916280"/>
            <a:ext cx="64800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68360" y="1916280"/>
            <a:ext cx="792360" cy="115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м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132000" y="1916280"/>
            <a:ext cx="100836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       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итуация «Яркого пятна»</a:t>
            </a:r>
            <a:br>
              <a:rPr sz="36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ема урока «Меры времен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3068280"/>
            <a:ext cx="5977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ма урока: «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362400" cy="244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4427640" y="2060640"/>
            <a:ext cx="4483080" cy="336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p:transition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Группиро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35720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яд слов, предметов, фигур, цифр предлагается  детям разделить на группы, обосновывая свои высказывания.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нием классификации будут внешние признаки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7:56:10Z</dcterms:created>
  <dc:creator>User</dc:creator>
  <dc:description>http://aida.ucoz.ru</dc:description>
  <dc:language>en-US</dc:language>
  <cp:lastModifiedBy>Солнечный</cp:lastModifiedBy>
  <dcterms:modified xsi:type="dcterms:W3CDTF">2016-04-26T05:43:32Z</dcterms:modified>
  <cp:revision>19</cp:revision>
  <dc:subject/>
  <dc:title>Слайд 1</dc:title>
</cp:coreProperties>
</file>