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4CB4-B0D7-47EC-B2A3-2BF8C0E6AA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9180-D903-4916-B813-831A239C56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103D-14DD-42BA-8A64-47103D178A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таблицей ц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6E55-4B8F-4B89-9DE5-3E5D1B86B8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DBC7-D185-4FB5-84BD-694E8229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3966-0A1D-46BA-8A8F-B7C2128A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4BC3-F969-4EFD-B14F-BE583BC0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C1DC-B1BD-4E1A-A716-AD8B0D05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610F-9145-43BF-9EF1-8B214F76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B4A-EE91-4325-B235-5B4C8C4D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6FAF-B5B6-4609-B716-A2D996B5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FD7D-5C0F-43CE-9421-14C7C6D0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BC7D-FCEF-43D3-B9B5-A2DA3F60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C859-D6CB-4AAB-8252-64975D68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1EE1-BB94-4A07-A8B6-D3021329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D9B4-4DF6-4CBA-B38D-33C54244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7063-DDBA-4D52-A3B0-4739AFD6EF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klub-drug.ru/wp-content/uploads/2011/04/bac85d69aa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klub-drug.ru/wp-content/uploads/2011/04/school-children_6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12600" y="-60480"/>
            <a:ext cx="9313920" cy="1578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:\Documents and Settings\Aida\Рабочий стол\ПРО создание презнетаций шаблонов... и всё!\Картинки к 1 сентября\lqoeyiomhoedxyztswryo.png"/>
          <p:cNvPicPr/>
          <p:nvPr/>
        </p:nvPicPr>
        <p:blipFill>
          <a:blip r:embed="rId2"/>
          <a:stretch/>
        </p:blipFill>
        <p:spPr>
          <a:xfrm flipH="1" rot="1484400">
            <a:off x="463320" y="216000"/>
            <a:ext cx="610920" cy="60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TextBox 6"/>
          <p:cNvSpPr/>
          <p:nvPr/>
        </p:nvSpPr>
        <p:spPr>
          <a:xfrm>
            <a:off x="152280" y="6500880"/>
            <a:ext cx="96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3d69b"/>
                </a:solidFill>
                <a:latin typeface="Calibri"/>
              </a:rPr>
              <a:t>http://aida.ucoz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Заголовок 8" descr=""/>
          <p:cNvPicPr/>
          <p:nvPr/>
        </p:nvPicPr>
        <p:blipFill>
          <a:blip r:embed="rId3"/>
          <a:stretch/>
        </p:blipFill>
        <p:spPr>
          <a:xfrm>
            <a:off x="706320" y="1420920"/>
            <a:ext cx="7785360" cy="1487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4140360" y="1700280"/>
            <a:ext cx="4678200" cy="3503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Группиро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534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ма «Двузначные числа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делите на две группы чис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, 12, 17, 5, 16, 1, 20, 10, 9, 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4572000" cy="3430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sp>
        <p:nvSpPr>
          <p:cNvPr id="79" name="TextBox 5"/>
          <p:cNvSpPr/>
          <p:nvPr/>
        </p:nvSpPr>
        <p:spPr>
          <a:xfrm>
            <a:off x="822960" y="2997360"/>
            <a:ext cx="26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ма: Одеж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Исключ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39280" y="1125000"/>
            <a:ext cx="8147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ем можно использовать через зрительное или слуховое восприят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ервый вид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вторяется основа приема "Яркое пятно", но в этом случае детям необходимо через анализ общего и отличного, найти лишнее, обосновывая свой выбор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торой вид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Задаётся  ряд загадок или просто слов, с обязательным неоднократным повтором отгадок или предложенного ряда слов. Анализируя, дети легко определяют лишнее и формулируется учебную це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162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Ис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933720" cy="2950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611280" y="3573360"/>
            <a:ext cx="3558960" cy="2670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pic>
        <p:nvPicPr>
          <p:cNvPr id="86" name="Picture 6" descr=""/>
          <p:cNvPicPr/>
          <p:nvPr/>
        </p:nvPicPr>
        <p:blipFill>
          <a:blip r:embed="rId3"/>
          <a:stretch/>
        </p:blipFill>
        <p:spPr>
          <a:xfrm>
            <a:off x="4643280" y="1413000"/>
            <a:ext cx="3618000" cy="2714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pic>
        <p:nvPicPr>
          <p:cNvPr id="87" name="Picture 7" descr=""/>
          <p:cNvPicPr/>
          <p:nvPr/>
        </p:nvPicPr>
        <p:blipFill>
          <a:blip r:embed="rId4"/>
          <a:stretch/>
        </p:blipFill>
        <p:spPr>
          <a:xfrm>
            <a:off x="4859280" y="3573360"/>
            <a:ext cx="3529080" cy="264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</p:spTree>
  </p:cSld>
  <p:transition>
    <p:wheel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Домыслива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28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лагается тема урока и слова "помощники"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вторим…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Изучим…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Узнаем…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Проверим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помощью слов "помощников" дети формулируют цели уро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роблемная ситу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ётся ситуация противоречия между известным и неизвестным. Последовательность применения данного приема такова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Самостоятельное решени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Коллективная проверка результатов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Выявление причин разногласий результатов или затруднений выполне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Постановка цели урок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роблема предыдущего уро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1280" y="1197000"/>
            <a:ext cx="8075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конце урока детям предлагается задание, в ходе которого должны возникнуть трудности с выполнением, из-за недостаточности знаний или недостаточностью времени, что подразумевает продолжение работы на следующем уроке. Таким образом, тему урока можно сформулировать накануне, а на следующем уроке лишь восстановить в памяти и обоснов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684360" y="640440"/>
            <a:ext cx="7704000" cy="43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3b47"/>
                </a:solidFill>
                <a:latin typeface="Arial"/>
                <a:ea typeface="Times New Roman"/>
              </a:rPr>
              <a:t>Обязательными условиями использования  перечисленных приемов являе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т уровня знаний и опыта дете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доступность, т.е. разрешимая степень трудност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толерантность, необходимость выслушивания всех мнений правильных и неправильных, но обязательно обоснованны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ся работа должна быть направлена на активную мыслительную деятельность.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bac85d69aa-150x1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5640" y="465300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Целеполагани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самая важная часть конструирования урока, планируя урок, необходимо идти от цели, а не от содержания. Предметные цели не должны заслонять главное – воспитание и развитие лично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Calibri"/>
              </a:rPr>
              <a:t>Цель урока трансформируется в педагогические задачи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Информационная: Что и чему будем учиться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Операционная: Как и каким образом будем учиться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Мотивационная: Зачем нам это над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Коммуникативная: С кем и где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2" descr=""/>
          <p:cNvPicPr/>
          <p:nvPr/>
        </p:nvPicPr>
        <p:blipFill>
          <a:blip r:embed="rId1"/>
          <a:stretch/>
        </p:blipFill>
        <p:spPr>
          <a:xfrm>
            <a:off x="317520" y="1517760"/>
            <a:ext cx="8558280" cy="4614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7120" y="714240"/>
            <a:ext cx="82584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99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6" descr="school-children_6-150x150">
            <a:hlinkClick r:id="rId1"/>
          </p:cNvPr>
          <p:cNvPicPr/>
          <p:nvPr/>
        </p:nvPicPr>
        <p:blipFill>
          <a:blip r:embed="rId2"/>
          <a:stretch/>
        </p:blipFill>
        <p:spPr>
          <a:xfrm rot="19587000">
            <a:off x="3030120" y="2887560"/>
            <a:ext cx="3121200" cy="3121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это процесс выявления целей и задач субъектов деятельности (учителя и ученика), их предъявления друг другу, согласования и достижения. Оно должно быть субъектным и соответствовать планируемому результа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Прямоугольник 3" descr=""/>
          <p:cNvPicPr/>
          <p:nvPr/>
        </p:nvPicPr>
        <p:blipFill>
          <a:blip r:embed="rId1"/>
          <a:stretch/>
        </p:blipFill>
        <p:spPr>
          <a:xfrm>
            <a:off x="463680" y="212760"/>
            <a:ext cx="7785000" cy="120168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4" descr=""/>
          <p:cNvPicPr/>
          <p:nvPr/>
        </p:nvPicPr>
        <p:blipFill>
          <a:blip r:embed="rId2"/>
          <a:stretch/>
        </p:blipFill>
        <p:spPr>
          <a:xfrm>
            <a:off x="1066680" y="4687920"/>
            <a:ext cx="7296120" cy="18651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Цели должны бы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450720" y="1109520"/>
            <a:ext cx="8242560" cy="539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357120" y="357120"/>
            <a:ext cx="84297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иемы целеполагания классифицирую на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изуальные:                              2. Аудиальные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-вопрос                                    Подводящий диалог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понятием                     Собери слово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 яркого пятна                    Исключение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ение                                     Проблема предыдущего урок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ысливание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ая ситуаци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ировк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заметить, что практически</a:t>
            </a:r>
            <a:r>
              <a:rPr b="0" lang="ru-RU" sz="21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 приемы целеполагания строятся на диалоге, поэтому очень важно грамот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формулировать  вопросы, учить детей не только отвечать на них, но и  придумывать сво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45007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ема-вопро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000080"/>
            <a:ext cx="8472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ема урока формулируется в виде вопрос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ащимся необходимо построить план действий, чтобы ответить на поставленный вопрос. Дети выдвигают множество мнений, чем больше мнений, чем лучше развито умение слушать друг друга и поддерживать идеи других, тем интереснее и быстрее проходит работа. Руководить процессом отбора может сам учитель при субъек-субъектных отношениях, или выбранный ученик, а учитель в этом случае может лишь высказывать свое мнение и направлять деятельнос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пример, для темы урока "Как изменяются имена прилагательные?" построили план действий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     Повторить знания об имени прилагательн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Определить, с какими частями речи сочетает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Изменить несколько прилагательных вместе с именами существительны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Определить закономерность изменений, сделать выво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 сформулированы конкретные учебные це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Работа над понятием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280" y="907560"/>
            <a:ext cx="81471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щимся предлагается  для зрительного восприятия название темы урока и просят объяснить значение каждого слова или отыскать в "Толковом словаре". Например, тема уро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 Спряжение глаголов". Далее, от значения слова определяем цель урока. Аналогичное можно сделать через подбор родственных слов или через поиск в сложном слове словосоставляющих основ. Например, темы уроков "Словосочетание", "Прямоугольник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одводящий диало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1125000"/>
            <a:ext cx="8291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этапе актуализации учебного материала ведется беседа, направленная на обобщение, конкретизацию, логику рассуждения. Диалог подвожу к тому, о чем дети не могут рассказать в силу некомпетентности или недостаточно полного обоснования своих действий. Тем самым возникает ситуация, для которой необходимы дополнительные исследования или действия. Ставится цел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туация Яркого пят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и множества однотипных предметов, слов, цифр, букв, фигур одно выделено цветом или размером. Через зрительное восприятие внимание концентрируется на выделенном предмете. Совместно определяется причина обособленности и общности всего предложенного. Далее определяется тема и цели урок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468360" y="1916280"/>
            <a:ext cx="1008000" cy="115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см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547640" y="1916280"/>
            <a:ext cx="648000" cy="115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268360" y="1916280"/>
            <a:ext cx="792360" cy="115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мм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132000" y="1916280"/>
            <a:ext cx="1008360" cy="1152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Arial"/>
                <a:ea typeface="Times New Roman"/>
              </a:rPr>
              <a:t>ч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        </a:t>
            </a: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Ситуация «Яркого пятна»</a:t>
            </a:r>
            <a:br>
              <a:rPr sz="36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ема урока «Меры времен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3068280"/>
            <a:ext cx="59770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ма урока: «ь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9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3362400" cy="244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pic>
        <p:nvPicPr>
          <p:cNvPr id="72" name="Picture 10" descr=""/>
          <p:cNvPicPr/>
          <p:nvPr/>
        </p:nvPicPr>
        <p:blipFill>
          <a:blip r:embed="rId2"/>
          <a:stretch/>
        </p:blipFill>
        <p:spPr>
          <a:xfrm>
            <a:off x="4427640" y="2060640"/>
            <a:ext cx="4483080" cy="336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</p:spTree>
  </p:cSld>
  <p:transition>
    <p:wheel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Группиров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85840" y="1357200"/>
            <a:ext cx="85723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яд слов, предметов, фигур, цифр предлагается  детям разделить на группы, обосновывая свои высказывания.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нованием классификации будут внешние признаки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7:56:10Z</dcterms:created>
  <dc:creator>User</dc:creator>
  <dc:description>http://aida.ucoz.ru</dc:description>
  <dc:language>en-US</dc:language>
  <cp:lastModifiedBy>Солнечный</cp:lastModifiedBy>
  <dcterms:modified xsi:type="dcterms:W3CDTF">2016-04-26T05:43:32Z</dcterms:modified>
  <cp:revision>19</cp:revision>
  <dc:subject/>
  <dc:title>Слайд 1</dc:title>
</cp:coreProperties>
</file>